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AMERA.WAV" ContentType="audio/x-wav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move the slid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1C17-890F-4F64-B6A5-7B4C8AF36A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EDA-5EF6-4677-910E-E32F35BD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80E-D96B-49D2-8B40-2468099C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584-1BD1-44C1-8B84-63F6CB63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057-4699-4BDE-8E5E-21A3377C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F74C-2280-4147-9FE3-0EF624E3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01F1-358D-42A8-99AB-225E48ED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CE4C-4522-4ED4-9593-589A3F0D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A91D-E056-4FFF-93E8-F662A31A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C320-4A31-49A6-9518-25324D5D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A7B0-87BC-40C1-BB72-E83B7508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82BA-A780-4391-9030-8C6AE723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969-3504-4B3E-A046-E8F9C524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F690-4161-4D00-9174-64FFCC08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A63D-7D8B-4669-A749-25BCB873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7F6A-A7DE-4B3E-B3B7-6E9C6A63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3DA9-326B-416E-877D-2D978928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9CD1-90D8-4159-A54C-6F5CD322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E1E-C9B4-47A8-A12D-C72B5D4C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9BD-2FF8-42FA-B286-661D5A3A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8A3-E726-4802-BD42-AA6D8125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F19-984F-446F-B377-8548B42F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878-F5FF-4D6A-83D0-B70C94CB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FD7-DC33-4601-8FEB-D1AC367A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88D-6B0D-4B22-9607-98EDB811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585D-29B9-4497-9725-E16E2970B78C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3237-0142-4D23-B149-14C8C4712B1B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3"/>
          <p:cNvSpPr txBox="1"/>
          <p:nvPr/>
        </p:nvSpPr>
        <p:spPr>
          <a:xfrm>
            <a:off x="1447920" y="1371600"/>
            <a:ext cx="70866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ographic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dforms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0" y="5867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By: Mrs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Sa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trai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body of water connecting two larger bodies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inkhole</a:t>
            </a: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	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circular depression formed when the roof of a cave collaps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Riv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tural flow of water that runs through the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Wetland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covered by shallow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Fore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densely wooded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Lak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inland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a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near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olcano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pening in the Earth’s crust where lava, ash, and gases erup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anyo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deep, narrow valley with steep wal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early flat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Gulf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part of the ocean that extends into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Hill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rounded, elevated area of land smaller than a mountai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un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hill of sand shaped by wi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ser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extremely dry area with little water and few plant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Oasi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in the desert with a water sour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teau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, flat, elevated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Glaci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area of slow-moving i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alle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ow land between hills or mountai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Mount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rugged land that generally rises higher than 2,000 fee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151af5"/>
                </a:solidFill>
                <a:latin typeface="Comic Sans MS"/>
              </a:rPr>
              <a:t>Study for your test !!!</a:t>
            </a:r>
            <a:endParaRPr b="1" lang="en-US" sz="55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Matching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ll-in-the-blank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178" name="Object 4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1776600" cy="3170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676520" y="419112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Stop, Drop everything, &amp; Study ton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Ocean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ral Reef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cean ridge made up of skeletal remains of tiny sea anima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eninsul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that sticks out into a lake or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Ba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art of a large body of water that is smaller than a gul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thmu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piece of land connecting two larger land are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lt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where a river deposits soil into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land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surrounded entirely by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22:42:24Z</dcterms:created>
  <dc:creator>one1</dc:creator>
  <dc:description/>
  <dc:language>en-US</dc:language>
  <cp:lastModifiedBy>RomaK</cp:lastModifiedBy>
  <dcterms:modified xsi:type="dcterms:W3CDTF">2015-09-04T09:43:05Z</dcterms:modified>
  <cp:revision>9</cp:revision>
  <dc:subject/>
  <dc:title>No Slide Title</dc:title>
</cp:coreProperties>
</file>