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Waves and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characteristics of ocean waves and 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coastline features of erosion, transport and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 the processes of wind erosion and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e different types of 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wind deposit LO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ands may be eroded back leaving a remnant (st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arrive at a coast at an angle (swa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 returns at 90 deg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is moved along the beach = longshore drift or longshor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e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longshore drift and a lot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oduces extensions of deposit from the shor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grow across a bay (baymouth b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ink an island to the main land (tombo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 = curved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changes in sea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 rise (FLOOD) to produce a HIGH T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all (EBB) (LOW T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the gravitational pull that the Sun and Moon exert on the Earth’s surface (including the oce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de is pulled towards the Sun and/or Moon by gravitational at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de bulges out because of iner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re are two high tides on Earth at any on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24 hours 50 minutes any point on the Earth rotates through two bul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location experiences 2 high (FLOOD) tides and 2 low (EBB) 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ergence and emergence changes coast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cket b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nt co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ed l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landforms are found above present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-cut platform when elevated - uplifted marine ter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ergent co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i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ergent co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 und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a coastline is an example of subm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in waves follow a circular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 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ergence Shor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a coast - shorline valleys eroded by rivers are subme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many offshore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sure to waves erodes islands and head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ord coast - shoreline valleys created by glaciers are subme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s are deep and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depth, there are few b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Island Co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on low lying coasts with gentle grad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ISLANDS - low ridges of sand built b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ind the islands are lag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llow water with tidal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INLETS - gaps between the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ta and Volcano Co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TA - deposit by rivers entering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slows down and spreads out as it en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nel divides and subdivides to create DIS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cano coasts develop in volcanic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 cliffs form in fresh l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s build up calcium deposits to produce re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row, corals ne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r, warm,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bis Digital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nging reef - directly attached to an island or 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reef - lagoon between coast and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ll reef - circular reef surrounding a lagoon (no land in cent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IAN (Eolian) LAND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, transport and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dry regions, with little vegetation such as deserts and coastal land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the air flows, more ero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des more rapidly if wind blows constantly from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WIND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 and DEF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LATION HOLLOW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fine particles by wind leaves hollows behind (DEFLATION HOL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aves a surface of closely packed stones (DESERT PAV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ery fine material may be carried in suspension in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ut larger particles may be moved by 2 metho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) 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rial is rolled along th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counts for 20% of wind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hor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becomes shallow, wave height increases because wave length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become steeper, then collapse (break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) 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asymmetrical bouncing of sand gr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counts for 80% of wind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of shifting sand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adational land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SEAS (ERG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only 25% of the world's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may be covered in RIP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ridges of wind deposited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Usually 3 to 15 metres high, but can reach 180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 continuously changing dune is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bis Digital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ation of dunes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mount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peed an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ccurrenc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bis Digital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P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of re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AND 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) BARC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common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rescent-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p 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) PARABOLIC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rescent-shaped but with the concave side on the windwar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usually elong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y develop in associated with deflation h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) TRANSVERSE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sand ridge at right angles to the win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form because of large  amounts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) LONGITUDIN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sand ridges parallel to the win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form because of a limited amount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seif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ly textured sediment wind-blown long di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-blown glacial debris formed large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 - sequence of break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sh - water sliding up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 - water flowing back down beach to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coast, water gets more sha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are slowed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aves arrive at an angle, one part is slower than the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waves to bend = wave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ve refr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arriving at bays are slow (depos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headlands, faster (ero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quence of features is produced as headlands are degra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erode base -under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iff ret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produces sea c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liffs retreat produces a wave-cut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6dc0"/>
            </a:gs>
            <a:gs pos="50000">
              <a:srgbClr val="618ffd"/>
            </a:gs>
            <a:gs pos="100000">
              <a:srgbClr val="4a6d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ork of Waves and Wind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characteristics of ocean waves and 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coastline features of erosion, transport and de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processes of wind erosion and de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different types of d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ind deposit LO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30040" y="306360"/>
            <a:ext cx="342612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dlands may be eroded back leaving a remnant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156520" y="438120"/>
            <a:ext cx="1800" cy="2460600"/>
          </a:xfrm>
          <a:custGeom>
            <a:avLst/>
            <a:gdLst/>
            <a:ahLst/>
            <a:rect l="l" t="t" r="r" b="b"/>
            <a:pathLst>
              <a:path w="1" h="1550">
                <a:moveTo>
                  <a:pt x="0" y="1549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rc 4"/>
          <p:cNvSpPr/>
          <p:nvPr/>
        </p:nvSpPr>
        <p:spPr>
          <a:xfrm>
            <a:off x="7323120" y="307800"/>
            <a:ext cx="790560" cy="1230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72"/>
                </a:moveTo>
                <a:cubicBezTo>
                  <a:pt x="15" y="9670"/>
                  <a:pt x="9655" y="23"/>
                  <a:pt x="21557" y="0"/>
                </a:cubicBezTo>
              </a:path>
              <a:path stroke="0" w="21600" h="21600">
                <a:moveTo>
                  <a:pt x="0" y="21572"/>
                </a:moveTo>
                <a:cubicBezTo>
                  <a:pt x="15" y="9670"/>
                  <a:pt x="9655" y="23"/>
                  <a:pt x="21557" y="0"/>
                </a:cubicBezTo>
                <a:lnTo>
                  <a:pt x="21600" y="21600"/>
                </a:lnTo>
                <a:lnTo>
                  <a:pt x="0" y="21572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rc 5"/>
          <p:cNvSpPr/>
          <p:nvPr/>
        </p:nvSpPr>
        <p:spPr>
          <a:xfrm>
            <a:off x="6620040" y="1504800"/>
            <a:ext cx="703080" cy="779760"/>
          </a:xfrm>
          <a:custGeom>
            <a:avLst/>
            <a:gdLst/>
            <a:ahLst/>
            <a:rect l="l" t="t" r="r" b="b"/>
            <a:pathLst>
              <a:path fill="none" w="21600" h="21644">
                <a:moveTo>
                  <a:pt x="21599" y="0"/>
                </a:moveTo>
                <a:cubicBezTo>
                  <a:pt x="21599" y="14"/>
                  <a:pt x="21600" y="29"/>
                  <a:pt x="21600" y="44"/>
                </a:cubicBezTo>
                <a:cubicBezTo>
                  <a:pt x="21600" y="11973"/>
                  <a:pt x="11929" y="21643"/>
                  <a:pt x="0" y="21644"/>
                </a:cubicBezTo>
              </a:path>
              <a:path stroke="0" w="21600" h="21644">
                <a:moveTo>
                  <a:pt x="21599" y="0"/>
                </a:moveTo>
                <a:cubicBezTo>
                  <a:pt x="21599" y="14"/>
                  <a:pt x="21600" y="29"/>
                  <a:pt x="21600" y="44"/>
                </a:cubicBezTo>
                <a:cubicBezTo>
                  <a:pt x="21600" y="11973"/>
                  <a:pt x="11929" y="21643"/>
                  <a:pt x="0" y="21644"/>
                </a:cubicBezTo>
                <a:lnTo>
                  <a:pt x="0" y="44"/>
                </a:lnTo>
                <a:lnTo>
                  <a:pt x="21599" y="0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rc 6"/>
          <p:cNvSpPr/>
          <p:nvPr/>
        </p:nvSpPr>
        <p:spPr>
          <a:xfrm>
            <a:off x="5919840" y="1535040"/>
            <a:ext cx="701640" cy="749520"/>
          </a:xfrm>
          <a:custGeom>
            <a:avLst/>
            <a:gdLst/>
            <a:ahLst/>
            <a:rect l="l" t="t" r="r" b="b"/>
            <a:pathLst>
              <a:path fill="none" w="21600" h="21646">
                <a:moveTo>
                  <a:pt x="21600" y="21646"/>
                </a:moveTo>
                <a:cubicBezTo>
                  <a:pt x="9670" y="21646"/>
                  <a:pt x="0" y="11975"/>
                  <a:pt x="0" y="46"/>
                </a:cubicBezTo>
                <a:cubicBezTo>
                  <a:pt x="-1" y="30"/>
                  <a:pt x="0" y="15"/>
                  <a:pt x="0" y="0"/>
                </a:cubicBezTo>
              </a:path>
              <a:path stroke="0" w="21600" h="21646">
                <a:moveTo>
                  <a:pt x="21600" y="21646"/>
                </a:moveTo>
                <a:cubicBezTo>
                  <a:pt x="9670" y="21646"/>
                  <a:pt x="0" y="11975"/>
                  <a:pt x="0" y="46"/>
                </a:cubicBezTo>
                <a:cubicBezTo>
                  <a:pt x="-1" y="30"/>
                  <a:pt x="0" y="15"/>
                  <a:pt x="0" y="0"/>
                </a:cubicBezTo>
                <a:lnTo>
                  <a:pt x="21600" y="46"/>
                </a:lnTo>
                <a:lnTo>
                  <a:pt x="21600" y="21646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6576840" y="2370240"/>
            <a:ext cx="1800" cy="484200"/>
          </a:xfrm>
          <a:custGeom>
            <a:avLst/>
            <a:gdLst/>
            <a:ahLst/>
            <a:rect l="l" t="t" r="r" b="b"/>
            <a:pathLst>
              <a:path w="1" h="305">
                <a:moveTo>
                  <a:pt x="0" y="304"/>
                </a:move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8"/>
          <p:cNvSpPr/>
          <p:nvPr/>
        </p:nvSpPr>
        <p:spPr>
          <a:xfrm>
            <a:off x="7153200" y="914400"/>
            <a:ext cx="785880" cy="1984320"/>
          </a:xfrm>
          <a:custGeom>
            <a:avLst/>
            <a:gdLst/>
            <a:ahLst/>
            <a:rect l="l" t="t" r="r" b="b"/>
            <a:pathLst>
              <a:path w="495" h="1250">
                <a:moveTo>
                  <a:pt x="494" y="1249"/>
                </a:moveTo>
                <a:lnTo>
                  <a:pt x="494" y="134"/>
                </a:lnTo>
                <a:lnTo>
                  <a:pt x="484" y="118"/>
                </a:lnTo>
                <a:lnTo>
                  <a:pt x="484" y="107"/>
                </a:lnTo>
                <a:lnTo>
                  <a:pt x="472" y="95"/>
                </a:lnTo>
                <a:lnTo>
                  <a:pt x="462" y="84"/>
                </a:lnTo>
                <a:lnTo>
                  <a:pt x="452" y="73"/>
                </a:lnTo>
                <a:lnTo>
                  <a:pt x="431" y="67"/>
                </a:lnTo>
                <a:lnTo>
                  <a:pt x="420" y="56"/>
                </a:lnTo>
                <a:lnTo>
                  <a:pt x="399" y="51"/>
                </a:lnTo>
                <a:lnTo>
                  <a:pt x="389" y="40"/>
                </a:lnTo>
                <a:lnTo>
                  <a:pt x="367" y="40"/>
                </a:lnTo>
                <a:lnTo>
                  <a:pt x="357" y="28"/>
                </a:lnTo>
                <a:lnTo>
                  <a:pt x="336" y="23"/>
                </a:lnTo>
                <a:lnTo>
                  <a:pt x="314" y="17"/>
                </a:lnTo>
                <a:lnTo>
                  <a:pt x="294" y="12"/>
                </a:lnTo>
                <a:lnTo>
                  <a:pt x="273" y="6"/>
                </a:lnTo>
                <a:lnTo>
                  <a:pt x="252" y="6"/>
                </a:lnTo>
                <a:lnTo>
                  <a:pt x="231" y="0"/>
                </a:lnTo>
                <a:lnTo>
                  <a:pt x="210" y="0"/>
                </a:lnTo>
                <a:lnTo>
                  <a:pt x="189" y="0"/>
                </a:lnTo>
                <a:lnTo>
                  <a:pt x="168" y="0"/>
                </a:lnTo>
                <a:lnTo>
                  <a:pt x="146" y="0"/>
                </a:lnTo>
                <a:lnTo>
                  <a:pt x="126" y="0"/>
                </a:lnTo>
                <a:lnTo>
                  <a:pt x="105" y="0"/>
                </a:lnTo>
                <a:lnTo>
                  <a:pt x="83" y="0"/>
                </a:lnTo>
                <a:lnTo>
                  <a:pt x="63" y="0"/>
                </a:lnTo>
                <a:lnTo>
                  <a:pt x="41" y="0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9"/>
          <p:cNvSpPr/>
          <p:nvPr/>
        </p:nvSpPr>
        <p:spPr>
          <a:xfrm>
            <a:off x="7085160" y="1325520"/>
            <a:ext cx="609480" cy="1573200"/>
          </a:xfrm>
          <a:custGeom>
            <a:avLst/>
            <a:gdLst/>
            <a:ahLst/>
            <a:rect l="l" t="t" r="r" b="b"/>
            <a:pathLst>
              <a:path w="384" h="991">
                <a:moveTo>
                  <a:pt x="383" y="990"/>
                </a:moveTo>
                <a:lnTo>
                  <a:pt x="383" y="106"/>
                </a:lnTo>
                <a:lnTo>
                  <a:pt x="375" y="94"/>
                </a:lnTo>
                <a:lnTo>
                  <a:pt x="375" y="85"/>
                </a:lnTo>
                <a:lnTo>
                  <a:pt x="366" y="76"/>
                </a:lnTo>
                <a:lnTo>
                  <a:pt x="358" y="67"/>
                </a:lnTo>
                <a:lnTo>
                  <a:pt x="350" y="58"/>
                </a:lnTo>
                <a:lnTo>
                  <a:pt x="334" y="53"/>
                </a:lnTo>
                <a:lnTo>
                  <a:pt x="325" y="45"/>
                </a:lnTo>
                <a:lnTo>
                  <a:pt x="309" y="40"/>
                </a:lnTo>
                <a:lnTo>
                  <a:pt x="301" y="31"/>
                </a:lnTo>
                <a:lnTo>
                  <a:pt x="285" y="31"/>
                </a:lnTo>
                <a:lnTo>
                  <a:pt x="277" y="22"/>
                </a:lnTo>
                <a:lnTo>
                  <a:pt x="261" y="18"/>
                </a:lnTo>
                <a:lnTo>
                  <a:pt x="244" y="14"/>
                </a:lnTo>
                <a:lnTo>
                  <a:pt x="228" y="9"/>
                </a:lnTo>
                <a:lnTo>
                  <a:pt x="212" y="4"/>
                </a:lnTo>
                <a:lnTo>
                  <a:pt x="195" y="4"/>
                </a:lnTo>
                <a:lnTo>
                  <a:pt x="179" y="0"/>
                </a:lnTo>
                <a:lnTo>
                  <a:pt x="163" y="0"/>
                </a:lnTo>
                <a:lnTo>
                  <a:pt x="146" y="0"/>
                </a:lnTo>
                <a:lnTo>
                  <a:pt x="130" y="0"/>
                </a:lnTo>
                <a:lnTo>
                  <a:pt x="113" y="0"/>
                </a:lnTo>
                <a:lnTo>
                  <a:pt x="98" y="0"/>
                </a:lnTo>
                <a:lnTo>
                  <a:pt x="82" y="0"/>
                </a:lnTo>
                <a:lnTo>
                  <a:pt x="65" y="0"/>
                </a:lnTo>
                <a:lnTo>
                  <a:pt x="49" y="0"/>
                </a:lnTo>
                <a:lnTo>
                  <a:pt x="32" y="0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4906800" y="352440"/>
            <a:ext cx="1044720" cy="1206360"/>
          </a:xfrm>
          <a:custGeom>
            <a:avLst/>
            <a:gdLst/>
            <a:ahLst/>
            <a:rect l="l" t="t" r="r" b="b"/>
            <a:pathLst>
              <a:path fill="none" w="21633" h="21600">
                <a:moveTo>
                  <a:pt x="0" y="0"/>
                </a:moveTo>
                <a:cubicBezTo>
                  <a:pt x="11" y="0"/>
                  <a:pt x="22" y="-1"/>
                  <a:pt x="33" y="0"/>
                </a:cubicBezTo>
                <a:cubicBezTo>
                  <a:pt x="11962" y="0"/>
                  <a:pt x="21633" y="9670"/>
                  <a:pt x="21633" y="21600"/>
                </a:cubicBezTo>
              </a:path>
              <a:path stroke="0" w="21633" h="21600">
                <a:moveTo>
                  <a:pt x="0" y="0"/>
                </a:moveTo>
                <a:cubicBezTo>
                  <a:pt x="11" y="0"/>
                  <a:pt x="22" y="-1"/>
                  <a:pt x="33" y="0"/>
                </a:cubicBezTo>
                <a:cubicBezTo>
                  <a:pt x="11962" y="0"/>
                  <a:pt x="21633" y="9670"/>
                  <a:pt x="21633" y="21600"/>
                </a:cubicBezTo>
                <a:lnTo>
                  <a:pt x="33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1"/>
          <p:cNvSpPr/>
          <p:nvPr/>
        </p:nvSpPr>
        <p:spPr>
          <a:xfrm>
            <a:off x="4975200" y="514440"/>
            <a:ext cx="1440" cy="2330280"/>
          </a:xfrm>
          <a:custGeom>
            <a:avLst/>
            <a:gdLst/>
            <a:ahLst/>
            <a:rect l="l" t="t" r="r" b="b"/>
            <a:pathLst>
              <a:path w="1" h="1468">
                <a:moveTo>
                  <a:pt x="0" y="1467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12"/>
          <p:cNvSpPr/>
          <p:nvPr/>
        </p:nvSpPr>
        <p:spPr>
          <a:xfrm>
            <a:off x="5237280" y="914400"/>
            <a:ext cx="820800" cy="1930320"/>
          </a:xfrm>
          <a:custGeom>
            <a:avLst/>
            <a:gdLst/>
            <a:ahLst/>
            <a:rect l="l" t="t" r="r" b="b"/>
            <a:pathLst>
              <a:path w="517" h="1216">
                <a:moveTo>
                  <a:pt x="0" y="1215"/>
                </a:moveTo>
                <a:lnTo>
                  <a:pt x="0" y="130"/>
                </a:lnTo>
                <a:lnTo>
                  <a:pt x="11" y="115"/>
                </a:lnTo>
                <a:lnTo>
                  <a:pt x="11" y="104"/>
                </a:lnTo>
                <a:lnTo>
                  <a:pt x="23" y="93"/>
                </a:lnTo>
                <a:lnTo>
                  <a:pt x="33" y="82"/>
                </a:lnTo>
                <a:lnTo>
                  <a:pt x="44" y="71"/>
                </a:lnTo>
                <a:lnTo>
                  <a:pt x="66" y="65"/>
                </a:lnTo>
                <a:lnTo>
                  <a:pt x="78" y="55"/>
                </a:lnTo>
                <a:lnTo>
                  <a:pt x="99" y="49"/>
                </a:lnTo>
                <a:lnTo>
                  <a:pt x="110" y="39"/>
                </a:lnTo>
                <a:lnTo>
                  <a:pt x="133" y="39"/>
                </a:lnTo>
                <a:lnTo>
                  <a:pt x="143" y="27"/>
                </a:lnTo>
                <a:lnTo>
                  <a:pt x="165" y="22"/>
                </a:lnTo>
                <a:lnTo>
                  <a:pt x="188" y="17"/>
                </a:lnTo>
                <a:lnTo>
                  <a:pt x="209" y="11"/>
                </a:lnTo>
                <a:lnTo>
                  <a:pt x="231" y="5"/>
                </a:lnTo>
                <a:lnTo>
                  <a:pt x="253" y="5"/>
                </a:lnTo>
                <a:lnTo>
                  <a:pt x="275" y="0"/>
                </a:lnTo>
                <a:lnTo>
                  <a:pt x="296" y="0"/>
                </a:lnTo>
                <a:lnTo>
                  <a:pt x="319" y="0"/>
                </a:lnTo>
                <a:lnTo>
                  <a:pt x="340" y="0"/>
                </a:lnTo>
                <a:lnTo>
                  <a:pt x="363" y="0"/>
                </a:lnTo>
                <a:lnTo>
                  <a:pt x="385" y="0"/>
                </a:lnTo>
                <a:lnTo>
                  <a:pt x="406" y="0"/>
                </a:lnTo>
                <a:lnTo>
                  <a:pt x="429" y="0"/>
                </a:lnTo>
                <a:lnTo>
                  <a:pt x="450" y="0"/>
                </a:lnTo>
                <a:lnTo>
                  <a:pt x="473" y="0"/>
                </a:lnTo>
                <a:lnTo>
                  <a:pt x="495" y="0"/>
                </a:lnTo>
                <a:lnTo>
                  <a:pt x="516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13"/>
          <p:cNvSpPr/>
          <p:nvPr/>
        </p:nvSpPr>
        <p:spPr>
          <a:xfrm>
            <a:off x="5511960" y="1325520"/>
            <a:ext cx="614160" cy="1519200"/>
          </a:xfrm>
          <a:custGeom>
            <a:avLst/>
            <a:gdLst/>
            <a:ahLst/>
            <a:rect l="l" t="t" r="r" b="b"/>
            <a:pathLst>
              <a:path w="387" h="957">
                <a:moveTo>
                  <a:pt x="0" y="956"/>
                </a:moveTo>
                <a:lnTo>
                  <a:pt x="0" y="102"/>
                </a:lnTo>
                <a:lnTo>
                  <a:pt x="8" y="90"/>
                </a:lnTo>
                <a:lnTo>
                  <a:pt x="8" y="82"/>
                </a:lnTo>
                <a:lnTo>
                  <a:pt x="17" y="73"/>
                </a:lnTo>
                <a:lnTo>
                  <a:pt x="25" y="65"/>
                </a:lnTo>
                <a:lnTo>
                  <a:pt x="33" y="56"/>
                </a:lnTo>
                <a:lnTo>
                  <a:pt x="49" y="51"/>
                </a:lnTo>
                <a:lnTo>
                  <a:pt x="58" y="43"/>
                </a:lnTo>
                <a:lnTo>
                  <a:pt x="74" y="39"/>
                </a:lnTo>
                <a:lnTo>
                  <a:pt x="82" y="30"/>
                </a:lnTo>
                <a:lnTo>
                  <a:pt x="99" y="30"/>
                </a:lnTo>
                <a:lnTo>
                  <a:pt x="107" y="22"/>
                </a:lnTo>
                <a:lnTo>
                  <a:pt x="123" y="17"/>
                </a:lnTo>
                <a:lnTo>
                  <a:pt x="140" y="13"/>
                </a:lnTo>
                <a:lnTo>
                  <a:pt x="156" y="9"/>
                </a:lnTo>
                <a:lnTo>
                  <a:pt x="172" y="4"/>
                </a:lnTo>
                <a:lnTo>
                  <a:pt x="189" y="4"/>
                </a:lnTo>
                <a:lnTo>
                  <a:pt x="206" y="0"/>
                </a:lnTo>
                <a:lnTo>
                  <a:pt x="222" y="0"/>
                </a:lnTo>
                <a:lnTo>
                  <a:pt x="239" y="0"/>
                </a:lnTo>
                <a:lnTo>
                  <a:pt x="255" y="0"/>
                </a:lnTo>
                <a:lnTo>
                  <a:pt x="272" y="0"/>
                </a:lnTo>
                <a:lnTo>
                  <a:pt x="288" y="0"/>
                </a:lnTo>
                <a:lnTo>
                  <a:pt x="304" y="0"/>
                </a:lnTo>
                <a:lnTo>
                  <a:pt x="321" y="0"/>
                </a:lnTo>
                <a:lnTo>
                  <a:pt x="337" y="0"/>
                </a:lnTo>
                <a:lnTo>
                  <a:pt x="354" y="0"/>
                </a:lnTo>
                <a:lnTo>
                  <a:pt x="370" y="0"/>
                </a:lnTo>
                <a:lnTo>
                  <a:pt x="386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5"/>
          <p:cNvSpPr/>
          <p:nvPr/>
        </p:nvSpPr>
        <p:spPr>
          <a:xfrm>
            <a:off x="8353440" y="3738600"/>
            <a:ext cx="1440" cy="2733480"/>
          </a:xfrm>
          <a:custGeom>
            <a:avLst/>
            <a:gdLst/>
            <a:ahLst/>
            <a:rect l="l" t="t" r="r" b="b"/>
            <a:pathLst>
              <a:path w="1" h="1722">
                <a:moveTo>
                  <a:pt x="0" y="1721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rc 16"/>
          <p:cNvSpPr/>
          <p:nvPr/>
        </p:nvSpPr>
        <p:spPr>
          <a:xfrm>
            <a:off x="7427880" y="3594240"/>
            <a:ext cx="878040" cy="1366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75"/>
                </a:moveTo>
                <a:cubicBezTo>
                  <a:pt x="13" y="9670"/>
                  <a:pt x="9656" y="21"/>
                  <a:pt x="21561" y="0"/>
                </a:cubicBezTo>
              </a:path>
              <a:path stroke="0" w="21600" h="21600">
                <a:moveTo>
                  <a:pt x="0" y="21575"/>
                </a:moveTo>
                <a:cubicBezTo>
                  <a:pt x="13" y="9670"/>
                  <a:pt x="9656" y="21"/>
                  <a:pt x="21561" y="0"/>
                </a:cubicBezTo>
                <a:lnTo>
                  <a:pt x="21600" y="21600"/>
                </a:lnTo>
                <a:lnTo>
                  <a:pt x="0" y="21575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rc 17"/>
          <p:cNvSpPr/>
          <p:nvPr/>
        </p:nvSpPr>
        <p:spPr>
          <a:xfrm>
            <a:off x="6645240" y="4923000"/>
            <a:ext cx="784440" cy="865080"/>
          </a:xfrm>
          <a:custGeom>
            <a:avLst/>
            <a:gdLst/>
            <a:ahLst/>
            <a:rect l="l" t="t" r="r" b="b"/>
            <a:pathLst>
              <a:path fill="none" w="21644" h="21600">
                <a:moveTo>
                  <a:pt x="21644" y="0"/>
                </a:moveTo>
                <a:cubicBezTo>
                  <a:pt x="21644" y="11929"/>
                  <a:pt x="11973" y="21600"/>
                  <a:pt x="44" y="21600"/>
                </a:cubicBezTo>
                <a:cubicBezTo>
                  <a:pt x="29" y="21600"/>
                  <a:pt x="14" y="21599"/>
                  <a:pt x="0" y="21599"/>
                </a:cubicBezTo>
              </a:path>
              <a:path stroke="0" w="21644" h="21600">
                <a:moveTo>
                  <a:pt x="21644" y="0"/>
                </a:moveTo>
                <a:cubicBezTo>
                  <a:pt x="21644" y="11929"/>
                  <a:pt x="11973" y="21600"/>
                  <a:pt x="44" y="21600"/>
                </a:cubicBezTo>
                <a:cubicBezTo>
                  <a:pt x="29" y="21600"/>
                  <a:pt x="14" y="21599"/>
                  <a:pt x="0" y="21599"/>
                </a:cubicBezTo>
                <a:lnTo>
                  <a:pt x="44" y="0"/>
                </a:lnTo>
                <a:lnTo>
                  <a:pt x="21644" y="0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rc 18"/>
          <p:cNvSpPr/>
          <p:nvPr/>
        </p:nvSpPr>
        <p:spPr>
          <a:xfrm>
            <a:off x="5867280" y="4959360"/>
            <a:ext cx="781200" cy="830160"/>
          </a:xfrm>
          <a:custGeom>
            <a:avLst/>
            <a:gdLst/>
            <a:ahLst/>
            <a:rect l="l" t="t" r="r" b="b"/>
            <a:pathLst>
              <a:path fill="none" w="21600" h="21641">
                <a:moveTo>
                  <a:pt x="21556" y="21640"/>
                </a:moveTo>
                <a:cubicBezTo>
                  <a:pt x="9643" y="21616"/>
                  <a:pt x="0" y="11953"/>
                  <a:pt x="0" y="41"/>
                </a:cubicBezTo>
                <a:cubicBezTo>
                  <a:pt x="-1" y="27"/>
                  <a:pt x="0" y="13"/>
                  <a:pt x="0" y="0"/>
                </a:cubicBezTo>
              </a:path>
              <a:path stroke="0" w="21600" h="21641">
                <a:moveTo>
                  <a:pt x="21556" y="21640"/>
                </a:moveTo>
                <a:cubicBezTo>
                  <a:pt x="9643" y="21616"/>
                  <a:pt x="0" y="11953"/>
                  <a:pt x="0" y="41"/>
                </a:cubicBezTo>
                <a:cubicBezTo>
                  <a:pt x="-1" y="27"/>
                  <a:pt x="0" y="13"/>
                  <a:pt x="0" y="0"/>
                </a:cubicBezTo>
                <a:lnTo>
                  <a:pt x="21600" y="41"/>
                </a:lnTo>
                <a:lnTo>
                  <a:pt x="21556" y="21640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19"/>
          <p:cNvSpPr/>
          <p:nvPr/>
        </p:nvSpPr>
        <p:spPr>
          <a:xfrm>
            <a:off x="6597720" y="5884920"/>
            <a:ext cx="1440" cy="538200"/>
          </a:xfrm>
          <a:custGeom>
            <a:avLst/>
            <a:gdLst/>
            <a:ahLst/>
            <a:rect l="l" t="t" r="r" b="b"/>
            <a:pathLst>
              <a:path w="1" h="339">
                <a:moveTo>
                  <a:pt x="0" y="338"/>
                </a:move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20"/>
          <p:cNvSpPr/>
          <p:nvPr/>
        </p:nvSpPr>
        <p:spPr>
          <a:xfrm>
            <a:off x="7238880" y="4267080"/>
            <a:ext cx="871560" cy="2205000"/>
          </a:xfrm>
          <a:custGeom>
            <a:avLst/>
            <a:gdLst/>
            <a:ahLst/>
            <a:rect l="l" t="t" r="r" b="b"/>
            <a:pathLst>
              <a:path w="549" h="1389">
                <a:moveTo>
                  <a:pt x="548" y="1388"/>
                </a:moveTo>
                <a:lnTo>
                  <a:pt x="548" y="149"/>
                </a:lnTo>
                <a:lnTo>
                  <a:pt x="537" y="131"/>
                </a:lnTo>
                <a:lnTo>
                  <a:pt x="537" y="119"/>
                </a:lnTo>
                <a:lnTo>
                  <a:pt x="524" y="106"/>
                </a:lnTo>
                <a:lnTo>
                  <a:pt x="512" y="94"/>
                </a:lnTo>
                <a:lnTo>
                  <a:pt x="501" y="82"/>
                </a:lnTo>
                <a:lnTo>
                  <a:pt x="478" y="75"/>
                </a:lnTo>
                <a:lnTo>
                  <a:pt x="466" y="63"/>
                </a:lnTo>
                <a:lnTo>
                  <a:pt x="443" y="56"/>
                </a:lnTo>
                <a:lnTo>
                  <a:pt x="431" y="44"/>
                </a:lnTo>
                <a:lnTo>
                  <a:pt x="407" y="44"/>
                </a:lnTo>
                <a:lnTo>
                  <a:pt x="396" y="31"/>
                </a:lnTo>
                <a:lnTo>
                  <a:pt x="373" y="25"/>
                </a:lnTo>
                <a:lnTo>
                  <a:pt x="349" y="19"/>
                </a:lnTo>
                <a:lnTo>
                  <a:pt x="326" y="13"/>
                </a:lnTo>
                <a:lnTo>
                  <a:pt x="303" y="6"/>
                </a:lnTo>
                <a:lnTo>
                  <a:pt x="279" y="6"/>
                </a:lnTo>
                <a:lnTo>
                  <a:pt x="256" y="0"/>
                </a:lnTo>
                <a:lnTo>
                  <a:pt x="233" y="0"/>
                </a:lnTo>
                <a:lnTo>
                  <a:pt x="209" y="0"/>
                </a:lnTo>
                <a:lnTo>
                  <a:pt x="186" y="0"/>
                </a:lnTo>
                <a:lnTo>
                  <a:pt x="162" y="0"/>
                </a:lnTo>
                <a:lnTo>
                  <a:pt x="140" y="0"/>
                </a:lnTo>
                <a:lnTo>
                  <a:pt x="117" y="0"/>
                </a:lnTo>
                <a:lnTo>
                  <a:pt x="93" y="0"/>
                </a:lnTo>
                <a:lnTo>
                  <a:pt x="70" y="0"/>
                </a:lnTo>
                <a:lnTo>
                  <a:pt x="46" y="0"/>
                </a:lnTo>
                <a:lnTo>
                  <a:pt x="23" y="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21"/>
          <p:cNvSpPr/>
          <p:nvPr/>
        </p:nvSpPr>
        <p:spPr>
          <a:xfrm>
            <a:off x="7162920" y="4724280"/>
            <a:ext cx="676080" cy="1747800"/>
          </a:xfrm>
          <a:custGeom>
            <a:avLst/>
            <a:gdLst/>
            <a:ahLst/>
            <a:rect l="l" t="t" r="r" b="b"/>
            <a:pathLst>
              <a:path w="426" h="1101">
                <a:moveTo>
                  <a:pt x="425" y="1100"/>
                </a:moveTo>
                <a:lnTo>
                  <a:pt x="425" y="118"/>
                </a:lnTo>
                <a:lnTo>
                  <a:pt x="416" y="104"/>
                </a:lnTo>
                <a:lnTo>
                  <a:pt x="416" y="94"/>
                </a:lnTo>
                <a:lnTo>
                  <a:pt x="406" y="84"/>
                </a:lnTo>
                <a:lnTo>
                  <a:pt x="397" y="74"/>
                </a:lnTo>
                <a:lnTo>
                  <a:pt x="389" y="65"/>
                </a:lnTo>
                <a:lnTo>
                  <a:pt x="371" y="59"/>
                </a:lnTo>
                <a:lnTo>
                  <a:pt x="361" y="50"/>
                </a:lnTo>
                <a:lnTo>
                  <a:pt x="343" y="45"/>
                </a:lnTo>
                <a:lnTo>
                  <a:pt x="334" y="35"/>
                </a:lnTo>
                <a:lnTo>
                  <a:pt x="316" y="35"/>
                </a:lnTo>
                <a:lnTo>
                  <a:pt x="307" y="25"/>
                </a:lnTo>
                <a:lnTo>
                  <a:pt x="289" y="20"/>
                </a:lnTo>
                <a:lnTo>
                  <a:pt x="271" y="15"/>
                </a:lnTo>
                <a:lnTo>
                  <a:pt x="253" y="10"/>
                </a:lnTo>
                <a:lnTo>
                  <a:pt x="235" y="5"/>
                </a:lnTo>
                <a:lnTo>
                  <a:pt x="216" y="5"/>
                </a:lnTo>
                <a:lnTo>
                  <a:pt x="199" y="0"/>
                </a:lnTo>
                <a:lnTo>
                  <a:pt x="181" y="0"/>
                </a:lnTo>
                <a:lnTo>
                  <a:pt x="162" y="0"/>
                </a:lnTo>
                <a:lnTo>
                  <a:pt x="145" y="0"/>
                </a:lnTo>
                <a:lnTo>
                  <a:pt x="126" y="0"/>
                </a:lnTo>
                <a:lnTo>
                  <a:pt x="108" y="0"/>
                </a:lnTo>
                <a:lnTo>
                  <a:pt x="91" y="0"/>
                </a:lnTo>
                <a:lnTo>
                  <a:pt x="72" y="0"/>
                </a:lnTo>
                <a:lnTo>
                  <a:pt x="54" y="0"/>
                </a:lnTo>
                <a:lnTo>
                  <a:pt x="35" y="0"/>
                </a:lnTo>
                <a:lnTo>
                  <a:pt x="18" y="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rc 22"/>
          <p:cNvSpPr/>
          <p:nvPr/>
        </p:nvSpPr>
        <p:spPr>
          <a:xfrm>
            <a:off x="4743360" y="3643200"/>
            <a:ext cx="1160640" cy="1341720"/>
          </a:xfrm>
          <a:custGeom>
            <a:avLst/>
            <a:gdLst/>
            <a:ahLst/>
            <a:rect l="l" t="t" r="r" b="b"/>
            <a:pathLst>
              <a:path fill="none" w="21630" h="21600">
                <a:moveTo>
                  <a:pt x="0" y="0"/>
                </a:moveTo>
                <a:cubicBezTo>
                  <a:pt x="10" y="0"/>
                  <a:pt x="20" y="-1"/>
                  <a:pt x="30" y="0"/>
                </a:cubicBezTo>
                <a:cubicBezTo>
                  <a:pt x="11949" y="0"/>
                  <a:pt x="21615" y="9654"/>
                  <a:pt x="21629" y="21574"/>
                </a:cubicBezTo>
              </a:path>
              <a:path stroke="0" w="21630" h="21600">
                <a:moveTo>
                  <a:pt x="0" y="0"/>
                </a:moveTo>
                <a:cubicBezTo>
                  <a:pt x="10" y="0"/>
                  <a:pt x="20" y="-1"/>
                  <a:pt x="30" y="0"/>
                </a:cubicBezTo>
                <a:cubicBezTo>
                  <a:pt x="11949" y="0"/>
                  <a:pt x="21615" y="9654"/>
                  <a:pt x="21629" y="21574"/>
                </a:cubicBezTo>
                <a:lnTo>
                  <a:pt x="3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4818240" y="3824280"/>
            <a:ext cx="1440" cy="2587680"/>
          </a:xfrm>
          <a:custGeom>
            <a:avLst/>
            <a:gdLst/>
            <a:ahLst/>
            <a:rect l="l" t="t" r="r" b="b"/>
            <a:pathLst>
              <a:path w="1" h="1630">
                <a:moveTo>
                  <a:pt x="0" y="1629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24"/>
          <p:cNvSpPr/>
          <p:nvPr/>
        </p:nvSpPr>
        <p:spPr>
          <a:xfrm>
            <a:off x="5110200" y="4267080"/>
            <a:ext cx="911160" cy="2144880"/>
          </a:xfrm>
          <a:custGeom>
            <a:avLst/>
            <a:gdLst/>
            <a:ahLst/>
            <a:rect l="l" t="t" r="r" b="b"/>
            <a:pathLst>
              <a:path w="574" h="1351">
                <a:moveTo>
                  <a:pt x="0" y="1350"/>
                </a:moveTo>
                <a:lnTo>
                  <a:pt x="0" y="145"/>
                </a:lnTo>
                <a:lnTo>
                  <a:pt x="12" y="128"/>
                </a:lnTo>
                <a:lnTo>
                  <a:pt x="12" y="116"/>
                </a:lnTo>
                <a:lnTo>
                  <a:pt x="25" y="103"/>
                </a:lnTo>
                <a:lnTo>
                  <a:pt x="37" y="91"/>
                </a:lnTo>
                <a:lnTo>
                  <a:pt x="49" y="79"/>
                </a:lnTo>
                <a:lnTo>
                  <a:pt x="73" y="73"/>
                </a:lnTo>
                <a:lnTo>
                  <a:pt x="86" y="61"/>
                </a:lnTo>
                <a:lnTo>
                  <a:pt x="110" y="55"/>
                </a:lnTo>
                <a:lnTo>
                  <a:pt x="122" y="43"/>
                </a:lnTo>
                <a:lnTo>
                  <a:pt x="147" y="43"/>
                </a:lnTo>
                <a:lnTo>
                  <a:pt x="159" y="30"/>
                </a:lnTo>
                <a:lnTo>
                  <a:pt x="183" y="24"/>
                </a:lnTo>
                <a:lnTo>
                  <a:pt x="208" y="19"/>
                </a:lnTo>
                <a:lnTo>
                  <a:pt x="232" y="13"/>
                </a:lnTo>
                <a:lnTo>
                  <a:pt x="256" y="6"/>
                </a:lnTo>
                <a:lnTo>
                  <a:pt x="281" y="6"/>
                </a:lnTo>
                <a:lnTo>
                  <a:pt x="305" y="0"/>
                </a:lnTo>
                <a:lnTo>
                  <a:pt x="329" y="0"/>
                </a:lnTo>
                <a:lnTo>
                  <a:pt x="354" y="0"/>
                </a:lnTo>
                <a:lnTo>
                  <a:pt x="378" y="0"/>
                </a:lnTo>
                <a:lnTo>
                  <a:pt x="403" y="0"/>
                </a:lnTo>
                <a:lnTo>
                  <a:pt x="427" y="0"/>
                </a:lnTo>
                <a:lnTo>
                  <a:pt x="451" y="0"/>
                </a:lnTo>
                <a:lnTo>
                  <a:pt x="476" y="0"/>
                </a:lnTo>
                <a:lnTo>
                  <a:pt x="500" y="0"/>
                </a:lnTo>
                <a:lnTo>
                  <a:pt x="525" y="0"/>
                </a:lnTo>
                <a:lnTo>
                  <a:pt x="549" y="0"/>
                </a:lnTo>
                <a:lnTo>
                  <a:pt x="573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25"/>
          <p:cNvSpPr/>
          <p:nvPr/>
        </p:nvSpPr>
        <p:spPr>
          <a:xfrm>
            <a:off x="5415120" y="4724280"/>
            <a:ext cx="682560" cy="1687680"/>
          </a:xfrm>
          <a:custGeom>
            <a:avLst/>
            <a:gdLst/>
            <a:ahLst/>
            <a:rect l="l" t="t" r="r" b="b"/>
            <a:pathLst>
              <a:path w="430" h="1063">
                <a:moveTo>
                  <a:pt x="0" y="1062"/>
                </a:moveTo>
                <a:lnTo>
                  <a:pt x="0" y="114"/>
                </a:lnTo>
                <a:lnTo>
                  <a:pt x="9" y="100"/>
                </a:lnTo>
                <a:lnTo>
                  <a:pt x="9" y="91"/>
                </a:lnTo>
                <a:lnTo>
                  <a:pt x="19" y="81"/>
                </a:lnTo>
                <a:lnTo>
                  <a:pt x="28" y="72"/>
                </a:lnTo>
                <a:lnTo>
                  <a:pt x="37" y="62"/>
                </a:lnTo>
                <a:lnTo>
                  <a:pt x="55" y="57"/>
                </a:lnTo>
                <a:lnTo>
                  <a:pt x="65" y="48"/>
                </a:lnTo>
                <a:lnTo>
                  <a:pt x="82" y="43"/>
                </a:lnTo>
                <a:lnTo>
                  <a:pt x="91" y="34"/>
                </a:lnTo>
                <a:lnTo>
                  <a:pt x="110" y="34"/>
                </a:lnTo>
                <a:lnTo>
                  <a:pt x="119" y="24"/>
                </a:lnTo>
                <a:lnTo>
                  <a:pt x="137" y="19"/>
                </a:lnTo>
                <a:lnTo>
                  <a:pt x="156" y="15"/>
                </a:lnTo>
                <a:lnTo>
                  <a:pt x="174" y="10"/>
                </a:lnTo>
                <a:lnTo>
                  <a:pt x="192" y="5"/>
                </a:lnTo>
                <a:lnTo>
                  <a:pt x="211" y="5"/>
                </a:lnTo>
                <a:lnTo>
                  <a:pt x="228" y="0"/>
                </a:lnTo>
                <a:lnTo>
                  <a:pt x="246" y="0"/>
                </a:lnTo>
                <a:lnTo>
                  <a:pt x="265" y="0"/>
                </a:lnTo>
                <a:lnTo>
                  <a:pt x="283" y="0"/>
                </a:lnTo>
                <a:lnTo>
                  <a:pt x="302" y="0"/>
                </a:lnTo>
                <a:lnTo>
                  <a:pt x="320" y="0"/>
                </a:lnTo>
                <a:lnTo>
                  <a:pt x="338" y="0"/>
                </a:lnTo>
                <a:lnTo>
                  <a:pt x="357" y="0"/>
                </a:lnTo>
                <a:lnTo>
                  <a:pt x="374" y="0"/>
                </a:lnTo>
                <a:lnTo>
                  <a:pt x="393" y="0"/>
                </a:lnTo>
                <a:lnTo>
                  <a:pt x="411" y="0"/>
                </a:lnTo>
                <a:lnTo>
                  <a:pt x="429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26"/>
          <p:cNvSpPr/>
          <p:nvPr/>
        </p:nvSpPr>
        <p:spPr>
          <a:xfrm>
            <a:off x="6118200" y="4660920"/>
            <a:ext cx="1095480" cy="9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rc 27"/>
          <p:cNvSpPr/>
          <p:nvPr/>
        </p:nvSpPr>
        <p:spPr>
          <a:xfrm>
            <a:off x="5124600" y="3414600"/>
            <a:ext cx="1050840" cy="855720"/>
          </a:xfrm>
          <a:custGeom>
            <a:avLst/>
            <a:gdLst/>
            <a:ahLst/>
            <a:rect l="l" t="t" r="r" b="b"/>
            <a:pathLst>
              <a:path fill="none" w="21633" h="21600">
                <a:moveTo>
                  <a:pt x="0" y="0"/>
                </a:moveTo>
                <a:cubicBezTo>
                  <a:pt x="11" y="0"/>
                  <a:pt x="22" y="-1"/>
                  <a:pt x="33" y="0"/>
                </a:cubicBezTo>
                <a:cubicBezTo>
                  <a:pt x="11946" y="0"/>
                  <a:pt x="21610" y="9646"/>
                  <a:pt x="21632" y="21560"/>
                </a:cubicBezTo>
              </a:path>
              <a:path stroke="0" w="21633" h="21600">
                <a:moveTo>
                  <a:pt x="0" y="0"/>
                </a:moveTo>
                <a:cubicBezTo>
                  <a:pt x="11" y="0"/>
                  <a:pt x="22" y="-1"/>
                  <a:pt x="33" y="0"/>
                </a:cubicBezTo>
                <a:cubicBezTo>
                  <a:pt x="11946" y="0"/>
                  <a:pt x="21610" y="9646"/>
                  <a:pt x="21632" y="21560"/>
                </a:cubicBezTo>
                <a:lnTo>
                  <a:pt x="33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rc 28"/>
          <p:cNvSpPr/>
          <p:nvPr/>
        </p:nvSpPr>
        <p:spPr>
          <a:xfrm>
            <a:off x="7107120" y="3414600"/>
            <a:ext cx="1049400" cy="855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60"/>
                </a:moveTo>
                <a:cubicBezTo>
                  <a:pt x="22" y="9659"/>
                  <a:pt x="9666" y="18"/>
                  <a:pt x="21567" y="0"/>
                </a:cubicBezTo>
              </a:path>
              <a:path stroke="0" w="21600" h="21600">
                <a:moveTo>
                  <a:pt x="0" y="21560"/>
                </a:moveTo>
                <a:cubicBezTo>
                  <a:pt x="22" y="9659"/>
                  <a:pt x="9666" y="18"/>
                  <a:pt x="21567" y="0"/>
                </a:cubicBezTo>
                <a:lnTo>
                  <a:pt x="21600" y="21600"/>
                </a:lnTo>
                <a:lnTo>
                  <a:pt x="0" y="21560"/>
                </a:lnTo>
                <a:close/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9"/>
          <p:cNvSpPr/>
          <p:nvPr/>
        </p:nvSpPr>
        <p:spPr>
          <a:xfrm>
            <a:off x="6172200" y="4267080"/>
            <a:ext cx="99072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2589840" y="4680000"/>
            <a:ext cx="1368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3962520" y="5105520"/>
            <a:ext cx="2514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shore drift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43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arrive at a coast at an angle (swas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sh returns at 90</a:t>
            </a:r>
            <a:r>
              <a:rPr b="0" lang="en-US" sz="2800" spc="-1" strike="noStrike" baseline="14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30040" y="4726080"/>
            <a:ext cx="8683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is moved along the beach = longshore drift or longshore 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2" descr="L9_image4"/>
          <p:cNvPicPr/>
          <p:nvPr/>
        </p:nvPicPr>
        <p:blipFill>
          <a:blip r:embed="rId1"/>
          <a:stretch/>
        </p:blipFill>
        <p:spPr>
          <a:xfrm>
            <a:off x="4191120" y="1241280"/>
            <a:ext cx="4876560" cy="34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2"/>
          <p:cNvSpPr/>
          <p:nvPr/>
        </p:nvSpPr>
        <p:spPr>
          <a:xfrm>
            <a:off x="6162840" y="1560600"/>
            <a:ext cx="2439720" cy="2805120"/>
          </a:xfrm>
          <a:custGeom>
            <a:avLst/>
            <a:gdLst/>
            <a:ahLst/>
            <a:rect l="l" t="t" r="r" b="b"/>
            <a:pathLst>
              <a:path w="1537" h="1767">
                <a:moveTo>
                  <a:pt x="6" y="1753"/>
                </a:moveTo>
                <a:lnTo>
                  <a:pt x="0" y="1729"/>
                </a:lnTo>
                <a:lnTo>
                  <a:pt x="19" y="1720"/>
                </a:lnTo>
                <a:lnTo>
                  <a:pt x="37" y="1701"/>
                </a:lnTo>
                <a:lnTo>
                  <a:pt x="55" y="1683"/>
                </a:lnTo>
                <a:lnTo>
                  <a:pt x="74" y="1674"/>
                </a:lnTo>
                <a:lnTo>
                  <a:pt x="92" y="1664"/>
                </a:lnTo>
                <a:lnTo>
                  <a:pt x="111" y="1655"/>
                </a:lnTo>
                <a:lnTo>
                  <a:pt x="129" y="1646"/>
                </a:lnTo>
                <a:lnTo>
                  <a:pt x="147" y="1646"/>
                </a:lnTo>
                <a:lnTo>
                  <a:pt x="166" y="1637"/>
                </a:lnTo>
                <a:lnTo>
                  <a:pt x="184" y="1628"/>
                </a:lnTo>
                <a:lnTo>
                  <a:pt x="203" y="1618"/>
                </a:lnTo>
                <a:lnTo>
                  <a:pt x="221" y="1609"/>
                </a:lnTo>
                <a:lnTo>
                  <a:pt x="239" y="1600"/>
                </a:lnTo>
                <a:lnTo>
                  <a:pt x="258" y="1591"/>
                </a:lnTo>
                <a:lnTo>
                  <a:pt x="276" y="1572"/>
                </a:lnTo>
                <a:lnTo>
                  <a:pt x="295" y="1563"/>
                </a:lnTo>
                <a:lnTo>
                  <a:pt x="313" y="1554"/>
                </a:lnTo>
                <a:lnTo>
                  <a:pt x="331" y="1554"/>
                </a:lnTo>
                <a:lnTo>
                  <a:pt x="350" y="1554"/>
                </a:lnTo>
                <a:lnTo>
                  <a:pt x="377" y="1545"/>
                </a:lnTo>
                <a:lnTo>
                  <a:pt x="396" y="1536"/>
                </a:lnTo>
                <a:lnTo>
                  <a:pt x="414" y="1536"/>
                </a:lnTo>
                <a:lnTo>
                  <a:pt x="432" y="1526"/>
                </a:lnTo>
                <a:lnTo>
                  <a:pt x="451" y="1517"/>
                </a:lnTo>
                <a:lnTo>
                  <a:pt x="469" y="1508"/>
                </a:lnTo>
                <a:lnTo>
                  <a:pt x="488" y="1499"/>
                </a:lnTo>
                <a:lnTo>
                  <a:pt x="506" y="1490"/>
                </a:lnTo>
                <a:lnTo>
                  <a:pt x="524" y="1480"/>
                </a:lnTo>
                <a:lnTo>
                  <a:pt x="543" y="1471"/>
                </a:lnTo>
                <a:lnTo>
                  <a:pt x="561" y="1471"/>
                </a:lnTo>
                <a:lnTo>
                  <a:pt x="580" y="1462"/>
                </a:lnTo>
                <a:lnTo>
                  <a:pt x="598" y="1462"/>
                </a:lnTo>
                <a:lnTo>
                  <a:pt x="616" y="1462"/>
                </a:lnTo>
                <a:lnTo>
                  <a:pt x="635" y="1453"/>
                </a:lnTo>
                <a:lnTo>
                  <a:pt x="653" y="1453"/>
                </a:lnTo>
                <a:lnTo>
                  <a:pt x="672" y="1444"/>
                </a:lnTo>
                <a:lnTo>
                  <a:pt x="681" y="1425"/>
                </a:lnTo>
                <a:lnTo>
                  <a:pt x="699" y="1416"/>
                </a:lnTo>
                <a:lnTo>
                  <a:pt x="708" y="1398"/>
                </a:lnTo>
                <a:lnTo>
                  <a:pt x="727" y="1370"/>
                </a:lnTo>
                <a:lnTo>
                  <a:pt x="745" y="1343"/>
                </a:lnTo>
                <a:lnTo>
                  <a:pt x="754" y="1324"/>
                </a:lnTo>
                <a:lnTo>
                  <a:pt x="773" y="1315"/>
                </a:lnTo>
                <a:lnTo>
                  <a:pt x="773" y="1297"/>
                </a:lnTo>
                <a:lnTo>
                  <a:pt x="791" y="1287"/>
                </a:lnTo>
                <a:lnTo>
                  <a:pt x="791" y="1269"/>
                </a:lnTo>
                <a:lnTo>
                  <a:pt x="819" y="1251"/>
                </a:lnTo>
                <a:lnTo>
                  <a:pt x="828" y="1232"/>
                </a:lnTo>
                <a:lnTo>
                  <a:pt x="837" y="1214"/>
                </a:lnTo>
                <a:lnTo>
                  <a:pt x="846" y="1195"/>
                </a:lnTo>
                <a:lnTo>
                  <a:pt x="865" y="1177"/>
                </a:lnTo>
                <a:lnTo>
                  <a:pt x="874" y="1159"/>
                </a:lnTo>
                <a:lnTo>
                  <a:pt x="874" y="1140"/>
                </a:lnTo>
                <a:lnTo>
                  <a:pt x="892" y="1122"/>
                </a:lnTo>
                <a:lnTo>
                  <a:pt x="901" y="1094"/>
                </a:lnTo>
                <a:lnTo>
                  <a:pt x="920" y="1076"/>
                </a:lnTo>
                <a:lnTo>
                  <a:pt x="929" y="1048"/>
                </a:lnTo>
                <a:lnTo>
                  <a:pt x="947" y="1030"/>
                </a:lnTo>
                <a:lnTo>
                  <a:pt x="947" y="1011"/>
                </a:lnTo>
                <a:lnTo>
                  <a:pt x="957" y="993"/>
                </a:lnTo>
                <a:lnTo>
                  <a:pt x="975" y="975"/>
                </a:lnTo>
                <a:lnTo>
                  <a:pt x="984" y="956"/>
                </a:lnTo>
                <a:lnTo>
                  <a:pt x="993" y="938"/>
                </a:lnTo>
                <a:lnTo>
                  <a:pt x="1012" y="910"/>
                </a:lnTo>
                <a:lnTo>
                  <a:pt x="1021" y="892"/>
                </a:lnTo>
                <a:lnTo>
                  <a:pt x="1039" y="864"/>
                </a:lnTo>
                <a:lnTo>
                  <a:pt x="1067" y="855"/>
                </a:lnTo>
                <a:lnTo>
                  <a:pt x="1076" y="828"/>
                </a:lnTo>
                <a:lnTo>
                  <a:pt x="1095" y="828"/>
                </a:lnTo>
                <a:lnTo>
                  <a:pt x="1104" y="800"/>
                </a:lnTo>
                <a:lnTo>
                  <a:pt x="1122" y="800"/>
                </a:lnTo>
                <a:lnTo>
                  <a:pt x="1131" y="782"/>
                </a:lnTo>
                <a:lnTo>
                  <a:pt x="1150" y="782"/>
                </a:lnTo>
                <a:lnTo>
                  <a:pt x="1159" y="763"/>
                </a:lnTo>
                <a:lnTo>
                  <a:pt x="1177" y="754"/>
                </a:lnTo>
                <a:lnTo>
                  <a:pt x="1187" y="736"/>
                </a:lnTo>
                <a:lnTo>
                  <a:pt x="1205" y="726"/>
                </a:lnTo>
                <a:lnTo>
                  <a:pt x="1214" y="708"/>
                </a:lnTo>
                <a:lnTo>
                  <a:pt x="1232" y="699"/>
                </a:lnTo>
                <a:lnTo>
                  <a:pt x="1242" y="680"/>
                </a:lnTo>
                <a:lnTo>
                  <a:pt x="1260" y="653"/>
                </a:lnTo>
                <a:lnTo>
                  <a:pt x="1269" y="634"/>
                </a:lnTo>
                <a:lnTo>
                  <a:pt x="1288" y="625"/>
                </a:lnTo>
                <a:lnTo>
                  <a:pt x="1297" y="607"/>
                </a:lnTo>
                <a:lnTo>
                  <a:pt x="1315" y="598"/>
                </a:lnTo>
                <a:lnTo>
                  <a:pt x="1324" y="579"/>
                </a:lnTo>
                <a:lnTo>
                  <a:pt x="1334" y="561"/>
                </a:lnTo>
                <a:lnTo>
                  <a:pt x="1352" y="543"/>
                </a:lnTo>
                <a:lnTo>
                  <a:pt x="1361" y="524"/>
                </a:lnTo>
                <a:lnTo>
                  <a:pt x="1370" y="506"/>
                </a:lnTo>
                <a:lnTo>
                  <a:pt x="1370" y="487"/>
                </a:lnTo>
                <a:lnTo>
                  <a:pt x="1389" y="469"/>
                </a:lnTo>
                <a:lnTo>
                  <a:pt x="1398" y="441"/>
                </a:lnTo>
                <a:lnTo>
                  <a:pt x="1407" y="423"/>
                </a:lnTo>
                <a:lnTo>
                  <a:pt x="1407" y="405"/>
                </a:lnTo>
                <a:lnTo>
                  <a:pt x="1407" y="386"/>
                </a:lnTo>
                <a:lnTo>
                  <a:pt x="1416" y="368"/>
                </a:lnTo>
                <a:lnTo>
                  <a:pt x="1416" y="349"/>
                </a:lnTo>
                <a:lnTo>
                  <a:pt x="1426" y="322"/>
                </a:lnTo>
                <a:lnTo>
                  <a:pt x="1426" y="303"/>
                </a:lnTo>
                <a:lnTo>
                  <a:pt x="1435" y="276"/>
                </a:lnTo>
                <a:lnTo>
                  <a:pt x="1435" y="248"/>
                </a:lnTo>
                <a:lnTo>
                  <a:pt x="1435" y="221"/>
                </a:lnTo>
                <a:lnTo>
                  <a:pt x="1435" y="202"/>
                </a:lnTo>
                <a:lnTo>
                  <a:pt x="1435" y="184"/>
                </a:lnTo>
                <a:lnTo>
                  <a:pt x="1426" y="166"/>
                </a:lnTo>
                <a:lnTo>
                  <a:pt x="1426" y="147"/>
                </a:lnTo>
                <a:lnTo>
                  <a:pt x="1416" y="129"/>
                </a:lnTo>
                <a:lnTo>
                  <a:pt x="1407" y="110"/>
                </a:lnTo>
                <a:lnTo>
                  <a:pt x="1389" y="83"/>
                </a:lnTo>
                <a:lnTo>
                  <a:pt x="1380" y="55"/>
                </a:lnTo>
                <a:lnTo>
                  <a:pt x="1361" y="37"/>
                </a:lnTo>
                <a:lnTo>
                  <a:pt x="1343" y="28"/>
                </a:lnTo>
                <a:lnTo>
                  <a:pt x="1334" y="9"/>
                </a:lnTo>
                <a:lnTo>
                  <a:pt x="1315" y="0"/>
                </a:lnTo>
                <a:lnTo>
                  <a:pt x="1334" y="0"/>
                </a:lnTo>
                <a:lnTo>
                  <a:pt x="1352" y="9"/>
                </a:lnTo>
                <a:lnTo>
                  <a:pt x="1370" y="18"/>
                </a:lnTo>
                <a:lnTo>
                  <a:pt x="1389" y="28"/>
                </a:lnTo>
                <a:lnTo>
                  <a:pt x="1407" y="37"/>
                </a:lnTo>
                <a:lnTo>
                  <a:pt x="1426" y="46"/>
                </a:lnTo>
                <a:lnTo>
                  <a:pt x="1435" y="64"/>
                </a:lnTo>
                <a:lnTo>
                  <a:pt x="1453" y="74"/>
                </a:lnTo>
                <a:lnTo>
                  <a:pt x="1462" y="92"/>
                </a:lnTo>
                <a:lnTo>
                  <a:pt x="1481" y="101"/>
                </a:lnTo>
                <a:lnTo>
                  <a:pt x="1481" y="120"/>
                </a:lnTo>
                <a:lnTo>
                  <a:pt x="1490" y="138"/>
                </a:lnTo>
                <a:lnTo>
                  <a:pt x="1508" y="147"/>
                </a:lnTo>
                <a:lnTo>
                  <a:pt x="1508" y="166"/>
                </a:lnTo>
                <a:lnTo>
                  <a:pt x="1518" y="184"/>
                </a:lnTo>
                <a:lnTo>
                  <a:pt x="1518" y="202"/>
                </a:lnTo>
                <a:lnTo>
                  <a:pt x="1527" y="221"/>
                </a:lnTo>
                <a:lnTo>
                  <a:pt x="1527" y="239"/>
                </a:lnTo>
                <a:lnTo>
                  <a:pt x="1536" y="257"/>
                </a:lnTo>
                <a:lnTo>
                  <a:pt x="1536" y="276"/>
                </a:lnTo>
                <a:lnTo>
                  <a:pt x="1536" y="294"/>
                </a:lnTo>
                <a:lnTo>
                  <a:pt x="1536" y="313"/>
                </a:lnTo>
                <a:lnTo>
                  <a:pt x="1536" y="331"/>
                </a:lnTo>
                <a:lnTo>
                  <a:pt x="1536" y="349"/>
                </a:lnTo>
                <a:lnTo>
                  <a:pt x="1536" y="368"/>
                </a:lnTo>
                <a:lnTo>
                  <a:pt x="1536" y="386"/>
                </a:lnTo>
                <a:lnTo>
                  <a:pt x="1536" y="405"/>
                </a:lnTo>
                <a:lnTo>
                  <a:pt x="1536" y="423"/>
                </a:lnTo>
                <a:lnTo>
                  <a:pt x="1536" y="441"/>
                </a:lnTo>
                <a:lnTo>
                  <a:pt x="1536" y="460"/>
                </a:lnTo>
                <a:lnTo>
                  <a:pt x="1527" y="478"/>
                </a:lnTo>
                <a:lnTo>
                  <a:pt x="1518" y="497"/>
                </a:lnTo>
                <a:lnTo>
                  <a:pt x="1518" y="515"/>
                </a:lnTo>
                <a:lnTo>
                  <a:pt x="1518" y="533"/>
                </a:lnTo>
                <a:lnTo>
                  <a:pt x="1508" y="552"/>
                </a:lnTo>
                <a:lnTo>
                  <a:pt x="1499" y="570"/>
                </a:lnTo>
                <a:lnTo>
                  <a:pt x="1499" y="588"/>
                </a:lnTo>
                <a:lnTo>
                  <a:pt x="1490" y="607"/>
                </a:lnTo>
                <a:lnTo>
                  <a:pt x="1490" y="625"/>
                </a:lnTo>
                <a:lnTo>
                  <a:pt x="1481" y="644"/>
                </a:lnTo>
                <a:lnTo>
                  <a:pt x="1472" y="662"/>
                </a:lnTo>
                <a:lnTo>
                  <a:pt x="1472" y="680"/>
                </a:lnTo>
                <a:lnTo>
                  <a:pt x="1462" y="708"/>
                </a:lnTo>
                <a:lnTo>
                  <a:pt x="1453" y="736"/>
                </a:lnTo>
                <a:lnTo>
                  <a:pt x="1444" y="754"/>
                </a:lnTo>
                <a:lnTo>
                  <a:pt x="1435" y="772"/>
                </a:lnTo>
                <a:lnTo>
                  <a:pt x="1426" y="791"/>
                </a:lnTo>
                <a:lnTo>
                  <a:pt x="1416" y="809"/>
                </a:lnTo>
                <a:lnTo>
                  <a:pt x="1407" y="828"/>
                </a:lnTo>
                <a:lnTo>
                  <a:pt x="1389" y="855"/>
                </a:lnTo>
                <a:lnTo>
                  <a:pt x="1380" y="874"/>
                </a:lnTo>
                <a:lnTo>
                  <a:pt x="1380" y="892"/>
                </a:lnTo>
                <a:lnTo>
                  <a:pt x="1361" y="901"/>
                </a:lnTo>
                <a:lnTo>
                  <a:pt x="1352" y="920"/>
                </a:lnTo>
                <a:lnTo>
                  <a:pt x="1334" y="947"/>
                </a:lnTo>
                <a:lnTo>
                  <a:pt x="1315" y="975"/>
                </a:lnTo>
                <a:lnTo>
                  <a:pt x="1306" y="993"/>
                </a:lnTo>
                <a:lnTo>
                  <a:pt x="1297" y="1011"/>
                </a:lnTo>
                <a:lnTo>
                  <a:pt x="1288" y="1030"/>
                </a:lnTo>
                <a:lnTo>
                  <a:pt x="1269" y="1048"/>
                </a:lnTo>
                <a:lnTo>
                  <a:pt x="1251" y="1067"/>
                </a:lnTo>
                <a:lnTo>
                  <a:pt x="1242" y="1085"/>
                </a:lnTo>
                <a:lnTo>
                  <a:pt x="1232" y="1103"/>
                </a:lnTo>
                <a:lnTo>
                  <a:pt x="1214" y="1113"/>
                </a:lnTo>
                <a:lnTo>
                  <a:pt x="1205" y="1131"/>
                </a:lnTo>
                <a:lnTo>
                  <a:pt x="1196" y="1149"/>
                </a:lnTo>
                <a:lnTo>
                  <a:pt x="1187" y="1168"/>
                </a:lnTo>
                <a:lnTo>
                  <a:pt x="1177" y="1186"/>
                </a:lnTo>
                <a:lnTo>
                  <a:pt x="1159" y="1195"/>
                </a:lnTo>
                <a:lnTo>
                  <a:pt x="1150" y="1214"/>
                </a:lnTo>
                <a:lnTo>
                  <a:pt x="1131" y="1232"/>
                </a:lnTo>
                <a:lnTo>
                  <a:pt x="1122" y="1251"/>
                </a:lnTo>
                <a:lnTo>
                  <a:pt x="1104" y="1269"/>
                </a:lnTo>
                <a:lnTo>
                  <a:pt x="1095" y="1287"/>
                </a:lnTo>
                <a:lnTo>
                  <a:pt x="1076" y="1297"/>
                </a:lnTo>
                <a:lnTo>
                  <a:pt x="1067" y="1315"/>
                </a:lnTo>
                <a:lnTo>
                  <a:pt x="1049" y="1324"/>
                </a:lnTo>
                <a:lnTo>
                  <a:pt x="1039" y="1343"/>
                </a:lnTo>
                <a:lnTo>
                  <a:pt x="1021" y="1361"/>
                </a:lnTo>
                <a:lnTo>
                  <a:pt x="1012" y="1379"/>
                </a:lnTo>
                <a:lnTo>
                  <a:pt x="993" y="1388"/>
                </a:lnTo>
                <a:lnTo>
                  <a:pt x="975" y="1407"/>
                </a:lnTo>
                <a:lnTo>
                  <a:pt x="966" y="1425"/>
                </a:lnTo>
                <a:lnTo>
                  <a:pt x="947" y="1434"/>
                </a:lnTo>
                <a:lnTo>
                  <a:pt x="938" y="1453"/>
                </a:lnTo>
                <a:lnTo>
                  <a:pt x="920" y="1462"/>
                </a:lnTo>
                <a:lnTo>
                  <a:pt x="911" y="1480"/>
                </a:lnTo>
                <a:lnTo>
                  <a:pt x="892" y="1490"/>
                </a:lnTo>
                <a:lnTo>
                  <a:pt x="883" y="1508"/>
                </a:lnTo>
                <a:lnTo>
                  <a:pt x="865" y="1517"/>
                </a:lnTo>
                <a:lnTo>
                  <a:pt x="855" y="1536"/>
                </a:lnTo>
                <a:lnTo>
                  <a:pt x="837" y="1545"/>
                </a:lnTo>
                <a:lnTo>
                  <a:pt x="828" y="1563"/>
                </a:lnTo>
                <a:lnTo>
                  <a:pt x="809" y="1572"/>
                </a:lnTo>
                <a:lnTo>
                  <a:pt x="791" y="1591"/>
                </a:lnTo>
                <a:lnTo>
                  <a:pt x="773" y="1600"/>
                </a:lnTo>
                <a:lnTo>
                  <a:pt x="754" y="1609"/>
                </a:lnTo>
                <a:lnTo>
                  <a:pt x="727" y="1628"/>
                </a:lnTo>
                <a:lnTo>
                  <a:pt x="708" y="1637"/>
                </a:lnTo>
                <a:lnTo>
                  <a:pt x="690" y="1646"/>
                </a:lnTo>
                <a:lnTo>
                  <a:pt x="672" y="1655"/>
                </a:lnTo>
                <a:lnTo>
                  <a:pt x="653" y="1674"/>
                </a:lnTo>
                <a:lnTo>
                  <a:pt x="635" y="1683"/>
                </a:lnTo>
                <a:lnTo>
                  <a:pt x="616" y="1692"/>
                </a:lnTo>
                <a:lnTo>
                  <a:pt x="598" y="1710"/>
                </a:lnTo>
                <a:lnTo>
                  <a:pt x="580" y="1710"/>
                </a:lnTo>
                <a:lnTo>
                  <a:pt x="552" y="1720"/>
                </a:lnTo>
                <a:lnTo>
                  <a:pt x="534" y="1738"/>
                </a:lnTo>
                <a:lnTo>
                  <a:pt x="515" y="1738"/>
                </a:lnTo>
                <a:lnTo>
                  <a:pt x="488" y="1738"/>
                </a:lnTo>
                <a:lnTo>
                  <a:pt x="469" y="1747"/>
                </a:lnTo>
                <a:lnTo>
                  <a:pt x="451" y="1747"/>
                </a:lnTo>
                <a:lnTo>
                  <a:pt x="423" y="1756"/>
                </a:lnTo>
                <a:lnTo>
                  <a:pt x="405" y="1756"/>
                </a:lnTo>
                <a:lnTo>
                  <a:pt x="387" y="1756"/>
                </a:lnTo>
                <a:lnTo>
                  <a:pt x="368" y="1756"/>
                </a:lnTo>
                <a:lnTo>
                  <a:pt x="350" y="1756"/>
                </a:lnTo>
                <a:lnTo>
                  <a:pt x="331" y="1756"/>
                </a:lnTo>
                <a:lnTo>
                  <a:pt x="313" y="1756"/>
                </a:lnTo>
                <a:lnTo>
                  <a:pt x="295" y="1756"/>
                </a:lnTo>
                <a:lnTo>
                  <a:pt x="276" y="1756"/>
                </a:lnTo>
                <a:lnTo>
                  <a:pt x="258" y="1747"/>
                </a:lnTo>
                <a:lnTo>
                  <a:pt x="239" y="1747"/>
                </a:lnTo>
                <a:lnTo>
                  <a:pt x="221" y="1747"/>
                </a:lnTo>
                <a:lnTo>
                  <a:pt x="203" y="1747"/>
                </a:lnTo>
                <a:lnTo>
                  <a:pt x="184" y="1747"/>
                </a:lnTo>
                <a:lnTo>
                  <a:pt x="166" y="1747"/>
                </a:lnTo>
                <a:lnTo>
                  <a:pt x="147" y="1747"/>
                </a:lnTo>
                <a:lnTo>
                  <a:pt x="129" y="1747"/>
                </a:lnTo>
                <a:lnTo>
                  <a:pt x="111" y="1747"/>
                </a:lnTo>
                <a:lnTo>
                  <a:pt x="92" y="1756"/>
                </a:lnTo>
                <a:lnTo>
                  <a:pt x="74" y="1756"/>
                </a:lnTo>
                <a:lnTo>
                  <a:pt x="55" y="1766"/>
                </a:lnTo>
                <a:lnTo>
                  <a:pt x="37" y="1766"/>
                </a:lnTo>
                <a:lnTo>
                  <a:pt x="19" y="176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4440240" y="4435560"/>
            <a:ext cx="1521000" cy="1243080"/>
          </a:xfrm>
          <a:custGeom>
            <a:avLst/>
            <a:gdLst/>
            <a:ahLst/>
            <a:rect l="l" t="t" r="r" b="b"/>
            <a:pathLst>
              <a:path w="958" h="783">
                <a:moveTo>
                  <a:pt x="35" y="374"/>
                </a:moveTo>
                <a:lnTo>
                  <a:pt x="55" y="377"/>
                </a:lnTo>
                <a:lnTo>
                  <a:pt x="74" y="387"/>
                </a:lnTo>
                <a:lnTo>
                  <a:pt x="92" y="387"/>
                </a:lnTo>
                <a:lnTo>
                  <a:pt x="111" y="396"/>
                </a:lnTo>
                <a:lnTo>
                  <a:pt x="129" y="396"/>
                </a:lnTo>
                <a:lnTo>
                  <a:pt x="147" y="405"/>
                </a:lnTo>
                <a:lnTo>
                  <a:pt x="166" y="414"/>
                </a:lnTo>
                <a:lnTo>
                  <a:pt x="184" y="423"/>
                </a:lnTo>
                <a:lnTo>
                  <a:pt x="203" y="433"/>
                </a:lnTo>
                <a:lnTo>
                  <a:pt x="221" y="451"/>
                </a:lnTo>
                <a:lnTo>
                  <a:pt x="239" y="451"/>
                </a:lnTo>
                <a:lnTo>
                  <a:pt x="258" y="469"/>
                </a:lnTo>
                <a:lnTo>
                  <a:pt x="276" y="479"/>
                </a:lnTo>
                <a:lnTo>
                  <a:pt x="294" y="497"/>
                </a:lnTo>
                <a:lnTo>
                  <a:pt x="313" y="515"/>
                </a:lnTo>
                <a:lnTo>
                  <a:pt x="322" y="534"/>
                </a:lnTo>
                <a:lnTo>
                  <a:pt x="340" y="543"/>
                </a:lnTo>
                <a:lnTo>
                  <a:pt x="350" y="561"/>
                </a:lnTo>
                <a:lnTo>
                  <a:pt x="377" y="589"/>
                </a:lnTo>
                <a:lnTo>
                  <a:pt x="386" y="607"/>
                </a:lnTo>
                <a:lnTo>
                  <a:pt x="405" y="617"/>
                </a:lnTo>
                <a:lnTo>
                  <a:pt x="405" y="635"/>
                </a:lnTo>
                <a:lnTo>
                  <a:pt x="414" y="653"/>
                </a:lnTo>
                <a:lnTo>
                  <a:pt x="423" y="672"/>
                </a:lnTo>
                <a:lnTo>
                  <a:pt x="442" y="690"/>
                </a:lnTo>
                <a:lnTo>
                  <a:pt x="451" y="709"/>
                </a:lnTo>
                <a:lnTo>
                  <a:pt x="460" y="727"/>
                </a:lnTo>
                <a:lnTo>
                  <a:pt x="478" y="736"/>
                </a:lnTo>
                <a:lnTo>
                  <a:pt x="497" y="745"/>
                </a:lnTo>
                <a:lnTo>
                  <a:pt x="524" y="764"/>
                </a:lnTo>
                <a:lnTo>
                  <a:pt x="543" y="764"/>
                </a:lnTo>
                <a:lnTo>
                  <a:pt x="561" y="773"/>
                </a:lnTo>
                <a:lnTo>
                  <a:pt x="580" y="773"/>
                </a:lnTo>
                <a:lnTo>
                  <a:pt x="598" y="773"/>
                </a:lnTo>
                <a:lnTo>
                  <a:pt x="616" y="773"/>
                </a:lnTo>
                <a:lnTo>
                  <a:pt x="635" y="782"/>
                </a:lnTo>
                <a:lnTo>
                  <a:pt x="653" y="782"/>
                </a:lnTo>
                <a:lnTo>
                  <a:pt x="672" y="773"/>
                </a:lnTo>
                <a:lnTo>
                  <a:pt x="690" y="773"/>
                </a:lnTo>
                <a:lnTo>
                  <a:pt x="708" y="764"/>
                </a:lnTo>
                <a:lnTo>
                  <a:pt x="727" y="764"/>
                </a:lnTo>
                <a:lnTo>
                  <a:pt x="745" y="755"/>
                </a:lnTo>
                <a:lnTo>
                  <a:pt x="763" y="745"/>
                </a:lnTo>
                <a:lnTo>
                  <a:pt x="782" y="745"/>
                </a:lnTo>
                <a:lnTo>
                  <a:pt x="800" y="745"/>
                </a:lnTo>
                <a:lnTo>
                  <a:pt x="809" y="727"/>
                </a:lnTo>
                <a:lnTo>
                  <a:pt x="819" y="709"/>
                </a:lnTo>
                <a:lnTo>
                  <a:pt x="828" y="690"/>
                </a:lnTo>
                <a:lnTo>
                  <a:pt x="837" y="672"/>
                </a:lnTo>
                <a:lnTo>
                  <a:pt x="846" y="653"/>
                </a:lnTo>
                <a:lnTo>
                  <a:pt x="846" y="635"/>
                </a:lnTo>
                <a:lnTo>
                  <a:pt x="846" y="617"/>
                </a:lnTo>
                <a:lnTo>
                  <a:pt x="837" y="598"/>
                </a:lnTo>
                <a:lnTo>
                  <a:pt x="837" y="580"/>
                </a:lnTo>
                <a:lnTo>
                  <a:pt x="837" y="561"/>
                </a:lnTo>
                <a:lnTo>
                  <a:pt x="837" y="543"/>
                </a:lnTo>
                <a:lnTo>
                  <a:pt x="819" y="534"/>
                </a:lnTo>
                <a:lnTo>
                  <a:pt x="819" y="515"/>
                </a:lnTo>
                <a:lnTo>
                  <a:pt x="809" y="497"/>
                </a:lnTo>
                <a:lnTo>
                  <a:pt x="800" y="479"/>
                </a:lnTo>
                <a:lnTo>
                  <a:pt x="791" y="460"/>
                </a:lnTo>
                <a:lnTo>
                  <a:pt x="782" y="442"/>
                </a:lnTo>
                <a:lnTo>
                  <a:pt x="782" y="423"/>
                </a:lnTo>
                <a:lnTo>
                  <a:pt x="773" y="405"/>
                </a:lnTo>
                <a:lnTo>
                  <a:pt x="763" y="387"/>
                </a:lnTo>
                <a:lnTo>
                  <a:pt x="763" y="368"/>
                </a:lnTo>
                <a:lnTo>
                  <a:pt x="763" y="350"/>
                </a:lnTo>
                <a:lnTo>
                  <a:pt x="763" y="332"/>
                </a:lnTo>
                <a:lnTo>
                  <a:pt x="773" y="313"/>
                </a:lnTo>
                <a:lnTo>
                  <a:pt x="782" y="295"/>
                </a:lnTo>
                <a:lnTo>
                  <a:pt x="800" y="286"/>
                </a:lnTo>
                <a:lnTo>
                  <a:pt x="809" y="267"/>
                </a:lnTo>
                <a:lnTo>
                  <a:pt x="828" y="249"/>
                </a:lnTo>
                <a:lnTo>
                  <a:pt x="837" y="230"/>
                </a:lnTo>
                <a:lnTo>
                  <a:pt x="855" y="221"/>
                </a:lnTo>
                <a:lnTo>
                  <a:pt x="874" y="212"/>
                </a:lnTo>
                <a:lnTo>
                  <a:pt x="883" y="194"/>
                </a:lnTo>
                <a:lnTo>
                  <a:pt x="901" y="194"/>
                </a:lnTo>
                <a:lnTo>
                  <a:pt x="911" y="175"/>
                </a:lnTo>
                <a:lnTo>
                  <a:pt x="929" y="166"/>
                </a:lnTo>
                <a:lnTo>
                  <a:pt x="947" y="148"/>
                </a:lnTo>
                <a:lnTo>
                  <a:pt x="957" y="129"/>
                </a:lnTo>
                <a:lnTo>
                  <a:pt x="957" y="111"/>
                </a:lnTo>
                <a:lnTo>
                  <a:pt x="957" y="92"/>
                </a:lnTo>
                <a:lnTo>
                  <a:pt x="957" y="74"/>
                </a:lnTo>
                <a:lnTo>
                  <a:pt x="947" y="56"/>
                </a:lnTo>
                <a:lnTo>
                  <a:pt x="938" y="37"/>
                </a:lnTo>
                <a:lnTo>
                  <a:pt x="920" y="28"/>
                </a:lnTo>
                <a:lnTo>
                  <a:pt x="911" y="10"/>
                </a:lnTo>
                <a:lnTo>
                  <a:pt x="892" y="0"/>
                </a:lnTo>
                <a:lnTo>
                  <a:pt x="892" y="19"/>
                </a:lnTo>
                <a:lnTo>
                  <a:pt x="901" y="37"/>
                </a:lnTo>
                <a:lnTo>
                  <a:pt x="901" y="56"/>
                </a:lnTo>
                <a:lnTo>
                  <a:pt x="901" y="74"/>
                </a:lnTo>
                <a:lnTo>
                  <a:pt x="892" y="92"/>
                </a:lnTo>
                <a:lnTo>
                  <a:pt x="874" y="102"/>
                </a:lnTo>
                <a:lnTo>
                  <a:pt x="874" y="120"/>
                </a:lnTo>
                <a:lnTo>
                  <a:pt x="855" y="129"/>
                </a:lnTo>
                <a:lnTo>
                  <a:pt x="846" y="148"/>
                </a:lnTo>
                <a:lnTo>
                  <a:pt x="828" y="157"/>
                </a:lnTo>
                <a:lnTo>
                  <a:pt x="819" y="175"/>
                </a:lnTo>
                <a:lnTo>
                  <a:pt x="800" y="184"/>
                </a:lnTo>
                <a:lnTo>
                  <a:pt x="782" y="194"/>
                </a:lnTo>
                <a:lnTo>
                  <a:pt x="763" y="203"/>
                </a:lnTo>
                <a:lnTo>
                  <a:pt x="745" y="212"/>
                </a:lnTo>
                <a:lnTo>
                  <a:pt x="727" y="221"/>
                </a:lnTo>
                <a:lnTo>
                  <a:pt x="708" y="230"/>
                </a:lnTo>
                <a:lnTo>
                  <a:pt x="690" y="240"/>
                </a:lnTo>
                <a:lnTo>
                  <a:pt x="662" y="240"/>
                </a:lnTo>
                <a:lnTo>
                  <a:pt x="635" y="240"/>
                </a:lnTo>
                <a:lnTo>
                  <a:pt x="607" y="240"/>
                </a:lnTo>
                <a:lnTo>
                  <a:pt x="589" y="249"/>
                </a:lnTo>
                <a:lnTo>
                  <a:pt x="570" y="249"/>
                </a:lnTo>
                <a:lnTo>
                  <a:pt x="552" y="249"/>
                </a:lnTo>
                <a:lnTo>
                  <a:pt x="534" y="249"/>
                </a:lnTo>
                <a:lnTo>
                  <a:pt x="515" y="249"/>
                </a:lnTo>
                <a:lnTo>
                  <a:pt x="497" y="249"/>
                </a:lnTo>
                <a:lnTo>
                  <a:pt x="478" y="240"/>
                </a:lnTo>
                <a:lnTo>
                  <a:pt x="460" y="240"/>
                </a:lnTo>
                <a:lnTo>
                  <a:pt x="442" y="240"/>
                </a:lnTo>
                <a:lnTo>
                  <a:pt x="423" y="240"/>
                </a:lnTo>
                <a:lnTo>
                  <a:pt x="405" y="240"/>
                </a:lnTo>
                <a:lnTo>
                  <a:pt x="377" y="230"/>
                </a:lnTo>
                <a:lnTo>
                  <a:pt x="350" y="230"/>
                </a:lnTo>
                <a:lnTo>
                  <a:pt x="322" y="221"/>
                </a:lnTo>
                <a:lnTo>
                  <a:pt x="304" y="221"/>
                </a:lnTo>
                <a:lnTo>
                  <a:pt x="285" y="221"/>
                </a:lnTo>
                <a:lnTo>
                  <a:pt x="267" y="221"/>
                </a:lnTo>
                <a:lnTo>
                  <a:pt x="249" y="221"/>
                </a:lnTo>
                <a:lnTo>
                  <a:pt x="230" y="221"/>
                </a:lnTo>
                <a:lnTo>
                  <a:pt x="212" y="221"/>
                </a:lnTo>
                <a:lnTo>
                  <a:pt x="193" y="221"/>
                </a:lnTo>
                <a:lnTo>
                  <a:pt x="175" y="221"/>
                </a:lnTo>
                <a:lnTo>
                  <a:pt x="157" y="221"/>
                </a:lnTo>
                <a:lnTo>
                  <a:pt x="138" y="221"/>
                </a:lnTo>
                <a:lnTo>
                  <a:pt x="120" y="230"/>
                </a:lnTo>
                <a:lnTo>
                  <a:pt x="92" y="240"/>
                </a:lnTo>
                <a:lnTo>
                  <a:pt x="74" y="240"/>
                </a:lnTo>
                <a:lnTo>
                  <a:pt x="55" y="258"/>
                </a:lnTo>
                <a:lnTo>
                  <a:pt x="37" y="267"/>
                </a:lnTo>
                <a:lnTo>
                  <a:pt x="19" y="276"/>
                </a:lnTo>
                <a:lnTo>
                  <a:pt x="9" y="295"/>
                </a:lnTo>
                <a:lnTo>
                  <a:pt x="0" y="313"/>
                </a:lnTo>
                <a:lnTo>
                  <a:pt x="19" y="332"/>
                </a:lnTo>
                <a:lnTo>
                  <a:pt x="46" y="350"/>
                </a:lnTo>
                <a:lnTo>
                  <a:pt x="46" y="368"/>
                </a:lnTo>
                <a:lnTo>
                  <a:pt x="55" y="38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al deposition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longshore drift and a lot of sed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roduces extensions of deposit from the shor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4191120" y="304920"/>
            <a:ext cx="4113000" cy="4725720"/>
          </a:xfrm>
          <a:custGeom>
            <a:avLst/>
            <a:gdLst/>
            <a:ahLst/>
            <a:rect l="l" t="t" r="r" b="b"/>
            <a:pathLst>
              <a:path w="2591" h="2977">
                <a:moveTo>
                  <a:pt x="672" y="2976"/>
                </a:moveTo>
                <a:lnTo>
                  <a:pt x="696" y="2972"/>
                </a:lnTo>
                <a:lnTo>
                  <a:pt x="714" y="2963"/>
                </a:lnTo>
                <a:lnTo>
                  <a:pt x="732" y="2954"/>
                </a:lnTo>
                <a:lnTo>
                  <a:pt x="751" y="2936"/>
                </a:lnTo>
                <a:lnTo>
                  <a:pt x="769" y="2926"/>
                </a:lnTo>
                <a:lnTo>
                  <a:pt x="787" y="2917"/>
                </a:lnTo>
                <a:lnTo>
                  <a:pt x="797" y="2899"/>
                </a:lnTo>
                <a:lnTo>
                  <a:pt x="815" y="2880"/>
                </a:lnTo>
                <a:lnTo>
                  <a:pt x="824" y="2862"/>
                </a:lnTo>
                <a:lnTo>
                  <a:pt x="833" y="2844"/>
                </a:lnTo>
                <a:lnTo>
                  <a:pt x="833" y="2816"/>
                </a:lnTo>
                <a:lnTo>
                  <a:pt x="843" y="2788"/>
                </a:lnTo>
                <a:lnTo>
                  <a:pt x="843" y="2770"/>
                </a:lnTo>
                <a:lnTo>
                  <a:pt x="843" y="2742"/>
                </a:lnTo>
                <a:lnTo>
                  <a:pt x="843" y="2715"/>
                </a:lnTo>
                <a:lnTo>
                  <a:pt x="833" y="2687"/>
                </a:lnTo>
                <a:lnTo>
                  <a:pt x="833" y="2669"/>
                </a:lnTo>
                <a:lnTo>
                  <a:pt x="824" y="2641"/>
                </a:lnTo>
                <a:lnTo>
                  <a:pt x="815" y="2614"/>
                </a:lnTo>
                <a:lnTo>
                  <a:pt x="797" y="2559"/>
                </a:lnTo>
                <a:lnTo>
                  <a:pt x="778" y="2522"/>
                </a:lnTo>
                <a:lnTo>
                  <a:pt x="760" y="2494"/>
                </a:lnTo>
                <a:lnTo>
                  <a:pt x="751" y="2467"/>
                </a:lnTo>
                <a:lnTo>
                  <a:pt x="742" y="2439"/>
                </a:lnTo>
                <a:lnTo>
                  <a:pt x="732" y="2411"/>
                </a:lnTo>
                <a:lnTo>
                  <a:pt x="714" y="2384"/>
                </a:lnTo>
                <a:lnTo>
                  <a:pt x="705" y="2356"/>
                </a:lnTo>
                <a:lnTo>
                  <a:pt x="686" y="2329"/>
                </a:lnTo>
                <a:lnTo>
                  <a:pt x="686" y="2301"/>
                </a:lnTo>
                <a:lnTo>
                  <a:pt x="659" y="2273"/>
                </a:lnTo>
                <a:lnTo>
                  <a:pt x="640" y="2237"/>
                </a:lnTo>
                <a:lnTo>
                  <a:pt x="622" y="2209"/>
                </a:lnTo>
                <a:lnTo>
                  <a:pt x="604" y="2182"/>
                </a:lnTo>
                <a:lnTo>
                  <a:pt x="594" y="2154"/>
                </a:lnTo>
                <a:lnTo>
                  <a:pt x="576" y="2108"/>
                </a:lnTo>
                <a:lnTo>
                  <a:pt x="558" y="2080"/>
                </a:lnTo>
                <a:lnTo>
                  <a:pt x="530" y="2044"/>
                </a:lnTo>
                <a:lnTo>
                  <a:pt x="521" y="2025"/>
                </a:lnTo>
                <a:lnTo>
                  <a:pt x="512" y="2007"/>
                </a:lnTo>
                <a:lnTo>
                  <a:pt x="493" y="1979"/>
                </a:lnTo>
                <a:lnTo>
                  <a:pt x="475" y="1952"/>
                </a:lnTo>
                <a:lnTo>
                  <a:pt x="466" y="1924"/>
                </a:lnTo>
                <a:lnTo>
                  <a:pt x="447" y="1896"/>
                </a:lnTo>
                <a:lnTo>
                  <a:pt x="447" y="1878"/>
                </a:lnTo>
                <a:lnTo>
                  <a:pt x="429" y="1850"/>
                </a:lnTo>
                <a:lnTo>
                  <a:pt x="429" y="1823"/>
                </a:lnTo>
                <a:lnTo>
                  <a:pt x="429" y="1805"/>
                </a:lnTo>
                <a:lnTo>
                  <a:pt x="420" y="1777"/>
                </a:lnTo>
                <a:lnTo>
                  <a:pt x="410" y="1749"/>
                </a:lnTo>
                <a:lnTo>
                  <a:pt x="410" y="1722"/>
                </a:lnTo>
                <a:lnTo>
                  <a:pt x="420" y="1703"/>
                </a:lnTo>
                <a:lnTo>
                  <a:pt x="420" y="1685"/>
                </a:lnTo>
                <a:lnTo>
                  <a:pt x="429" y="1667"/>
                </a:lnTo>
                <a:lnTo>
                  <a:pt x="447" y="1657"/>
                </a:lnTo>
                <a:lnTo>
                  <a:pt x="466" y="1648"/>
                </a:lnTo>
                <a:lnTo>
                  <a:pt x="484" y="1648"/>
                </a:lnTo>
                <a:lnTo>
                  <a:pt x="502" y="1648"/>
                </a:lnTo>
                <a:lnTo>
                  <a:pt x="521" y="1657"/>
                </a:lnTo>
                <a:lnTo>
                  <a:pt x="521" y="1676"/>
                </a:lnTo>
                <a:lnTo>
                  <a:pt x="530" y="1694"/>
                </a:lnTo>
                <a:lnTo>
                  <a:pt x="548" y="1713"/>
                </a:lnTo>
                <a:lnTo>
                  <a:pt x="558" y="1731"/>
                </a:lnTo>
                <a:lnTo>
                  <a:pt x="567" y="1749"/>
                </a:lnTo>
                <a:lnTo>
                  <a:pt x="585" y="1786"/>
                </a:lnTo>
                <a:lnTo>
                  <a:pt x="585" y="1805"/>
                </a:lnTo>
                <a:lnTo>
                  <a:pt x="604" y="1832"/>
                </a:lnTo>
                <a:lnTo>
                  <a:pt x="613" y="1850"/>
                </a:lnTo>
                <a:lnTo>
                  <a:pt x="622" y="1878"/>
                </a:lnTo>
                <a:lnTo>
                  <a:pt x="640" y="1906"/>
                </a:lnTo>
                <a:lnTo>
                  <a:pt x="659" y="1924"/>
                </a:lnTo>
                <a:lnTo>
                  <a:pt x="668" y="1952"/>
                </a:lnTo>
                <a:lnTo>
                  <a:pt x="686" y="1970"/>
                </a:lnTo>
                <a:lnTo>
                  <a:pt x="705" y="1979"/>
                </a:lnTo>
                <a:lnTo>
                  <a:pt x="714" y="1998"/>
                </a:lnTo>
                <a:lnTo>
                  <a:pt x="723" y="2016"/>
                </a:lnTo>
                <a:lnTo>
                  <a:pt x="732" y="2034"/>
                </a:lnTo>
                <a:lnTo>
                  <a:pt x="760" y="2062"/>
                </a:lnTo>
                <a:lnTo>
                  <a:pt x="778" y="2080"/>
                </a:lnTo>
                <a:lnTo>
                  <a:pt x="797" y="2099"/>
                </a:lnTo>
                <a:lnTo>
                  <a:pt x="815" y="2117"/>
                </a:lnTo>
                <a:lnTo>
                  <a:pt x="824" y="2136"/>
                </a:lnTo>
                <a:lnTo>
                  <a:pt x="843" y="2154"/>
                </a:lnTo>
                <a:lnTo>
                  <a:pt x="870" y="2163"/>
                </a:lnTo>
                <a:lnTo>
                  <a:pt x="889" y="2182"/>
                </a:lnTo>
                <a:lnTo>
                  <a:pt x="907" y="2200"/>
                </a:lnTo>
                <a:lnTo>
                  <a:pt x="925" y="2209"/>
                </a:lnTo>
                <a:lnTo>
                  <a:pt x="935" y="2227"/>
                </a:lnTo>
                <a:lnTo>
                  <a:pt x="953" y="2237"/>
                </a:lnTo>
                <a:lnTo>
                  <a:pt x="990" y="2255"/>
                </a:lnTo>
                <a:lnTo>
                  <a:pt x="999" y="2273"/>
                </a:lnTo>
                <a:lnTo>
                  <a:pt x="1017" y="2283"/>
                </a:lnTo>
                <a:lnTo>
                  <a:pt x="1036" y="2301"/>
                </a:lnTo>
                <a:lnTo>
                  <a:pt x="1063" y="2329"/>
                </a:lnTo>
                <a:lnTo>
                  <a:pt x="1082" y="2338"/>
                </a:lnTo>
                <a:lnTo>
                  <a:pt x="1100" y="2356"/>
                </a:lnTo>
                <a:lnTo>
                  <a:pt x="1119" y="2365"/>
                </a:lnTo>
                <a:lnTo>
                  <a:pt x="1146" y="2384"/>
                </a:lnTo>
                <a:lnTo>
                  <a:pt x="1174" y="2393"/>
                </a:lnTo>
                <a:lnTo>
                  <a:pt x="1201" y="2411"/>
                </a:lnTo>
                <a:lnTo>
                  <a:pt x="1229" y="2421"/>
                </a:lnTo>
                <a:lnTo>
                  <a:pt x="1256" y="2430"/>
                </a:lnTo>
                <a:lnTo>
                  <a:pt x="1284" y="2448"/>
                </a:lnTo>
                <a:lnTo>
                  <a:pt x="1312" y="2457"/>
                </a:lnTo>
                <a:lnTo>
                  <a:pt x="1330" y="2467"/>
                </a:lnTo>
                <a:lnTo>
                  <a:pt x="1348" y="2467"/>
                </a:lnTo>
                <a:lnTo>
                  <a:pt x="1367" y="2467"/>
                </a:lnTo>
                <a:lnTo>
                  <a:pt x="1394" y="2457"/>
                </a:lnTo>
                <a:lnTo>
                  <a:pt x="1413" y="2457"/>
                </a:lnTo>
                <a:lnTo>
                  <a:pt x="1431" y="2448"/>
                </a:lnTo>
                <a:lnTo>
                  <a:pt x="1459" y="2448"/>
                </a:lnTo>
                <a:lnTo>
                  <a:pt x="1477" y="2448"/>
                </a:lnTo>
                <a:lnTo>
                  <a:pt x="1496" y="2448"/>
                </a:lnTo>
                <a:lnTo>
                  <a:pt x="1523" y="2439"/>
                </a:lnTo>
                <a:lnTo>
                  <a:pt x="1551" y="2439"/>
                </a:lnTo>
                <a:lnTo>
                  <a:pt x="1578" y="2430"/>
                </a:lnTo>
                <a:lnTo>
                  <a:pt x="1597" y="2430"/>
                </a:lnTo>
                <a:lnTo>
                  <a:pt x="1615" y="2430"/>
                </a:lnTo>
                <a:lnTo>
                  <a:pt x="1633" y="2411"/>
                </a:lnTo>
                <a:lnTo>
                  <a:pt x="1643" y="2393"/>
                </a:lnTo>
                <a:lnTo>
                  <a:pt x="1643" y="2375"/>
                </a:lnTo>
                <a:lnTo>
                  <a:pt x="1643" y="2356"/>
                </a:lnTo>
                <a:lnTo>
                  <a:pt x="1643" y="2338"/>
                </a:lnTo>
                <a:lnTo>
                  <a:pt x="1670" y="2338"/>
                </a:lnTo>
                <a:lnTo>
                  <a:pt x="1698" y="2329"/>
                </a:lnTo>
                <a:lnTo>
                  <a:pt x="1735" y="2338"/>
                </a:lnTo>
                <a:lnTo>
                  <a:pt x="1753" y="2338"/>
                </a:lnTo>
                <a:lnTo>
                  <a:pt x="1781" y="2338"/>
                </a:lnTo>
                <a:lnTo>
                  <a:pt x="1799" y="2338"/>
                </a:lnTo>
                <a:lnTo>
                  <a:pt x="1817" y="2338"/>
                </a:lnTo>
                <a:lnTo>
                  <a:pt x="1836" y="2338"/>
                </a:lnTo>
                <a:lnTo>
                  <a:pt x="1854" y="2338"/>
                </a:lnTo>
                <a:lnTo>
                  <a:pt x="1873" y="2338"/>
                </a:lnTo>
                <a:lnTo>
                  <a:pt x="1891" y="2338"/>
                </a:lnTo>
                <a:lnTo>
                  <a:pt x="1909" y="2329"/>
                </a:lnTo>
                <a:lnTo>
                  <a:pt x="1937" y="2329"/>
                </a:lnTo>
                <a:lnTo>
                  <a:pt x="1955" y="2319"/>
                </a:lnTo>
                <a:lnTo>
                  <a:pt x="1965" y="2301"/>
                </a:lnTo>
                <a:lnTo>
                  <a:pt x="1983" y="2283"/>
                </a:lnTo>
                <a:lnTo>
                  <a:pt x="1983" y="2264"/>
                </a:lnTo>
                <a:lnTo>
                  <a:pt x="1992" y="2246"/>
                </a:lnTo>
                <a:lnTo>
                  <a:pt x="1983" y="2227"/>
                </a:lnTo>
                <a:lnTo>
                  <a:pt x="1974" y="2209"/>
                </a:lnTo>
                <a:lnTo>
                  <a:pt x="1946" y="2182"/>
                </a:lnTo>
                <a:lnTo>
                  <a:pt x="1937" y="2163"/>
                </a:lnTo>
                <a:lnTo>
                  <a:pt x="1928" y="2145"/>
                </a:lnTo>
                <a:lnTo>
                  <a:pt x="1919" y="2126"/>
                </a:lnTo>
                <a:lnTo>
                  <a:pt x="1909" y="2108"/>
                </a:lnTo>
                <a:lnTo>
                  <a:pt x="1900" y="2090"/>
                </a:lnTo>
                <a:lnTo>
                  <a:pt x="1891" y="2071"/>
                </a:lnTo>
                <a:lnTo>
                  <a:pt x="1891" y="2053"/>
                </a:lnTo>
                <a:lnTo>
                  <a:pt x="1882" y="2034"/>
                </a:lnTo>
                <a:lnTo>
                  <a:pt x="1882" y="2016"/>
                </a:lnTo>
                <a:lnTo>
                  <a:pt x="1873" y="1998"/>
                </a:lnTo>
                <a:lnTo>
                  <a:pt x="1863" y="1979"/>
                </a:lnTo>
                <a:lnTo>
                  <a:pt x="1854" y="1952"/>
                </a:lnTo>
                <a:lnTo>
                  <a:pt x="1845" y="1924"/>
                </a:lnTo>
                <a:lnTo>
                  <a:pt x="1827" y="1896"/>
                </a:lnTo>
                <a:lnTo>
                  <a:pt x="1808" y="1869"/>
                </a:lnTo>
                <a:lnTo>
                  <a:pt x="1790" y="1841"/>
                </a:lnTo>
                <a:lnTo>
                  <a:pt x="1771" y="1814"/>
                </a:lnTo>
                <a:lnTo>
                  <a:pt x="1762" y="1786"/>
                </a:lnTo>
                <a:lnTo>
                  <a:pt x="1735" y="1759"/>
                </a:lnTo>
                <a:lnTo>
                  <a:pt x="1716" y="1731"/>
                </a:lnTo>
                <a:lnTo>
                  <a:pt x="1698" y="1694"/>
                </a:lnTo>
                <a:lnTo>
                  <a:pt x="1679" y="1667"/>
                </a:lnTo>
                <a:lnTo>
                  <a:pt x="1652" y="1639"/>
                </a:lnTo>
                <a:lnTo>
                  <a:pt x="1624" y="1602"/>
                </a:lnTo>
                <a:lnTo>
                  <a:pt x="1606" y="1565"/>
                </a:lnTo>
                <a:lnTo>
                  <a:pt x="1578" y="1538"/>
                </a:lnTo>
                <a:lnTo>
                  <a:pt x="1560" y="1501"/>
                </a:lnTo>
                <a:lnTo>
                  <a:pt x="1542" y="1464"/>
                </a:lnTo>
                <a:lnTo>
                  <a:pt x="1514" y="1437"/>
                </a:lnTo>
                <a:lnTo>
                  <a:pt x="1505" y="1409"/>
                </a:lnTo>
                <a:lnTo>
                  <a:pt x="1486" y="1391"/>
                </a:lnTo>
                <a:lnTo>
                  <a:pt x="1468" y="1363"/>
                </a:lnTo>
                <a:lnTo>
                  <a:pt x="1459" y="1345"/>
                </a:lnTo>
                <a:lnTo>
                  <a:pt x="1440" y="1326"/>
                </a:lnTo>
                <a:lnTo>
                  <a:pt x="1431" y="1308"/>
                </a:lnTo>
                <a:lnTo>
                  <a:pt x="1422" y="1290"/>
                </a:lnTo>
                <a:lnTo>
                  <a:pt x="1413" y="1262"/>
                </a:lnTo>
                <a:lnTo>
                  <a:pt x="1394" y="1234"/>
                </a:lnTo>
                <a:lnTo>
                  <a:pt x="1394" y="1216"/>
                </a:lnTo>
                <a:lnTo>
                  <a:pt x="1385" y="1188"/>
                </a:lnTo>
                <a:lnTo>
                  <a:pt x="1367" y="1161"/>
                </a:lnTo>
                <a:lnTo>
                  <a:pt x="1358" y="1142"/>
                </a:lnTo>
                <a:lnTo>
                  <a:pt x="1348" y="1124"/>
                </a:lnTo>
                <a:lnTo>
                  <a:pt x="1339" y="1106"/>
                </a:lnTo>
                <a:lnTo>
                  <a:pt x="1330" y="1087"/>
                </a:lnTo>
                <a:lnTo>
                  <a:pt x="1339" y="1069"/>
                </a:lnTo>
                <a:lnTo>
                  <a:pt x="1348" y="1050"/>
                </a:lnTo>
                <a:lnTo>
                  <a:pt x="1367" y="1041"/>
                </a:lnTo>
                <a:lnTo>
                  <a:pt x="1394" y="1032"/>
                </a:lnTo>
                <a:lnTo>
                  <a:pt x="1413" y="1032"/>
                </a:lnTo>
                <a:lnTo>
                  <a:pt x="1431" y="1023"/>
                </a:lnTo>
                <a:lnTo>
                  <a:pt x="1450" y="1023"/>
                </a:lnTo>
                <a:lnTo>
                  <a:pt x="1468" y="1023"/>
                </a:lnTo>
                <a:lnTo>
                  <a:pt x="1486" y="1032"/>
                </a:lnTo>
                <a:lnTo>
                  <a:pt x="1514" y="1041"/>
                </a:lnTo>
                <a:lnTo>
                  <a:pt x="1551" y="1060"/>
                </a:lnTo>
                <a:lnTo>
                  <a:pt x="1569" y="1060"/>
                </a:lnTo>
                <a:lnTo>
                  <a:pt x="1587" y="1078"/>
                </a:lnTo>
                <a:lnTo>
                  <a:pt x="1606" y="1096"/>
                </a:lnTo>
                <a:lnTo>
                  <a:pt x="1624" y="1106"/>
                </a:lnTo>
                <a:lnTo>
                  <a:pt x="1633" y="1133"/>
                </a:lnTo>
                <a:lnTo>
                  <a:pt x="1652" y="1152"/>
                </a:lnTo>
                <a:lnTo>
                  <a:pt x="1670" y="1170"/>
                </a:lnTo>
                <a:lnTo>
                  <a:pt x="1679" y="1188"/>
                </a:lnTo>
                <a:lnTo>
                  <a:pt x="1698" y="1207"/>
                </a:lnTo>
                <a:lnTo>
                  <a:pt x="1707" y="1234"/>
                </a:lnTo>
                <a:lnTo>
                  <a:pt x="1725" y="1253"/>
                </a:lnTo>
                <a:lnTo>
                  <a:pt x="1744" y="1271"/>
                </a:lnTo>
                <a:lnTo>
                  <a:pt x="1762" y="1290"/>
                </a:lnTo>
                <a:lnTo>
                  <a:pt x="1781" y="1308"/>
                </a:lnTo>
                <a:lnTo>
                  <a:pt x="1799" y="1317"/>
                </a:lnTo>
                <a:lnTo>
                  <a:pt x="1808" y="1336"/>
                </a:lnTo>
                <a:lnTo>
                  <a:pt x="1827" y="1354"/>
                </a:lnTo>
                <a:lnTo>
                  <a:pt x="1854" y="1372"/>
                </a:lnTo>
                <a:lnTo>
                  <a:pt x="1873" y="1391"/>
                </a:lnTo>
                <a:lnTo>
                  <a:pt x="1891" y="1400"/>
                </a:lnTo>
                <a:lnTo>
                  <a:pt x="1900" y="1418"/>
                </a:lnTo>
                <a:lnTo>
                  <a:pt x="1919" y="1437"/>
                </a:lnTo>
                <a:lnTo>
                  <a:pt x="1937" y="1446"/>
                </a:lnTo>
                <a:lnTo>
                  <a:pt x="1965" y="1464"/>
                </a:lnTo>
                <a:lnTo>
                  <a:pt x="1983" y="1473"/>
                </a:lnTo>
                <a:lnTo>
                  <a:pt x="2001" y="1483"/>
                </a:lnTo>
                <a:lnTo>
                  <a:pt x="2020" y="1501"/>
                </a:lnTo>
                <a:lnTo>
                  <a:pt x="2038" y="1501"/>
                </a:lnTo>
                <a:lnTo>
                  <a:pt x="2056" y="1510"/>
                </a:lnTo>
                <a:lnTo>
                  <a:pt x="2075" y="1510"/>
                </a:lnTo>
                <a:lnTo>
                  <a:pt x="2102" y="1501"/>
                </a:lnTo>
                <a:lnTo>
                  <a:pt x="2121" y="1501"/>
                </a:lnTo>
                <a:lnTo>
                  <a:pt x="2139" y="1501"/>
                </a:lnTo>
                <a:lnTo>
                  <a:pt x="2167" y="1519"/>
                </a:lnTo>
                <a:lnTo>
                  <a:pt x="2194" y="1529"/>
                </a:lnTo>
                <a:lnTo>
                  <a:pt x="2222" y="1538"/>
                </a:lnTo>
                <a:lnTo>
                  <a:pt x="2250" y="1547"/>
                </a:lnTo>
                <a:lnTo>
                  <a:pt x="2259" y="1565"/>
                </a:lnTo>
                <a:lnTo>
                  <a:pt x="2286" y="1584"/>
                </a:lnTo>
                <a:lnTo>
                  <a:pt x="2305" y="1602"/>
                </a:lnTo>
                <a:lnTo>
                  <a:pt x="2323" y="1611"/>
                </a:lnTo>
                <a:lnTo>
                  <a:pt x="2351" y="1621"/>
                </a:lnTo>
                <a:lnTo>
                  <a:pt x="2369" y="1630"/>
                </a:lnTo>
                <a:lnTo>
                  <a:pt x="2387" y="1639"/>
                </a:lnTo>
                <a:lnTo>
                  <a:pt x="2406" y="1639"/>
                </a:lnTo>
                <a:lnTo>
                  <a:pt x="2424" y="1621"/>
                </a:lnTo>
                <a:lnTo>
                  <a:pt x="2443" y="1621"/>
                </a:lnTo>
                <a:lnTo>
                  <a:pt x="2461" y="1611"/>
                </a:lnTo>
                <a:lnTo>
                  <a:pt x="2498" y="1611"/>
                </a:lnTo>
                <a:lnTo>
                  <a:pt x="2516" y="1602"/>
                </a:lnTo>
                <a:lnTo>
                  <a:pt x="2535" y="1602"/>
                </a:lnTo>
                <a:lnTo>
                  <a:pt x="2544" y="1584"/>
                </a:lnTo>
                <a:lnTo>
                  <a:pt x="2562" y="1575"/>
                </a:lnTo>
                <a:lnTo>
                  <a:pt x="2571" y="1556"/>
                </a:lnTo>
                <a:lnTo>
                  <a:pt x="2571" y="1529"/>
                </a:lnTo>
                <a:lnTo>
                  <a:pt x="2571" y="1501"/>
                </a:lnTo>
                <a:lnTo>
                  <a:pt x="2571" y="1483"/>
                </a:lnTo>
                <a:lnTo>
                  <a:pt x="2571" y="1464"/>
                </a:lnTo>
                <a:lnTo>
                  <a:pt x="2571" y="1446"/>
                </a:lnTo>
                <a:lnTo>
                  <a:pt x="2571" y="1427"/>
                </a:lnTo>
                <a:lnTo>
                  <a:pt x="2581" y="1409"/>
                </a:lnTo>
                <a:lnTo>
                  <a:pt x="2590" y="1382"/>
                </a:lnTo>
                <a:lnTo>
                  <a:pt x="2590" y="1354"/>
                </a:lnTo>
                <a:lnTo>
                  <a:pt x="2590" y="1336"/>
                </a:lnTo>
                <a:lnTo>
                  <a:pt x="2590" y="1308"/>
                </a:lnTo>
                <a:lnTo>
                  <a:pt x="2581" y="1290"/>
                </a:lnTo>
                <a:lnTo>
                  <a:pt x="2571" y="1262"/>
                </a:lnTo>
                <a:lnTo>
                  <a:pt x="2553" y="1225"/>
                </a:lnTo>
                <a:lnTo>
                  <a:pt x="2525" y="1207"/>
                </a:lnTo>
                <a:lnTo>
                  <a:pt x="2507" y="1188"/>
                </a:lnTo>
                <a:lnTo>
                  <a:pt x="2489" y="1170"/>
                </a:lnTo>
                <a:lnTo>
                  <a:pt x="2470" y="1161"/>
                </a:lnTo>
                <a:lnTo>
                  <a:pt x="2443" y="1142"/>
                </a:lnTo>
                <a:lnTo>
                  <a:pt x="2424" y="1124"/>
                </a:lnTo>
                <a:lnTo>
                  <a:pt x="2415" y="1106"/>
                </a:lnTo>
                <a:lnTo>
                  <a:pt x="2397" y="1087"/>
                </a:lnTo>
                <a:lnTo>
                  <a:pt x="2378" y="1060"/>
                </a:lnTo>
                <a:lnTo>
                  <a:pt x="2369" y="1041"/>
                </a:lnTo>
                <a:lnTo>
                  <a:pt x="2360" y="1014"/>
                </a:lnTo>
                <a:lnTo>
                  <a:pt x="2351" y="995"/>
                </a:lnTo>
                <a:lnTo>
                  <a:pt x="2369" y="986"/>
                </a:lnTo>
                <a:lnTo>
                  <a:pt x="2369" y="968"/>
                </a:lnTo>
                <a:lnTo>
                  <a:pt x="2378" y="949"/>
                </a:lnTo>
                <a:lnTo>
                  <a:pt x="2397" y="931"/>
                </a:lnTo>
                <a:lnTo>
                  <a:pt x="2397" y="913"/>
                </a:lnTo>
                <a:lnTo>
                  <a:pt x="2406" y="885"/>
                </a:lnTo>
                <a:lnTo>
                  <a:pt x="2406" y="857"/>
                </a:lnTo>
                <a:lnTo>
                  <a:pt x="2397" y="821"/>
                </a:lnTo>
                <a:lnTo>
                  <a:pt x="2387" y="793"/>
                </a:lnTo>
                <a:lnTo>
                  <a:pt x="2360" y="756"/>
                </a:lnTo>
                <a:lnTo>
                  <a:pt x="2332" y="719"/>
                </a:lnTo>
                <a:lnTo>
                  <a:pt x="2305" y="692"/>
                </a:lnTo>
                <a:lnTo>
                  <a:pt x="2286" y="673"/>
                </a:lnTo>
                <a:lnTo>
                  <a:pt x="2277" y="646"/>
                </a:lnTo>
                <a:lnTo>
                  <a:pt x="2286" y="627"/>
                </a:lnTo>
                <a:lnTo>
                  <a:pt x="2296" y="609"/>
                </a:lnTo>
                <a:lnTo>
                  <a:pt x="2305" y="591"/>
                </a:lnTo>
                <a:lnTo>
                  <a:pt x="2323" y="572"/>
                </a:lnTo>
                <a:lnTo>
                  <a:pt x="2332" y="554"/>
                </a:lnTo>
                <a:lnTo>
                  <a:pt x="2351" y="545"/>
                </a:lnTo>
                <a:lnTo>
                  <a:pt x="2360" y="517"/>
                </a:lnTo>
                <a:lnTo>
                  <a:pt x="2369" y="499"/>
                </a:lnTo>
                <a:lnTo>
                  <a:pt x="2387" y="490"/>
                </a:lnTo>
                <a:lnTo>
                  <a:pt x="2387" y="471"/>
                </a:lnTo>
                <a:lnTo>
                  <a:pt x="2387" y="444"/>
                </a:lnTo>
                <a:lnTo>
                  <a:pt x="2387" y="425"/>
                </a:lnTo>
                <a:lnTo>
                  <a:pt x="2387" y="407"/>
                </a:lnTo>
                <a:lnTo>
                  <a:pt x="2387" y="388"/>
                </a:lnTo>
                <a:lnTo>
                  <a:pt x="2387" y="361"/>
                </a:lnTo>
                <a:lnTo>
                  <a:pt x="2387" y="342"/>
                </a:lnTo>
                <a:lnTo>
                  <a:pt x="2378" y="315"/>
                </a:lnTo>
                <a:lnTo>
                  <a:pt x="2351" y="296"/>
                </a:lnTo>
                <a:lnTo>
                  <a:pt x="2342" y="278"/>
                </a:lnTo>
                <a:lnTo>
                  <a:pt x="2314" y="260"/>
                </a:lnTo>
                <a:lnTo>
                  <a:pt x="2277" y="214"/>
                </a:lnTo>
                <a:lnTo>
                  <a:pt x="2268" y="195"/>
                </a:lnTo>
                <a:lnTo>
                  <a:pt x="2286" y="186"/>
                </a:lnTo>
                <a:lnTo>
                  <a:pt x="2296" y="168"/>
                </a:lnTo>
                <a:lnTo>
                  <a:pt x="2304" y="0"/>
                </a:lnTo>
                <a:lnTo>
                  <a:pt x="0" y="0"/>
                </a:lnTo>
                <a:lnTo>
                  <a:pt x="0" y="2976"/>
                </a:lnTo>
                <a:lnTo>
                  <a:pt x="672" y="297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6400800" y="3428640"/>
            <a:ext cx="2438280" cy="20574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8"/>
          <p:cNvSpPr/>
          <p:nvPr/>
        </p:nvSpPr>
        <p:spPr>
          <a:xfrm>
            <a:off x="5156280" y="5257800"/>
            <a:ext cx="1022400" cy="946080"/>
          </a:xfrm>
          <a:custGeom>
            <a:avLst/>
            <a:gdLst/>
            <a:ahLst/>
            <a:rect l="l" t="t" r="r" b="b"/>
            <a:pathLst>
              <a:path w="644" h="596">
                <a:moveTo>
                  <a:pt x="496" y="0"/>
                </a:moveTo>
                <a:lnTo>
                  <a:pt x="478" y="16"/>
                </a:lnTo>
                <a:lnTo>
                  <a:pt x="450" y="16"/>
                </a:lnTo>
                <a:lnTo>
                  <a:pt x="432" y="16"/>
                </a:lnTo>
                <a:lnTo>
                  <a:pt x="395" y="16"/>
                </a:lnTo>
                <a:lnTo>
                  <a:pt x="368" y="16"/>
                </a:lnTo>
                <a:lnTo>
                  <a:pt x="331" y="16"/>
                </a:lnTo>
                <a:lnTo>
                  <a:pt x="294" y="16"/>
                </a:lnTo>
                <a:lnTo>
                  <a:pt x="257" y="25"/>
                </a:lnTo>
                <a:lnTo>
                  <a:pt x="175" y="53"/>
                </a:lnTo>
                <a:lnTo>
                  <a:pt x="138" y="62"/>
                </a:lnTo>
                <a:lnTo>
                  <a:pt x="110" y="80"/>
                </a:lnTo>
                <a:lnTo>
                  <a:pt x="83" y="89"/>
                </a:lnTo>
                <a:lnTo>
                  <a:pt x="37" y="117"/>
                </a:lnTo>
                <a:lnTo>
                  <a:pt x="18" y="145"/>
                </a:lnTo>
                <a:lnTo>
                  <a:pt x="9" y="163"/>
                </a:lnTo>
                <a:lnTo>
                  <a:pt x="9" y="181"/>
                </a:lnTo>
                <a:lnTo>
                  <a:pt x="0" y="209"/>
                </a:lnTo>
                <a:lnTo>
                  <a:pt x="0" y="227"/>
                </a:lnTo>
                <a:lnTo>
                  <a:pt x="0" y="246"/>
                </a:lnTo>
                <a:lnTo>
                  <a:pt x="0" y="264"/>
                </a:lnTo>
                <a:lnTo>
                  <a:pt x="9" y="292"/>
                </a:lnTo>
                <a:lnTo>
                  <a:pt x="9" y="310"/>
                </a:lnTo>
                <a:lnTo>
                  <a:pt x="9" y="328"/>
                </a:lnTo>
                <a:lnTo>
                  <a:pt x="18" y="347"/>
                </a:lnTo>
                <a:lnTo>
                  <a:pt x="18" y="365"/>
                </a:lnTo>
                <a:lnTo>
                  <a:pt x="18" y="393"/>
                </a:lnTo>
                <a:lnTo>
                  <a:pt x="18" y="430"/>
                </a:lnTo>
                <a:lnTo>
                  <a:pt x="27" y="466"/>
                </a:lnTo>
                <a:lnTo>
                  <a:pt x="27" y="494"/>
                </a:lnTo>
                <a:lnTo>
                  <a:pt x="27" y="522"/>
                </a:lnTo>
                <a:lnTo>
                  <a:pt x="46" y="549"/>
                </a:lnTo>
                <a:lnTo>
                  <a:pt x="64" y="558"/>
                </a:lnTo>
                <a:lnTo>
                  <a:pt x="101" y="568"/>
                </a:lnTo>
                <a:lnTo>
                  <a:pt x="129" y="568"/>
                </a:lnTo>
                <a:lnTo>
                  <a:pt x="147" y="568"/>
                </a:lnTo>
                <a:lnTo>
                  <a:pt x="175" y="577"/>
                </a:lnTo>
                <a:lnTo>
                  <a:pt x="211" y="577"/>
                </a:lnTo>
                <a:lnTo>
                  <a:pt x="248" y="577"/>
                </a:lnTo>
                <a:lnTo>
                  <a:pt x="276" y="586"/>
                </a:lnTo>
                <a:lnTo>
                  <a:pt x="312" y="586"/>
                </a:lnTo>
                <a:lnTo>
                  <a:pt x="340" y="586"/>
                </a:lnTo>
                <a:lnTo>
                  <a:pt x="368" y="595"/>
                </a:lnTo>
                <a:lnTo>
                  <a:pt x="395" y="586"/>
                </a:lnTo>
                <a:lnTo>
                  <a:pt x="404" y="568"/>
                </a:lnTo>
                <a:lnTo>
                  <a:pt x="432" y="549"/>
                </a:lnTo>
                <a:lnTo>
                  <a:pt x="432" y="531"/>
                </a:lnTo>
                <a:lnTo>
                  <a:pt x="450" y="512"/>
                </a:lnTo>
                <a:lnTo>
                  <a:pt x="460" y="494"/>
                </a:lnTo>
                <a:lnTo>
                  <a:pt x="478" y="476"/>
                </a:lnTo>
                <a:lnTo>
                  <a:pt x="496" y="466"/>
                </a:lnTo>
                <a:lnTo>
                  <a:pt x="506" y="448"/>
                </a:lnTo>
                <a:lnTo>
                  <a:pt x="515" y="430"/>
                </a:lnTo>
                <a:lnTo>
                  <a:pt x="542" y="402"/>
                </a:lnTo>
                <a:lnTo>
                  <a:pt x="552" y="384"/>
                </a:lnTo>
                <a:lnTo>
                  <a:pt x="570" y="374"/>
                </a:lnTo>
                <a:lnTo>
                  <a:pt x="588" y="356"/>
                </a:lnTo>
                <a:lnTo>
                  <a:pt x="598" y="338"/>
                </a:lnTo>
                <a:lnTo>
                  <a:pt x="616" y="310"/>
                </a:lnTo>
                <a:lnTo>
                  <a:pt x="625" y="292"/>
                </a:lnTo>
                <a:lnTo>
                  <a:pt x="634" y="273"/>
                </a:lnTo>
                <a:lnTo>
                  <a:pt x="643" y="255"/>
                </a:lnTo>
                <a:lnTo>
                  <a:pt x="643" y="237"/>
                </a:lnTo>
                <a:lnTo>
                  <a:pt x="643" y="218"/>
                </a:lnTo>
                <a:lnTo>
                  <a:pt x="643" y="200"/>
                </a:lnTo>
                <a:lnTo>
                  <a:pt x="634" y="181"/>
                </a:lnTo>
                <a:lnTo>
                  <a:pt x="625" y="163"/>
                </a:lnTo>
                <a:lnTo>
                  <a:pt x="616" y="145"/>
                </a:lnTo>
                <a:lnTo>
                  <a:pt x="616" y="126"/>
                </a:lnTo>
                <a:lnTo>
                  <a:pt x="607" y="108"/>
                </a:lnTo>
                <a:lnTo>
                  <a:pt x="598" y="89"/>
                </a:lnTo>
                <a:lnTo>
                  <a:pt x="598" y="71"/>
                </a:lnTo>
                <a:lnTo>
                  <a:pt x="579" y="53"/>
                </a:lnTo>
                <a:lnTo>
                  <a:pt x="561" y="34"/>
                </a:lnTo>
                <a:lnTo>
                  <a:pt x="542" y="25"/>
                </a:lnTo>
                <a:lnTo>
                  <a:pt x="524" y="16"/>
                </a:lnTo>
                <a:lnTo>
                  <a:pt x="506" y="16"/>
                </a:lnTo>
                <a:lnTo>
                  <a:pt x="487" y="7"/>
                </a:lnTo>
                <a:lnTo>
                  <a:pt x="469" y="7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grow across a bay (baymouth b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link an island to the main land (tombol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6086520" y="2170080"/>
            <a:ext cx="2440080" cy="2805120"/>
          </a:xfrm>
          <a:custGeom>
            <a:avLst/>
            <a:gdLst/>
            <a:ahLst/>
            <a:rect l="l" t="t" r="r" b="b"/>
            <a:pathLst>
              <a:path w="1537" h="1767">
                <a:moveTo>
                  <a:pt x="6" y="1753"/>
                </a:moveTo>
                <a:lnTo>
                  <a:pt x="0" y="1729"/>
                </a:lnTo>
                <a:lnTo>
                  <a:pt x="19" y="1720"/>
                </a:lnTo>
                <a:lnTo>
                  <a:pt x="37" y="1701"/>
                </a:lnTo>
                <a:lnTo>
                  <a:pt x="55" y="1683"/>
                </a:lnTo>
                <a:lnTo>
                  <a:pt x="74" y="1674"/>
                </a:lnTo>
                <a:lnTo>
                  <a:pt x="92" y="1664"/>
                </a:lnTo>
                <a:lnTo>
                  <a:pt x="111" y="1655"/>
                </a:lnTo>
                <a:lnTo>
                  <a:pt x="129" y="1646"/>
                </a:lnTo>
                <a:lnTo>
                  <a:pt x="147" y="1646"/>
                </a:lnTo>
                <a:lnTo>
                  <a:pt x="166" y="1637"/>
                </a:lnTo>
                <a:lnTo>
                  <a:pt x="184" y="1628"/>
                </a:lnTo>
                <a:lnTo>
                  <a:pt x="203" y="1618"/>
                </a:lnTo>
                <a:lnTo>
                  <a:pt x="221" y="1609"/>
                </a:lnTo>
                <a:lnTo>
                  <a:pt x="239" y="1600"/>
                </a:lnTo>
                <a:lnTo>
                  <a:pt x="258" y="1591"/>
                </a:lnTo>
                <a:lnTo>
                  <a:pt x="276" y="1572"/>
                </a:lnTo>
                <a:lnTo>
                  <a:pt x="295" y="1563"/>
                </a:lnTo>
                <a:lnTo>
                  <a:pt x="313" y="1554"/>
                </a:lnTo>
                <a:lnTo>
                  <a:pt x="331" y="1554"/>
                </a:lnTo>
                <a:lnTo>
                  <a:pt x="350" y="1554"/>
                </a:lnTo>
                <a:lnTo>
                  <a:pt x="377" y="1545"/>
                </a:lnTo>
                <a:lnTo>
                  <a:pt x="396" y="1536"/>
                </a:lnTo>
                <a:lnTo>
                  <a:pt x="414" y="1536"/>
                </a:lnTo>
                <a:lnTo>
                  <a:pt x="432" y="1526"/>
                </a:lnTo>
                <a:lnTo>
                  <a:pt x="451" y="1517"/>
                </a:lnTo>
                <a:lnTo>
                  <a:pt x="469" y="1508"/>
                </a:lnTo>
                <a:lnTo>
                  <a:pt x="488" y="1499"/>
                </a:lnTo>
                <a:lnTo>
                  <a:pt x="506" y="1490"/>
                </a:lnTo>
                <a:lnTo>
                  <a:pt x="524" y="1480"/>
                </a:lnTo>
                <a:lnTo>
                  <a:pt x="543" y="1471"/>
                </a:lnTo>
                <a:lnTo>
                  <a:pt x="561" y="1471"/>
                </a:lnTo>
                <a:lnTo>
                  <a:pt x="580" y="1462"/>
                </a:lnTo>
                <a:lnTo>
                  <a:pt x="598" y="1462"/>
                </a:lnTo>
                <a:lnTo>
                  <a:pt x="616" y="1462"/>
                </a:lnTo>
                <a:lnTo>
                  <a:pt x="635" y="1453"/>
                </a:lnTo>
                <a:lnTo>
                  <a:pt x="653" y="1453"/>
                </a:lnTo>
                <a:lnTo>
                  <a:pt x="672" y="1444"/>
                </a:lnTo>
                <a:lnTo>
                  <a:pt x="681" y="1425"/>
                </a:lnTo>
                <a:lnTo>
                  <a:pt x="699" y="1416"/>
                </a:lnTo>
                <a:lnTo>
                  <a:pt x="708" y="1398"/>
                </a:lnTo>
                <a:lnTo>
                  <a:pt x="727" y="1370"/>
                </a:lnTo>
                <a:lnTo>
                  <a:pt x="745" y="1343"/>
                </a:lnTo>
                <a:lnTo>
                  <a:pt x="754" y="1324"/>
                </a:lnTo>
                <a:lnTo>
                  <a:pt x="773" y="1315"/>
                </a:lnTo>
                <a:lnTo>
                  <a:pt x="773" y="1297"/>
                </a:lnTo>
                <a:lnTo>
                  <a:pt x="791" y="1287"/>
                </a:lnTo>
                <a:lnTo>
                  <a:pt x="791" y="1269"/>
                </a:lnTo>
                <a:lnTo>
                  <a:pt x="819" y="1251"/>
                </a:lnTo>
                <a:lnTo>
                  <a:pt x="828" y="1232"/>
                </a:lnTo>
                <a:lnTo>
                  <a:pt x="837" y="1214"/>
                </a:lnTo>
                <a:lnTo>
                  <a:pt x="846" y="1195"/>
                </a:lnTo>
                <a:lnTo>
                  <a:pt x="865" y="1177"/>
                </a:lnTo>
                <a:lnTo>
                  <a:pt x="874" y="1159"/>
                </a:lnTo>
                <a:lnTo>
                  <a:pt x="874" y="1140"/>
                </a:lnTo>
                <a:lnTo>
                  <a:pt x="892" y="1122"/>
                </a:lnTo>
                <a:lnTo>
                  <a:pt x="901" y="1094"/>
                </a:lnTo>
                <a:lnTo>
                  <a:pt x="920" y="1076"/>
                </a:lnTo>
                <a:lnTo>
                  <a:pt x="929" y="1048"/>
                </a:lnTo>
                <a:lnTo>
                  <a:pt x="947" y="1030"/>
                </a:lnTo>
                <a:lnTo>
                  <a:pt x="947" y="1011"/>
                </a:lnTo>
                <a:lnTo>
                  <a:pt x="957" y="993"/>
                </a:lnTo>
                <a:lnTo>
                  <a:pt x="975" y="975"/>
                </a:lnTo>
                <a:lnTo>
                  <a:pt x="984" y="956"/>
                </a:lnTo>
                <a:lnTo>
                  <a:pt x="993" y="938"/>
                </a:lnTo>
                <a:lnTo>
                  <a:pt x="1012" y="910"/>
                </a:lnTo>
                <a:lnTo>
                  <a:pt x="1021" y="892"/>
                </a:lnTo>
                <a:lnTo>
                  <a:pt x="1039" y="864"/>
                </a:lnTo>
                <a:lnTo>
                  <a:pt x="1067" y="855"/>
                </a:lnTo>
                <a:lnTo>
                  <a:pt x="1076" y="828"/>
                </a:lnTo>
                <a:lnTo>
                  <a:pt x="1095" y="828"/>
                </a:lnTo>
                <a:lnTo>
                  <a:pt x="1104" y="800"/>
                </a:lnTo>
                <a:lnTo>
                  <a:pt x="1122" y="800"/>
                </a:lnTo>
                <a:lnTo>
                  <a:pt x="1131" y="782"/>
                </a:lnTo>
                <a:lnTo>
                  <a:pt x="1150" y="782"/>
                </a:lnTo>
                <a:lnTo>
                  <a:pt x="1159" y="763"/>
                </a:lnTo>
                <a:lnTo>
                  <a:pt x="1177" y="754"/>
                </a:lnTo>
                <a:lnTo>
                  <a:pt x="1187" y="736"/>
                </a:lnTo>
                <a:lnTo>
                  <a:pt x="1205" y="726"/>
                </a:lnTo>
                <a:lnTo>
                  <a:pt x="1214" y="708"/>
                </a:lnTo>
                <a:lnTo>
                  <a:pt x="1232" y="699"/>
                </a:lnTo>
                <a:lnTo>
                  <a:pt x="1242" y="680"/>
                </a:lnTo>
                <a:lnTo>
                  <a:pt x="1260" y="653"/>
                </a:lnTo>
                <a:lnTo>
                  <a:pt x="1269" y="634"/>
                </a:lnTo>
                <a:lnTo>
                  <a:pt x="1288" y="625"/>
                </a:lnTo>
                <a:lnTo>
                  <a:pt x="1297" y="607"/>
                </a:lnTo>
                <a:lnTo>
                  <a:pt x="1315" y="598"/>
                </a:lnTo>
                <a:lnTo>
                  <a:pt x="1324" y="579"/>
                </a:lnTo>
                <a:lnTo>
                  <a:pt x="1334" y="561"/>
                </a:lnTo>
                <a:lnTo>
                  <a:pt x="1352" y="543"/>
                </a:lnTo>
                <a:lnTo>
                  <a:pt x="1361" y="524"/>
                </a:lnTo>
                <a:lnTo>
                  <a:pt x="1370" y="506"/>
                </a:lnTo>
                <a:lnTo>
                  <a:pt x="1370" y="487"/>
                </a:lnTo>
                <a:lnTo>
                  <a:pt x="1389" y="469"/>
                </a:lnTo>
                <a:lnTo>
                  <a:pt x="1398" y="441"/>
                </a:lnTo>
                <a:lnTo>
                  <a:pt x="1407" y="423"/>
                </a:lnTo>
                <a:lnTo>
                  <a:pt x="1407" y="405"/>
                </a:lnTo>
                <a:lnTo>
                  <a:pt x="1407" y="386"/>
                </a:lnTo>
                <a:lnTo>
                  <a:pt x="1416" y="368"/>
                </a:lnTo>
                <a:lnTo>
                  <a:pt x="1416" y="349"/>
                </a:lnTo>
                <a:lnTo>
                  <a:pt x="1426" y="322"/>
                </a:lnTo>
                <a:lnTo>
                  <a:pt x="1426" y="303"/>
                </a:lnTo>
                <a:lnTo>
                  <a:pt x="1435" y="276"/>
                </a:lnTo>
                <a:lnTo>
                  <a:pt x="1435" y="248"/>
                </a:lnTo>
                <a:lnTo>
                  <a:pt x="1435" y="221"/>
                </a:lnTo>
                <a:lnTo>
                  <a:pt x="1435" y="202"/>
                </a:lnTo>
                <a:lnTo>
                  <a:pt x="1435" y="184"/>
                </a:lnTo>
                <a:lnTo>
                  <a:pt x="1426" y="166"/>
                </a:lnTo>
                <a:lnTo>
                  <a:pt x="1426" y="147"/>
                </a:lnTo>
                <a:lnTo>
                  <a:pt x="1416" y="129"/>
                </a:lnTo>
                <a:lnTo>
                  <a:pt x="1407" y="110"/>
                </a:lnTo>
                <a:lnTo>
                  <a:pt x="1389" y="83"/>
                </a:lnTo>
                <a:lnTo>
                  <a:pt x="1380" y="55"/>
                </a:lnTo>
                <a:lnTo>
                  <a:pt x="1361" y="37"/>
                </a:lnTo>
                <a:lnTo>
                  <a:pt x="1343" y="28"/>
                </a:lnTo>
                <a:lnTo>
                  <a:pt x="1334" y="9"/>
                </a:lnTo>
                <a:lnTo>
                  <a:pt x="1315" y="0"/>
                </a:lnTo>
                <a:lnTo>
                  <a:pt x="1334" y="0"/>
                </a:lnTo>
                <a:lnTo>
                  <a:pt x="1352" y="9"/>
                </a:lnTo>
                <a:lnTo>
                  <a:pt x="1370" y="18"/>
                </a:lnTo>
                <a:lnTo>
                  <a:pt x="1389" y="28"/>
                </a:lnTo>
                <a:lnTo>
                  <a:pt x="1407" y="37"/>
                </a:lnTo>
                <a:lnTo>
                  <a:pt x="1426" y="46"/>
                </a:lnTo>
                <a:lnTo>
                  <a:pt x="1435" y="64"/>
                </a:lnTo>
                <a:lnTo>
                  <a:pt x="1453" y="74"/>
                </a:lnTo>
                <a:lnTo>
                  <a:pt x="1462" y="92"/>
                </a:lnTo>
                <a:lnTo>
                  <a:pt x="1481" y="101"/>
                </a:lnTo>
                <a:lnTo>
                  <a:pt x="1481" y="120"/>
                </a:lnTo>
                <a:lnTo>
                  <a:pt x="1490" y="138"/>
                </a:lnTo>
                <a:lnTo>
                  <a:pt x="1508" y="147"/>
                </a:lnTo>
                <a:lnTo>
                  <a:pt x="1508" y="166"/>
                </a:lnTo>
                <a:lnTo>
                  <a:pt x="1518" y="184"/>
                </a:lnTo>
                <a:lnTo>
                  <a:pt x="1518" y="202"/>
                </a:lnTo>
                <a:lnTo>
                  <a:pt x="1527" y="221"/>
                </a:lnTo>
                <a:lnTo>
                  <a:pt x="1527" y="239"/>
                </a:lnTo>
                <a:lnTo>
                  <a:pt x="1536" y="257"/>
                </a:lnTo>
                <a:lnTo>
                  <a:pt x="1536" y="276"/>
                </a:lnTo>
                <a:lnTo>
                  <a:pt x="1536" y="294"/>
                </a:lnTo>
                <a:lnTo>
                  <a:pt x="1536" y="313"/>
                </a:lnTo>
                <a:lnTo>
                  <a:pt x="1536" y="331"/>
                </a:lnTo>
                <a:lnTo>
                  <a:pt x="1536" y="349"/>
                </a:lnTo>
                <a:lnTo>
                  <a:pt x="1536" y="368"/>
                </a:lnTo>
                <a:lnTo>
                  <a:pt x="1536" y="386"/>
                </a:lnTo>
                <a:lnTo>
                  <a:pt x="1536" y="405"/>
                </a:lnTo>
                <a:lnTo>
                  <a:pt x="1536" y="423"/>
                </a:lnTo>
                <a:lnTo>
                  <a:pt x="1536" y="441"/>
                </a:lnTo>
                <a:lnTo>
                  <a:pt x="1536" y="460"/>
                </a:lnTo>
                <a:lnTo>
                  <a:pt x="1527" y="478"/>
                </a:lnTo>
                <a:lnTo>
                  <a:pt x="1518" y="497"/>
                </a:lnTo>
                <a:lnTo>
                  <a:pt x="1518" y="515"/>
                </a:lnTo>
                <a:lnTo>
                  <a:pt x="1518" y="533"/>
                </a:lnTo>
                <a:lnTo>
                  <a:pt x="1508" y="552"/>
                </a:lnTo>
                <a:lnTo>
                  <a:pt x="1499" y="570"/>
                </a:lnTo>
                <a:lnTo>
                  <a:pt x="1499" y="588"/>
                </a:lnTo>
                <a:lnTo>
                  <a:pt x="1490" y="607"/>
                </a:lnTo>
                <a:lnTo>
                  <a:pt x="1490" y="625"/>
                </a:lnTo>
                <a:lnTo>
                  <a:pt x="1481" y="644"/>
                </a:lnTo>
                <a:lnTo>
                  <a:pt x="1472" y="662"/>
                </a:lnTo>
                <a:lnTo>
                  <a:pt x="1472" y="680"/>
                </a:lnTo>
                <a:lnTo>
                  <a:pt x="1462" y="708"/>
                </a:lnTo>
                <a:lnTo>
                  <a:pt x="1453" y="736"/>
                </a:lnTo>
                <a:lnTo>
                  <a:pt x="1444" y="754"/>
                </a:lnTo>
                <a:lnTo>
                  <a:pt x="1435" y="772"/>
                </a:lnTo>
                <a:lnTo>
                  <a:pt x="1426" y="791"/>
                </a:lnTo>
                <a:lnTo>
                  <a:pt x="1416" y="809"/>
                </a:lnTo>
                <a:lnTo>
                  <a:pt x="1407" y="828"/>
                </a:lnTo>
                <a:lnTo>
                  <a:pt x="1389" y="855"/>
                </a:lnTo>
                <a:lnTo>
                  <a:pt x="1380" y="874"/>
                </a:lnTo>
                <a:lnTo>
                  <a:pt x="1380" y="892"/>
                </a:lnTo>
                <a:lnTo>
                  <a:pt x="1361" y="901"/>
                </a:lnTo>
                <a:lnTo>
                  <a:pt x="1352" y="920"/>
                </a:lnTo>
                <a:lnTo>
                  <a:pt x="1334" y="947"/>
                </a:lnTo>
                <a:lnTo>
                  <a:pt x="1315" y="975"/>
                </a:lnTo>
                <a:lnTo>
                  <a:pt x="1306" y="993"/>
                </a:lnTo>
                <a:lnTo>
                  <a:pt x="1297" y="1011"/>
                </a:lnTo>
                <a:lnTo>
                  <a:pt x="1288" y="1030"/>
                </a:lnTo>
                <a:lnTo>
                  <a:pt x="1269" y="1048"/>
                </a:lnTo>
                <a:lnTo>
                  <a:pt x="1251" y="1067"/>
                </a:lnTo>
                <a:lnTo>
                  <a:pt x="1242" y="1085"/>
                </a:lnTo>
                <a:lnTo>
                  <a:pt x="1232" y="1103"/>
                </a:lnTo>
                <a:lnTo>
                  <a:pt x="1214" y="1113"/>
                </a:lnTo>
                <a:lnTo>
                  <a:pt x="1205" y="1131"/>
                </a:lnTo>
                <a:lnTo>
                  <a:pt x="1196" y="1149"/>
                </a:lnTo>
                <a:lnTo>
                  <a:pt x="1187" y="1168"/>
                </a:lnTo>
                <a:lnTo>
                  <a:pt x="1177" y="1186"/>
                </a:lnTo>
                <a:lnTo>
                  <a:pt x="1159" y="1195"/>
                </a:lnTo>
                <a:lnTo>
                  <a:pt x="1150" y="1214"/>
                </a:lnTo>
                <a:lnTo>
                  <a:pt x="1131" y="1232"/>
                </a:lnTo>
                <a:lnTo>
                  <a:pt x="1122" y="1251"/>
                </a:lnTo>
                <a:lnTo>
                  <a:pt x="1104" y="1269"/>
                </a:lnTo>
                <a:lnTo>
                  <a:pt x="1095" y="1287"/>
                </a:lnTo>
                <a:lnTo>
                  <a:pt x="1076" y="1297"/>
                </a:lnTo>
                <a:lnTo>
                  <a:pt x="1067" y="1315"/>
                </a:lnTo>
                <a:lnTo>
                  <a:pt x="1049" y="1324"/>
                </a:lnTo>
                <a:lnTo>
                  <a:pt x="1039" y="1343"/>
                </a:lnTo>
                <a:lnTo>
                  <a:pt x="1021" y="1361"/>
                </a:lnTo>
                <a:lnTo>
                  <a:pt x="1012" y="1379"/>
                </a:lnTo>
                <a:lnTo>
                  <a:pt x="993" y="1388"/>
                </a:lnTo>
                <a:lnTo>
                  <a:pt x="975" y="1407"/>
                </a:lnTo>
                <a:lnTo>
                  <a:pt x="966" y="1425"/>
                </a:lnTo>
                <a:lnTo>
                  <a:pt x="947" y="1434"/>
                </a:lnTo>
                <a:lnTo>
                  <a:pt x="938" y="1453"/>
                </a:lnTo>
                <a:lnTo>
                  <a:pt x="920" y="1462"/>
                </a:lnTo>
                <a:lnTo>
                  <a:pt x="911" y="1480"/>
                </a:lnTo>
                <a:lnTo>
                  <a:pt x="892" y="1490"/>
                </a:lnTo>
                <a:lnTo>
                  <a:pt x="883" y="1508"/>
                </a:lnTo>
                <a:lnTo>
                  <a:pt x="865" y="1517"/>
                </a:lnTo>
                <a:lnTo>
                  <a:pt x="855" y="1536"/>
                </a:lnTo>
                <a:lnTo>
                  <a:pt x="837" y="1545"/>
                </a:lnTo>
                <a:lnTo>
                  <a:pt x="828" y="1563"/>
                </a:lnTo>
                <a:lnTo>
                  <a:pt x="809" y="1572"/>
                </a:lnTo>
                <a:lnTo>
                  <a:pt x="791" y="1591"/>
                </a:lnTo>
                <a:lnTo>
                  <a:pt x="773" y="1600"/>
                </a:lnTo>
                <a:lnTo>
                  <a:pt x="754" y="1609"/>
                </a:lnTo>
                <a:lnTo>
                  <a:pt x="727" y="1628"/>
                </a:lnTo>
                <a:lnTo>
                  <a:pt x="708" y="1637"/>
                </a:lnTo>
                <a:lnTo>
                  <a:pt x="690" y="1646"/>
                </a:lnTo>
                <a:lnTo>
                  <a:pt x="672" y="1655"/>
                </a:lnTo>
                <a:lnTo>
                  <a:pt x="653" y="1674"/>
                </a:lnTo>
                <a:lnTo>
                  <a:pt x="635" y="1683"/>
                </a:lnTo>
                <a:lnTo>
                  <a:pt x="616" y="1692"/>
                </a:lnTo>
                <a:lnTo>
                  <a:pt x="598" y="1710"/>
                </a:lnTo>
                <a:lnTo>
                  <a:pt x="580" y="1710"/>
                </a:lnTo>
                <a:lnTo>
                  <a:pt x="552" y="1720"/>
                </a:lnTo>
                <a:lnTo>
                  <a:pt x="534" y="1738"/>
                </a:lnTo>
                <a:lnTo>
                  <a:pt x="515" y="1738"/>
                </a:lnTo>
                <a:lnTo>
                  <a:pt x="488" y="1738"/>
                </a:lnTo>
                <a:lnTo>
                  <a:pt x="469" y="1747"/>
                </a:lnTo>
                <a:lnTo>
                  <a:pt x="451" y="1747"/>
                </a:lnTo>
                <a:lnTo>
                  <a:pt x="423" y="1756"/>
                </a:lnTo>
                <a:lnTo>
                  <a:pt x="405" y="1756"/>
                </a:lnTo>
                <a:lnTo>
                  <a:pt x="387" y="1756"/>
                </a:lnTo>
                <a:lnTo>
                  <a:pt x="368" y="1756"/>
                </a:lnTo>
                <a:lnTo>
                  <a:pt x="350" y="1756"/>
                </a:lnTo>
                <a:lnTo>
                  <a:pt x="331" y="1756"/>
                </a:lnTo>
                <a:lnTo>
                  <a:pt x="313" y="1756"/>
                </a:lnTo>
                <a:lnTo>
                  <a:pt x="295" y="1756"/>
                </a:lnTo>
                <a:lnTo>
                  <a:pt x="276" y="1756"/>
                </a:lnTo>
                <a:lnTo>
                  <a:pt x="258" y="1747"/>
                </a:lnTo>
                <a:lnTo>
                  <a:pt x="239" y="1747"/>
                </a:lnTo>
                <a:lnTo>
                  <a:pt x="221" y="1747"/>
                </a:lnTo>
                <a:lnTo>
                  <a:pt x="203" y="1747"/>
                </a:lnTo>
                <a:lnTo>
                  <a:pt x="184" y="1747"/>
                </a:lnTo>
                <a:lnTo>
                  <a:pt x="166" y="1747"/>
                </a:lnTo>
                <a:lnTo>
                  <a:pt x="147" y="1747"/>
                </a:lnTo>
                <a:lnTo>
                  <a:pt x="129" y="1747"/>
                </a:lnTo>
                <a:lnTo>
                  <a:pt x="111" y="1747"/>
                </a:lnTo>
                <a:lnTo>
                  <a:pt x="92" y="1756"/>
                </a:lnTo>
                <a:lnTo>
                  <a:pt x="74" y="1756"/>
                </a:lnTo>
                <a:lnTo>
                  <a:pt x="55" y="1766"/>
                </a:lnTo>
                <a:lnTo>
                  <a:pt x="37" y="1766"/>
                </a:lnTo>
                <a:lnTo>
                  <a:pt x="19" y="176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4363920" y="5045040"/>
            <a:ext cx="1521000" cy="1243080"/>
          </a:xfrm>
          <a:custGeom>
            <a:avLst/>
            <a:gdLst/>
            <a:ahLst/>
            <a:rect l="l" t="t" r="r" b="b"/>
            <a:pathLst>
              <a:path w="958" h="783">
                <a:moveTo>
                  <a:pt x="35" y="374"/>
                </a:moveTo>
                <a:lnTo>
                  <a:pt x="55" y="377"/>
                </a:lnTo>
                <a:lnTo>
                  <a:pt x="74" y="387"/>
                </a:lnTo>
                <a:lnTo>
                  <a:pt x="92" y="387"/>
                </a:lnTo>
                <a:lnTo>
                  <a:pt x="111" y="396"/>
                </a:lnTo>
                <a:lnTo>
                  <a:pt x="129" y="396"/>
                </a:lnTo>
                <a:lnTo>
                  <a:pt x="147" y="405"/>
                </a:lnTo>
                <a:lnTo>
                  <a:pt x="166" y="414"/>
                </a:lnTo>
                <a:lnTo>
                  <a:pt x="184" y="423"/>
                </a:lnTo>
                <a:lnTo>
                  <a:pt x="203" y="433"/>
                </a:lnTo>
                <a:lnTo>
                  <a:pt x="221" y="451"/>
                </a:lnTo>
                <a:lnTo>
                  <a:pt x="239" y="451"/>
                </a:lnTo>
                <a:lnTo>
                  <a:pt x="258" y="469"/>
                </a:lnTo>
                <a:lnTo>
                  <a:pt x="276" y="479"/>
                </a:lnTo>
                <a:lnTo>
                  <a:pt x="294" y="497"/>
                </a:lnTo>
                <a:lnTo>
                  <a:pt x="313" y="515"/>
                </a:lnTo>
                <a:lnTo>
                  <a:pt x="322" y="534"/>
                </a:lnTo>
                <a:lnTo>
                  <a:pt x="340" y="543"/>
                </a:lnTo>
                <a:lnTo>
                  <a:pt x="350" y="561"/>
                </a:lnTo>
                <a:lnTo>
                  <a:pt x="377" y="589"/>
                </a:lnTo>
                <a:lnTo>
                  <a:pt x="386" y="607"/>
                </a:lnTo>
                <a:lnTo>
                  <a:pt x="405" y="617"/>
                </a:lnTo>
                <a:lnTo>
                  <a:pt x="405" y="635"/>
                </a:lnTo>
                <a:lnTo>
                  <a:pt x="414" y="653"/>
                </a:lnTo>
                <a:lnTo>
                  <a:pt x="423" y="672"/>
                </a:lnTo>
                <a:lnTo>
                  <a:pt x="442" y="690"/>
                </a:lnTo>
                <a:lnTo>
                  <a:pt x="451" y="709"/>
                </a:lnTo>
                <a:lnTo>
                  <a:pt x="460" y="727"/>
                </a:lnTo>
                <a:lnTo>
                  <a:pt x="478" y="736"/>
                </a:lnTo>
                <a:lnTo>
                  <a:pt x="497" y="745"/>
                </a:lnTo>
                <a:lnTo>
                  <a:pt x="524" y="764"/>
                </a:lnTo>
                <a:lnTo>
                  <a:pt x="543" y="764"/>
                </a:lnTo>
                <a:lnTo>
                  <a:pt x="561" y="773"/>
                </a:lnTo>
                <a:lnTo>
                  <a:pt x="580" y="773"/>
                </a:lnTo>
                <a:lnTo>
                  <a:pt x="598" y="773"/>
                </a:lnTo>
                <a:lnTo>
                  <a:pt x="616" y="773"/>
                </a:lnTo>
                <a:lnTo>
                  <a:pt x="635" y="782"/>
                </a:lnTo>
                <a:lnTo>
                  <a:pt x="653" y="782"/>
                </a:lnTo>
                <a:lnTo>
                  <a:pt x="672" y="773"/>
                </a:lnTo>
                <a:lnTo>
                  <a:pt x="690" y="773"/>
                </a:lnTo>
                <a:lnTo>
                  <a:pt x="708" y="764"/>
                </a:lnTo>
                <a:lnTo>
                  <a:pt x="727" y="764"/>
                </a:lnTo>
                <a:lnTo>
                  <a:pt x="745" y="755"/>
                </a:lnTo>
                <a:lnTo>
                  <a:pt x="763" y="745"/>
                </a:lnTo>
                <a:lnTo>
                  <a:pt x="782" y="745"/>
                </a:lnTo>
                <a:lnTo>
                  <a:pt x="800" y="745"/>
                </a:lnTo>
                <a:lnTo>
                  <a:pt x="809" y="727"/>
                </a:lnTo>
                <a:lnTo>
                  <a:pt x="819" y="709"/>
                </a:lnTo>
                <a:lnTo>
                  <a:pt x="828" y="690"/>
                </a:lnTo>
                <a:lnTo>
                  <a:pt x="837" y="672"/>
                </a:lnTo>
                <a:lnTo>
                  <a:pt x="846" y="653"/>
                </a:lnTo>
                <a:lnTo>
                  <a:pt x="846" y="635"/>
                </a:lnTo>
                <a:lnTo>
                  <a:pt x="846" y="617"/>
                </a:lnTo>
                <a:lnTo>
                  <a:pt x="837" y="598"/>
                </a:lnTo>
                <a:lnTo>
                  <a:pt x="837" y="580"/>
                </a:lnTo>
                <a:lnTo>
                  <a:pt x="837" y="561"/>
                </a:lnTo>
                <a:lnTo>
                  <a:pt x="837" y="543"/>
                </a:lnTo>
                <a:lnTo>
                  <a:pt x="819" y="534"/>
                </a:lnTo>
                <a:lnTo>
                  <a:pt x="819" y="515"/>
                </a:lnTo>
                <a:lnTo>
                  <a:pt x="809" y="497"/>
                </a:lnTo>
                <a:lnTo>
                  <a:pt x="800" y="479"/>
                </a:lnTo>
                <a:lnTo>
                  <a:pt x="791" y="460"/>
                </a:lnTo>
                <a:lnTo>
                  <a:pt x="782" y="442"/>
                </a:lnTo>
                <a:lnTo>
                  <a:pt x="782" y="423"/>
                </a:lnTo>
                <a:lnTo>
                  <a:pt x="773" y="405"/>
                </a:lnTo>
                <a:lnTo>
                  <a:pt x="763" y="387"/>
                </a:lnTo>
                <a:lnTo>
                  <a:pt x="763" y="368"/>
                </a:lnTo>
                <a:lnTo>
                  <a:pt x="763" y="350"/>
                </a:lnTo>
                <a:lnTo>
                  <a:pt x="763" y="332"/>
                </a:lnTo>
                <a:lnTo>
                  <a:pt x="773" y="313"/>
                </a:lnTo>
                <a:lnTo>
                  <a:pt x="782" y="295"/>
                </a:lnTo>
                <a:lnTo>
                  <a:pt x="800" y="286"/>
                </a:lnTo>
                <a:lnTo>
                  <a:pt x="809" y="267"/>
                </a:lnTo>
                <a:lnTo>
                  <a:pt x="828" y="249"/>
                </a:lnTo>
                <a:lnTo>
                  <a:pt x="837" y="230"/>
                </a:lnTo>
                <a:lnTo>
                  <a:pt x="855" y="221"/>
                </a:lnTo>
                <a:lnTo>
                  <a:pt x="874" y="212"/>
                </a:lnTo>
                <a:lnTo>
                  <a:pt x="883" y="194"/>
                </a:lnTo>
                <a:lnTo>
                  <a:pt x="901" y="194"/>
                </a:lnTo>
                <a:lnTo>
                  <a:pt x="911" y="175"/>
                </a:lnTo>
                <a:lnTo>
                  <a:pt x="929" y="166"/>
                </a:lnTo>
                <a:lnTo>
                  <a:pt x="947" y="148"/>
                </a:lnTo>
                <a:lnTo>
                  <a:pt x="957" y="129"/>
                </a:lnTo>
                <a:lnTo>
                  <a:pt x="957" y="111"/>
                </a:lnTo>
                <a:lnTo>
                  <a:pt x="957" y="92"/>
                </a:lnTo>
                <a:lnTo>
                  <a:pt x="957" y="74"/>
                </a:lnTo>
                <a:lnTo>
                  <a:pt x="947" y="56"/>
                </a:lnTo>
                <a:lnTo>
                  <a:pt x="938" y="37"/>
                </a:lnTo>
                <a:lnTo>
                  <a:pt x="920" y="28"/>
                </a:lnTo>
                <a:lnTo>
                  <a:pt x="911" y="10"/>
                </a:lnTo>
                <a:lnTo>
                  <a:pt x="892" y="0"/>
                </a:lnTo>
                <a:lnTo>
                  <a:pt x="892" y="19"/>
                </a:lnTo>
                <a:lnTo>
                  <a:pt x="901" y="37"/>
                </a:lnTo>
                <a:lnTo>
                  <a:pt x="901" y="56"/>
                </a:lnTo>
                <a:lnTo>
                  <a:pt x="901" y="74"/>
                </a:lnTo>
                <a:lnTo>
                  <a:pt x="892" y="92"/>
                </a:lnTo>
                <a:lnTo>
                  <a:pt x="874" y="102"/>
                </a:lnTo>
                <a:lnTo>
                  <a:pt x="874" y="120"/>
                </a:lnTo>
                <a:lnTo>
                  <a:pt x="855" y="129"/>
                </a:lnTo>
                <a:lnTo>
                  <a:pt x="846" y="148"/>
                </a:lnTo>
                <a:lnTo>
                  <a:pt x="828" y="157"/>
                </a:lnTo>
                <a:lnTo>
                  <a:pt x="819" y="175"/>
                </a:lnTo>
                <a:lnTo>
                  <a:pt x="800" y="184"/>
                </a:lnTo>
                <a:lnTo>
                  <a:pt x="782" y="194"/>
                </a:lnTo>
                <a:lnTo>
                  <a:pt x="763" y="203"/>
                </a:lnTo>
                <a:lnTo>
                  <a:pt x="745" y="212"/>
                </a:lnTo>
                <a:lnTo>
                  <a:pt x="727" y="221"/>
                </a:lnTo>
                <a:lnTo>
                  <a:pt x="708" y="230"/>
                </a:lnTo>
                <a:lnTo>
                  <a:pt x="690" y="240"/>
                </a:lnTo>
                <a:lnTo>
                  <a:pt x="662" y="240"/>
                </a:lnTo>
                <a:lnTo>
                  <a:pt x="635" y="240"/>
                </a:lnTo>
                <a:lnTo>
                  <a:pt x="607" y="240"/>
                </a:lnTo>
                <a:lnTo>
                  <a:pt x="589" y="249"/>
                </a:lnTo>
                <a:lnTo>
                  <a:pt x="570" y="249"/>
                </a:lnTo>
                <a:lnTo>
                  <a:pt x="552" y="249"/>
                </a:lnTo>
                <a:lnTo>
                  <a:pt x="534" y="249"/>
                </a:lnTo>
                <a:lnTo>
                  <a:pt x="515" y="249"/>
                </a:lnTo>
                <a:lnTo>
                  <a:pt x="497" y="249"/>
                </a:lnTo>
                <a:lnTo>
                  <a:pt x="478" y="240"/>
                </a:lnTo>
                <a:lnTo>
                  <a:pt x="460" y="240"/>
                </a:lnTo>
                <a:lnTo>
                  <a:pt x="442" y="240"/>
                </a:lnTo>
                <a:lnTo>
                  <a:pt x="423" y="240"/>
                </a:lnTo>
                <a:lnTo>
                  <a:pt x="405" y="240"/>
                </a:lnTo>
                <a:lnTo>
                  <a:pt x="377" y="230"/>
                </a:lnTo>
                <a:lnTo>
                  <a:pt x="350" y="230"/>
                </a:lnTo>
                <a:lnTo>
                  <a:pt x="322" y="221"/>
                </a:lnTo>
                <a:lnTo>
                  <a:pt x="304" y="221"/>
                </a:lnTo>
                <a:lnTo>
                  <a:pt x="285" y="221"/>
                </a:lnTo>
                <a:lnTo>
                  <a:pt x="267" y="221"/>
                </a:lnTo>
                <a:lnTo>
                  <a:pt x="249" y="221"/>
                </a:lnTo>
                <a:lnTo>
                  <a:pt x="230" y="221"/>
                </a:lnTo>
                <a:lnTo>
                  <a:pt x="212" y="221"/>
                </a:lnTo>
                <a:lnTo>
                  <a:pt x="193" y="221"/>
                </a:lnTo>
                <a:lnTo>
                  <a:pt x="175" y="221"/>
                </a:lnTo>
                <a:lnTo>
                  <a:pt x="157" y="221"/>
                </a:lnTo>
                <a:lnTo>
                  <a:pt x="138" y="221"/>
                </a:lnTo>
                <a:lnTo>
                  <a:pt x="120" y="230"/>
                </a:lnTo>
                <a:lnTo>
                  <a:pt x="92" y="240"/>
                </a:lnTo>
                <a:lnTo>
                  <a:pt x="74" y="240"/>
                </a:lnTo>
                <a:lnTo>
                  <a:pt x="55" y="258"/>
                </a:lnTo>
                <a:lnTo>
                  <a:pt x="37" y="267"/>
                </a:lnTo>
                <a:lnTo>
                  <a:pt x="19" y="276"/>
                </a:lnTo>
                <a:lnTo>
                  <a:pt x="9" y="295"/>
                </a:lnTo>
                <a:lnTo>
                  <a:pt x="0" y="313"/>
                </a:lnTo>
                <a:lnTo>
                  <a:pt x="19" y="332"/>
                </a:lnTo>
                <a:lnTo>
                  <a:pt x="46" y="350"/>
                </a:lnTo>
                <a:lnTo>
                  <a:pt x="46" y="368"/>
                </a:lnTo>
                <a:lnTo>
                  <a:pt x="55" y="38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4114800" y="914400"/>
            <a:ext cx="4113360" cy="4726080"/>
          </a:xfrm>
          <a:custGeom>
            <a:avLst/>
            <a:gdLst/>
            <a:ahLst/>
            <a:rect l="l" t="t" r="r" b="b"/>
            <a:pathLst>
              <a:path w="2591" h="2977">
                <a:moveTo>
                  <a:pt x="672" y="2976"/>
                </a:moveTo>
                <a:lnTo>
                  <a:pt x="696" y="2972"/>
                </a:lnTo>
                <a:lnTo>
                  <a:pt x="714" y="2963"/>
                </a:lnTo>
                <a:lnTo>
                  <a:pt x="732" y="2954"/>
                </a:lnTo>
                <a:lnTo>
                  <a:pt x="751" y="2936"/>
                </a:lnTo>
                <a:lnTo>
                  <a:pt x="769" y="2926"/>
                </a:lnTo>
                <a:lnTo>
                  <a:pt x="787" y="2917"/>
                </a:lnTo>
                <a:lnTo>
                  <a:pt x="797" y="2899"/>
                </a:lnTo>
                <a:lnTo>
                  <a:pt x="815" y="2880"/>
                </a:lnTo>
                <a:lnTo>
                  <a:pt x="824" y="2862"/>
                </a:lnTo>
                <a:lnTo>
                  <a:pt x="833" y="2844"/>
                </a:lnTo>
                <a:lnTo>
                  <a:pt x="833" y="2816"/>
                </a:lnTo>
                <a:lnTo>
                  <a:pt x="843" y="2788"/>
                </a:lnTo>
                <a:lnTo>
                  <a:pt x="843" y="2770"/>
                </a:lnTo>
                <a:lnTo>
                  <a:pt x="843" y="2742"/>
                </a:lnTo>
                <a:lnTo>
                  <a:pt x="843" y="2715"/>
                </a:lnTo>
                <a:lnTo>
                  <a:pt x="833" y="2687"/>
                </a:lnTo>
                <a:lnTo>
                  <a:pt x="833" y="2669"/>
                </a:lnTo>
                <a:lnTo>
                  <a:pt x="824" y="2641"/>
                </a:lnTo>
                <a:lnTo>
                  <a:pt x="815" y="2614"/>
                </a:lnTo>
                <a:lnTo>
                  <a:pt x="797" y="2559"/>
                </a:lnTo>
                <a:lnTo>
                  <a:pt x="778" y="2522"/>
                </a:lnTo>
                <a:lnTo>
                  <a:pt x="760" y="2494"/>
                </a:lnTo>
                <a:lnTo>
                  <a:pt x="751" y="2467"/>
                </a:lnTo>
                <a:lnTo>
                  <a:pt x="742" y="2439"/>
                </a:lnTo>
                <a:lnTo>
                  <a:pt x="732" y="2411"/>
                </a:lnTo>
                <a:lnTo>
                  <a:pt x="714" y="2384"/>
                </a:lnTo>
                <a:lnTo>
                  <a:pt x="705" y="2356"/>
                </a:lnTo>
                <a:lnTo>
                  <a:pt x="686" y="2329"/>
                </a:lnTo>
                <a:lnTo>
                  <a:pt x="686" y="2301"/>
                </a:lnTo>
                <a:lnTo>
                  <a:pt x="659" y="2273"/>
                </a:lnTo>
                <a:lnTo>
                  <a:pt x="640" y="2237"/>
                </a:lnTo>
                <a:lnTo>
                  <a:pt x="622" y="2209"/>
                </a:lnTo>
                <a:lnTo>
                  <a:pt x="604" y="2182"/>
                </a:lnTo>
                <a:lnTo>
                  <a:pt x="594" y="2154"/>
                </a:lnTo>
                <a:lnTo>
                  <a:pt x="576" y="2108"/>
                </a:lnTo>
                <a:lnTo>
                  <a:pt x="558" y="2080"/>
                </a:lnTo>
                <a:lnTo>
                  <a:pt x="530" y="2044"/>
                </a:lnTo>
                <a:lnTo>
                  <a:pt x="521" y="2025"/>
                </a:lnTo>
                <a:lnTo>
                  <a:pt x="512" y="2007"/>
                </a:lnTo>
                <a:lnTo>
                  <a:pt x="493" y="1979"/>
                </a:lnTo>
                <a:lnTo>
                  <a:pt x="475" y="1952"/>
                </a:lnTo>
                <a:lnTo>
                  <a:pt x="466" y="1924"/>
                </a:lnTo>
                <a:lnTo>
                  <a:pt x="447" y="1896"/>
                </a:lnTo>
                <a:lnTo>
                  <a:pt x="447" y="1878"/>
                </a:lnTo>
                <a:lnTo>
                  <a:pt x="429" y="1850"/>
                </a:lnTo>
                <a:lnTo>
                  <a:pt x="429" y="1823"/>
                </a:lnTo>
                <a:lnTo>
                  <a:pt x="429" y="1805"/>
                </a:lnTo>
                <a:lnTo>
                  <a:pt x="420" y="1777"/>
                </a:lnTo>
                <a:lnTo>
                  <a:pt x="410" y="1749"/>
                </a:lnTo>
                <a:lnTo>
                  <a:pt x="410" y="1722"/>
                </a:lnTo>
                <a:lnTo>
                  <a:pt x="420" y="1703"/>
                </a:lnTo>
                <a:lnTo>
                  <a:pt x="420" y="1685"/>
                </a:lnTo>
                <a:lnTo>
                  <a:pt x="429" y="1667"/>
                </a:lnTo>
                <a:lnTo>
                  <a:pt x="447" y="1657"/>
                </a:lnTo>
                <a:lnTo>
                  <a:pt x="466" y="1648"/>
                </a:lnTo>
                <a:lnTo>
                  <a:pt x="484" y="1648"/>
                </a:lnTo>
                <a:lnTo>
                  <a:pt x="502" y="1648"/>
                </a:lnTo>
                <a:lnTo>
                  <a:pt x="521" y="1657"/>
                </a:lnTo>
                <a:lnTo>
                  <a:pt x="521" y="1676"/>
                </a:lnTo>
                <a:lnTo>
                  <a:pt x="530" y="1694"/>
                </a:lnTo>
                <a:lnTo>
                  <a:pt x="548" y="1713"/>
                </a:lnTo>
                <a:lnTo>
                  <a:pt x="558" y="1731"/>
                </a:lnTo>
                <a:lnTo>
                  <a:pt x="567" y="1749"/>
                </a:lnTo>
                <a:lnTo>
                  <a:pt x="585" y="1786"/>
                </a:lnTo>
                <a:lnTo>
                  <a:pt x="585" y="1805"/>
                </a:lnTo>
                <a:lnTo>
                  <a:pt x="604" y="1832"/>
                </a:lnTo>
                <a:lnTo>
                  <a:pt x="613" y="1850"/>
                </a:lnTo>
                <a:lnTo>
                  <a:pt x="622" y="1878"/>
                </a:lnTo>
                <a:lnTo>
                  <a:pt x="640" y="1906"/>
                </a:lnTo>
                <a:lnTo>
                  <a:pt x="659" y="1924"/>
                </a:lnTo>
                <a:lnTo>
                  <a:pt x="668" y="1952"/>
                </a:lnTo>
                <a:lnTo>
                  <a:pt x="686" y="1970"/>
                </a:lnTo>
                <a:lnTo>
                  <a:pt x="705" y="1979"/>
                </a:lnTo>
                <a:lnTo>
                  <a:pt x="714" y="1998"/>
                </a:lnTo>
                <a:lnTo>
                  <a:pt x="723" y="2016"/>
                </a:lnTo>
                <a:lnTo>
                  <a:pt x="732" y="2034"/>
                </a:lnTo>
                <a:lnTo>
                  <a:pt x="760" y="2062"/>
                </a:lnTo>
                <a:lnTo>
                  <a:pt x="778" y="2080"/>
                </a:lnTo>
                <a:lnTo>
                  <a:pt x="797" y="2099"/>
                </a:lnTo>
                <a:lnTo>
                  <a:pt x="815" y="2117"/>
                </a:lnTo>
                <a:lnTo>
                  <a:pt x="824" y="2136"/>
                </a:lnTo>
                <a:lnTo>
                  <a:pt x="843" y="2154"/>
                </a:lnTo>
                <a:lnTo>
                  <a:pt x="870" y="2163"/>
                </a:lnTo>
                <a:lnTo>
                  <a:pt x="889" y="2182"/>
                </a:lnTo>
                <a:lnTo>
                  <a:pt x="907" y="2200"/>
                </a:lnTo>
                <a:lnTo>
                  <a:pt x="925" y="2209"/>
                </a:lnTo>
                <a:lnTo>
                  <a:pt x="935" y="2227"/>
                </a:lnTo>
                <a:lnTo>
                  <a:pt x="953" y="2237"/>
                </a:lnTo>
                <a:lnTo>
                  <a:pt x="990" y="2255"/>
                </a:lnTo>
                <a:lnTo>
                  <a:pt x="999" y="2273"/>
                </a:lnTo>
                <a:lnTo>
                  <a:pt x="1017" y="2283"/>
                </a:lnTo>
                <a:lnTo>
                  <a:pt x="1036" y="2301"/>
                </a:lnTo>
                <a:lnTo>
                  <a:pt x="1063" y="2329"/>
                </a:lnTo>
                <a:lnTo>
                  <a:pt x="1082" y="2338"/>
                </a:lnTo>
                <a:lnTo>
                  <a:pt x="1100" y="2356"/>
                </a:lnTo>
                <a:lnTo>
                  <a:pt x="1119" y="2365"/>
                </a:lnTo>
                <a:lnTo>
                  <a:pt x="1146" y="2384"/>
                </a:lnTo>
                <a:lnTo>
                  <a:pt x="1174" y="2393"/>
                </a:lnTo>
                <a:lnTo>
                  <a:pt x="1201" y="2411"/>
                </a:lnTo>
                <a:lnTo>
                  <a:pt x="1229" y="2421"/>
                </a:lnTo>
                <a:lnTo>
                  <a:pt x="1256" y="2430"/>
                </a:lnTo>
                <a:lnTo>
                  <a:pt x="1284" y="2448"/>
                </a:lnTo>
                <a:lnTo>
                  <a:pt x="1312" y="2457"/>
                </a:lnTo>
                <a:lnTo>
                  <a:pt x="1330" y="2467"/>
                </a:lnTo>
                <a:lnTo>
                  <a:pt x="1348" y="2467"/>
                </a:lnTo>
                <a:lnTo>
                  <a:pt x="1367" y="2467"/>
                </a:lnTo>
                <a:lnTo>
                  <a:pt x="1394" y="2457"/>
                </a:lnTo>
                <a:lnTo>
                  <a:pt x="1413" y="2457"/>
                </a:lnTo>
                <a:lnTo>
                  <a:pt x="1431" y="2448"/>
                </a:lnTo>
                <a:lnTo>
                  <a:pt x="1459" y="2448"/>
                </a:lnTo>
                <a:lnTo>
                  <a:pt x="1477" y="2448"/>
                </a:lnTo>
                <a:lnTo>
                  <a:pt x="1496" y="2448"/>
                </a:lnTo>
                <a:lnTo>
                  <a:pt x="1523" y="2439"/>
                </a:lnTo>
                <a:lnTo>
                  <a:pt x="1551" y="2439"/>
                </a:lnTo>
                <a:lnTo>
                  <a:pt x="1578" y="2430"/>
                </a:lnTo>
                <a:lnTo>
                  <a:pt x="1597" y="2430"/>
                </a:lnTo>
                <a:lnTo>
                  <a:pt x="1615" y="2430"/>
                </a:lnTo>
                <a:lnTo>
                  <a:pt x="1633" y="2411"/>
                </a:lnTo>
                <a:lnTo>
                  <a:pt x="1643" y="2393"/>
                </a:lnTo>
                <a:lnTo>
                  <a:pt x="1643" y="2375"/>
                </a:lnTo>
                <a:lnTo>
                  <a:pt x="1643" y="2356"/>
                </a:lnTo>
                <a:lnTo>
                  <a:pt x="1643" y="2338"/>
                </a:lnTo>
                <a:lnTo>
                  <a:pt x="1670" y="2338"/>
                </a:lnTo>
                <a:lnTo>
                  <a:pt x="1698" y="2329"/>
                </a:lnTo>
                <a:lnTo>
                  <a:pt x="1735" y="2338"/>
                </a:lnTo>
                <a:lnTo>
                  <a:pt x="1753" y="2338"/>
                </a:lnTo>
                <a:lnTo>
                  <a:pt x="1781" y="2338"/>
                </a:lnTo>
                <a:lnTo>
                  <a:pt x="1799" y="2338"/>
                </a:lnTo>
                <a:lnTo>
                  <a:pt x="1817" y="2338"/>
                </a:lnTo>
                <a:lnTo>
                  <a:pt x="1836" y="2338"/>
                </a:lnTo>
                <a:lnTo>
                  <a:pt x="1854" y="2338"/>
                </a:lnTo>
                <a:lnTo>
                  <a:pt x="1873" y="2338"/>
                </a:lnTo>
                <a:lnTo>
                  <a:pt x="1891" y="2338"/>
                </a:lnTo>
                <a:lnTo>
                  <a:pt x="1909" y="2329"/>
                </a:lnTo>
                <a:lnTo>
                  <a:pt x="1937" y="2329"/>
                </a:lnTo>
                <a:lnTo>
                  <a:pt x="1955" y="2319"/>
                </a:lnTo>
                <a:lnTo>
                  <a:pt x="1965" y="2301"/>
                </a:lnTo>
                <a:lnTo>
                  <a:pt x="1983" y="2283"/>
                </a:lnTo>
                <a:lnTo>
                  <a:pt x="1983" y="2264"/>
                </a:lnTo>
                <a:lnTo>
                  <a:pt x="1992" y="2246"/>
                </a:lnTo>
                <a:lnTo>
                  <a:pt x="1983" y="2227"/>
                </a:lnTo>
                <a:lnTo>
                  <a:pt x="1974" y="2209"/>
                </a:lnTo>
                <a:lnTo>
                  <a:pt x="1946" y="2182"/>
                </a:lnTo>
                <a:lnTo>
                  <a:pt x="1937" y="2163"/>
                </a:lnTo>
                <a:lnTo>
                  <a:pt x="1928" y="2145"/>
                </a:lnTo>
                <a:lnTo>
                  <a:pt x="1919" y="2126"/>
                </a:lnTo>
                <a:lnTo>
                  <a:pt x="1909" y="2108"/>
                </a:lnTo>
                <a:lnTo>
                  <a:pt x="1900" y="2090"/>
                </a:lnTo>
                <a:lnTo>
                  <a:pt x="1891" y="2071"/>
                </a:lnTo>
                <a:lnTo>
                  <a:pt x="1891" y="2053"/>
                </a:lnTo>
                <a:lnTo>
                  <a:pt x="1882" y="2034"/>
                </a:lnTo>
                <a:lnTo>
                  <a:pt x="1882" y="2016"/>
                </a:lnTo>
                <a:lnTo>
                  <a:pt x="1873" y="1998"/>
                </a:lnTo>
                <a:lnTo>
                  <a:pt x="1863" y="1979"/>
                </a:lnTo>
                <a:lnTo>
                  <a:pt x="1854" y="1952"/>
                </a:lnTo>
                <a:lnTo>
                  <a:pt x="1845" y="1924"/>
                </a:lnTo>
                <a:lnTo>
                  <a:pt x="1827" y="1896"/>
                </a:lnTo>
                <a:lnTo>
                  <a:pt x="1808" y="1869"/>
                </a:lnTo>
                <a:lnTo>
                  <a:pt x="1790" y="1841"/>
                </a:lnTo>
                <a:lnTo>
                  <a:pt x="1771" y="1814"/>
                </a:lnTo>
                <a:lnTo>
                  <a:pt x="1762" y="1786"/>
                </a:lnTo>
                <a:lnTo>
                  <a:pt x="1735" y="1759"/>
                </a:lnTo>
                <a:lnTo>
                  <a:pt x="1716" y="1731"/>
                </a:lnTo>
                <a:lnTo>
                  <a:pt x="1698" y="1694"/>
                </a:lnTo>
                <a:lnTo>
                  <a:pt x="1679" y="1667"/>
                </a:lnTo>
                <a:lnTo>
                  <a:pt x="1652" y="1639"/>
                </a:lnTo>
                <a:lnTo>
                  <a:pt x="1624" y="1602"/>
                </a:lnTo>
                <a:lnTo>
                  <a:pt x="1606" y="1565"/>
                </a:lnTo>
                <a:lnTo>
                  <a:pt x="1578" y="1538"/>
                </a:lnTo>
                <a:lnTo>
                  <a:pt x="1560" y="1501"/>
                </a:lnTo>
                <a:lnTo>
                  <a:pt x="1542" y="1464"/>
                </a:lnTo>
                <a:lnTo>
                  <a:pt x="1514" y="1437"/>
                </a:lnTo>
                <a:lnTo>
                  <a:pt x="1505" y="1409"/>
                </a:lnTo>
                <a:lnTo>
                  <a:pt x="1486" y="1391"/>
                </a:lnTo>
                <a:lnTo>
                  <a:pt x="1468" y="1363"/>
                </a:lnTo>
                <a:lnTo>
                  <a:pt x="1459" y="1345"/>
                </a:lnTo>
                <a:lnTo>
                  <a:pt x="1440" y="1326"/>
                </a:lnTo>
                <a:lnTo>
                  <a:pt x="1431" y="1308"/>
                </a:lnTo>
                <a:lnTo>
                  <a:pt x="1422" y="1290"/>
                </a:lnTo>
                <a:lnTo>
                  <a:pt x="1413" y="1262"/>
                </a:lnTo>
                <a:lnTo>
                  <a:pt x="1394" y="1234"/>
                </a:lnTo>
                <a:lnTo>
                  <a:pt x="1394" y="1216"/>
                </a:lnTo>
                <a:lnTo>
                  <a:pt x="1385" y="1188"/>
                </a:lnTo>
                <a:lnTo>
                  <a:pt x="1367" y="1161"/>
                </a:lnTo>
                <a:lnTo>
                  <a:pt x="1358" y="1142"/>
                </a:lnTo>
                <a:lnTo>
                  <a:pt x="1348" y="1124"/>
                </a:lnTo>
                <a:lnTo>
                  <a:pt x="1339" y="1106"/>
                </a:lnTo>
                <a:lnTo>
                  <a:pt x="1330" y="1087"/>
                </a:lnTo>
                <a:lnTo>
                  <a:pt x="1339" y="1069"/>
                </a:lnTo>
                <a:lnTo>
                  <a:pt x="1348" y="1050"/>
                </a:lnTo>
                <a:lnTo>
                  <a:pt x="1367" y="1041"/>
                </a:lnTo>
                <a:lnTo>
                  <a:pt x="1394" y="1032"/>
                </a:lnTo>
                <a:lnTo>
                  <a:pt x="1413" y="1032"/>
                </a:lnTo>
                <a:lnTo>
                  <a:pt x="1431" y="1023"/>
                </a:lnTo>
                <a:lnTo>
                  <a:pt x="1450" y="1023"/>
                </a:lnTo>
                <a:lnTo>
                  <a:pt x="1468" y="1023"/>
                </a:lnTo>
                <a:lnTo>
                  <a:pt x="1486" y="1032"/>
                </a:lnTo>
                <a:lnTo>
                  <a:pt x="1514" y="1041"/>
                </a:lnTo>
                <a:lnTo>
                  <a:pt x="1551" y="1060"/>
                </a:lnTo>
                <a:lnTo>
                  <a:pt x="1569" y="1060"/>
                </a:lnTo>
                <a:lnTo>
                  <a:pt x="1587" y="1078"/>
                </a:lnTo>
                <a:lnTo>
                  <a:pt x="1606" y="1096"/>
                </a:lnTo>
                <a:lnTo>
                  <a:pt x="1624" y="1106"/>
                </a:lnTo>
                <a:lnTo>
                  <a:pt x="1633" y="1133"/>
                </a:lnTo>
                <a:lnTo>
                  <a:pt x="1652" y="1152"/>
                </a:lnTo>
                <a:lnTo>
                  <a:pt x="1670" y="1170"/>
                </a:lnTo>
                <a:lnTo>
                  <a:pt x="1679" y="1188"/>
                </a:lnTo>
                <a:lnTo>
                  <a:pt x="1698" y="1207"/>
                </a:lnTo>
                <a:lnTo>
                  <a:pt x="1707" y="1234"/>
                </a:lnTo>
                <a:lnTo>
                  <a:pt x="1725" y="1253"/>
                </a:lnTo>
                <a:lnTo>
                  <a:pt x="1744" y="1271"/>
                </a:lnTo>
                <a:lnTo>
                  <a:pt x="1762" y="1290"/>
                </a:lnTo>
                <a:lnTo>
                  <a:pt x="1781" y="1308"/>
                </a:lnTo>
                <a:lnTo>
                  <a:pt x="1799" y="1317"/>
                </a:lnTo>
                <a:lnTo>
                  <a:pt x="1808" y="1336"/>
                </a:lnTo>
                <a:lnTo>
                  <a:pt x="1827" y="1354"/>
                </a:lnTo>
                <a:lnTo>
                  <a:pt x="1854" y="1372"/>
                </a:lnTo>
                <a:lnTo>
                  <a:pt x="1873" y="1391"/>
                </a:lnTo>
                <a:lnTo>
                  <a:pt x="1891" y="1400"/>
                </a:lnTo>
                <a:lnTo>
                  <a:pt x="1900" y="1418"/>
                </a:lnTo>
                <a:lnTo>
                  <a:pt x="1919" y="1437"/>
                </a:lnTo>
                <a:lnTo>
                  <a:pt x="1937" y="1446"/>
                </a:lnTo>
                <a:lnTo>
                  <a:pt x="1965" y="1464"/>
                </a:lnTo>
                <a:lnTo>
                  <a:pt x="1983" y="1473"/>
                </a:lnTo>
                <a:lnTo>
                  <a:pt x="2001" y="1483"/>
                </a:lnTo>
                <a:lnTo>
                  <a:pt x="2020" y="1501"/>
                </a:lnTo>
                <a:lnTo>
                  <a:pt x="2038" y="1501"/>
                </a:lnTo>
                <a:lnTo>
                  <a:pt x="2056" y="1510"/>
                </a:lnTo>
                <a:lnTo>
                  <a:pt x="2075" y="1510"/>
                </a:lnTo>
                <a:lnTo>
                  <a:pt x="2102" y="1501"/>
                </a:lnTo>
                <a:lnTo>
                  <a:pt x="2121" y="1501"/>
                </a:lnTo>
                <a:lnTo>
                  <a:pt x="2139" y="1501"/>
                </a:lnTo>
                <a:lnTo>
                  <a:pt x="2167" y="1519"/>
                </a:lnTo>
                <a:lnTo>
                  <a:pt x="2194" y="1529"/>
                </a:lnTo>
                <a:lnTo>
                  <a:pt x="2222" y="1538"/>
                </a:lnTo>
                <a:lnTo>
                  <a:pt x="2250" y="1547"/>
                </a:lnTo>
                <a:lnTo>
                  <a:pt x="2259" y="1565"/>
                </a:lnTo>
                <a:lnTo>
                  <a:pt x="2286" y="1584"/>
                </a:lnTo>
                <a:lnTo>
                  <a:pt x="2305" y="1602"/>
                </a:lnTo>
                <a:lnTo>
                  <a:pt x="2323" y="1611"/>
                </a:lnTo>
                <a:lnTo>
                  <a:pt x="2351" y="1621"/>
                </a:lnTo>
                <a:lnTo>
                  <a:pt x="2369" y="1630"/>
                </a:lnTo>
                <a:lnTo>
                  <a:pt x="2387" y="1639"/>
                </a:lnTo>
                <a:lnTo>
                  <a:pt x="2406" y="1639"/>
                </a:lnTo>
                <a:lnTo>
                  <a:pt x="2424" y="1621"/>
                </a:lnTo>
                <a:lnTo>
                  <a:pt x="2443" y="1621"/>
                </a:lnTo>
                <a:lnTo>
                  <a:pt x="2461" y="1611"/>
                </a:lnTo>
                <a:lnTo>
                  <a:pt x="2498" y="1611"/>
                </a:lnTo>
                <a:lnTo>
                  <a:pt x="2516" y="1602"/>
                </a:lnTo>
                <a:lnTo>
                  <a:pt x="2535" y="1602"/>
                </a:lnTo>
                <a:lnTo>
                  <a:pt x="2544" y="1584"/>
                </a:lnTo>
                <a:lnTo>
                  <a:pt x="2562" y="1575"/>
                </a:lnTo>
                <a:lnTo>
                  <a:pt x="2571" y="1556"/>
                </a:lnTo>
                <a:lnTo>
                  <a:pt x="2571" y="1529"/>
                </a:lnTo>
                <a:lnTo>
                  <a:pt x="2571" y="1501"/>
                </a:lnTo>
                <a:lnTo>
                  <a:pt x="2571" y="1483"/>
                </a:lnTo>
                <a:lnTo>
                  <a:pt x="2571" y="1464"/>
                </a:lnTo>
                <a:lnTo>
                  <a:pt x="2571" y="1446"/>
                </a:lnTo>
                <a:lnTo>
                  <a:pt x="2571" y="1427"/>
                </a:lnTo>
                <a:lnTo>
                  <a:pt x="2581" y="1409"/>
                </a:lnTo>
                <a:lnTo>
                  <a:pt x="2590" y="1382"/>
                </a:lnTo>
                <a:lnTo>
                  <a:pt x="2590" y="1354"/>
                </a:lnTo>
                <a:lnTo>
                  <a:pt x="2590" y="1336"/>
                </a:lnTo>
                <a:lnTo>
                  <a:pt x="2590" y="1308"/>
                </a:lnTo>
                <a:lnTo>
                  <a:pt x="2581" y="1290"/>
                </a:lnTo>
                <a:lnTo>
                  <a:pt x="2571" y="1262"/>
                </a:lnTo>
                <a:lnTo>
                  <a:pt x="2553" y="1225"/>
                </a:lnTo>
                <a:lnTo>
                  <a:pt x="2525" y="1207"/>
                </a:lnTo>
                <a:lnTo>
                  <a:pt x="2507" y="1188"/>
                </a:lnTo>
                <a:lnTo>
                  <a:pt x="2489" y="1170"/>
                </a:lnTo>
                <a:lnTo>
                  <a:pt x="2470" y="1161"/>
                </a:lnTo>
                <a:lnTo>
                  <a:pt x="2443" y="1142"/>
                </a:lnTo>
                <a:lnTo>
                  <a:pt x="2424" y="1124"/>
                </a:lnTo>
                <a:lnTo>
                  <a:pt x="2415" y="1106"/>
                </a:lnTo>
                <a:lnTo>
                  <a:pt x="2397" y="1087"/>
                </a:lnTo>
                <a:lnTo>
                  <a:pt x="2378" y="1060"/>
                </a:lnTo>
                <a:lnTo>
                  <a:pt x="2369" y="1041"/>
                </a:lnTo>
                <a:lnTo>
                  <a:pt x="2360" y="1014"/>
                </a:lnTo>
                <a:lnTo>
                  <a:pt x="2351" y="995"/>
                </a:lnTo>
                <a:lnTo>
                  <a:pt x="2369" y="986"/>
                </a:lnTo>
                <a:lnTo>
                  <a:pt x="2369" y="968"/>
                </a:lnTo>
                <a:lnTo>
                  <a:pt x="2378" y="949"/>
                </a:lnTo>
                <a:lnTo>
                  <a:pt x="2397" y="931"/>
                </a:lnTo>
                <a:lnTo>
                  <a:pt x="2397" y="913"/>
                </a:lnTo>
                <a:lnTo>
                  <a:pt x="2406" y="885"/>
                </a:lnTo>
                <a:lnTo>
                  <a:pt x="2406" y="857"/>
                </a:lnTo>
                <a:lnTo>
                  <a:pt x="2397" y="821"/>
                </a:lnTo>
                <a:lnTo>
                  <a:pt x="2387" y="793"/>
                </a:lnTo>
                <a:lnTo>
                  <a:pt x="2360" y="756"/>
                </a:lnTo>
                <a:lnTo>
                  <a:pt x="2332" y="719"/>
                </a:lnTo>
                <a:lnTo>
                  <a:pt x="2305" y="692"/>
                </a:lnTo>
                <a:lnTo>
                  <a:pt x="2286" y="673"/>
                </a:lnTo>
                <a:lnTo>
                  <a:pt x="2277" y="646"/>
                </a:lnTo>
                <a:lnTo>
                  <a:pt x="2286" y="627"/>
                </a:lnTo>
                <a:lnTo>
                  <a:pt x="2296" y="609"/>
                </a:lnTo>
                <a:lnTo>
                  <a:pt x="2305" y="591"/>
                </a:lnTo>
                <a:lnTo>
                  <a:pt x="2323" y="572"/>
                </a:lnTo>
                <a:lnTo>
                  <a:pt x="2332" y="554"/>
                </a:lnTo>
                <a:lnTo>
                  <a:pt x="2351" y="545"/>
                </a:lnTo>
                <a:lnTo>
                  <a:pt x="2360" y="517"/>
                </a:lnTo>
                <a:lnTo>
                  <a:pt x="2369" y="499"/>
                </a:lnTo>
                <a:lnTo>
                  <a:pt x="2387" y="490"/>
                </a:lnTo>
                <a:lnTo>
                  <a:pt x="2387" y="471"/>
                </a:lnTo>
                <a:lnTo>
                  <a:pt x="2387" y="444"/>
                </a:lnTo>
                <a:lnTo>
                  <a:pt x="2387" y="425"/>
                </a:lnTo>
                <a:lnTo>
                  <a:pt x="2387" y="407"/>
                </a:lnTo>
                <a:lnTo>
                  <a:pt x="2387" y="388"/>
                </a:lnTo>
                <a:lnTo>
                  <a:pt x="2387" y="361"/>
                </a:lnTo>
                <a:lnTo>
                  <a:pt x="2387" y="342"/>
                </a:lnTo>
                <a:lnTo>
                  <a:pt x="2378" y="315"/>
                </a:lnTo>
                <a:lnTo>
                  <a:pt x="2351" y="296"/>
                </a:lnTo>
                <a:lnTo>
                  <a:pt x="2342" y="278"/>
                </a:lnTo>
                <a:lnTo>
                  <a:pt x="2314" y="260"/>
                </a:lnTo>
                <a:lnTo>
                  <a:pt x="2277" y="214"/>
                </a:lnTo>
                <a:lnTo>
                  <a:pt x="2268" y="195"/>
                </a:lnTo>
                <a:lnTo>
                  <a:pt x="2286" y="186"/>
                </a:lnTo>
                <a:lnTo>
                  <a:pt x="2296" y="168"/>
                </a:lnTo>
                <a:lnTo>
                  <a:pt x="2304" y="0"/>
                </a:lnTo>
                <a:lnTo>
                  <a:pt x="0" y="0"/>
                </a:lnTo>
                <a:lnTo>
                  <a:pt x="0" y="2976"/>
                </a:lnTo>
                <a:lnTo>
                  <a:pt x="672" y="297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V="1">
            <a:off x="6324480" y="4038120"/>
            <a:ext cx="2438640" cy="20574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5079960" y="5867280"/>
            <a:ext cx="1022400" cy="946440"/>
          </a:xfrm>
          <a:custGeom>
            <a:avLst/>
            <a:gdLst/>
            <a:ahLst/>
            <a:rect l="l" t="t" r="r" b="b"/>
            <a:pathLst>
              <a:path w="644" h="596">
                <a:moveTo>
                  <a:pt x="496" y="0"/>
                </a:moveTo>
                <a:lnTo>
                  <a:pt x="478" y="16"/>
                </a:lnTo>
                <a:lnTo>
                  <a:pt x="450" y="16"/>
                </a:lnTo>
                <a:lnTo>
                  <a:pt x="432" y="16"/>
                </a:lnTo>
                <a:lnTo>
                  <a:pt x="395" y="16"/>
                </a:lnTo>
                <a:lnTo>
                  <a:pt x="368" y="16"/>
                </a:lnTo>
                <a:lnTo>
                  <a:pt x="331" y="16"/>
                </a:lnTo>
                <a:lnTo>
                  <a:pt x="294" y="16"/>
                </a:lnTo>
                <a:lnTo>
                  <a:pt x="257" y="25"/>
                </a:lnTo>
                <a:lnTo>
                  <a:pt x="175" y="53"/>
                </a:lnTo>
                <a:lnTo>
                  <a:pt x="138" y="62"/>
                </a:lnTo>
                <a:lnTo>
                  <a:pt x="110" y="80"/>
                </a:lnTo>
                <a:lnTo>
                  <a:pt x="83" y="89"/>
                </a:lnTo>
                <a:lnTo>
                  <a:pt x="37" y="117"/>
                </a:lnTo>
                <a:lnTo>
                  <a:pt x="18" y="145"/>
                </a:lnTo>
                <a:lnTo>
                  <a:pt x="9" y="163"/>
                </a:lnTo>
                <a:lnTo>
                  <a:pt x="9" y="181"/>
                </a:lnTo>
                <a:lnTo>
                  <a:pt x="0" y="209"/>
                </a:lnTo>
                <a:lnTo>
                  <a:pt x="0" y="227"/>
                </a:lnTo>
                <a:lnTo>
                  <a:pt x="0" y="246"/>
                </a:lnTo>
                <a:lnTo>
                  <a:pt x="0" y="264"/>
                </a:lnTo>
                <a:lnTo>
                  <a:pt x="9" y="292"/>
                </a:lnTo>
                <a:lnTo>
                  <a:pt x="9" y="310"/>
                </a:lnTo>
                <a:lnTo>
                  <a:pt x="9" y="328"/>
                </a:lnTo>
                <a:lnTo>
                  <a:pt x="18" y="347"/>
                </a:lnTo>
                <a:lnTo>
                  <a:pt x="18" y="365"/>
                </a:lnTo>
                <a:lnTo>
                  <a:pt x="18" y="393"/>
                </a:lnTo>
                <a:lnTo>
                  <a:pt x="18" y="430"/>
                </a:lnTo>
                <a:lnTo>
                  <a:pt x="27" y="466"/>
                </a:lnTo>
                <a:lnTo>
                  <a:pt x="27" y="494"/>
                </a:lnTo>
                <a:lnTo>
                  <a:pt x="27" y="522"/>
                </a:lnTo>
                <a:lnTo>
                  <a:pt x="46" y="549"/>
                </a:lnTo>
                <a:lnTo>
                  <a:pt x="64" y="558"/>
                </a:lnTo>
                <a:lnTo>
                  <a:pt x="101" y="568"/>
                </a:lnTo>
                <a:lnTo>
                  <a:pt x="129" y="568"/>
                </a:lnTo>
                <a:lnTo>
                  <a:pt x="147" y="568"/>
                </a:lnTo>
                <a:lnTo>
                  <a:pt x="175" y="577"/>
                </a:lnTo>
                <a:lnTo>
                  <a:pt x="211" y="577"/>
                </a:lnTo>
                <a:lnTo>
                  <a:pt x="248" y="577"/>
                </a:lnTo>
                <a:lnTo>
                  <a:pt x="276" y="586"/>
                </a:lnTo>
                <a:lnTo>
                  <a:pt x="312" y="586"/>
                </a:lnTo>
                <a:lnTo>
                  <a:pt x="340" y="586"/>
                </a:lnTo>
                <a:lnTo>
                  <a:pt x="368" y="595"/>
                </a:lnTo>
                <a:lnTo>
                  <a:pt x="395" y="586"/>
                </a:lnTo>
                <a:lnTo>
                  <a:pt x="404" y="568"/>
                </a:lnTo>
                <a:lnTo>
                  <a:pt x="432" y="549"/>
                </a:lnTo>
                <a:lnTo>
                  <a:pt x="432" y="531"/>
                </a:lnTo>
                <a:lnTo>
                  <a:pt x="450" y="512"/>
                </a:lnTo>
                <a:lnTo>
                  <a:pt x="460" y="494"/>
                </a:lnTo>
                <a:lnTo>
                  <a:pt x="478" y="476"/>
                </a:lnTo>
                <a:lnTo>
                  <a:pt x="496" y="466"/>
                </a:lnTo>
                <a:lnTo>
                  <a:pt x="506" y="448"/>
                </a:lnTo>
                <a:lnTo>
                  <a:pt x="515" y="430"/>
                </a:lnTo>
                <a:lnTo>
                  <a:pt x="542" y="402"/>
                </a:lnTo>
                <a:lnTo>
                  <a:pt x="552" y="384"/>
                </a:lnTo>
                <a:lnTo>
                  <a:pt x="570" y="374"/>
                </a:lnTo>
                <a:lnTo>
                  <a:pt x="588" y="356"/>
                </a:lnTo>
                <a:lnTo>
                  <a:pt x="598" y="338"/>
                </a:lnTo>
                <a:lnTo>
                  <a:pt x="616" y="310"/>
                </a:lnTo>
                <a:lnTo>
                  <a:pt x="625" y="292"/>
                </a:lnTo>
                <a:lnTo>
                  <a:pt x="634" y="273"/>
                </a:lnTo>
                <a:lnTo>
                  <a:pt x="643" y="255"/>
                </a:lnTo>
                <a:lnTo>
                  <a:pt x="643" y="237"/>
                </a:lnTo>
                <a:lnTo>
                  <a:pt x="643" y="218"/>
                </a:lnTo>
                <a:lnTo>
                  <a:pt x="643" y="200"/>
                </a:lnTo>
                <a:lnTo>
                  <a:pt x="634" y="181"/>
                </a:lnTo>
                <a:lnTo>
                  <a:pt x="625" y="163"/>
                </a:lnTo>
                <a:lnTo>
                  <a:pt x="616" y="145"/>
                </a:lnTo>
                <a:lnTo>
                  <a:pt x="616" y="126"/>
                </a:lnTo>
                <a:lnTo>
                  <a:pt x="607" y="108"/>
                </a:lnTo>
                <a:lnTo>
                  <a:pt x="598" y="89"/>
                </a:lnTo>
                <a:lnTo>
                  <a:pt x="598" y="71"/>
                </a:lnTo>
                <a:lnTo>
                  <a:pt x="579" y="53"/>
                </a:lnTo>
                <a:lnTo>
                  <a:pt x="561" y="34"/>
                </a:lnTo>
                <a:lnTo>
                  <a:pt x="542" y="25"/>
                </a:lnTo>
                <a:lnTo>
                  <a:pt x="524" y="16"/>
                </a:lnTo>
                <a:lnTo>
                  <a:pt x="506" y="16"/>
                </a:lnTo>
                <a:lnTo>
                  <a:pt x="487" y="7"/>
                </a:lnTo>
                <a:lnTo>
                  <a:pt x="469" y="7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2971800" y="1905120"/>
            <a:ext cx="4648320" cy="2133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2666880" y="5105520"/>
            <a:ext cx="251460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554720" y="152280"/>
            <a:ext cx="434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t = curve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H="1">
            <a:off x="8381880" y="685800"/>
            <a:ext cx="763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71280" y="147600"/>
            <a:ext cx="625824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changes in sea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es rise (FLOOD) to produce a HIGH T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all (EBB) (LOW T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the gravitational pull that the Sun and Moon exert on the Earth’s surface (including the ocea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6559560" y="387360"/>
            <a:ext cx="1892160" cy="1739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6788160" y="3511440"/>
            <a:ext cx="1739880" cy="2578320"/>
            <a:chOff x="6788160" y="3511440"/>
            <a:chExt cx="1739880" cy="2578320"/>
          </a:xfrm>
        </p:grpSpPr>
        <p:sp>
          <p:nvSpPr>
            <p:cNvPr id="159" name="Oval 5"/>
            <p:cNvSpPr/>
            <p:nvPr/>
          </p:nvSpPr>
          <p:spPr>
            <a:xfrm>
              <a:off x="6788160" y="3511440"/>
              <a:ext cx="1739880" cy="2578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6"/>
            <p:cNvSpPr/>
            <p:nvPr/>
          </p:nvSpPr>
          <p:spPr>
            <a:xfrm>
              <a:off x="6864480" y="4044960"/>
              <a:ext cx="1587240" cy="1511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AutoShape 7"/>
          <p:cNvSpPr/>
          <p:nvPr/>
        </p:nvSpPr>
        <p:spPr>
          <a:xfrm rot="16200000">
            <a:off x="7054920" y="2406600"/>
            <a:ext cx="1054080" cy="673200"/>
          </a:xfrm>
          <a:prstGeom prst="rightArrow">
            <a:avLst>
              <a:gd name="adj1" fmla="val 50000"/>
              <a:gd name="adj2" fmla="val 7829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6899760" y="695160"/>
            <a:ext cx="1170360" cy="11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n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311040" y="1987560"/>
            <a:ext cx="1739880" cy="2577960"/>
            <a:chOff x="311040" y="1987560"/>
            <a:chExt cx="1739880" cy="2577960"/>
          </a:xfrm>
        </p:grpSpPr>
        <p:sp>
          <p:nvSpPr>
            <p:cNvPr id="164" name="Oval 3"/>
            <p:cNvSpPr/>
            <p:nvPr/>
          </p:nvSpPr>
          <p:spPr>
            <a:xfrm>
              <a:off x="311040" y="1987560"/>
              <a:ext cx="1739880" cy="2577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4"/>
            <p:cNvSpPr/>
            <p:nvPr/>
          </p:nvSpPr>
          <p:spPr>
            <a:xfrm>
              <a:off x="387360" y="2521080"/>
              <a:ext cx="1587600" cy="1511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Oval 5"/>
          <p:cNvSpPr/>
          <p:nvPr/>
        </p:nvSpPr>
        <p:spPr>
          <a:xfrm>
            <a:off x="615960" y="387360"/>
            <a:ext cx="1054080" cy="977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509920" y="223920"/>
            <a:ext cx="6410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ide is pulled towards the Sun and/or Moon by gravitational at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1219320" y="1333440"/>
            <a:ext cx="12952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70040" y="3727440"/>
            <a:ext cx="6274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ide bulges out because of iner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1294920" y="4305240"/>
            <a:ext cx="12956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31760" y="5146560"/>
            <a:ext cx="8636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fore, there are two high tides on Earth at any on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99880" y="223920"/>
            <a:ext cx="86202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24 hours 50 minutes any point on the Earth rotates through two bul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ocation experiences 2 high (FLOOD) tides and 2 low (EBB) 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L9_image5"/>
          <p:cNvPicPr/>
          <p:nvPr/>
        </p:nvPicPr>
        <p:blipFill>
          <a:blip r:embed="rId1"/>
          <a:stretch/>
        </p:blipFill>
        <p:spPr>
          <a:xfrm>
            <a:off x="2362320" y="2498760"/>
            <a:ext cx="43434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astlin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90520" y="2013120"/>
            <a:ext cx="7786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ergence and emergence changes coast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334120" y="4343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 be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L9_image6"/>
          <p:cNvPicPr/>
          <p:nvPr/>
        </p:nvPicPr>
        <p:blipFill>
          <a:blip r:embed="rId1"/>
          <a:stretch/>
        </p:blipFill>
        <p:spPr>
          <a:xfrm>
            <a:off x="228600" y="3235320"/>
            <a:ext cx="487692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t coa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ifted land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stal landforms are found above present sea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4807080" y="4343400"/>
            <a:ext cx="4109760" cy="1830240"/>
            <a:chOff x="4807080" y="4343400"/>
            <a:chExt cx="4109760" cy="1830240"/>
          </a:xfrm>
        </p:grpSpPr>
        <p:sp>
          <p:nvSpPr>
            <p:cNvPr id="181" name="Rectangle 4"/>
            <p:cNvSpPr/>
            <p:nvPr/>
          </p:nvSpPr>
          <p:spPr>
            <a:xfrm>
              <a:off x="4807080" y="5645160"/>
              <a:ext cx="2349360" cy="520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5"/>
            <p:cNvSpPr/>
            <p:nvPr/>
          </p:nvSpPr>
          <p:spPr>
            <a:xfrm>
              <a:off x="7010280" y="4343400"/>
              <a:ext cx="1906560" cy="1297080"/>
            </a:xfrm>
            <a:custGeom>
              <a:avLst/>
              <a:gdLst/>
              <a:ahLst/>
              <a:rect l="l" t="t" r="r" b="b"/>
              <a:pathLst>
                <a:path w="1201" h="817">
                  <a:moveTo>
                    <a:pt x="0" y="816"/>
                  </a:moveTo>
                  <a:lnTo>
                    <a:pt x="0" y="544"/>
                  </a:lnTo>
                  <a:lnTo>
                    <a:pt x="17" y="527"/>
                  </a:lnTo>
                  <a:lnTo>
                    <a:pt x="30" y="513"/>
                  </a:lnTo>
                  <a:lnTo>
                    <a:pt x="44" y="513"/>
                  </a:lnTo>
                  <a:lnTo>
                    <a:pt x="56" y="513"/>
                  </a:lnTo>
                  <a:lnTo>
                    <a:pt x="69" y="513"/>
                  </a:lnTo>
                  <a:lnTo>
                    <a:pt x="83" y="513"/>
                  </a:lnTo>
                  <a:lnTo>
                    <a:pt x="96" y="527"/>
                  </a:lnTo>
                  <a:lnTo>
                    <a:pt x="109" y="527"/>
                  </a:lnTo>
                  <a:lnTo>
                    <a:pt x="122" y="527"/>
                  </a:lnTo>
                  <a:lnTo>
                    <a:pt x="135" y="527"/>
                  </a:lnTo>
                  <a:lnTo>
                    <a:pt x="149" y="527"/>
                  </a:lnTo>
                  <a:lnTo>
                    <a:pt x="161" y="527"/>
                  </a:lnTo>
                  <a:lnTo>
                    <a:pt x="181" y="513"/>
                  </a:lnTo>
                  <a:lnTo>
                    <a:pt x="194" y="513"/>
                  </a:lnTo>
                  <a:lnTo>
                    <a:pt x="208" y="513"/>
                  </a:lnTo>
                  <a:lnTo>
                    <a:pt x="221" y="513"/>
                  </a:lnTo>
                  <a:lnTo>
                    <a:pt x="234" y="500"/>
                  </a:lnTo>
                  <a:lnTo>
                    <a:pt x="247" y="513"/>
                  </a:lnTo>
                  <a:lnTo>
                    <a:pt x="260" y="500"/>
                  </a:lnTo>
                  <a:lnTo>
                    <a:pt x="266" y="475"/>
                  </a:lnTo>
                  <a:lnTo>
                    <a:pt x="266" y="449"/>
                  </a:lnTo>
                  <a:lnTo>
                    <a:pt x="266" y="422"/>
                  </a:lnTo>
                  <a:lnTo>
                    <a:pt x="266" y="397"/>
                  </a:lnTo>
                  <a:lnTo>
                    <a:pt x="266" y="370"/>
                  </a:lnTo>
                  <a:lnTo>
                    <a:pt x="274" y="344"/>
                  </a:lnTo>
                  <a:lnTo>
                    <a:pt x="274" y="319"/>
                  </a:lnTo>
                  <a:lnTo>
                    <a:pt x="274" y="292"/>
                  </a:lnTo>
                  <a:lnTo>
                    <a:pt x="266" y="266"/>
                  </a:lnTo>
                  <a:lnTo>
                    <a:pt x="280" y="266"/>
                  </a:lnTo>
                  <a:lnTo>
                    <a:pt x="293" y="254"/>
                  </a:lnTo>
                  <a:lnTo>
                    <a:pt x="306" y="254"/>
                  </a:lnTo>
                  <a:lnTo>
                    <a:pt x="319" y="254"/>
                  </a:lnTo>
                  <a:lnTo>
                    <a:pt x="332" y="254"/>
                  </a:lnTo>
                  <a:lnTo>
                    <a:pt x="339" y="279"/>
                  </a:lnTo>
                  <a:lnTo>
                    <a:pt x="339" y="305"/>
                  </a:lnTo>
                  <a:lnTo>
                    <a:pt x="339" y="332"/>
                  </a:lnTo>
                  <a:lnTo>
                    <a:pt x="339" y="357"/>
                  </a:lnTo>
                  <a:lnTo>
                    <a:pt x="339" y="384"/>
                  </a:lnTo>
                  <a:lnTo>
                    <a:pt x="339" y="409"/>
                  </a:lnTo>
                  <a:lnTo>
                    <a:pt x="346" y="435"/>
                  </a:lnTo>
                  <a:lnTo>
                    <a:pt x="346" y="462"/>
                  </a:lnTo>
                  <a:lnTo>
                    <a:pt x="346" y="487"/>
                  </a:lnTo>
                  <a:lnTo>
                    <a:pt x="346" y="513"/>
                  </a:lnTo>
                  <a:lnTo>
                    <a:pt x="359" y="527"/>
                  </a:lnTo>
                  <a:lnTo>
                    <a:pt x="371" y="540"/>
                  </a:lnTo>
                  <a:lnTo>
                    <a:pt x="385" y="540"/>
                  </a:lnTo>
                  <a:lnTo>
                    <a:pt x="398" y="527"/>
                  </a:lnTo>
                  <a:lnTo>
                    <a:pt x="411" y="513"/>
                  </a:lnTo>
                  <a:lnTo>
                    <a:pt x="424" y="513"/>
                  </a:lnTo>
                  <a:lnTo>
                    <a:pt x="437" y="513"/>
                  </a:lnTo>
                  <a:lnTo>
                    <a:pt x="451" y="513"/>
                  </a:lnTo>
                  <a:lnTo>
                    <a:pt x="464" y="487"/>
                  </a:lnTo>
                  <a:lnTo>
                    <a:pt x="464" y="462"/>
                  </a:lnTo>
                  <a:lnTo>
                    <a:pt x="464" y="435"/>
                  </a:lnTo>
                  <a:lnTo>
                    <a:pt x="457" y="409"/>
                  </a:lnTo>
                  <a:lnTo>
                    <a:pt x="457" y="384"/>
                  </a:lnTo>
                  <a:lnTo>
                    <a:pt x="457" y="357"/>
                  </a:lnTo>
                  <a:lnTo>
                    <a:pt x="464" y="332"/>
                  </a:lnTo>
                  <a:lnTo>
                    <a:pt x="464" y="305"/>
                  </a:lnTo>
                  <a:lnTo>
                    <a:pt x="464" y="279"/>
                  </a:lnTo>
                  <a:lnTo>
                    <a:pt x="464" y="254"/>
                  </a:lnTo>
                  <a:lnTo>
                    <a:pt x="470" y="227"/>
                  </a:lnTo>
                  <a:lnTo>
                    <a:pt x="477" y="201"/>
                  </a:lnTo>
                  <a:lnTo>
                    <a:pt x="484" y="174"/>
                  </a:lnTo>
                  <a:lnTo>
                    <a:pt x="477" y="149"/>
                  </a:lnTo>
                  <a:lnTo>
                    <a:pt x="477" y="123"/>
                  </a:lnTo>
                  <a:lnTo>
                    <a:pt x="477" y="96"/>
                  </a:lnTo>
                  <a:lnTo>
                    <a:pt x="484" y="71"/>
                  </a:lnTo>
                  <a:lnTo>
                    <a:pt x="496" y="58"/>
                  </a:lnTo>
                  <a:lnTo>
                    <a:pt x="510" y="44"/>
                  </a:lnTo>
                  <a:lnTo>
                    <a:pt x="523" y="44"/>
                  </a:lnTo>
                  <a:lnTo>
                    <a:pt x="536" y="44"/>
                  </a:lnTo>
                  <a:lnTo>
                    <a:pt x="549" y="31"/>
                  </a:lnTo>
                  <a:lnTo>
                    <a:pt x="562" y="44"/>
                  </a:lnTo>
                  <a:lnTo>
                    <a:pt x="582" y="31"/>
                  </a:lnTo>
                  <a:lnTo>
                    <a:pt x="601" y="6"/>
                  </a:lnTo>
                  <a:lnTo>
                    <a:pt x="615" y="6"/>
                  </a:lnTo>
                  <a:lnTo>
                    <a:pt x="628" y="6"/>
                  </a:lnTo>
                  <a:lnTo>
                    <a:pt x="641" y="6"/>
                  </a:lnTo>
                  <a:lnTo>
                    <a:pt x="654" y="6"/>
                  </a:lnTo>
                  <a:lnTo>
                    <a:pt x="667" y="31"/>
                  </a:lnTo>
                  <a:lnTo>
                    <a:pt x="681" y="44"/>
                  </a:lnTo>
                  <a:lnTo>
                    <a:pt x="694" y="44"/>
                  </a:lnTo>
                  <a:lnTo>
                    <a:pt x="706" y="58"/>
                  </a:lnTo>
                  <a:lnTo>
                    <a:pt x="720" y="71"/>
                  </a:lnTo>
                  <a:lnTo>
                    <a:pt x="733" y="84"/>
                  </a:lnTo>
                  <a:lnTo>
                    <a:pt x="746" y="84"/>
                  </a:lnTo>
                  <a:lnTo>
                    <a:pt x="759" y="84"/>
                  </a:lnTo>
                  <a:lnTo>
                    <a:pt x="772" y="84"/>
                  </a:lnTo>
                  <a:lnTo>
                    <a:pt x="786" y="84"/>
                  </a:lnTo>
                  <a:lnTo>
                    <a:pt x="799" y="84"/>
                  </a:lnTo>
                  <a:lnTo>
                    <a:pt x="819" y="71"/>
                  </a:lnTo>
                  <a:lnTo>
                    <a:pt x="831" y="71"/>
                  </a:lnTo>
                  <a:lnTo>
                    <a:pt x="845" y="71"/>
                  </a:lnTo>
                  <a:lnTo>
                    <a:pt x="864" y="71"/>
                  </a:lnTo>
                  <a:lnTo>
                    <a:pt x="878" y="71"/>
                  </a:lnTo>
                  <a:lnTo>
                    <a:pt x="891" y="71"/>
                  </a:lnTo>
                  <a:lnTo>
                    <a:pt x="904" y="71"/>
                  </a:lnTo>
                  <a:lnTo>
                    <a:pt x="917" y="71"/>
                  </a:lnTo>
                  <a:lnTo>
                    <a:pt x="930" y="71"/>
                  </a:lnTo>
                  <a:lnTo>
                    <a:pt x="943" y="71"/>
                  </a:lnTo>
                  <a:lnTo>
                    <a:pt x="956" y="58"/>
                  </a:lnTo>
                  <a:lnTo>
                    <a:pt x="969" y="44"/>
                  </a:lnTo>
                  <a:lnTo>
                    <a:pt x="983" y="44"/>
                  </a:lnTo>
                  <a:lnTo>
                    <a:pt x="996" y="31"/>
                  </a:lnTo>
                  <a:lnTo>
                    <a:pt x="1009" y="18"/>
                  </a:lnTo>
                  <a:lnTo>
                    <a:pt x="1022" y="18"/>
                  </a:lnTo>
                  <a:lnTo>
                    <a:pt x="1035" y="18"/>
                  </a:lnTo>
                  <a:lnTo>
                    <a:pt x="1055" y="18"/>
                  </a:lnTo>
                  <a:lnTo>
                    <a:pt x="1068" y="18"/>
                  </a:lnTo>
                  <a:lnTo>
                    <a:pt x="1081" y="18"/>
                  </a:lnTo>
                  <a:lnTo>
                    <a:pt x="1094" y="18"/>
                  </a:lnTo>
                  <a:lnTo>
                    <a:pt x="1107" y="18"/>
                  </a:lnTo>
                  <a:lnTo>
                    <a:pt x="1127" y="31"/>
                  </a:lnTo>
                  <a:lnTo>
                    <a:pt x="1140" y="31"/>
                  </a:lnTo>
                  <a:lnTo>
                    <a:pt x="1200" y="0"/>
                  </a:lnTo>
                  <a:lnTo>
                    <a:pt x="1200" y="748"/>
                  </a:lnTo>
                  <a:lnTo>
                    <a:pt x="0" y="74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4952880" y="5672160"/>
              <a:ext cx="3963960" cy="501480"/>
            </a:xfrm>
            <a:custGeom>
              <a:avLst/>
              <a:gdLst/>
              <a:ahLst/>
              <a:rect l="l" t="t" r="r" b="b"/>
              <a:pathLst>
                <a:path w="2497" h="316">
                  <a:moveTo>
                    <a:pt x="1296" y="27"/>
                  </a:moveTo>
                  <a:lnTo>
                    <a:pt x="1273" y="19"/>
                  </a:lnTo>
                  <a:lnTo>
                    <a:pt x="1255" y="19"/>
                  </a:lnTo>
                  <a:lnTo>
                    <a:pt x="1236" y="19"/>
                  </a:lnTo>
                  <a:lnTo>
                    <a:pt x="1218" y="19"/>
                  </a:lnTo>
                  <a:lnTo>
                    <a:pt x="1200" y="28"/>
                  </a:lnTo>
                  <a:lnTo>
                    <a:pt x="1181" y="37"/>
                  </a:lnTo>
                  <a:lnTo>
                    <a:pt x="1163" y="37"/>
                  </a:lnTo>
                  <a:lnTo>
                    <a:pt x="1144" y="37"/>
                  </a:lnTo>
                  <a:lnTo>
                    <a:pt x="1126" y="37"/>
                  </a:lnTo>
                  <a:lnTo>
                    <a:pt x="1108" y="37"/>
                  </a:lnTo>
                  <a:lnTo>
                    <a:pt x="1089" y="37"/>
                  </a:lnTo>
                  <a:lnTo>
                    <a:pt x="1071" y="37"/>
                  </a:lnTo>
                  <a:lnTo>
                    <a:pt x="1053" y="28"/>
                  </a:lnTo>
                  <a:lnTo>
                    <a:pt x="1034" y="28"/>
                  </a:lnTo>
                  <a:lnTo>
                    <a:pt x="1016" y="28"/>
                  </a:lnTo>
                  <a:lnTo>
                    <a:pt x="997" y="28"/>
                  </a:lnTo>
                  <a:lnTo>
                    <a:pt x="979" y="28"/>
                  </a:lnTo>
                  <a:lnTo>
                    <a:pt x="961" y="19"/>
                  </a:lnTo>
                  <a:lnTo>
                    <a:pt x="933" y="19"/>
                  </a:lnTo>
                  <a:lnTo>
                    <a:pt x="915" y="19"/>
                  </a:lnTo>
                  <a:lnTo>
                    <a:pt x="896" y="19"/>
                  </a:lnTo>
                  <a:lnTo>
                    <a:pt x="878" y="19"/>
                  </a:lnTo>
                  <a:lnTo>
                    <a:pt x="859" y="19"/>
                  </a:lnTo>
                  <a:lnTo>
                    <a:pt x="832" y="19"/>
                  </a:lnTo>
                  <a:lnTo>
                    <a:pt x="804" y="19"/>
                  </a:lnTo>
                  <a:lnTo>
                    <a:pt x="786" y="19"/>
                  </a:lnTo>
                  <a:lnTo>
                    <a:pt x="767" y="10"/>
                  </a:lnTo>
                  <a:lnTo>
                    <a:pt x="749" y="10"/>
                  </a:lnTo>
                  <a:lnTo>
                    <a:pt x="731" y="0"/>
                  </a:lnTo>
                  <a:lnTo>
                    <a:pt x="712" y="0"/>
                  </a:lnTo>
                  <a:lnTo>
                    <a:pt x="694" y="0"/>
                  </a:lnTo>
                  <a:lnTo>
                    <a:pt x="675" y="0"/>
                  </a:lnTo>
                  <a:lnTo>
                    <a:pt x="657" y="10"/>
                  </a:lnTo>
                  <a:lnTo>
                    <a:pt x="639" y="19"/>
                  </a:lnTo>
                  <a:lnTo>
                    <a:pt x="620" y="19"/>
                  </a:lnTo>
                  <a:lnTo>
                    <a:pt x="602" y="19"/>
                  </a:lnTo>
                  <a:lnTo>
                    <a:pt x="584" y="19"/>
                  </a:lnTo>
                  <a:lnTo>
                    <a:pt x="565" y="19"/>
                  </a:lnTo>
                  <a:lnTo>
                    <a:pt x="547" y="28"/>
                  </a:lnTo>
                  <a:lnTo>
                    <a:pt x="528" y="28"/>
                  </a:lnTo>
                  <a:lnTo>
                    <a:pt x="510" y="37"/>
                  </a:lnTo>
                  <a:lnTo>
                    <a:pt x="492" y="37"/>
                  </a:lnTo>
                  <a:lnTo>
                    <a:pt x="473" y="28"/>
                  </a:lnTo>
                  <a:lnTo>
                    <a:pt x="455" y="19"/>
                  </a:lnTo>
                  <a:lnTo>
                    <a:pt x="436" y="19"/>
                  </a:lnTo>
                  <a:lnTo>
                    <a:pt x="418" y="19"/>
                  </a:lnTo>
                  <a:lnTo>
                    <a:pt x="400" y="19"/>
                  </a:lnTo>
                  <a:lnTo>
                    <a:pt x="381" y="19"/>
                  </a:lnTo>
                  <a:lnTo>
                    <a:pt x="363" y="28"/>
                  </a:lnTo>
                  <a:lnTo>
                    <a:pt x="344" y="37"/>
                  </a:lnTo>
                  <a:lnTo>
                    <a:pt x="326" y="46"/>
                  </a:lnTo>
                  <a:lnTo>
                    <a:pt x="308" y="65"/>
                  </a:lnTo>
                  <a:lnTo>
                    <a:pt x="298" y="83"/>
                  </a:lnTo>
                  <a:lnTo>
                    <a:pt x="298" y="101"/>
                  </a:lnTo>
                  <a:lnTo>
                    <a:pt x="298" y="120"/>
                  </a:lnTo>
                  <a:lnTo>
                    <a:pt x="289" y="138"/>
                  </a:lnTo>
                  <a:lnTo>
                    <a:pt x="271" y="138"/>
                  </a:lnTo>
                  <a:lnTo>
                    <a:pt x="253" y="147"/>
                  </a:lnTo>
                  <a:lnTo>
                    <a:pt x="225" y="157"/>
                  </a:lnTo>
                  <a:lnTo>
                    <a:pt x="207" y="157"/>
                  </a:lnTo>
                  <a:lnTo>
                    <a:pt x="188" y="147"/>
                  </a:lnTo>
                  <a:lnTo>
                    <a:pt x="161" y="147"/>
                  </a:lnTo>
                  <a:lnTo>
                    <a:pt x="142" y="138"/>
                  </a:lnTo>
                  <a:lnTo>
                    <a:pt x="124" y="138"/>
                  </a:lnTo>
                  <a:lnTo>
                    <a:pt x="105" y="157"/>
                  </a:lnTo>
                  <a:lnTo>
                    <a:pt x="87" y="166"/>
                  </a:lnTo>
                  <a:lnTo>
                    <a:pt x="87" y="184"/>
                  </a:lnTo>
                  <a:lnTo>
                    <a:pt x="87" y="203"/>
                  </a:lnTo>
                  <a:lnTo>
                    <a:pt x="87" y="221"/>
                  </a:lnTo>
                  <a:lnTo>
                    <a:pt x="78" y="239"/>
                  </a:lnTo>
                  <a:lnTo>
                    <a:pt x="0" y="219"/>
                  </a:lnTo>
                  <a:lnTo>
                    <a:pt x="0" y="315"/>
                  </a:lnTo>
                  <a:lnTo>
                    <a:pt x="2496" y="315"/>
                  </a:lnTo>
                  <a:lnTo>
                    <a:pt x="2496" y="123"/>
                  </a:lnTo>
                  <a:lnTo>
                    <a:pt x="2448" y="75"/>
                  </a:lnTo>
                  <a:lnTo>
                    <a:pt x="1296" y="2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7016760" y="5416560"/>
              <a:ext cx="1892160" cy="52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Rectangle 9"/>
          <p:cNvSpPr/>
          <p:nvPr/>
        </p:nvSpPr>
        <p:spPr>
          <a:xfrm>
            <a:off x="685800" y="2895480"/>
            <a:ext cx="31212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ve-cut platform when elevated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plifted marin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r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rc 10"/>
          <p:cNvSpPr/>
          <p:nvPr/>
        </p:nvSpPr>
        <p:spPr>
          <a:xfrm rot="10800000">
            <a:off x="3430440" y="3809520"/>
            <a:ext cx="3810240" cy="1219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 rot="16200000">
            <a:off x="7664400" y="4996800"/>
            <a:ext cx="1282680" cy="596880"/>
          </a:xfrm>
          <a:prstGeom prst="rightArrow">
            <a:avLst>
              <a:gd name="adj1" fmla="val 50000"/>
              <a:gd name="adj2" fmla="val 107458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mergent coa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e in sea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ergent coa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forms unde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a coastline is an example of submer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0" descr="L9_image7"/>
          <p:cNvPicPr/>
          <p:nvPr/>
        </p:nvPicPr>
        <p:blipFill>
          <a:blip r:embed="rId1"/>
          <a:stretch/>
        </p:blipFill>
        <p:spPr>
          <a:xfrm>
            <a:off x="914400" y="2868480"/>
            <a:ext cx="731520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>
            <a:off x="363600" y="2473200"/>
            <a:ext cx="4929120" cy="673200"/>
          </a:xfrm>
          <a:custGeom>
            <a:avLst/>
            <a:gdLst/>
            <a:ahLst/>
            <a:rect l="l" t="t" r="r" b="b"/>
            <a:pathLst>
              <a:path w="3105" h="424">
                <a:moveTo>
                  <a:pt x="0" y="346"/>
                </a:moveTo>
                <a:lnTo>
                  <a:pt x="5" y="322"/>
                </a:lnTo>
                <a:lnTo>
                  <a:pt x="14" y="303"/>
                </a:lnTo>
                <a:lnTo>
                  <a:pt x="33" y="294"/>
                </a:lnTo>
                <a:lnTo>
                  <a:pt x="33" y="276"/>
                </a:lnTo>
                <a:lnTo>
                  <a:pt x="51" y="266"/>
                </a:lnTo>
                <a:lnTo>
                  <a:pt x="69" y="239"/>
                </a:lnTo>
                <a:lnTo>
                  <a:pt x="88" y="220"/>
                </a:lnTo>
                <a:lnTo>
                  <a:pt x="97" y="202"/>
                </a:lnTo>
                <a:lnTo>
                  <a:pt x="115" y="193"/>
                </a:lnTo>
                <a:lnTo>
                  <a:pt x="134" y="184"/>
                </a:lnTo>
                <a:lnTo>
                  <a:pt x="143" y="165"/>
                </a:lnTo>
                <a:lnTo>
                  <a:pt x="161" y="156"/>
                </a:lnTo>
                <a:lnTo>
                  <a:pt x="189" y="147"/>
                </a:lnTo>
                <a:lnTo>
                  <a:pt x="207" y="128"/>
                </a:lnTo>
                <a:lnTo>
                  <a:pt x="226" y="119"/>
                </a:lnTo>
                <a:lnTo>
                  <a:pt x="253" y="110"/>
                </a:lnTo>
                <a:lnTo>
                  <a:pt x="272" y="101"/>
                </a:lnTo>
                <a:lnTo>
                  <a:pt x="290" y="92"/>
                </a:lnTo>
                <a:lnTo>
                  <a:pt x="318" y="73"/>
                </a:lnTo>
                <a:lnTo>
                  <a:pt x="336" y="64"/>
                </a:lnTo>
                <a:lnTo>
                  <a:pt x="364" y="55"/>
                </a:lnTo>
                <a:lnTo>
                  <a:pt x="382" y="46"/>
                </a:lnTo>
                <a:lnTo>
                  <a:pt x="410" y="27"/>
                </a:lnTo>
                <a:lnTo>
                  <a:pt x="428" y="27"/>
                </a:lnTo>
                <a:lnTo>
                  <a:pt x="446" y="18"/>
                </a:lnTo>
                <a:lnTo>
                  <a:pt x="465" y="9"/>
                </a:lnTo>
                <a:lnTo>
                  <a:pt x="492" y="9"/>
                </a:lnTo>
                <a:lnTo>
                  <a:pt x="520" y="9"/>
                </a:lnTo>
                <a:lnTo>
                  <a:pt x="538" y="0"/>
                </a:lnTo>
                <a:lnTo>
                  <a:pt x="575" y="0"/>
                </a:lnTo>
                <a:lnTo>
                  <a:pt x="593" y="0"/>
                </a:lnTo>
                <a:lnTo>
                  <a:pt x="612" y="0"/>
                </a:lnTo>
                <a:lnTo>
                  <a:pt x="630" y="9"/>
                </a:lnTo>
                <a:lnTo>
                  <a:pt x="649" y="9"/>
                </a:lnTo>
                <a:lnTo>
                  <a:pt x="667" y="9"/>
                </a:lnTo>
                <a:lnTo>
                  <a:pt x="695" y="18"/>
                </a:lnTo>
                <a:lnTo>
                  <a:pt x="713" y="18"/>
                </a:lnTo>
                <a:lnTo>
                  <a:pt x="731" y="27"/>
                </a:lnTo>
                <a:lnTo>
                  <a:pt x="750" y="27"/>
                </a:lnTo>
                <a:lnTo>
                  <a:pt x="777" y="46"/>
                </a:lnTo>
                <a:lnTo>
                  <a:pt x="805" y="46"/>
                </a:lnTo>
                <a:lnTo>
                  <a:pt x="823" y="55"/>
                </a:lnTo>
                <a:lnTo>
                  <a:pt x="842" y="73"/>
                </a:lnTo>
                <a:lnTo>
                  <a:pt x="869" y="73"/>
                </a:lnTo>
                <a:lnTo>
                  <a:pt x="888" y="92"/>
                </a:lnTo>
                <a:lnTo>
                  <a:pt x="906" y="92"/>
                </a:lnTo>
                <a:lnTo>
                  <a:pt x="925" y="101"/>
                </a:lnTo>
                <a:lnTo>
                  <a:pt x="943" y="119"/>
                </a:lnTo>
                <a:lnTo>
                  <a:pt x="961" y="119"/>
                </a:lnTo>
                <a:lnTo>
                  <a:pt x="970" y="138"/>
                </a:lnTo>
                <a:lnTo>
                  <a:pt x="998" y="147"/>
                </a:lnTo>
                <a:lnTo>
                  <a:pt x="1016" y="174"/>
                </a:lnTo>
                <a:lnTo>
                  <a:pt x="1035" y="184"/>
                </a:lnTo>
                <a:lnTo>
                  <a:pt x="1053" y="202"/>
                </a:lnTo>
                <a:lnTo>
                  <a:pt x="1072" y="211"/>
                </a:lnTo>
                <a:lnTo>
                  <a:pt x="1081" y="230"/>
                </a:lnTo>
                <a:lnTo>
                  <a:pt x="1099" y="239"/>
                </a:lnTo>
                <a:lnTo>
                  <a:pt x="1127" y="257"/>
                </a:lnTo>
                <a:lnTo>
                  <a:pt x="1145" y="266"/>
                </a:lnTo>
                <a:lnTo>
                  <a:pt x="1164" y="276"/>
                </a:lnTo>
                <a:lnTo>
                  <a:pt x="1182" y="294"/>
                </a:lnTo>
                <a:lnTo>
                  <a:pt x="1200" y="303"/>
                </a:lnTo>
                <a:lnTo>
                  <a:pt x="1219" y="312"/>
                </a:lnTo>
                <a:lnTo>
                  <a:pt x="1237" y="322"/>
                </a:lnTo>
                <a:lnTo>
                  <a:pt x="1265" y="331"/>
                </a:lnTo>
                <a:lnTo>
                  <a:pt x="1302" y="349"/>
                </a:lnTo>
                <a:lnTo>
                  <a:pt x="1320" y="358"/>
                </a:lnTo>
                <a:lnTo>
                  <a:pt x="1338" y="368"/>
                </a:lnTo>
                <a:lnTo>
                  <a:pt x="1357" y="377"/>
                </a:lnTo>
                <a:lnTo>
                  <a:pt x="1384" y="386"/>
                </a:lnTo>
                <a:lnTo>
                  <a:pt x="1403" y="395"/>
                </a:lnTo>
                <a:lnTo>
                  <a:pt x="1430" y="395"/>
                </a:lnTo>
                <a:lnTo>
                  <a:pt x="1449" y="404"/>
                </a:lnTo>
                <a:lnTo>
                  <a:pt x="1467" y="413"/>
                </a:lnTo>
                <a:lnTo>
                  <a:pt x="1495" y="413"/>
                </a:lnTo>
                <a:lnTo>
                  <a:pt x="1513" y="413"/>
                </a:lnTo>
                <a:lnTo>
                  <a:pt x="1531" y="413"/>
                </a:lnTo>
                <a:lnTo>
                  <a:pt x="1550" y="423"/>
                </a:lnTo>
                <a:lnTo>
                  <a:pt x="1577" y="423"/>
                </a:lnTo>
                <a:lnTo>
                  <a:pt x="1596" y="423"/>
                </a:lnTo>
                <a:lnTo>
                  <a:pt x="1614" y="423"/>
                </a:lnTo>
                <a:lnTo>
                  <a:pt x="1642" y="423"/>
                </a:lnTo>
                <a:lnTo>
                  <a:pt x="1669" y="423"/>
                </a:lnTo>
                <a:lnTo>
                  <a:pt x="1688" y="423"/>
                </a:lnTo>
                <a:lnTo>
                  <a:pt x="1706" y="423"/>
                </a:lnTo>
                <a:lnTo>
                  <a:pt x="1743" y="413"/>
                </a:lnTo>
                <a:lnTo>
                  <a:pt x="1770" y="413"/>
                </a:lnTo>
                <a:lnTo>
                  <a:pt x="1798" y="404"/>
                </a:lnTo>
                <a:lnTo>
                  <a:pt x="1826" y="395"/>
                </a:lnTo>
                <a:lnTo>
                  <a:pt x="1844" y="386"/>
                </a:lnTo>
                <a:lnTo>
                  <a:pt x="1862" y="377"/>
                </a:lnTo>
                <a:lnTo>
                  <a:pt x="1890" y="377"/>
                </a:lnTo>
                <a:lnTo>
                  <a:pt x="1908" y="358"/>
                </a:lnTo>
                <a:lnTo>
                  <a:pt x="1936" y="349"/>
                </a:lnTo>
                <a:lnTo>
                  <a:pt x="1954" y="340"/>
                </a:lnTo>
                <a:lnTo>
                  <a:pt x="1973" y="331"/>
                </a:lnTo>
                <a:lnTo>
                  <a:pt x="1991" y="322"/>
                </a:lnTo>
                <a:lnTo>
                  <a:pt x="2010" y="312"/>
                </a:lnTo>
                <a:lnTo>
                  <a:pt x="2028" y="303"/>
                </a:lnTo>
                <a:lnTo>
                  <a:pt x="2037" y="285"/>
                </a:lnTo>
                <a:lnTo>
                  <a:pt x="2065" y="276"/>
                </a:lnTo>
                <a:lnTo>
                  <a:pt x="2074" y="257"/>
                </a:lnTo>
                <a:lnTo>
                  <a:pt x="2102" y="248"/>
                </a:lnTo>
                <a:lnTo>
                  <a:pt x="2120" y="230"/>
                </a:lnTo>
                <a:lnTo>
                  <a:pt x="2138" y="220"/>
                </a:lnTo>
                <a:lnTo>
                  <a:pt x="2157" y="202"/>
                </a:lnTo>
                <a:lnTo>
                  <a:pt x="2175" y="193"/>
                </a:lnTo>
                <a:lnTo>
                  <a:pt x="2193" y="174"/>
                </a:lnTo>
                <a:lnTo>
                  <a:pt x="2212" y="156"/>
                </a:lnTo>
                <a:lnTo>
                  <a:pt x="2239" y="147"/>
                </a:lnTo>
                <a:lnTo>
                  <a:pt x="2258" y="128"/>
                </a:lnTo>
                <a:lnTo>
                  <a:pt x="2276" y="119"/>
                </a:lnTo>
                <a:lnTo>
                  <a:pt x="2295" y="110"/>
                </a:lnTo>
                <a:lnTo>
                  <a:pt x="2313" y="101"/>
                </a:lnTo>
                <a:lnTo>
                  <a:pt x="2322" y="82"/>
                </a:lnTo>
                <a:lnTo>
                  <a:pt x="2341" y="82"/>
                </a:lnTo>
                <a:lnTo>
                  <a:pt x="2359" y="64"/>
                </a:lnTo>
                <a:lnTo>
                  <a:pt x="2377" y="55"/>
                </a:lnTo>
                <a:lnTo>
                  <a:pt x="2405" y="46"/>
                </a:lnTo>
                <a:lnTo>
                  <a:pt x="2423" y="46"/>
                </a:lnTo>
                <a:lnTo>
                  <a:pt x="2442" y="36"/>
                </a:lnTo>
                <a:lnTo>
                  <a:pt x="2460" y="36"/>
                </a:lnTo>
                <a:lnTo>
                  <a:pt x="2479" y="27"/>
                </a:lnTo>
                <a:lnTo>
                  <a:pt x="2497" y="27"/>
                </a:lnTo>
                <a:lnTo>
                  <a:pt x="2515" y="18"/>
                </a:lnTo>
                <a:lnTo>
                  <a:pt x="2534" y="18"/>
                </a:lnTo>
                <a:lnTo>
                  <a:pt x="2552" y="9"/>
                </a:lnTo>
                <a:lnTo>
                  <a:pt x="2570" y="9"/>
                </a:lnTo>
                <a:lnTo>
                  <a:pt x="2589" y="9"/>
                </a:lnTo>
                <a:lnTo>
                  <a:pt x="2607" y="9"/>
                </a:lnTo>
                <a:lnTo>
                  <a:pt x="2626" y="9"/>
                </a:lnTo>
                <a:lnTo>
                  <a:pt x="2644" y="9"/>
                </a:lnTo>
                <a:lnTo>
                  <a:pt x="2662" y="9"/>
                </a:lnTo>
                <a:lnTo>
                  <a:pt x="2681" y="9"/>
                </a:lnTo>
                <a:lnTo>
                  <a:pt x="2699" y="18"/>
                </a:lnTo>
                <a:lnTo>
                  <a:pt x="2718" y="18"/>
                </a:lnTo>
                <a:lnTo>
                  <a:pt x="2736" y="27"/>
                </a:lnTo>
                <a:lnTo>
                  <a:pt x="2764" y="46"/>
                </a:lnTo>
                <a:lnTo>
                  <a:pt x="2782" y="46"/>
                </a:lnTo>
                <a:lnTo>
                  <a:pt x="2810" y="55"/>
                </a:lnTo>
                <a:lnTo>
                  <a:pt x="2828" y="64"/>
                </a:lnTo>
                <a:lnTo>
                  <a:pt x="2856" y="73"/>
                </a:lnTo>
                <a:lnTo>
                  <a:pt x="2883" y="82"/>
                </a:lnTo>
                <a:lnTo>
                  <a:pt x="2902" y="92"/>
                </a:lnTo>
                <a:lnTo>
                  <a:pt x="2920" y="92"/>
                </a:lnTo>
                <a:lnTo>
                  <a:pt x="2938" y="110"/>
                </a:lnTo>
                <a:lnTo>
                  <a:pt x="2957" y="110"/>
                </a:lnTo>
                <a:lnTo>
                  <a:pt x="2975" y="119"/>
                </a:lnTo>
                <a:lnTo>
                  <a:pt x="2993" y="128"/>
                </a:lnTo>
                <a:lnTo>
                  <a:pt x="3021" y="147"/>
                </a:lnTo>
                <a:lnTo>
                  <a:pt x="3039" y="165"/>
                </a:lnTo>
                <a:lnTo>
                  <a:pt x="3058" y="174"/>
                </a:lnTo>
                <a:lnTo>
                  <a:pt x="3085" y="193"/>
                </a:lnTo>
                <a:lnTo>
                  <a:pt x="3104" y="202"/>
                </a:lnTo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1125360" y="2260440"/>
            <a:ext cx="327672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356120" y="132732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4960" y="3278160"/>
            <a:ext cx="1596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h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1219320" y="25146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070760" y="1708200"/>
            <a:ext cx="106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Freeform 8"/>
          <p:cNvSpPr/>
          <p:nvPr/>
        </p:nvSpPr>
        <p:spPr>
          <a:xfrm>
            <a:off x="3564000" y="2473200"/>
            <a:ext cx="4929120" cy="673200"/>
          </a:xfrm>
          <a:custGeom>
            <a:avLst/>
            <a:gdLst/>
            <a:ahLst/>
            <a:rect l="l" t="t" r="r" b="b"/>
            <a:pathLst>
              <a:path w="3105" h="424">
                <a:moveTo>
                  <a:pt x="0" y="346"/>
                </a:moveTo>
                <a:lnTo>
                  <a:pt x="5" y="322"/>
                </a:lnTo>
                <a:lnTo>
                  <a:pt x="14" y="303"/>
                </a:lnTo>
                <a:lnTo>
                  <a:pt x="33" y="294"/>
                </a:lnTo>
                <a:lnTo>
                  <a:pt x="33" y="276"/>
                </a:lnTo>
                <a:lnTo>
                  <a:pt x="51" y="266"/>
                </a:lnTo>
                <a:lnTo>
                  <a:pt x="69" y="239"/>
                </a:lnTo>
                <a:lnTo>
                  <a:pt x="88" y="220"/>
                </a:lnTo>
                <a:lnTo>
                  <a:pt x="97" y="202"/>
                </a:lnTo>
                <a:lnTo>
                  <a:pt x="115" y="193"/>
                </a:lnTo>
                <a:lnTo>
                  <a:pt x="134" y="184"/>
                </a:lnTo>
                <a:lnTo>
                  <a:pt x="143" y="165"/>
                </a:lnTo>
                <a:lnTo>
                  <a:pt x="161" y="156"/>
                </a:lnTo>
                <a:lnTo>
                  <a:pt x="189" y="147"/>
                </a:lnTo>
                <a:lnTo>
                  <a:pt x="207" y="128"/>
                </a:lnTo>
                <a:lnTo>
                  <a:pt x="226" y="119"/>
                </a:lnTo>
                <a:lnTo>
                  <a:pt x="253" y="110"/>
                </a:lnTo>
                <a:lnTo>
                  <a:pt x="272" y="101"/>
                </a:lnTo>
                <a:lnTo>
                  <a:pt x="290" y="92"/>
                </a:lnTo>
                <a:lnTo>
                  <a:pt x="318" y="73"/>
                </a:lnTo>
                <a:lnTo>
                  <a:pt x="336" y="64"/>
                </a:lnTo>
                <a:lnTo>
                  <a:pt x="364" y="55"/>
                </a:lnTo>
                <a:lnTo>
                  <a:pt x="382" y="46"/>
                </a:lnTo>
                <a:lnTo>
                  <a:pt x="410" y="27"/>
                </a:lnTo>
                <a:lnTo>
                  <a:pt x="428" y="27"/>
                </a:lnTo>
                <a:lnTo>
                  <a:pt x="446" y="18"/>
                </a:lnTo>
                <a:lnTo>
                  <a:pt x="465" y="9"/>
                </a:lnTo>
                <a:lnTo>
                  <a:pt x="492" y="9"/>
                </a:lnTo>
                <a:lnTo>
                  <a:pt x="520" y="9"/>
                </a:lnTo>
                <a:lnTo>
                  <a:pt x="538" y="0"/>
                </a:lnTo>
                <a:lnTo>
                  <a:pt x="575" y="0"/>
                </a:lnTo>
                <a:lnTo>
                  <a:pt x="593" y="0"/>
                </a:lnTo>
                <a:lnTo>
                  <a:pt x="612" y="0"/>
                </a:lnTo>
                <a:lnTo>
                  <a:pt x="630" y="9"/>
                </a:lnTo>
                <a:lnTo>
                  <a:pt x="649" y="9"/>
                </a:lnTo>
                <a:lnTo>
                  <a:pt x="667" y="9"/>
                </a:lnTo>
                <a:lnTo>
                  <a:pt x="695" y="18"/>
                </a:lnTo>
                <a:lnTo>
                  <a:pt x="713" y="18"/>
                </a:lnTo>
                <a:lnTo>
                  <a:pt x="731" y="27"/>
                </a:lnTo>
                <a:lnTo>
                  <a:pt x="750" y="27"/>
                </a:lnTo>
                <a:lnTo>
                  <a:pt x="777" y="46"/>
                </a:lnTo>
                <a:lnTo>
                  <a:pt x="805" y="46"/>
                </a:lnTo>
                <a:lnTo>
                  <a:pt x="823" y="55"/>
                </a:lnTo>
                <a:lnTo>
                  <a:pt x="842" y="73"/>
                </a:lnTo>
                <a:lnTo>
                  <a:pt x="869" y="73"/>
                </a:lnTo>
                <a:lnTo>
                  <a:pt x="888" y="92"/>
                </a:lnTo>
                <a:lnTo>
                  <a:pt x="906" y="92"/>
                </a:lnTo>
                <a:lnTo>
                  <a:pt x="925" y="101"/>
                </a:lnTo>
                <a:lnTo>
                  <a:pt x="943" y="119"/>
                </a:lnTo>
                <a:lnTo>
                  <a:pt x="961" y="119"/>
                </a:lnTo>
                <a:lnTo>
                  <a:pt x="970" y="138"/>
                </a:lnTo>
                <a:lnTo>
                  <a:pt x="998" y="147"/>
                </a:lnTo>
                <a:lnTo>
                  <a:pt x="1016" y="174"/>
                </a:lnTo>
                <a:lnTo>
                  <a:pt x="1035" y="184"/>
                </a:lnTo>
                <a:lnTo>
                  <a:pt x="1053" y="202"/>
                </a:lnTo>
                <a:lnTo>
                  <a:pt x="1072" y="211"/>
                </a:lnTo>
                <a:lnTo>
                  <a:pt x="1081" y="230"/>
                </a:lnTo>
                <a:lnTo>
                  <a:pt x="1099" y="239"/>
                </a:lnTo>
                <a:lnTo>
                  <a:pt x="1127" y="257"/>
                </a:lnTo>
                <a:lnTo>
                  <a:pt x="1145" y="266"/>
                </a:lnTo>
                <a:lnTo>
                  <a:pt x="1164" y="276"/>
                </a:lnTo>
                <a:lnTo>
                  <a:pt x="1182" y="294"/>
                </a:lnTo>
                <a:lnTo>
                  <a:pt x="1200" y="303"/>
                </a:lnTo>
                <a:lnTo>
                  <a:pt x="1219" y="312"/>
                </a:lnTo>
                <a:lnTo>
                  <a:pt x="1237" y="322"/>
                </a:lnTo>
                <a:lnTo>
                  <a:pt x="1265" y="331"/>
                </a:lnTo>
                <a:lnTo>
                  <a:pt x="1302" y="349"/>
                </a:lnTo>
                <a:lnTo>
                  <a:pt x="1320" y="358"/>
                </a:lnTo>
                <a:lnTo>
                  <a:pt x="1338" y="368"/>
                </a:lnTo>
                <a:lnTo>
                  <a:pt x="1357" y="377"/>
                </a:lnTo>
                <a:lnTo>
                  <a:pt x="1384" y="386"/>
                </a:lnTo>
                <a:lnTo>
                  <a:pt x="1403" y="395"/>
                </a:lnTo>
                <a:lnTo>
                  <a:pt x="1430" y="395"/>
                </a:lnTo>
                <a:lnTo>
                  <a:pt x="1449" y="404"/>
                </a:lnTo>
                <a:lnTo>
                  <a:pt x="1467" y="413"/>
                </a:lnTo>
                <a:lnTo>
                  <a:pt x="1495" y="413"/>
                </a:lnTo>
                <a:lnTo>
                  <a:pt x="1513" y="413"/>
                </a:lnTo>
                <a:lnTo>
                  <a:pt x="1531" y="413"/>
                </a:lnTo>
                <a:lnTo>
                  <a:pt x="1550" y="423"/>
                </a:lnTo>
                <a:lnTo>
                  <a:pt x="1577" y="423"/>
                </a:lnTo>
                <a:lnTo>
                  <a:pt x="1596" y="423"/>
                </a:lnTo>
                <a:lnTo>
                  <a:pt x="1614" y="423"/>
                </a:lnTo>
                <a:lnTo>
                  <a:pt x="1642" y="423"/>
                </a:lnTo>
                <a:lnTo>
                  <a:pt x="1669" y="423"/>
                </a:lnTo>
                <a:lnTo>
                  <a:pt x="1688" y="423"/>
                </a:lnTo>
                <a:lnTo>
                  <a:pt x="1706" y="423"/>
                </a:lnTo>
                <a:lnTo>
                  <a:pt x="1743" y="413"/>
                </a:lnTo>
                <a:lnTo>
                  <a:pt x="1770" y="413"/>
                </a:lnTo>
                <a:lnTo>
                  <a:pt x="1798" y="404"/>
                </a:lnTo>
                <a:lnTo>
                  <a:pt x="1826" y="395"/>
                </a:lnTo>
                <a:lnTo>
                  <a:pt x="1844" y="386"/>
                </a:lnTo>
                <a:lnTo>
                  <a:pt x="1862" y="377"/>
                </a:lnTo>
                <a:lnTo>
                  <a:pt x="1890" y="377"/>
                </a:lnTo>
                <a:lnTo>
                  <a:pt x="1908" y="358"/>
                </a:lnTo>
                <a:lnTo>
                  <a:pt x="1936" y="349"/>
                </a:lnTo>
                <a:lnTo>
                  <a:pt x="1954" y="340"/>
                </a:lnTo>
                <a:lnTo>
                  <a:pt x="1973" y="331"/>
                </a:lnTo>
                <a:lnTo>
                  <a:pt x="1991" y="322"/>
                </a:lnTo>
                <a:lnTo>
                  <a:pt x="2010" y="312"/>
                </a:lnTo>
                <a:lnTo>
                  <a:pt x="2028" y="303"/>
                </a:lnTo>
                <a:lnTo>
                  <a:pt x="2037" y="285"/>
                </a:lnTo>
                <a:lnTo>
                  <a:pt x="2065" y="276"/>
                </a:lnTo>
                <a:lnTo>
                  <a:pt x="2074" y="257"/>
                </a:lnTo>
                <a:lnTo>
                  <a:pt x="2102" y="248"/>
                </a:lnTo>
                <a:lnTo>
                  <a:pt x="2120" y="230"/>
                </a:lnTo>
                <a:lnTo>
                  <a:pt x="2138" y="220"/>
                </a:lnTo>
                <a:lnTo>
                  <a:pt x="2157" y="202"/>
                </a:lnTo>
                <a:lnTo>
                  <a:pt x="2175" y="193"/>
                </a:lnTo>
                <a:lnTo>
                  <a:pt x="2193" y="174"/>
                </a:lnTo>
                <a:lnTo>
                  <a:pt x="2212" y="156"/>
                </a:lnTo>
                <a:lnTo>
                  <a:pt x="2239" y="147"/>
                </a:lnTo>
                <a:lnTo>
                  <a:pt x="2258" y="128"/>
                </a:lnTo>
                <a:lnTo>
                  <a:pt x="2276" y="119"/>
                </a:lnTo>
                <a:lnTo>
                  <a:pt x="2295" y="110"/>
                </a:lnTo>
                <a:lnTo>
                  <a:pt x="2313" y="101"/>
                </a:lnTo>
                <a:lnTo>
                  <a:pt x="2322" y="82"/>
                </a:lnTo>
                <a:lnTo>
                  <a:pt x="2341" y="82"/>
                </a:lnTo>
                <a:lnTo>
                  <a:pt x="2359" y="64"/>
                </a:lnTo>
                <a:lnTo>
                  <a:pt x="2377" y="55"/>
                </a:lnTo>
                <a:lnTo>
                  <a:pt x="2405" y="46"/>
                </a:lnTo>
                <a:lnTo>
                  <a:pt x="2423" y="46"/>
                </a:lnTo>
                <a:lnTo>
                  <a:pt x="2442" y="36"/>
                </a:lnTo>
                <a:lnTo>
                  <a:pt x="2460" y="36"/>
                </a:lnTo>
                <a:lnTo>
                  <a:pt x="2479" y="27"/>
                </a:lnTo>
                <a:lnTo>
                  <a:pt x="2497" y="27"/>
                </a:lnTo>
                <a:lnTo>
                  <a:pt x="2515" y="18"/>
                </a:lnTo>
                <a:lnTo>
                  <a:pt x="2534" y="18"/>
                </a:lnTo>
                <a:lnTo>
                  <a:pt x="2552" y="9"/>
                </a:lnTo>
                <a:lnTo>
                  <a:pt x="2570" y="9"/>
                </a:lnTo>
                <a:lnTo>
                  <a:pt x="2589" y="9"/>
                </a:lnTo>
                <a:lnTo>
                  <a:pt x="2607" y="9"/>
                </a:lnTo>
                <a:lnTo>
                  <a:pt x="2626" y="9"/>
                </a:lnTo>
                <a:lnTo>
                  <a:pt x="2644" y="9"/>
                </a:lnTo>
                <a:lnTo>
                  <a:pt x="2662" y="9"/>
                </a:lnTo>
                <a:lnTo>
                  <a:pt x="2681" y="9"/>
                </a:lnTo>
                <a:lnTo>
                  <a:pt x="2699" y="18"/>
                </a:lnTo>
                <a:lnTo>
                  <a:pt x="2718" y="18"/>
                </a:lnTo>
                <a:lnTo>
                  <a:pt x="2736" y="27"/>
                </a:lnTo>
                <a:lnTo>
                  <a:pt x="2764" y="46"/>
                </a:lnTo>
                <a:lnTo>
                  <a:pt x="2782" y="46"/>
                </a:lnTo>
                <a:lnTo>
                  <a:pt x="2810" y="55"/>
                </a:lnTo>
                <a:lnTo>
                  <a:pt x="2828" y="64"/>
                </a:lnTo>
                <a:lnTo>
                  <a:pt x="2856" y="73"/>
                </a:lnTo>
                <a:lnTo>
                  <a:pt x="2883" y="82"/>
                </a:lnTo>
                <a:lnTo>
                  <a:pt x="2902" y="92"/>
                </a:lnTo>
                <a:lnTo>
                  <a:pt x="2920" y="92"/>
                </a:lnTo>
                <a:lnTo>
                  <a:pt x="2938" y="110"/>
                </a:lnTo>
                <a:lnTo>
                  <a:pt x="2957" y="110"/>
                </a:lnTo>
                <a:lnTo>
                  <a:pt x="2975" y="119"/>
                </a:lnTo>
                <a:lnTo>
                  <a:pt x="2993" y="128"/>
                </a:lnTo>
                <a:lnTo>
                  <a:pt x="3021" y="147"/>
                </a:lnTo>
                <a:lnTo>
                  <a:pt x="3039" y="165"/>
                </a:lnTo>
                <a:lnTo>
                  <a:pt x="3058" y="174"/>
                </a:lnTo>
                <a:lnTo>
                  <a:pt x="3085" y="193"/>
                </a:lnTo>
                <a:lnTo>
                  <a:pt x="3104" y="202"/>
                </a:lnTo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471280" y="307980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973240" y="3735360"/>
            <a:ext cx="29689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 in waves follow a circula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3652920" y="2583000"/>
            <a:ext cx="1387440" cy="979200"/>
          </a:xfrm>
          <a:custGeom>
            <a:avLst/>
            <a:gdLst/>
            <a:ahLst/>
            <a:rect l="l" t="t" r="r" b="b"/>
            <a:pathLst>
              <a:path w="874" h="617">
                <a:moveTo>
                  <a:pt x="195" y="485"/>
                </a:moveTo>
                <a:lnTo>
                  <a:pt x="211" y="506"/>
                </a:lnTo>
                <a:lnTo>
                  <a:pt x="220" y="525"/>
                </a:lnTo>
                <a:lnTo>
                  <a:pt x="239" y="534"/>
                </a:lnTo>
                <a:lnTo>
                  <a:pt x="257" y="552"/>
                </a:lnTo>
                <a:lnTo>
                  <a:pt x="276" y="552"/>
                </a:lnTo>
                <a:lnTo>
                  <a:pt x="294" y="561"/>
                </a:lnTo>
                <a:lnTo>
                  <a:pt x="322" y="580"/>
                </a:lnTo>
                <a:lnTo>
                  <a:pt x="340" y="580"/>
                </a:lnTo>
                <a:lnTo>
                  <a:pt x="358" y="589"/>
                </a:lnTo>
                <a:lnTo>
                  <a:pt x="386" y="598"/>
                </a:lnTo>
                <a:lnTo>
                  <a:pt x="404" y="598"/>
                </a:lnTo>
                <a:lnTo>
                  <a:pt x="423" y="607"/>
                </a:lnTo>
                <a:lnTo>
                  <a:pt x="441" y="607"/>
                </a:lnTo>
                <a:lnTo>
                  <a:pt x="459" y="616"/>
                </a:lnTo>
                <a:lnTo>
                  <a:pt x="478" y="616"/>
                </a:lnTo>
                <a:lnTo>
                  <a:pt x="496" y="616"/>
                </a:lnTo>
                <a:lnTo>
                  <a:pt x="515" y="616"/>
                </a:lnTo>
                <a:lnTo>
                  <a:pt x="533" y="616"/>
                </a:lnTo>
                <a:lnTo>
                  <a:pt x="551" y="616"/>
                </a:lnTo>
                <a:lnTo>
                  <a:pt x="570" y="616"/>
                </a:lnTo>
                <a:lnTo>
                  <a:pt x="588" y="616"/>
                </a:lnTo>
                <a:lnTo>
                  <a:pt x="607" y="607"/>
                </a:lnTo>
                <a:lnTo>
                  <a:pt x="625" y="607"/>
                </a:lnTo>
                <a:lnTo>
                  <a:pt x="662" y="598"/>
                </a:lnTo>
                <a:lnTo>
                  <a:pt x="680" y="589"/>
                </a:lnTo>
                <a:lnTo>
                  <a:pt x="699" y="580"/>
                </a:lnTo>
                <a:lnTo>
                  <a:pt x="708" y="561"/>
                </a:lnTo>
                <a:lnTo>
                  <a:pt x="726" y="552"/>
                </a:lnTo>
                <a:lnTo>
                  <a:pt x="745" y="543"/>
                </a:lnTo>
                <a:lnTo>
                  <a:pt x="763" y="525"/>
                </a:lnTo>
                <a:lnTo>
                  <a:pt x="781" y="515"/>
                </a:lnTo>
                <a:lnTo>
                  <a:pt x="790" y="497"/>
                </a:lnTo>
                <a:lnTo>
                  <a:pt x="800" y="479"/>
                </a:lnTo>
                <a:lnTo>
                  <a:pt x="818" y="451"/>
                </a:lnTo>
                <a:lnTo>
                  <a:pt x="836" y="433"/>
                </a:lnTo>
                <a:lnTo>
                  <a:pt x="846" y="414"/>
                </a:lnTo>
                <a:lnTo>
                  <a:pt x="855" y="396"/>
                </a:lnTo>
                <a:lnTo>
                  <a:pt x="855" y="377"/>
                </a:lnTo>
                <a:lnTo>
                  <a:pt x="864" y="359"/>
                </a:lnTo>
                <a:lnTo>
                  <a:pt x="873" y="331"/>
                </a:lnTo>
                <a:lnTo>
                  <a:pt x="873" y="313"/>
                </a:lnTo>
                <a:lnTo>
                  <a:pt x="873" y="285"/>
                </a:lnTo>
                <a:lnTo>
                  <a:pt x="873" y="267"/>
                </a:lnTo>
                <a:lnTo>
                  <a:pt x="873" y="249"/>
                </a:lnTo>
                <a:lnTo>
                  <a:pt x="855" y="230"/>
                </a:lnTo>
                <a:lnTo>
                  <a:pt x="855" y="212"/>
                </a:lnTo>
                <a:lnTo>
                  <a:pt x="846" y="194"/>
                </a:lnTo>
                <a:lnTo>
                  <a:pt x="836" y="175"/>
                </a:lnTo>
                <a:lnTo>
                  <a:pt x="827" y="157"/>
                </a:lnTo>
                <a:lnTo>
                  <a:pt x="818" y="138"/>
                </a:lnTo>
                <a:lnTo>
                  <a:pt x="800" y="129"/>
                </a:lnTo>
                <a:lnTo>
                  <a:pt x="790" y="111"/>
                </a:lnTo>
                <a:lnTo>
                  <a:pt x="772" y="102"/>
                </a:lnTo>
                <a:lnTo>
                  <a:pt x="754" y="92"/>
                </a:lnTo>
                <a:lnTo>
                  <a:pt x="745" y="74"/>
                </a:lnTo>
                <a:lnTo>
                  <a:pt x="726" y="74"/>
                </a:lnTo>
                <a:lnTo>
                  <a:pt x="717" y="56"/>
                </a:lnTo>
                <a:lnTo>
                  <a:pt x="699" y="56"/>
                </a:lnTo>
                <a:lnTo>
                  <a:pt x="680" y="46"/>
                </a:lnTo>
                <a:lnTo>
                  <a:pt x="662" y="37"/>
                </a:lnTo>
                <a:lnTo>
                  <a:pt x="643" y="37"/>
                </a:lnTo>
                <a:lnTo>
                  <a:pt x="625" y="28"/>
                </a:lnTo>
                <a:lnTo>
                  <a:pt x="607" y="19"/>
                </a:lnTo>
                <a:lnTo>
                  <a:pt x="588" y="19"/>
                </a:lnTo>
                <a:lnTo>
                  <a:pt x="570" y="10"/>
                </a:lnTo>
                <a:lnTo>
                  <a:pt x="551" y="10"/>
                </a:lnTo>
                <a:lnTo>
                  <a:pt x="533" y="0"/>
                </a:lnTo>
                <a:lnTo>
                  <a:pt x="515" y="0"/>
                </a:lnTo>
                <a:lnTo>
                  <a:pt x="496" y="0"/>
                </a:lnTo>
                <a:lnTo>
                  <a:pt x="478" y="0"/>
                </a:lnTo>
                <a:lnTo>
                  <a:pt x="459" y="0"/>
                </a:lnTo>
                <a:lnTo>
                  <a:pt x="441" y="10"/>
                </a:lnTo>
                <a:lnTo>
                  <a:pt x="423" y="10"/>
                </a:lnTo>
                <a:lnTo>
                  <a:pt x="404" y="19"/>
                </a:lnTo>
                <a:lnTo>
                  <a:pt x="386" y="28"/>
                </a:lnTo>
                <a:lnTo>
                  <a:pt x="368" y="28"/>
                </a:lnTo>
                <a:lnTo>
                  <a:pt x="349" y="37"/>
                </a:lnTo>
                <a:lnTo>
                  <a:pt x="331" y="46"/>
                </a:lnTo>
                <a:lnTo>
                  <a:pt x="312" y="46"/>
                </a:lnTo>
                <a:lnTo>
                  <a:pt x="294" y="65"/>
                </a:lnTo>
                <a:lnTo>
                  <a:pt x="276" y="74"/>
                </a:lnTo>
                <a:lnTo>
                  <a:pt x="257" y="83"/>
                </a:lnTo>
                <a:lnTo>
                  <a:pt x="248" y="102"/>
                </a:lnTo>
                <a:lnTo>
                  <a:pt x="230" y="111"/>
                </a:lnTo>
                <a:lnTo>
                  <a:pt x="220" y="129"/>
                </a:lnTo>
                <a:lnTo>
                  <a:pt x="211" y="148"/>
                </a:lnTo>
                <a:lnTo>
                  <a:pt x="193" y="166"/>
                </a:lnTo>
                <a:lnTo>
                  <a:pt x="184" y="184"/>
                </a:lnTo>
                <a:lnTo>
                  <a:pt x="174" y="203"/>
                </a:lnTo>
                <a:lnTo>
                  <a:pt x="156" y="212"/>
                </a:lnTo>
                <a:lnTo>
                  <a:pt x="156" y="230"/>
                </a:lnTo>
                <a:lnTo>
                  <a:pt x="138" y="239"/>
                </a:lnTo>
                <a:lnTo>
                  <a:pt x="138" y="258"/>
                </a:lnTo>
                <a:lnTo>
                  <a:pt x="128" y="276"/>
                </a:lnTo>
                <a:lnTo>
                  <a:pt x="119" y="295"/>
                </a:lnTo>
                <a:lnTo>
                  <a:pt x="110" y="313"/>
                </a:lnTo>
                <a:lnTo>
                  <a:pt x="101" y="331"/>
                </a:lnTo>
                <a:lnTo>
                  <a:pt x="82" y="350"/>
                </a:lnTo>
                <a:lnTo>
                  <a:pt x="64" y="377"/>
                </a:lnTo>
                <a:lnTo>
                  <a:pt x="46" y="396"/>
                </a:lnTo>
                <a:lnTo>
                  <a:pt x="36" y="414"/>
                </a:lnTo>
                <a:lnTo>
                  <a:pt x="18" y="423"/>
                </a:lnTo>
                <a:lnTo>
                  <a:pt x="0" y="433"/>
                </a:lnTo>
              </a:path>
            </a:pathLst>
          </a:custGeom>
          <a:noFill/>
          <a:ln cap="rnd" w="507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440" y="77760"/>
            <a:ext cx="9064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STAL  LAND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mergence Shorline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3886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a coast - shorline valleys eroded by rivers are submer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many offshore is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to waves erodes islands and head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ord coast - shoreline valleys created by glaciers are submer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s are deep and stra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depth, there are few be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L9_image8"/>
          <p:cNvPicPr/>
          <p:nvPr/>
        </p:nvPicPr>
        <p:blipFill>
          <a:blip r:embed="rId1"/>
          <a:stretch/>
        </p:blipFill>
        <p:spPr>
          <a:xfrm>
            <a:off x="4038480" y="1238400"/>
            <a:ext cx="50292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rier Island Coast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on low lying coasts with gentle grad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 ISLANDS - low ridges of sand built by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ind the islands are lago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water with tidal depo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L INLETS - gaps between the 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6" descr="L9_image9"/>
          <p:cNvPicPr/>
          <p:nvPr/>
        </p:nvPicPr>
        <p:blipFill>
          <a:blip r:embed="rId1"/>
          <a:stretch/>
        </p:blipFill>
        <p:spPr>
          <a:xfrm>
            <a:off x="5257800" y="1143000"/>
            <a:ext cx="36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ta and Volcano Coast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- deposit by rivers entering the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slows down and spreads out as it e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divides and subdivides to create DISTRIBUT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o coasts develop in volcanic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liffs form in fresh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400" y="1519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al reef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ls build up calcium deposits to produce re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row, corals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warm, shallow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934320" y="53341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rbis Digital Sto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8" descr="L9_image10"/>
          <p:cNvPicPr/>
          <p:nvPr/>
        </p:nvPicPr>
        <p:blipFill>
          <a:blip r:embed="rId1"/>
          <a:stretch/>
        </p:blipFill>
        <p:spPr>
          <a:xfrm>
            <a:off x="3733920" y="1490760"/>
            <a:ext cx="535932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889600" y="3016080"/>
            <a:ext cx="3187800" cy="1206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873760" y="1301760"/>
            <a:ext cx="3187800" cy="1206360"/>
          </a:xfrm>
          <a:prstGeom prst="rect">
            <a:avLst/>
          </a:prstGeom>
          <a:solidFill>
            <a:srgbClr val="96969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6377040" y="1592280"/>
            <a:ext cx="2333520" cy="627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5965920" y="3211560"/>
            <a:ext cx="3036960" cy="81900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l reef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nging reef - directly attached to an island or 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 reef - lagoon between coast and r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ll reef - circular reef surrounding a lagoon (no land in cent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6711840" y="1682640"/>
            <a:ext cx="1663920" cy="444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6392880" y="3306600"/>
            <a:ext cx="2333520" cy="627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6727680" y="3397320"/>
            <a:ext cx="1663920" cy="4446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5888160" y="4670280"/>
            <a:ext cx="3187440" cy="1206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2"/>
          <p:cNvSpPr/>
          <p:nvPr/>
        </p:nvSpPr>
        <p:spPr>
          <a:xfrm>
            <a:off x="6391440" y="4960800"/>
            <a:ext cx="2333520" cy="627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6726240" y="5051520"/>
            <a:ext cx="1663560" cy="444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5181480" y="175248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5181480" y="518148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4724280" y="3581280"/>
            <a:ext cx="10670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EOLIAN (Eolian) LANDSCAPE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erosion, transport and de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dry regions, with little vegetation such as deserts and coastal landsc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 Erosion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62481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the air flows, more e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odes more rapidly if wind blows constantly from one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TYPES OF WIND E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ASION and DE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38240" y="4557600"/>
            <a:ext cx="8699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14200" y="290520"/>
            <a:ext cx="854712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LATION HOLLOW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moval of fine particles by wi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ves hollows behind (DEFLATION HOLLOW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so leaves a surface of closely packed stones (DESERT PAVEM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90520" y="214200"/>
            <a:ext cx="84708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TRANSPOR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fine material may be carried in suspension in the 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But larger particles may be moved by 2 method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 CREEP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L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42800" y="290520"/>
            <a:ext cx="831852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SURFACE CREE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erial is rolled along the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ccounts for 20% of wind trans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L9_image11"/>
          <p:cNvPicPr/>
          <p:nvPr/>
        </p:nvPicPr>
        <p:blipFill>
          <a:blip r:embed="rId1"/>
          <a:stretch/>
        </p:blipFill>
        <p:spPr>
          <a:xfrm>
            <a:off x="152280" y="4059360"/>
            <a:ext cx="876312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shorelin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ecomes shallow, wave height increases because wave length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become steeper, then collapse (break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L9_image1"/>
          <p:cNvPicPr/>
          <p:nvPr/>
        </p:nvPicPr>
        <p:blipFill>
          <a:blip r:embed="rId1"/>
          <a:stretch/>
        </p:blipFill>
        <p:spPr>
          <a:xfrm>
            <a:off x="304920" y="4143240"/>
            <a:ext cx="861048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0520" y="214200"/>
            <a:ext cx="854712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SAL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he asymmetrical bouncing of sand gra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ccounts for 80% of wind trans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Cause of shifting sand du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28600" y="533520"/>
            <a:ext cx="869940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gradational land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ND SEAS (ERGS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only 25% of the world's deser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face may be covered in RIP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14200" y="380880"/>
            <a:ext cx="4357800" cy="59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D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 ridges of wind deposited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ually 3 to 15 metres high, but can reach 180 met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continuously changing dune is A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934320" y="54864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rbis Digital Sto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6" descr="L9_image12"/>
          <p:cNvPicPr/>
          <p:nvPr/>
        </p:nvPicPr>
        <p:blipFill>
          <a:blip r:embed="rId1"/>
          <a:stretch/>
        </p:blipFill>
        <p:spPr>
          <a:xfrm>
            <a:off x="4343400" y="609480"/>
            <a:ext cx="469908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04920" y="685800"/>
            <a:ext cx="428148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mation of dunes depends 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mount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ed and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of wi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ccurren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31520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rbis Digital Sto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7" descr="L9_image13"/>
          <p:cNvPicPr/>
          <p:nvPr/>
        </p:nvPicPr>
        <p:blipFill>
          <a:blip r:embed="rId1"/>
          <a:stretch/>
        </p:blipFill>
        <p:spPr>
          <a:xfrm>
            <a:off x="4935600" y="304920"/>
            <a:ext cx="401796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304920" y="5943600"/>
            <a:ext cx="8686800" cy="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1143000" y="4275000"/>
            <a:ext cx="6550200" cy="1602000"/>
          </a:xfrm>
          <a:custGeom>
            <a:avLst/>
            <a:gdLst/>
            <a:ahLst/>
            <a:rect l="l" t="t" r="r" b="b"/>
            <a:pathLst>
              <a:path w="4126" h="1009">
                <a:moveTo>
                  <a:pt x="0" y="1003"/>
                </a:moveTo>
                <a:lnTo>
                  <a:pt x="37" y="998"/>
                </a:lnTo>
                <a:lnTo>
                  <a:pt x="66" y="998"/>
                </a:lnTo>
                <a:lnTo>
                  <a:pt x="86" y="998"/>
                </a:lnTo>
                <a:lnTo>
                  <a:pt x="106" y="998"/>
                </a:lnTo>
                <a:lnTo>
                  <a:pt x="145" y="988"/>
                </a:lnTo>
                <a:lnTo>
                  <a:pt x="165" y="988"/>
                </a:lnTo>
                <a:lnTo>
                  <a:pt x="195" y="978"/>
                </a:lnTo>
                <a:lnTo>
                  <a:pt x="224" y="968"/>
                </a:lnTo>
                <a:lnTo>
                  <a:pt x="244" y="968"/>
                </a:lnTo>
                <a:lnTo>
                  <a:pt x="274" y="968"/>
                </a:lnTo>
                <a:lnTo>
                  <a:pt x="303" y="958"/>
                </a:lnTo>
                <a:lnTo>
                  <a:pt x="333" y="948"/>
                </a:lnTo>
                <a:lnTo>
                  <a:pt x="353" y="948"/>
                </a:lnTo>
                <a:lnTo>
                  <a:pt x="392" y="948"/>
                </a:lnTo>
                <a:lnTo>
                  <a:pt x="422" y="939"/>
                </a:lnTo>
                <a:lnTo>
                  <a:pt x="451" y="929"/>
                </a:lnTo>
                <a:lnTo>
                  <a:pt x="471" y="929"/>
                </a:lnTo>
                <a:lnTo>
                  <a:pt x="491" y="919"/>
                </a:lnTo>
                <a:lnTo>
                  <a:pt x="520" y="919"/>
                </a:lnTo>
                <a:lnTo>
                  <a:pt x="560" y="919"/>
                </a:lnTo>
                <a:lnTo>
                  <a:pt x="590" y="909"/>
                </a:lnTo>
                <a:lnTo>
                  <a:pt x="619" y="899"/>
                </a:lnTo>
                <a:lnTo>
                  <a:pt x="649" y="889"/>
                </a:lnTo>
                <a:lnTo>
                  <a:pt x="679" y="879"/>
                </a:lnTo>
                <a:lnTo>
                  <a:pt x="708" y="879"/>
                </a:lnTo>
                <a:lnTo>
                  <a:pt x="728" y="879"/>
                </a:lnTo>
                <a:lnTo>
                  <a:pt x="748" y="869"/>
                </a:lnTo>
                <a:lnTo>
                  <a:pt x="777" y="869"/>
                </a:lnTo>
                <a:lnTo>
                  <a:pt x="807" y="860"/>
                </a:lnTo>
                <a:lnTo>
                  <a:pt x="846" y="850"/>
                </a:lnTo>
                <a:lnTo>
                  <a:pt x="876" y="840"/>
                </a:lnTo>
                <a:lnTo>
                  <a:pt x="896" y="840"/>
                </a:lnTo>
                <a:lnTo>
                  <a:pt x="925" y="830"/>
                </a:lnTo>
                <a:lnTo>
                  <a:pt x="945" y="830"/>
                </a:lnTo>
                <a:lnTo>
                  <a:pt x="975" y="820"/>
                </a:lnTo>
                <a:lnTo>
                  <a:pt x="995" y="810"/>
                </a:lnTo>
                <a:lnTo>
                  <a:pt x="1024" y="800"/>
                </a:lnTo>
                <a:lnTo>
                  <a:pt x="1054" y="800"/>
                </a:lnTo>
                <a:lnTo>
                  <a:pt x="1083" y="790"/>
                </a:lnTo>
                <a:lnTo>
                  <a:pt x="1103" y="790"/>
                </a:lnTo>
                <a:lnTo>
                  <a:pt x="1133" y="781"/>
                </a:lnTo>
                <a:lnTo>
                  <a:pt x="1153" y="781"/>
                </a:lnTo>
                <a:lnTo>
                  <a:pt x="1202" y="761"/>
                </a:lnTo>
                <a:lnTo>
                  <a:pt x="1232" y="751"/>
                </a:lnTo>
                <a:lnTo>
                  <a:pt x="1311" y="731"/>
                </a:lnTo>
                <a:lnTo>
                  <a:pt x="1350" y="721"/>
                </a:lnTo>
                <a:lnTo>
                  <a:pt x="1400" y="711"/>
                </a:lnTo>
                <a:lnTo>
                  <a:pt x="1449" y="702"/>
                </a:lnTo>
                <a:lnTo>
                  <a:pt x="1488" y="692"/>
                </a:lnTo>
                <a:lnTo>
                  <a:pt x="1518" y="682"/>
                </a:lnTo>
                <a:lnTo>
                  <a:pt x="1558" y="672"/>
                </a:lnTo>
                <a:lnTo>
                  <a:pt x="1587" y="662"/>
                </a:lnTo>
                <a:lnTo>
                  <a:pt x="1617" y="652"/>
                </a:lnTo>
                <a:lnTo>
                  <a:pt x="1637" y="642"/>
                </a:lnTo>
                <a:lnTo>
                  <a:pt x="1666" y="632"/>
                </a:lnTo>
                <a:lnTo>
                  <a:pt x="1686" y="632"/>
                </a:lnTo>
                <a:lnTo>
                  <a:pt x="1716" y="613"/>
                </a:lnTo>
                <a:lnTo>
                  <a:pt x="1765" y="593"/>
                </a:lnTo>
                <a:lnTo>
                  <a:pt x="1785" y="583"/>
                </a:lnTo>
                <a:lnTo>
                  <a:pt x="1814" y="573"/>
                </a:lnTo>
                <a:lnTo>
                  <a:pt x="1864" y="563"/>
                </a:lnTo>
                <a:lnTo>
                  <a:pt x="1903" y="553"/>
                </a:lnTo>
                <a:lnTo>
                  <a:pt x="1943" y="544"/>
                </a:lnTo>
                <a:lnTo>
                  <a:pt x="1982" y="534"/>
                </a:lnTo>
                <a:lnTo>
                  <a:pt x="2032" y="514"/>
                </a:lnTo>
                <a:lnTo>
                  <a:pt x="2061" y="504"/>
                </a:lnTo>
                <a:lnTo>
                  <a:pt x="2101" y="494"/>
                </a:lnTo>
                <a:lnTo>
                  <a:pt x="2130" y="484"/>
                </a:lnTo>
                <a:lnTo>
                  <a:pt x="2150" y="484"/>
                </a:lnTo>
                <a:lnTo>
                  <a:pt x="2170" y="474"/>
                </a:lnTo>
                <a:lnTo>
                  <a:pt x="2209" y="455"/>
                </a:lnTo>
                <a:lnTo>
                  <a:pt x="2229" y="445"/>
                </a:lnTo>
                <a:lnTo>
                  <a:pt x="2259" y="435"/>
                </a:lnTo>
                <a:lnTo>
                  <a:pt x="2288" y="425"/>
                </a:lnTo>
                <a:lnTo>
                  <a:pt x="2308" y="405"/>
                </a:lnTo>
                <a:lnTo>
                  <a:pt x="2338" y="395"/>
                </a:lnTo>
                <a:lnTo>
                  <a:pt x="2367" y="376"/>
                </a:lnTo>
                <a:lnTo>
                  <a:pt x="2397" y="366"/>
                </a:lnTo>
                <a:lnTo>
                  <a:pt x="2427" y="356"/>
                </a:lnTo>
                <a:lnTo>
                  <a:pt x="2456" y="346"/>
                </a:lnTo>
                <a:lnTo>
                  <a:pt x="2476" y="336"/>
                </a:lnTo>
                <a:lnTo>
                  <a:pt x="2516" y="316"/>
                </a:lnTo>
                <a:lnTo>
                  <a:pt x="2545" y="307"/>
                </a:lnTo>
                <a:lnTo>
                  <a:pt x="2565" y="297"/>
                </a:lnTo>
                <a:lnTo>
                  <a:pt x="2604" y="277"/>
                </a:lnTo>
                <a:lnTo>
                  <a:pt x="2624" y="257"/>
                </a:lnTo>
                <a:lnTo>
                  <a:pt x="2654" y="257"/>
                </a:lnTo>
                <a:lnTo>
                  <a:pt x="2683" y="247"/>
                </a:lnTo>
                <a:lnTo>
                  <a:pt x="2713" y="237"/>
                </a:lnTo>
                <a:lnTo>
                  <a:pt x="2753" y="208"/>
                </a:lnTo>
                <a:lnTo>
                  <a:pt x="2782" y="198"/>
                </a:lnTo>
                <a:lnTo>
                  <a:pt x="2812" y="198"/>
                </a:lnTo>
                <a:lnTo>
                  <a:pt x="2832" y="178"/>
                </a:lnTo>
                <a:lnTo>
                  <a:pt x="2861" y="168"/>
                </a:lnTo>
                <a:lnTo>
                  <a:pt x="2891" y="158"/>
                </a:lnTo>
                <a:lnTo>
                  <a:pt x="2920" y="139"/>
                </a:lnTo>
                <a:lnTo>
                  <a:pt x="2950" y="129"/>
                </a:lnTo>
                <a:lnTo>
                  <a:pt x="2980" y="109"/>
                </a:lnTo>
                <a:lnTo>
                  <a:pt x="3000" y="99"/>
                </a:lnTo>
                <a:lnTo>
                  <a:pt x="3029" y="89"/>
                </a:lnTo>
                <a:lnTo>
                  <a:pt x="3059" y="79"/>
                </a:lnTo>
                <a:lnTo>
                  <a:pt x="3079" y="69"/>
                </a:lnTo>
                <a:lnTo>
                  <a:pt x="3108" y="60"/>
                </a:lnTo>
                <a:lnTo>
                  <a:pt x="3138" y="50"/>
                </a:lnTo>
                <a:lnTo>
                  <a:pt x="3167" y="40"/>
                </a:lnTo>
                <a:lnTo>
                  <a:pt x="3197" y="30"/>
                </a:lnTo>
                <a:lnTo>
                  <a:pt x="3217" y="30"/>
                </a:lnTo>
                <a:lnTo>
                  <a:pt x="3237" y="30"/>
                </a:lnTo>
                <a:lnTo>
                  <a:pt x="3266" y="20"/>
                </a:lnTo>
                <a:lnTo>
                  <a:pt x="3286" y="20"/>
                </a:lnTo>
                <a:lnTo>
                  <a:pt x="3306" y="20"/>
                </a:lnTo>
                <a:lnTo>
                  <a:pt x="3335" y="10"/>
                </a:lnTo>
                <a:lnTo>
                  <a:pt x="3355" y="10"/>
                </a:lnTo>
                <a:lnTo>
                  <a:pt x="3375" y="10"/>
                </a:lnTo>
                <a:lnTo>
                  <a:pt x="3395" y="10"/>
                </a:lnTo>
                <a:lnTo>
                  <a:pt x="3434" y="10"/>
                </a:lnTo>
                <a:lnTo>
                  <a:pt x="3454" y="0"/>
                </a:lnTo>
                <a:lnTo>
                  <a:pt x="3474" y="0"/>
                </a:lnTo>
                <a:lnTo>
                  <a:pt x="3503" y="0"/>
                </a:lnTo>
                <a:lnTo>
                  <a:pt x="3523" y="0"/>
                </a:lnTo>
                <a:lnTo>
                  <a:pt x="3562" y="0"/>
                </a:lnTo>
                <a:lnTo>
                  <a:pt x="3582" y="0"/>
                </a:lnTo>
                <a:lnTo>
                  <a:pt x="3612" y="10"/>
                </a:lnTo>
                <a:lnTo>
                  <a:pt x="3632" y="10"/>
                </a:lnTo>
                <a:lnTo>
                  <a:pt x="3661" y="10"/>
                </a:lnTo>
                <a:lnTo>
                  <a:pt x="3681" y="10"/>
                </a:lnTo>
                <a:lnTo>
                  <a:pt x="3701" y="20"/>
                </a:lnTo>
                <a:lnTo>
                  <a:pt x="3711" y="40"/>
                </a:lnTo>
                <a:lnTo>
                  <a:pt x="3720" y="60"/>
                </a:lnTo>
                <a:lnTo>
                  <a:pt x="3730" y="89"/>
                </a:lnTo>
                <a:lnTo>
                  <a:pt x="3740" y="109"/>
                </a:lnTo>
                <a:lnTo>
                  <a:pt x="3750" y="139"/>
                </a:lnTo>
                <a:lnTo>
                  <a:pt x="3760" y="168"/>
                </a:lnTo>
                <a:lnTo>
                  <a:pt x="3770" y="188"/>
                </a:lnTo>
                <a:lnTo>
                  <a:pt x="3790" y="208"/>
                </a:lnTo>
                <a:lnTo>
                  <a:pt x="3800" y="237"/>
                </a:lnTo>
                <a:lnTo>
                  <a:pt x="3809" y="257"/>
                </a:lnTo>
                <a:lnTo>
                  <a:pt x="3819" y="287"/>
                </a:lnTo>
                <a:lnTo>
                  <a:pt x="3829" y="316"/>
                </a:lnTo>
                <a:lnTo>
                  <a:pt x="3839" y="346"/>
                </a:lnTo>
                <a:lnTo>
                  <a:pt x="3849" y="386"/>
                </a:lnTo>
                <a:lnTo>
                  <a:pt x="3859" y="415"/>
                </a:lnTo>
                <a:lnTo>
                  <a:pt x="3859" y="435"/>
                </a:lnTo>
                <a:lnTo>
                  <a:pt x="3869" y="474"/>
                </a:lnTo>
                <a:lnTo>
                  <a:pt x="3879" y="494"/>
                </a:lnTo>
                <a:lnTo>
                  <a:pt x="3888" y="524"/>
                </a:lnTo>
                <a:lnTo>
                  <a:pt x="3898" y="544"/>
                </a:lnTo>
                <a:lnTo>
                  <a:pt x="3898" y="573"/>
                </a:lnTo>
                <a:lnTo>
                  <a:pt x="3898" y="593"/>
                </a:lnTo>
                <a:lnTo>
                  <a:pt x="3908" y="623"/>
                </a:lnTo>
                <a:lnTo>
                  <a:pt x="3918" y="652"/>
                </a:lnTo>
                <a:lnTo>
                  <a:pt x="3928" y="672"/>
                </a:lnTo>
                <a:lnTo>
                  <a:pt x="3948" y="711"/>
                </a:lnTo>
                <a:lnTo>
                  <a:pt x="3958" y="731"/>
                </a:lnTo>
                <a:lnTo>
                  <a:pt x="3967" y="751"/>
                </a:lnTo>
                <a:lnTo>
                  <a:pt x="3977" y="771"/>
                </a:lnTo>
                <a:lnTo>
                  <a:pt x="3997" y="800"/>
                </a:lnTo>
                <a:lnTo>
                  <a:pt x="4007" y="820"/>
                </a:lnTo>
                <a:lnTo>
                  <a:pt x="4017" y="840"/>
                </a:lnTo>
                <a:lnTo>
                  <a:pt x="4017" y="860"/>
                </a:lnTo>
                <a:lnTo>
                  <a:pt x="4037" y="879"/>
                </a:lnTo>
                <a:lnTo>
                  <a:pt x="4056" y="899"/>
                </a:lnTo>
                <a:lnTo>
                  <a:pt x="4066" y="919"/>
                </a:lnTo>
                <a:lnTo>
                  <a:pt x="4076" y="939"/>
                </a:lnTo>
                <a:lnTo>
                  <a:pt x="4096" y="958"/>
                </a:lnTo>
                <a:lnTo>
                  <a:pt x="4096" y="978"/>
                </a:lnTo>
                <a:lnTo>
                  <a:pt x="4116" y="988"/>
                </a:lnTo>
                <a:lnTo>
                  <a:pt x="4125" y="1008"/>
                </a:lnTo>
                <a:lnTo>
                  <a:pt x="48" y="1003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197080" y="412920"/>
            <a:ext cx="3284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ind dir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5575320" y="615960"/>
            <a:ext cx="2425680" cy="368280"/>
          </a:xfrm>
          <a:prstGeom prst="rightArrow">
            <a:avLst>
              <a:gd name="adj1" fmla="val 50000"/>
              <a:gd name="adj2" fmla="val 329356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14560" y="1631880"/>
            <a:ext cx="325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SL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462720" y="1708200"/>
            <a:ext cx="2633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IP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 rot="20520000">
            <a:off x="1799640" y="4149720"/>
            <a:ext cx="4357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ment of s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1828800" y="3580920"/>
            <a:ext cx="3429000" cy="12193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6767640" y="3262320"/>
            <a:ext cx="2298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gle of rep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 flipH="1">
            <a:off x="7238880" y="4495680"/>
            <a:ext cx="533520" cy="13716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6829560" y="5334120"/>
            <a:ext cx="563400" cy="699840"/>
          </a:xfrm>
          <a:custGeom>
            <a:avLst/>
            <a:gdLst/>
            <a:ahLst/>
            <a:rect l="l" t="t" r="r" b="b"/>
            <a:pathLst>
              <a:path w="355" h="441">
                <a:moveTo>
                  <a:pt x="354" y="0"/>
                </a:moveTo>
                <a:lnTo>
                  <a:pt x="326" y="15"/>
                </a:lnTo>
                <a:lnTo>
                  <a:pt x="306" y="25"/>
                </a:lnTo>
                <a:lnTo>
                  <a:pt x="277" y="35"/>
                </a:lnTo>
                <a:lnTo>
                  <a:pt x="257" y="44"/>
                </a:lnTo>
                <a:lnTo>
                  <a:pt x="237" y="54"/>
                </a:lnTo>
                <a:lnTo>
                  <a:pt x="218" y="74"/>
                </a:lnTo>
                <a:lnTo>
                  <a:pt x="198" y="84"/>
                </a:lnTo>
                <a:lnTo>
                  <a:pt x="188" y="104"/>
                </a:lnTo>
                <a:lnTo>
                  <a:pt x="168" y="114"/>
                </a:lnTo>
                <a:lnTo>
                  <a:pt x="148" y="143"/>
                </a:lnTo>
                <a:lnTo>
                  <a:pt x="138" y="163"/>
                </a:lnTo>
                <a:lnTo>
                  <a:pt x="119" y="183"/>
                </a:lnTo>
                <a:lnTo>
                  <a:pt x="99" y="193"/>
                </a:lnTo>
                <a:lnTo>
                  <a:pt x="89" y="222"/>
                </a:lnTo>
                <a:lnTo>
                  <a:pt x="79" y="242"/>
                </a:lnTo>
                <a:lnTo>
                  <a:pt x="69" y="262"/>
                </a:lnTo>
                <a:lnTo>
                  <a:pt x="50" y="291"/>
                </a:lnTo>
                <a:lnTo>
                  <a:pt x="40" y="311"/>
                </a:lnTo>
                <a:lnTo>
                  <a:pt x="30" y="331"/>
                </a:lnTo>
                <a:lnTo>
                  <a:pt x="20" y="351"/>
                </a:lnTo>
                <a:lnTo>
                  <a:pt x="10" y="380"/>
                </a:lnTo>
                <a:lnTo>
                  <a:pt x="10" y="400"/>
                </a:lnTo>
                <a:lnTo>
                  <a:pt x="0" y="420"/>
                </a:lnTo>
                <a:lnTo>
                  <a:pt x="0" y="44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5319360" y="2622600"/>
            <a:ext cx="1283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6095880" y="3200400"/>
            <a:ext cx="762120" cy="990720"/>
          </a:xfrm>
          <a:prstGeom prst="line">
            <a:avLst/>
          </a:prstGeom>
          <a:ln w="507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90520" y="214200"/>
            <a:ext cx="854712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AND DU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BARC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ost common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escent-sha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3"/>
          <p:cNvGrpSpPr/>
          <p:nvPr/>
        </p:nvGrpSpPr>
        <p:grpSpPr>
          <a:xfrm>
            <a:off x="4530600" y="2971800"/>
            <a:ext cx="2633760" cy="3297240"/>
            <a:chOff x="4530600" y="2971800"/>
            <a:chExt cx="2633760" cy="3297240"/>
          </a:xfrm>
        </p:grpSpPr>
        <p:sp>
          <p:nvSpPr>
            <p:cNvPr id="250" name="Freeform 4"/>
            <p:cNvSpPr/>
            <p:nvPr/>
          </p:nvSpPr>
          <p:spPr>
            <a:xfrm>
              <a:off x="4530600" y="2971800"/>
              <a:ext cx="2633760" cy="3282840"/>
            </a:xfrm>
            <a:custGeom>
              <a:avLst/>
              <a:gdLst/>
              <a:ahLst/>
              <a:rect l="l" t="t" r="r" b="b"/>
              <a:pathLst>
                <a:path w="1659" h="2068">
                  <a:moveTo>
                    <a:pt x="1504" y="0"/>
                  </a:moveTo>
                  <a:lnTo>
                    <a:pt x="1461" y="0"/>
                  </a:lnTo>
                  <a:lnTo>
                    <a:pt x="1417" y="0"/>
                  </a:lnTo>
                  <a:lnTo>
                    <a:pt x="1386" y="0"/>
                  </a:lnTo>
                  <a:lnTo>
                    <a:pt x="1356" y="0"/>
                  </a:lnTo>
                  <a:lnTo>
                    <a:pt x="1325" y="0"/>
                  </a:lnTo>
                  <a:lnTo>
                    <a:pt x="1281" y="0"/>
                  </a:lnTo>
                  <a:lnTo>
                    <a:pt x="1251" y="14"/>
                  </a:lnTo>
                  <a:lnTo>
                    <a:pt x="1220" y="14"/>
                  </a:lnTo>
                  <a:lnTo>
                    <a:pt x="1176" y="14"/>
                  </a:lnTo>
                  <a:lnTo>
                    <a:pt x="1145" y="28"/>
                  </a:lnTo>
                  <a:lnTo>
                    <a:pt x="1115" y="28"/>
                  </a:lnTo>
                  <a:lnTo>
                    <a:pt x="1084" y="42"/>
                  </a:lnTo>
                  <a:lnTo>
                    <a:pt x="1040" y="42"/>
                  </a:lnTo>
                  <a:lnTo>
                    <a:pt x="1010" y="55"/>
                  </a:lnTo>
                  <a:lnTo>
                    <a:pt x="979" y="55"/>
                  </a:lnTo>
                  <a:lnTo>
                    <a:pt x="935" y="68"/>
                  </a:lnTo>
                  <a:lnTo>
                    <a:pt x="905" y="82"/>
                  </a:lnTo>
                  <a:lnTo>
                    <a:pt x="874" y="96"/>
                  </a:lnTo>
                  <a:lnTo>
                    <a:pt x="843" y="110"/>
                  </a:lnTo>
                  <a:lnTo>
                    <a:pt x="799" y="123"/>
                  </a:lnTo>
                  <a:lnTo>
                    <a:pt x="753" y="123"/>
                  </a:lnTo>
                  <a:lnTo>
                    <a:pt x="723" y="137"/>
                  </a:lnTo>
                  <a:lnTo>
                    <a:pt x="679" y="151"/>
                  </a:lnTo>
                  <a:lnTo>
                    <a:pt x="648" y="165"/>
                  </a:lnTo>
                  <a:lnTo>
                    <a:pt x="618" y="177"/>
                  </a:lnTo>
                  <a:lnTo>
                    <a:pt x="574" y="191"/>
                  </a:lnTo>
                  <a:lnTo>
                    <a:pt x="543" y="219"/>
                  </a:lnTo>
                  <a:lnTo>
                    <a:pt x="513" y="233"/>
                  </a:lnTo>
                  <a:lnTo>
                    <a:pt x="482" y="247"/>
                  </a:lnTo>
                  <a:lnTo>
                    <a:pt x="467" y="274"/>
                  </a:lnTo>
                  <a:lnTo>
                    <a:pt x="423" y="287"/>
                  </a:lnTo>
                  <a:lnTo>
                    <a:pt x="423" y="315"/>
                  </a:lnTo>
                  <a:lnTo>
                    <a:pt x="377" y="329"/>
                  </a:lnTo>
                  <a:lnTo>
                    <a:pt x="361" y="356"/>
                  </a:lnTo>
                  <a:lnTo>
                    <a:pt x="317" y="384"/>
                  </a:lnTo>
                  <a:lnTo>
                    <a:pt x="287" y="396"/>
                  </a:lnTo>
                  <a:lnTo>
                    <a:pt x="272" y="424"/>
                  </a:lnTo>
                  <a:lnTo>
                    <a:pt x="241" y="452"/>
                  </a:lnTo>
                  <a:lnTo>
                    <a:pt x="226" y="480"/>
                  </a:lnTo>
                  <a:lnTo>
                    <a:pt x="197" y="520"/>
                  </a:lnTo>
                  <a:lnTo>
                    <a:pt x="182" y="548"/>
                  </a:lnTo>
                  <a:lnTo>
                    <a:pt x="151" y="561"/>
                  </a:lnTo>
                  <a:lnTo>
                    <a:pt x="151" y="589"/>
                  </a:lnTo>
                  <a:lnTo>
                    <a:pt x="120" y="629"/>
                  </a:lnTo>
                  <a:lnTo>
                    <a:pt x="105" y="657"/>
                  </a:lnTo>
                  <a:lnTo>
                    <a:pt x="105" y="685"/>
                  </a:lnTo>
                  <a:lnTo>
                    <a:pt x="92" y="713"/>
                  </a:lnTo>
                  <a:lnTo>
                    <a:pt x="76" y="767"/>
                  </a:lnTo>
                  <a:lnTo>
                    <a:pt x="61" y="794"/>
                  </a:lnTo>
                  <a:lnTo>
                    <a:pt x="61" y="822"/>
                  </a:lnTo>
                  <a:lnTo>
                    <a:pt x="46" y="862"/>
                  </a:lnTo>
                  <a:lnTo>
                    <a:pt x="46" y="890"/>
                  </a:lnTo>
                  <a:lnTo>
                    <a:pt x="31" y="918"/>
                  </a:lnTo>
                  <a:lnTo>
                    <a:pt x="15" y="958"/>
                  </a:lnTo>
                  <a:lnTo>
                    <a:pt x="15" y="986"/>
                  </a:lnTo>
                  <a:lnTo>
                    <a:pt x="15" y="1013"/>
                  </a:lnTo>
                  <a:lnTo>
                    <a:pt x="15" y="1041"/>
                  </a:lnTo>
                  <a:lnTo>
                    <a:pt x="15" y="1081"/>
                  </a:lnTo>
                  <a:lnTo>
                    <a:pt x="15" y="1109"/>
                  </a:lnTo>
                  <a:lnTo>
                    <a:pt x="0" y="1137"/>
                  </a:lnTo>
                  <a:lnTo>
                    <a:pt x="0" y="1177"/>
                  </a:lnTo>
                  <a:lnTo>
                    <a:pt x="0" y="1205"/>
                  </a:lnTo>
                  <a:lnTo>
                    <a:pt x="0" y="1232"/>
                  </a:lnTo>
                  <a:lnTo>
                    <a:pt x="0" y="1260"/>
                  </a:lnTo>
                  <a:lnTo>
                    <a:pt x="31" y="1314"/>
                  </a:lnTo>
                  <a:lnTo>
                    <a:pt x="46" y="1342"/>
                  </a:lnTo>
                  <a:lnTo>
                    <a:pt x="76" y="1384"/>
                  </a:lnTo>
                  <a:lnTo>
                    <a:pt x="92" y="1438"/>
                  </a:lnTo>
                  <a:lnTo>
                    <a:pt x="105" y="1465"/>
                  </a:lnTo>
                  <a:lnTo>
                    <a:pt x="120" y="1493"/>
                  </a:lnTo>
                  <a:lnTo>
                    <a:pt x="136" y="1533"/>
                  </a:lnTo>
                  <a:lnTo>
                    <a:pt x="151" y="1561"/>
                  </a:lnTo>
                  <a:lnTo>
                    <a:pt x="166" y="1589"/>
                  </a:lnTo>
                  <a:lnTo>
                    <a:pt x="197" y="1629"/>
                  </a:lnTo>
                  <a:lnTo>
                    <a:pt x="212" y="1657"/>
                  </a:lnTo>
                  <a:lnTo>
                    <a:pt x="226" y="1684"/>
                  </a:lnTo>
                  <a:lnTo>
                    <a:pt x="256" y="1698"/>
                  </a:lnTo>
                  <a:lnTo>
                    <a:pt x="287" y="1725"/>
                  </a:lnTo>
                  <a:lnTo>
                    <a:pt x="317" y="1752"/>
                  </a:lnTo>
                  <a:lnTo>
                    <a:pt x="346" y="1780"/>
                  </a:lnTo>
                  <a:lnTo>
                    <a:pt x="377" y="1808"/>
                  </a:lnTo>
                  <a:lnTo>
                    <a:pt x="407" y="1822"/>
                  </a:lnTo>
                  <a:lnTo>
                    <a:pt x="438" y="1848"/>
                  </a:lnTo>
                  <a:lnTo>
                    <a:pt x="497" y="1876"/>
                  </a:lnTo>
                  <a:lnTo>
                    <a:pt x="528" y="1890"/>
                  </a:lnTo>
                  <a:lnTo>
                    <a:pt x="558" y="1903"/>
                  </a:lnTo>
                  <a:lnTo>
                    <a:pt x="589" y="1917"/>
                  </a:lnTo>
                  <a:lnTo>
                    <a:pt x="633" y="1931"/>
                  </a:lnTo>
                  <a:lnTo>
                    <a:pt x="664" y="1944"/>
                  </a:lnTo>
                  <a:lnTo>
                    <a:pt x="694" y="1944"/>
                  </a:lnTo>
                  <a:lnTo>
                    <a:pt x="723" y="1971"/>
                  </a:lnTo>
                  <a:lnTo>
                    <a:pt x="753" y="1971"/>
                  </a:lnTo>
                  <a:lnTo>
                    <a:pt x="784" y="1985"/>
                  </a:lnTo>
                  <a:lnTo>
                    <a:pt x="815" y="1999"/>
                  </a:lnTo>
                  <a:lnTo>
                    <a:pt x="859" y="1999"/>
                  </a:lnTo>
                  <a:lnTo>
                    <a:pt x="889" y="2013"/>
                  </a:lnTo>
                  <a:lnTo>
                    <a:pt x="920" y="2027"/>
                  </a:lnTo>
                  <a:lnTo>
                    <a:pt x="950" y="2027"/>
                  </a:lnTo>
                  <a:lnTo>
                    <a:pt x="1010" y="2053"/>
                  </a:lnTo>
                  <a:lnTo>
                    <a:pt x="1040" y="2053"/>
                  </a:lnTo>
                  <a:lnTo>
                    <a:pt x="1071" y="2067"/>
                  </a:lnTo>
                  <a:lnTo>
                    <a:pt x="1115" y="2067"/>
                  </a:lnTo>
                  <a:lnTo>
                    <a:pt x="1145" y="2067"/>
                  </a:lnTo>
                  <a:lnTo>
                    <a:pt x="1176" y="2067"/>
                  </a:lnTo>
                  <a:lnTo>
                    <a:pt x="1220" y="2067"/>
                  </a:lnTo>
                  <a:lnTo>
                    <a:pt x="1266" y="2067"/>
                  </a:lnTo>
                  <a:lnTo>
                    <a:pt x="1297" y="2067"/>
                  </a:lnTo>
                  <a:lnTo>
                    <a:pt x="1341" y="2067"/>
                  </a:lnTo>
                  <a:lnTo>
                    <a:pt x="1371" y="2067"/>
                  </a:lnTo>
                  <a:lnTo>
                    <a:pt x="1402" y="2067"/>
                  </a:lnTo>
                  <a:lnTo>
                    <a:pt x="1446" y="2067"/>
                  </a:lnTo>
                  <a:lnTo>
                    <a:pt x="1476" y="2067"/>
                  </a:lnTo>
                  <a:lnTo>
                    <a:pt x="1507" y="2067"/>
                  </a:lnTo>
                  <a:lnTo>
                    <a:pt x="1538" y="2067"/>
                  </a:lnTo>
                  <a:lnTo>
                    <a:pt x="1582" y="2067"/>
                  </a:lnTo>
                  <a:lnTo>
                    <a:pt x="1627" y="2067"/>
                  </a:lnTo>
                  <a:lnTo>
                    <a:pt x="1658" y="2067"/>
                  </a:lnTo>
                  <a:lnTo>
                    <a:pt x="1627" y="2053"/>
                  </a:lnTo>
                  <a:lnTo>
                    <a:pt x="1597" y="2053"/>
                  </a:lnTo>
                  <a:lnTo>
                    <a:pt x="1566" y="2041"/>
                  </a:lnTo>
                  <a:lnTo>
                    <a:pt x="1522" y="2013"/>
                  </a:lnTo>
                  <a:lnTo>
                    <a:pt x="1492" y="2013"/>
                  </a:lnTo>
                  <a:lnTo>
                    <a:pt x="1461" y="1999"/>
                  </a:lnTo>
                  <a:lnTo>
                    <a:pt x="1432" y="1971"/>
                  </a:lnTo>
                  <a:lnTo>
                    <a:pt x="1402" y="1957"/>
                  </a:lnTo>
                  <a:lnTo>
                    <a:pt x="1371" y="1957"/>
                  </a:lnTo>
                  <a:lnTo>
                    <a:pt x="1341" y="1944"/>
                  </a:lnTo>
                  <a:lnTo>
                    <a:pt x="1297" y="1917"/>
                  </a:lnTo>
                  <a:lnTo>
                    <a:pt x="1266" y="1903"/>
                  </a:lnTo>
                  <a:lnTo>
                    <a:pt x="1235" y="1890"/>
                  </a:lnTo>
                  <a:lnTo>
                    <a:pt x="1205" y="1876"/>
                  </a:lnTo>
                  <a:lnTo>
                    <a:pt x="1176" y="1848"/>
                  </a:lnTo>
                  <a:lnTo>
                    <a:pt x="1145" y="1834"/>
                  </a:lnTo>
                  <a:lnTo>
                    <a:pt x="1115" y="1822"/>
                  </a:lnTo>
                  <a:lnTo>
                    <a:pt x="1084" y="1808"/>
                  </a:lnTo>
                  <a:lnTo>
                    <a:pt x="1040" y="1780"/>
                  </a:lnTo>
                  <a:lnTo>
                    <a:pt x="1025" y="1752"/>
                  </a:lnTo>
                  <a:lnTo>
                    <a:pt x="994" y="1738"/>
                  </a:lnTo>
                  <a:lnTo>
                    <a:pt x="964" y="1725"/>
                  </a:lnTo>
                  <a:lnTo>
                    <a:pt x="935" y="1684"/>
                  </a:lnTo>
                  <a:lnTo>
                    <a:pt x="905" y="1657"/>
                  </a:lnTo>
                  <a:lnTo>
                    <a:pt x="889" y="1629"/>
                  </a:lnTo>
                  <a:lnTo>
                    <a:pt x="859" y="1603"/>
                  </a:lnTo>
                  <a:lnTo>
                    <a:pt x="843" y="1575"/>
                  </a:lnTo>
                  <a:lnTo>
                    <a:pt x="830" y="1547"/>
                  </a:lnTo>
                  <a:lnTo>
                    <a:pt x="815" y="1519"/>
                  </a:lnTo>
                  <a:lnTo>
                    <a:pt x="784" y="1479"/>
                  </a:lnTo>
                  <a:lnTo>
                    <a:pt x="769" y="1451"/>
                  </a:lnTo>
                  <a:lnTo>
                    <a:pt x="769" y="1424"/>
                  </a:lnTo>
                  <a:lnTo>
                    <a:pt x="753" y="1396"/>
                  </a:lnTo>
                  <a:lnTo>
                    <a:pt x="738" y="1356"/>
                  </a:lnTo>
                  <a:lnTo>
                    <a:pt x="723" y="1328"/>
                  </a:lnTo>
                  <a:lnTo>
                    <a:pt x="723" y="1300"/>
                  </a:lnTo>
                  <a:lnTo>
                    <a:pt x="709" y="1260"/>
                  </a:lnTo>
                  <a:lnTo>
                    <a:pt x="709" y="1232"/>
                  </a:lnTo>
                  <a:lnTo>
                    <a:pt x="709" y="1205"/>
                  </a:lnTo>
                  <a:lnTo>
                    <a:pt x="709" y="1177"/>
                  </a:lnTo>
                  <a:lnTo>
                    <a:pt x="694" y="1137"/>
                  </a:lnTo>
                  <a:lnTo>
                    <a:pt x="694" y="1109"/>
                  </a:lnTo>
                  <a:lnTo>
                    <a:pt x="694" y="1081"/>
                  </a:lnTo>
                  <a:lnTo>
                    <a:pt x="679" y="1054"/>
                  </a:lnTo>
                  <a:lnTo>
                    <a:pt x="679" y="1013"/>
                  </a:lnTo>
                  <a:lnTo>
                    <a:pt x="679" y="986"/>
                  </a:lnTo>
                  <a:lnTo>
                    <a:pt x="679" y="958"/>
                  </a:lnTo>
                  <a:lnTo>
                    <a:pt x="679" y="918"/>
                  </a:lnTo>
                  <a:lnTo>
                    <a:pt x="679" y="890"/>
                  </a:lnTo>
                  <a:lnTo>
                    <a:pt x="679" y="862"/>
                  </a:lnTo>
                  <a:lnTo>
                    <a:pt x="679" y="835"/>
                  </a:lnTo>
                  <a:lnTo>
                    <a:pt x="679" y="794"/>
                  </a:lnTo>
                  <a:lnTo>
                    <a:pt x="694" y="767"/>
                  </a:lnTo>
                  <a:lnTo>
                    <a:pt x="709" y="739"/>
                  </a:lnTo>
                  <a:lnTo>
                    <a:pt x="709" y="699"/>
                  </a:lnTo>
                  <a:lnTo>
                    <a:pt x="723" y="671"/>
                  </a:lnTo>
                  <a:lnTo>
                    <a:pt x="723" y="643"/>
                  </a:lnTo>
                  <a:lnTo>
                    <a:pt x="738" y="616"/>
                  </a:lnTo>
                  <a:lnTo>
                    <a:pt x="769" y="589"/>
                  </a:lnTo>
                  <a:lnTo>
                    <a:pt x="784" y="561"/>
                  </a:lnTo>
                  <a:lnTo>
                    <a:pt x="815" y="534"/>
                  </a:lnTo>
                  <a:lnTo>
                    <a:pt x="830" y="506"/>
                  </a:lnTo>
                  <a:lnTo>
                    <a:pt x="874" y="480"/>
                  </a:lnTo>
                  <a:lnTo>
                    <a:pt x="889" y="452"/>
                  </a:lnTo>
                  <a:lnTo>
                    <a:pt x="920" y="438"/>
                  </a:lnTo>
                  <a:lnTo>
                    <a:pt x="935" y="410"/>
                  </a:lnTo>
                  <a:lnTo>
                    <a:pt x="979" y="384"/>
                  </a:lnTo>
                  <a:lnTo>
                    <a:pt x="994" y="356"/>
                  </a:lnTo>
                  <a:lnTo>
                    <a:pt x="1010" y="329"/>
                  </a:lnTo>
                  <a:lnTo>
                    <a:pt x="1040" y="301"/>
                  </a:lnTo>
                  <a:lnTo>
                    <a:pt x="1071" y="274"/>
                  </a:lnTo>
                  <a:lnTo>
                    <a:pt x="1100" y="247"/>
                  </a:lnTo>
                  <a:lnTo>
                    <a:pt x="1130" y="233"/>
                  </a:lnTo>
                  <a:lnTo>
                    <a:pt x="1161" y="205"/>
                  </a:lnTo>
                  <a:lnTo>
                    <a:pt x="1191" y="191"/>
                  </a:lnTo>
                  <a:lnTo>
                    <a:pt x="1235" y="177"/>
                  </a:lnTo>
                  <a:lnTo>
                    <a:pt x="1266" y="165"/>
                  </a:lnTo>
                  <a:lnTo>
                    <a:pt x="1297" y="151"/>
                  </a:lnTo>
                  <a:lnTo>
                    <a:pt x="1341" y="137"/>
                  </a:lnTo>
                  <a:lnTo>
                    <a:pt x="1371" y="123"/>
                  </a:lnTo>
                  <a:lnTo>
                    <a:pt x="1402" y="110"/>
                  </a:lnTo>
                  <a:lnTo>
                    <a:pt x="1432" y="110"/>
                  </a:lnTo>
                  <a:lnTo>
                    <a:pt x="1476" y="96"/>
                  </a:lnTo>
                  <a:lnTo>
                    <a:pt x="1507" y="82"/>
                  </a:lnTo>
                  <a:lnTo>
                    <a:pt x="1538" y="82"/>
                  </a:lnTo>
                  <a:lnTo>
                    <a:pt x="1582" y="55"/>
                  </a:lnTo>
                  <a:lnTo>
                    <a:pt x="1538" y="42"/>
                  </a:lnTo>
                  <a:lnTo>
                    <a:pt x="1507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5450040" y="2971800"/>
              <a:ext cx="1711080" cy="3297240"/>
            </a:xfrm>
            <a:custGeom>
              <a:avLst/>
              <a:gdLst/>
              <a:ahLst/>
              <a:rect l="l" t="t" r="r" b="b"/>
              <a:pathLst>
                <a:path w="1078" h="2077">
                  <a:moveTo>
                    <a:pt x="935" y="0"/>
                  </a:moveTo>
                  <a:lnTo>
                    <a:pt x="909" y="21"/>
                  </a:lnTo>
                  <a:lnTo>
                    <a:pt x="889" y="31"/>
                  </a:lnTo>
                  <a:lnTo>
                    <a:pt x="869" y="41"/>
                  </a:lnTo>
                  <a:lnTo>
                    <a:pt x="849" y="41"/>
                  </a:lnTo>
                  <a:lnTo>
                    <a:pt x="820" y="51"/>
                  </a:lnTo>
                  <a:lnTo>
                    <a:pt x="800" y="61"/>
                  </a:lnTo>
                  <a:lnTo>
                    <a:pt x="780" y="71"/>
                  </a:lnTo>
                  <a:lnTo>
                    <a:pt x="751" y="81"/>
                  </a:lnTo>
                  <a:lnTo>
                    <a:pt x="731" y="90"/>
                  </a:lnTo>
                  <a:lnTo>
                    <a:pt x="711" y="90"/>
                  </a:lnTo>
                  <a:lnTo>
                    <a:pt x="691" y="100"/>
                  </a:lnTo>
                  <a:lnTo>
                    <a:pt x="662" y="100"/>
                  </a:lnTo>
                  <a:lnTo>
                    <a:pt x="642" y="110"/>
                  </a:lnTo>
                  <a:lnTo>
                    <a:pt x="622" y="120"/>
                  </a:lnTo>
                  <a:lnTo>
                    <a:pt x="593" y="130"/>
                  </a:lnTo>
                  <a:lnTo>
                    <a:pt x="573" y="140"/>
                  </a:lnTo>
                  <a:lnTo>
                    <a:pt x="553" y="150"/>
                  </a:lnTo>
                  <a:lnTo>
                    <a:pt x="524" y="169"/>
                  </a:lnTo>
                  <a:lnTo>
                    <a:pt x="504" y="179"/>
                  </a:lnTo>
                  <a:lnTo>
                    <a:pt x="484" y="189"/>
                  </a:lnTo>
                  <a:lnTo>
                    <a:pt x="464" y="209"/>
                  </a:lnTo>
                  <a:lnTo>
                    <a:pt x="445" y="229"/>
                  </a:lnTo>
                  <a:lnTo>
                    <a:pt x="425" y="229"/>
                  </a:lnTo>
                  <a:lnTo>
                    <a:pt x="405" y="248"/>
                  </a:lnTo>
                  <a:lnTo>
                    <a:pt x="385" y="258"/>
                  </a:lnTo>
                  <a:lnTo>
                    <a:pt x="375" y="278"/>
                  </a:lnTo>
                  <a:lnTo>
                    <a:pt x="346" y="298"/>
                  </a:lnTo>
                  <a:lnTo>
                    <a:pt x="326" y="318"/>
                  </a:lnTo>
                  <a:lnTo>
                    <a:pt x="287" y="357"/>
                  </a:lnTo>
                  <a:lnTo>
                    <a:pt x="267" y="367"/>
                  </a:lnTo>
                  <a:lnTo>
                    <a:pt x="257" y="387"/>
                  </a:lnTo>
                  <a:lnTo>
                    <a:pt x="237" y="407"/>
                  </a:lnTo>
                  <a:lnTo>
                    <a:pt x="217" y="426"/>
                  </a:lnTo>
                  <a:lnTo>
                    <a:pt x="207" y="446"/>
                  </a:lnTo>
                  <a:lnTo>
                    <a:pt x="198" y="466"/>
                  </a:lnTo>
                  <a:lnTo>
                    <a:pt x="178" y="476"/>
                  </a:lnTo>
                  <a:lnTo>
                    <a:pt x="168" y="505"/>
                  </a:lnTo>
                  <a:lnTo>
                    <a:pt x="148" y="515"/>
                  </a:lnTo>
                  <a:lnTo>
                    <a:pt x="138" y="535"/>
                  </a:lnTo>
                  <a:lnTo>
                    <a:pt x="128" y="555"/>
                  </a:lnTo>
                  <a:lnTo>
                    <a:pt x="109" y="584"/>
                  </a:lnTo>
                  <a:lnTo>
                    <a:pt x="89" y="594"/>
                  </a:lnTo>
                  <a:lnTo>
                    <a:pt x="79" y="614"/>
                  </a:lnTo>
                  <a:lnTo>
                    <a:pt x="69" y="634"/>
                  </a:lnTo>
                  <a:lnTo>
                    <a:pt x="49" y="653"/>
                  </a:lnTo>
                  <a:lnTo>
                    <a:pt x="49" y="673"/>
                  </a:lnTo>
                  <a:lnTo>
                    <a:pt x="40" y="693"/>
                  </a:lnTo>
                  <a:lnTo>
                    <a:pt x="30" y="723"/>
                  </a:lnTo>
                  <a:lnTo>
                    <a:pt x="30" y="752"/>
                  </a:lnTo>
                  <a:lnTo>
                    <a:pt x="20" y="772"/>
                  </a:lnTo>
                  <a:lnTo>
                    <a:pt x="20" y="792"/>
                  </a:lnTo>
                  <a:lnTo>
                    <a:pt x="10" y="821"/>
                  </a:lnTo>
                  <a:lnTo>
                    <a:pt x="10" y="841"/>
                  </a:lnTo>
                  <a:lnTo>
                    <a:pt x="10" y="861"/>
                  </a:lnTo>
                  <a:lnTo>
                    <a:pt x="10" y="881"/>
                  </a:lnTo>
                  <a:lnTo>
                    <a:pt x="0" y="910"/>
                  </a:lnTo>
                  <a:lnTo>
                    <a:pt x="0" y="930"/>
                  </a:lnTo>
                  <a:lnTo>
                    <a:pt x="0" y="950"/>
                  </a:lnTo>
                  <a:lnTo>
                    <a:pt x="0" y="979"/>
                  </a:lnTo>
                  <a:lnTo>
                    <a:pt x="0" y="999"/>
                  </a:lnTo>
                  <a:lnTo>
                    <a:pt x="0" y="1029"/>
                  </a:lnTo>
                  <a:lnTo>
                    <a:pt x="0" y="1058"/>
                  </a:lnTo>
                  <a:lnTo>
                    <a:pt x="0" y="1078"/>
                  </a:lnTo>
                  <a:lnTo>
                    <a:pt x="0" y="1108"/>
                  </a:lnTo>
                  <a:lnTo>
                    <a:pt x="0" y="1128"/>
                  </a:lnTo>
                  <a:lnTo>
                    <a:pt x="10" y="1157"/>
                  </a:lnTo>
                  <a:lnTo>
                    <a:pt x="10" y="1177"/>
                  </a:lnTo>
                  <a:lnTo>
                    <a:pt x="10" y="1197"/>
                  </a:lnTo>
                  <a:lnTo>
                    <a:pt x="10" y="1226"/>
                  </a:lnTo>
                  <a:lnTo>
                    <a:pt x="20" y="1246"/>
                  </a:lnTo>
                  <a:lnTo>
                    <a:pt x="20" y="1266"/>
                  </a:lnTo>
                  <a:lnTo>
                    <a:pt x="30" y="1286"/>
                  </a:lnTo>
                  <a:lnTo>
                    <a:pt x="40" y="1315"/>
                  </a:lnTo>
                  <a:lnTo>
                    <a:pt x="49" y="1335"/>
                  </a:lnTo>
                  <a:lnTo>
                    <a:pt x="49" y="1355"/>
                  </a:lnTo>
                  <a:lnTo>
                    <a:pt x="59" y="1384"/>
                  </a:lnTo>
                  <a:lnTo>
                    <a:pt x="69" y="1404"/>
                  </a:lnTo>
                  <a:lnTo>
                    <a:pt x="69" y="1424"/>
                  </a:lnTo>
                  <a:lnTo>
                    <a:pt x="79" y="1444"/>
                  </a:lnTo>
                  <a:lnTo>
                    <a:pt x="89" y="1473"/>
                  </a:lnTo>
                  <a:lnTo>
                    <a:pt x="99" y="1493"/>
                  </a:lnTo>
                  <a:lnTo>
                    <a:pt x="99" y="1513"/>
                  </a:lnTo>
                  <a:lnTo>
                    <a:pt x="119" y="1532"/>
                  </a:lnTo>
                  <a:lnTo>
                    <a:pt x="128" y="1552"/>
                  </a:lnTo>
                  <a:lnTo>
                    <a:pt x="138" y="1572"/>
                  </a:lnTo>
                  <a:lnTo>
                    <a:pt x="148" y="1592"/>
                  </a:lnTo>
                  <a:lnTo>
                    <a:pt x="168" y="1611"/>
                  </a:lnTo>
                  <a:lnTo>
                    <a:pt x="168" y="1631"/>
                  </a:lnTo>
                  <a:lnTo>
                    <a:pt x="188" y="1641"/>
                  </a:lnTo>
                  <a:lnTo>
                    <a:pt x="198" y="1661"/>
                  </a:lnTo>
                  <a:lnTo>
                    <a:pt x="217" y="1681"/>
                  </a:lnTo>
                  <a:lnTo>
                    <a:pt x="237" y="1690"/>
                  </a:lnTo>
                  <a:lnTo>
                    <a:pt x="247" y="1710"/>
                  </a:lnTo>
                  <a:lnTo>
                    <a:pt x="267" y="1720"/>
                  </a:lnTo>
                  <a:lnTo>
                    <a:pt x="287" y="1740"/>
                  </a:lnTo>
                  <a:lnTo>
                    <a:pt x="306" y="1760"/>
                  </a:lnTo>
                  <a:lnTo>
                    <a:pt x="326" y="1769"/>
                  </a:lnTo>
                  <a:lnTo>
                    <a:pt x="336" y="1789"/>
                  </a:lnTo>
                  <a:lnTo>
                    <a:pt x="356" y="1799"/>
                  </a:lnTo>
                  <a:lnTo>
                    <a:pt x="375" y="1819"/>
                  </a:lnTo>
                  <a:lnTo>
                    <a:pt x="395" y="1839"/>
                  </a:lnTo>
                  <a:lnTo>
                    <a:pt x="415" y="1848"/>
                  </a:lnTo>
                  <a:lnTo>
                    <a:pt x="435" y="1858"/>
                  </a:lnTo>
                  <a:lnTo>
                    <a:pt x="464" y="1878"/>
                  </a:lnTo>
                  <a:lnTo>
                    <a:pt x="484" y="1888"/>
                  </a:lnTo>
                  <a:lnTo>
                    <a:pt x="504" y="1898"/>
                  </a:lnTo>
                  <a:lnTo>
                    <a:pt x="533" y="1918"/>
                  </a:lnTo>
                  <a:lnTo>
                    <a:pt x="553" y="1928"/>
                  </a:lnTo>
                  <a:lnTo>
                    <a:pt x="573" y="1937"/>
                  </a:lnTo>
                  <a:lnTo>
                    <a:pt x="603" y="1947"/>
                  </a:lnTo>
                  <a:lnTo>
                    <a:pt x="632" y="1957"/>
                  </a:lnTo>
                  <a:lnTo>
                    <a:pt x="652" y="1967"/>
                  </a:lnTo>
                  <a:lnTo>
                    <a:pt x="672" y="1977"/>
                  </a:lnTo>
                  <a:lnTo>
                    <a:pt x="701" y="1977"/>
                  </a:lnTo>
                  <a:lnTo>
                    <a:pt x="721" y="1987"/>
                  </a:lnTo>
                  <a:lnTo>
                    <a:pt x="741" y="1987"/>
                  </a:lnTo>
                  <a:lnTo>
                    <a:pt x="761" y="1997"/>
                  </a:lnTo>
                  <a:lnTo>
                    <a:pt x="790" y="2007"/>
                  </a:lnTo>
                  <a:lnTo>
                    <a:pt x="820" y="2016"/>
                  </a:lnTo>
                  <a:lnTo>
                    <a:pt x="840" y="2026"/>
                  </a:lnTo>
                  <a:lnTo>
                    <a:pt x="869" y="2036"/>
                  </a:lnTo>
                  <a:lnTo>
                    <a:pt x="889" y="2036"/>
                  </a:lnTo>
                  <a:lnTo>
                    <a:pt x="909" y="2046"/>
                  </a:lnTo>
                  <a:lnTo>
                    <a:pt x="938" y="2056"/>
                  </a:lnTo>
                  <a:lnTo>
                    <a:pt x="958" y="2056"/>
                  </a:lnTo>
                  <a:lnTo>
                    <a:pt x="978" y="2056"/>
                  </a:lnTo>
                  <a:lnTo>
                    <a:pt x="998" y="2056"/>
                  </a:lnTo>
                  <a:lnTo>
                    <a:pt x="1027" y="2066"/>
                  </a:lnTo>
                  <a:lnTo>
                    <a:pt x="1047" y="2076"/>
                  </a:lnTo>
                  <a:lnTo>
                    <a:pt x="1047" y="2056"/>
                  </a:lnTo>
                  <a:lnTo>
                    <a:pt x="1027" y="2046"/>
                  </a:lnTo>
                  <a:lnTo>
                    <a:pt x="1007" y="2036"/>
                  </a:lnTo>
                  <a:lnTo>
                    <a:pt x="998" y="2016"/>
                  </a:lnTo>
                  <a:lnTo>
                    <a:pt x="978" y="2007"/>
                  </a:lnTo>
                  <a:lnTo>
                    <a:pt x="958" y="1997"/>
                  </a:lnTo>
                  <a:lnTo>
                    <a:pt x="948" y="1977"/>
                  </a:lnTo>
                  <a:lnTo>
                    <a:pt x="928" y="1967"/>
                  </a:lnTo>
                  <a:lnTo>
                    <a:pt x="909" y="1947"/>
                  </a:lnTo>
                  <a:lnTo>
                    <a:pt x="889" y="1937"/>
                  </a:lnTo>
                  <a:lnTo>
                    <a:pt x="869" y="1928"/>
                  </a:lnTo>
                  <a:lnTo>
                    <a:pt x="869" y="1908"/>
                  </a:lnTo>
                  <a:lnTo>
                    <a:pt x="849" y="1908"/>
                  </a:lnTo>
                  <a:lnTo>
                    <a:pt x="840" y="1888"/>
                  </a:lnTo>
                  <a:lnTo>
                    <a:pt x="820" y="1878"/>
                  </a:lnTo>
                  <a:lnTo>
                    <a:pt x="810" y="1858"/>
                  </a:lnTo>
                  <a:lnTo>
                    <a:pt x="790" y="1848"/>
                  </a:lnTo>
                  <a:lnTo>
                    <a:pt x="770" y="1819"/>
                  </a:lnTo>
                  <a:lnTo>
                    <a:pt x="751" y="1799"/>
                  </a:lnTo>
                  <a:lnTo>
                    <a:pt x="731" y="1779"/>
                  </a:lnTo>
                  <a:lnTo>
                    <a:pt x="711" y="1760"/>
                  </a:lnTo>
                  <a:lnTo>
                    <a:pt x="691" y="1750"/>
                  </a:lnTo>
                  <a:lnTo>
                    <a:pt x="682" y="1730"/>
                  </a:lnTo>
                  <a:lnTo>
                    <a:pt x="662" y="1720"/>
                  </a:lnTo>
                  <a:lnTo>
                    <a:pt x="652" y="1700"/>
                  </a:lnTo>
                  <a:lnTo>
                    <a:pt x="632" y="1690"/>
                  </a:lnTo>
                  <a:lnTo>
                    <a:pt x="622" y="1661"/>
                  </a:lnTo>
                  <a:lnTo>
                    <a:pt x="593" y="1641"/>
                  </a:lnTo>
                  <a:lnTo>
                    <a:pt x="583" y="1621"/>
                  </a:lnTo>
                  <a:lnTo>
                    <a:pt x="563" y="1611"/>
                  </a:lnTo>
                  <a:lnTo>
                    <a:pt x="553" y="1582"/>
                  </a:lnTo>
                  <a:lnTo>
                    <a:pt x="533" y="1562"/>
                  </a:lnTo>
                  <a:lnTo>
                    <a:pt x="524" y="1542"/>
                  </a:lnTo>
                  <a:lnTo>
                    <a:pt x="504" y="1523"/>
                  </a:lnTo>
                  <a:lnTo>
                    <a:pt x="504" y="1503"/>
                  </a:lnTo>
                  <a:lnTo>
                    <a:pt x="494" y="1483"/>
                  </a:lnTo>
                  <a:lnTo>
                    <a:pt x="474" y="1463"/>
                  </a:lnTo>
                  <a:lnTo>
                    <a:pt x="464" y="1434"/>
                  </a:lnTo>
                  <a:lnTo>
                    <a:pt x="454" y="1414"/>
                  </a:lnTo>
                  <a:lnTo>
                    <a:pt x="445" y="1394"/>
                  </a:lnTo>
                  <a:lnTo>
                    <a:pt x="435" y="1374"/>
                  </a:lnTo>
                  <a:lnTo>
                    <a:pt x="425" y="1345"/>
                  </a:lnTo>
                  <a:lnTo>
                    <a:pt x="415" y="1325"/>
                  </a:lnTo>
                  <a:lnTo>
                    <a:pt x="415" y="1305"/>
                  </a:lnTo>
                  <a:lnTo>
                    <a:pt x="405" y="1276"/>
                  </a:lnTo>
                  <a:lnTo>
                    <a:pt x="395" y="1256"/>
                  </a:lnTo>
                  <a:lnTo>
                    <a:pt x="395" y="1236"/>
                  </a:lnTo>
                  <a:lnTo>
                    <a:pt x="395" y="1216"/>
                  </a:lnTo>
                  <a:lnTo>
                    <a:pt x="385" y="1187"/>
                  </a:lnTo>
                  <a:lnTo>
                    <a:pt x="375" y="1167"/>
                  </a:lnTo>
                  <a:lnTo>
                    <a:pt x="375" y="1147"/>
                  </a:lnTo>
                  <a:lnTo>
                    <a:pt x="366" y="1118"/>
                  </a:lnTo>
                  <a:lnTo>
                    <a:pt x="366" y="1098"/>
                  </a:lnTo>
                  <a:lnTo>
                    <a:pt x="366" y="1078"/>
                  </a:lnTo>
                  <a:lnTo>
                    <a:pt x="366" y="1058"/>
                  </a:lnTo>
                  <a:lnTo>
                    <a:pt x="366" y="1029"/>
                  </a:lnTo>
                  <a:lnTo>
                    <a:pt x="366" y="1009"/>
                  </a:lnTo>
                  <a:lnTo>
                    <a:pt x="366" y="989"/>
                  </a:lnTo>
                  <a:lnTo>
                    <a:pt x="366" y="969"/>
                  </a:lnTo>
                  <a:lnTo>
                    <a:pt x="366" y="940"/>
                  </a:lnTo>
                  <a:lnTo>
                    <a:pt x="366" y="920"/>
                  </a:lnTo>
                  <a:lnTo>
                    <a:pt x="375" y="890"/>
                  </a:lnTo>
                  <a:lnTo>
                    <a:pt x="375" y="861"/>
                  </a:lnTo>
                  <a:lnTo>
                    <a:pt x="375" y="841"/>
                  </a:lnTo>
                  <a:lnTo>
                    <a:pt x="375" y="821"/>
                  </a:lnTo>
                  <a:lnTo>
                    <a:pt x="375" y="792"/>
                  </a:lnTo>
                  <a:lnTo>
                    <a:pt x="375" y="772"/>
                  </a:lnTo>
                  <a:lnTo>
                    <a:pt x="385" y="752"/>
                  </a:lnTo>
                  <a:lnTo>
                    <a:pt x="395" y="723"/>
                  </a:lnTo>
                  <a:lnTo>
                    <a:pt x="395" y="703"/>
                  </a:lnTo>
                  <a:lnTo>
                    <a:pt x="395" y="673"/>
                  </a:lnTo>
                  <a:lnTo>
                    <a:pt x="405" y="644"/>
                  </a:lnTo>
                  <a:lnTo>
                    <a:pt x="415" y="614"/>
                  </a:lnTo>
                  <a:lnTo>
                    <a:pt x="415" y="574"/>
                  </a:lnTo>
                  <a:lnTo>
                    <a:pt x="425" y="545"/>
                  </a:lnTo>
                  <a:lnTo>
                    <a:pt x="435" y="515"/>
                  </a:lnTo>
                  <a:lnTo>
                    <a:pt x="435" y="495"/>
                  </a:lnTo>
                  <a:lnTo>
                    <a:pt x="454" y="466"/>
                  </a:lnTo>
                  <a:lnTo>
                    <a:pt x="464" y="446"/>
                  </a:lnTo>
                  <a:lnTo>
                    <a:pt x="484" y="436"/>
                  </a:lnTo>
                  <a:lnTo>
                    <a:pt x="494" y="416"/>
                  </a:lnTo>
                  <a:lnTo>
                    <a:pt x="514" y="397"/>
                  </a:lnTo>
                  <a:lnTo>
                    <a:pt x="533" y="377"/>
                  </a:lnTo>
                  <a:lnTo>
                    <a:pt x="553" y="367"/>
                  </a:lnTo>
                  <a:lnTo>
                    <a:pt x="573" y="347"/>
                  </a:lnTo>
                  <a:lnTo>
                    <a:pt x="593" y="337"/>
                  </a:lnTo>
                  <a:lnTo>
                    <a:pt x="622" y="318"/>
                  </a:lnTo>
                  <a:lnTo>
                    <a:pt x="642" y="308"/>
                  </a:lnTo>
                  <a:lnTo>
                    <a:pt x="662" y="298"/>
                  </a:lnTo>
                  <a:lnTo>
                    <a:pt x="682" y="288"/>
                  </a:lnTo>
                  <a:lnTo>
                    <a:pt x="701" y="268"/>
                  </a:lnTo>
                  <a:lnTo>
                    <a:pt x="721" y="268"/>
                  </a:lnTo>
                  <a:lnTo>
                    <a:pt x="741" y="258"/>
                  </a:lnTo>
                  <a:lnTo>
                    <a:pt x="761" y="248"/>
                  </a:lnTo>
                  <a:lnTo>
                    <a:pt x="800" y="219"/>
                  </a:lnTo>
                  <a:lnTo>
                    <a:pt x="820" y="209"/>
                  </a:lnTo>
                  <a:lnTo>
                    <a:pt x="840" y="199"/>
                  </a:lnTo>
                  <a:lnTo>
                    <a:pt x="869" y="179"/>
                  </a:lnTo>
                  <a:lnTo>
                    <a:pt x="899" y="169"/>
                  </a:lnTo>
                  <a:lnTo>
                    <a:pt x="919" y="160"/>
                  </a:lnTo>
                  <a:lnTo>
                    <a:pt x="948" y="140"/>
                  </a:lnTo>
                  <a:lnTo>
                    <a:pt x="968" y="130"/>
                  </a:lnTo>
                  <a:lnTo>
                    <a:pt x="988" y="130"/>
                  </a:lnTo>
                  <a:lnTo>
                    <a:pt x="1017" y="110"/>
                  </a:lnTo>
                  <a:lnTo>
                    <a:pt x="1037" y="110"/>
                  </a:lnTo>
                  <a:lnTo>
                    <a:pt x="1057" y="100"/>
                  </a:lnTo>
                  <a:lnTo>
                    <a:pt x="1077" y="90"/>
                  </a:lnTo>
                  <a:lnTo>
                    <a:pt x="1077" y="61"/>
                  </a:lnTo>
                  <a:lnTo>
                    <a:pt x="1057" y="61"/>
                  </a:lnTo>
                  <a:lnTo>
                    <a:pt x="1037" y="51"/>
                  </a:lnTo>
                  <a:lnTo>
                    <a:pt x="1017" y="41"/>
                  </a:lnTo>
                  <a:lnTo>
                    <a:pt x="988" y="41"/>
                  </a:lnTo>
                  <a:lnTo>
                    <a:pt x="968" y="31"/>
                  </a:lnTo>
                  <a:lnTo>
                    <a:pt x="948" y="31"/>
                  </a:lnTo>
                  <a:lnTo>
                    <a:pt x="928" y="31"/>
                  </a:lnTo>
                  <a:lnTo>
                    <a:pt x="899" y="21"/>
                  </a:lnTo>
                  <a:lnTo>
                    <a:pt x="879" y="21"/>
                  </a:lnTo>
                  <a:lnTo>
                    <a:pt x="859" y="21"/>
                  </a:lnTo>
                  <a:lnTo>
                    <a:pt x="830" y="31"/>
                  </a:lnTo>
                  <a:lnTo>
                    <a:pt x="810" y="31"/>
                  </a:lnTo>
                  <a:lnTo>
                    <a:pt x="790" y="31"/>
                  </a:lnTo>
                  <a:lnTo>
                    <a:pt x="770" y="41"/>
                  </a:lnTo>
                  <a:lnTo>
                    <a:pt x="741" y="51"/>
                  </a:lnTo>
                  <a:lnTo>
                    <a:pt x="721" y="61"/>
                  </a:lnTo>
                  <a:lnTo>
                    <a:pt x="701" y="71"/>
                  </a:lnTo>
                  <a:lnTo>
                    <a:pt x="672" y="81"/>
                  </a:lnTo>
                  <a:lnTo>
                    <a:pt x="652" y="90"/>
                  </a:lnTo>
                  <a:lnTo>
                    <a:pt x="632" y="100"/>
                  </a:lnTo>
                  <a:lnTo>
                    <a:pt x="622" y="12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Line 6"/>
          <p:cNvSpPr/>
          <p:nvPr/>
        </p:nvSpPr>
        <p:spPr>
          <a:xfrm>
            <a:off x="990720" y="4648320"/>
            <a:ext cx="312408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823320" y="4908600"/>
            <a:ext cx="275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nd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2422440" y="3581280"/>
            <a:ext cx="2241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sl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6461640" y="4419720"/>
            <a:ext cx="1859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p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444600" y="279360"/>
            <a:ext cx="86230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PARABOLIC D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escent-shaped but with the concave side on the windward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ually elong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y develop in associated with deflation ho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5013360" y="4665600"/>
            <a:ext cx="3612960" cy="1584360"/>
            <a:chOff x="5013360" y="4665600"/>
            <a:chExt cx="3612960" cy="1584360"/>
          </a:xfrm>
        </p:grpSpPr>
        <p:sp>
          <p:nvSpPr>
            <p:cNvPr id="258" name="Freeform 4"/>
            <p:cNvSpPr/>
            <p:nvPr/>
          </p:nvSpPr>
          <p:spPr>
            <a:xfrm>
              <a:off x="5013360" y="4665600"/>
              <a:ext cx="3612960" cy="1577880"/>
            </a:xfrm>
            <a:custGeom>
              <a:avLst/>
              <a:gdLst/>
              <a:ahLst/>
              <a:rect l="l" t="t" r="r" b="b"/>
              <a:pathLst>
                <a:path w="2276" h="994">
                  <a:moveTo>
                    <a:pt x="211" y="0"/>
                  </a:moveTo>
                  <a:lnTo>
                    <a:pt x="270" y="0"/>
                  </a:lnTo>
                  <a:lnTo>
                    <a:pt x="331" y="0"/>
                  </a:lnTo>
                  <a:lnTo>
                    <a:pt x="373" y="0"/>
                  </a:lnTo>
                  <a:lnTo>
                    <a:pt x="414" y="0"/>
                  </a:lnTo>
                  <a:lnTo>
                    <a:pt x="456" y="0"/>
                  </a:lnTo>
                  <a:lnTo>
                    <a:pt x="517" y="0"/>
                  </a:lnTo>
                  <a:lnTo>
                    <a:pt x="559" y="7"/>
                  </a:lnTo>
                  <a:lnTo>
                    <a:pt x="601" y="7"/>
                  </a:lnTo>
                  <a:lnTo>
                    <a:pt x="661" y="7"/>
                  </a:lnTo>
                  <a:lnTo>
                    <a:pt x="703" y="13"/>
                  </a:lnTo>
                  <a:lnTo>
                    <a:pt x="745" y="13"/>
                  </a:lnTo>
                  <a:lnTo>
                    <a:pt x="787" y="20"/>
                  </a:lnTo>
                  <a:lnTo>
                    <a:pt x="848" y="20"/>
                  </a:lnTo>
                  <a:lnTo>
                    <a:pt x="889" y="27"/>
                  </a:lnTo>
                  <a:lnTo>
                    <a:pt x="931" y="27"/>
                  </a:lnTo>
                  <a:lnTo>
                    <a:pt x="992" y="33"/>
                  </a:lnTo>
                  <a:lnTo>
                    <a:pt x="1034" y="39"/>
                  </a:lnTo>
                  <a:lnTo>
                    <a:pt x="1076" y="46"/>
                  </a:lnTo>
                  <a:lnTo>
                    <a:pt x="1118" y="53"/>
                  </a:lnTo>
                  <a:lnTo>
                    <a:pt x="1178" y="59"/>
                  </a:lnTo>
                  <a:lnTo>
                    <a:pt x="1241" y="59"/>
                  </a:lnTo>
                  <a:lnTo>
                    <a:pt x="1283" y="66"/>
                  </a:lnTo>
                  <a:lnTo>
                    <a:pt x="1344" y="73"/>
                  </a:lnTo>
                  <a:lnTo>
                    <a:pt x="1386" y="79"/>
                  </a:lnTo>
                  <a:lnTo>
                    <a:pt x="1427" y="85"/>
                  </a:lnTo>
                  <a:lnTo>
                    <a:pt x="1488" y="92"/>
                  </a:lnTo>
                  <a:lnTo>
                    <a:pt x="1530" y="105"/>
                  </a:lnTo>
                  <a:lnTo>
                    <a:pt x="1572" y="112"/>
                  </a:lnTo>
                  <a:lnTo>
                    <a:pt x="1614" y="119"/>
                  </a:lnTo>
                  <a:lnTo>
                    <a:pt x="1635" y="132"/>
                  </a:lnTo>
                  <a:lnTo>
                    <a:pt x="1695" y="138"/>
                  </a:lnTo>
                  <a:lnTo>
                    <a:pt x="1695" y="151"/>
                  </a:lnTo>
                  <a:lnTo>
                    <a:pt x="1758" y="158"/>
                  </a:lnTo>
                  <a:lnTo>
                    <a:pt x="1779" y="171"/>
                  </a:lnTo>
                  <a:lnTo>
                    <a:pt x="1840" y="184"/>
                  </a:lnTo>
                  <a:lnTo>
                    <a:pt x="1882" y="190"/>
                  </a:lnTo>
                  <a:lnTo>
                    <a:pt x="1902" y="204"/>
                  </a:lnTo>
                  <a:lnTo>
                    <a:pt x="1944" y="217"/>
                  </a:lnTo>
                  <a:lnTo>
                    <a:pt x="1965" y="230"/>
                  </a:lnTo>
                  <a:lnTo>
                    <a:pt x="2005" y="250"/>
                  </a:lnTo>
                  <a:lnTo>
                    <a:pt x="2026" y="263"/>
                  </a:lnTo>
                  <a:lnTo>
                    <a:pt x="2068" y="270"/>
                  </a:lnTo>
                  <a:lnTo>
                    <a:pt x="2068" y="283"/>
                  </a:lnTo>
                  <a:lnTo>
                    <a:pt x="2110" y="302"/>
                  </a:lnTo>
                  <a:lnTo>
                    <a:pt x="2131" y="316"/>
                  </a:lnTo>
                  <a:lnTo>
                    <a:pt x="2131" y="329"/>
                  </a:lnTo>
                  <a:lnTo>
                    <a:pt x="2149" y="342"/>
                  </a:lnTo>
                  <a:lnTo>
                    <a:pt x="2170" y="368"/>
                  </a:lnTo>
                  <a:lnTo>
                    <a:pt x="2191" y="382"/>
                  </a:lnTo>
                  <a:lnTo>
                    <a:pt x="2191" y="395"/>
                  </a:lnTo>
                  <a:lnTo>
                    <a:pt x="2212" y="414"/>
                  </a:lnTo>
                  <a:lnTo>
                    <a:pt x="2212" y="428"/>
                  </a:lnTo>
                  <a:lnTo>
                    <a:pt x="2233" y="441"/>
                  </a:lnTo>
                  <a:lnTo>
                    <a:pt x="2254" y="460"/>
                  </a:lnTo>
                  <a:lnTo>
                    <a:pt x="2254" y="474"/>
                  </a:lnTo>
                  <a:lnTo>
                    <a:pt x="2254" y="487"/>
                  </a:lnTo>
                  <a:lnTo>
                    <a:pt x="2254" y="500"/>
                  </a:lnTo>
                  <a:lnTo>
                    <a:pt x="2254" y="519"/>
                  </a:lnTo>
                  <a:lnTo>
                    <a:pt x="2254" y="533"/>
                  </a:lnTo>
                  <a:lnTo>
                    <a:pt x="2275" y="546"/>
                  </a:lnTo>
                  <a:lnTo>
                    <a:pt x="2275" y="565"/>
                  </a:lnTo>
                  <a:lnTo>
                    <a:pt x="2275" y="579"/>
                  </a:lnTo>
                  <a:lnTo>
                    <a:pt x="2275" y="592"/>
                  </a:lnTo>
                  <a:lnTo>
                    <a:pt x="2275" y="605"/>
                  </a:lnTo>
                  <a:lnTo>
                    <a:pt x="2233" y="631"/>
                  </a:lnTo>
                  <a:lnTo>
                    <a:pt x="2212" y="645"/>
                  </a:lnTo>
                  <a:lnTo>
                    <a:pt x="2170" y="665"/>
                  </a:lnTo>
                  <a:lnTo>
                    <a:pt x="2149" y="691"/>
                  </a:lnTo>
                  <a:lnTo>
                    <a:pt x="2131" y="704"/>
                  </a:lnTo>
                  <a:lnTo>
                    <a:pt x="2110" y="717"/>
                  </a:lnTo>
                  <a:lnTo>
                    <a:pt x="2089" y="737"/>
                  </a:lnTo>
                  <a:lnTo>
                    <a:pt x="2068" y="750"/>
                  </a:lnTo>
                  <a:lnTo>
                    <a:pt x="2047" y="763"/>
                  </a:lnTo>
                  <a:lnTo>
                    <a:pt x="2005" y="783"/>
                  </a:lnTo>
                  <a:lnTo>
                    <a:pt x="1984" y="796"/>
                  </a:lnTo>
                  <a:lnTo>
                    <a:pt x="1965" y="809"/>
                  </a:lnTo>
                  <a:lnTo>
                    <a:pt x="1923" y="816"/>
                  </a:lnTo>
                  <a:lnTo>
                    <a:pt x="1882" y="828"/>
                  </a:lnTo>
                  <a:lnTo>
                    <a:pt x="1840" y="842"/>
                  </a:lnTo>
                  <a:lnTo>
                    <a:pt x="1800" y="855"/>
                  </a:lnTo>
                  <a:lnTo>
                    <a:pt x="1758" y="868"/>
                  </a:lnTo>
                  <a:lnTo>
                    <a:pt x="1716" y="875"/>
                  </a:lnTo>
                  <a:lnTo>
                    <a:pt x="1674" y="888"/>
                  </a:lnTo>
                  <a:lnTo>
                    <a:pt x="1593" y="901"/>
                  </a:lnTo>
                  <a:lnTo>
                    <a:pt x="1551" y="908"/>
                  </a:lnTo>
                  <a:lnTo>
                    <a:pt x="1509" y="914"/>
                  </a:lnTo>
                  <a:lnTo>
                    <a:pt x="1467" y="921"/>
                  </a:lnTo>
                  <a:lnTo>
                    <a:pt x="1406" y="928"/>
                  </a:lnTo>
                  <a:lnTo>
                    <a:pt x="1365" y="934"/>
                  </a:lnTo>
                  <a:lnTo>
                    <a:pt x="1323" y="934"/>
                  </a:lnTo>
                  <a:lnTo>
                    <a:pt x="1283" y="947"/>
                  </a:lnTo>
                  <a:lnTo>
                    <a:pt x="1241" y="947"/>
                  </a:lnTo>
                  <a:lnTo>
                    <a:pt x="1199" y="954"/>
                  </a:lnTo>
                  <a:lnTo>
                    <a:pt x="1157" y="960"/>
                  </a:lnTo>
                  <a:lnTo>
                    <a:pt x="1097" y="960"/>
                  </a:lnTo>
                  <a:lnTo>
                    <a:pt x="1055" y="967"/>
                  </a:lnTo>
                  <a:lnTo>
                    <a:pt x="1013" y="974"/>
                  </a:lnTo>
                  <a:lnTo>
                    <a:pt x="971" y="974"/>
                  </a:lnTo>
                  <a:lnTo>
                    <a:pt x="889" y="986"/>
                  </a:lnTo>
                  <a:lnTo>
                    <a:pt x="848" y="986"/>
                  </a:lnTo>
                  <a:lnTo>
                    <a:pt x="806" y="993"/>
                  </a:lnTo>
                  <a:lnTo>
                    <a:pt x="745" y="993"/>
                  </a:lnTo>
                  <a:lnTo>
                    <a:pt x="703" y="993"/>
                  </a:lnTo>
                  <a:lnTo>
                    <a:pt x="661" y="993"/>
                  </a:lnTo>
                  <a:lnTo>
                    <a:pt x="601" y="993"/>
                  </a:lnTo>
                  <a:lnTo>
                    <a:pt x="538" y="993"/>
                  </a:lnTo>
                  <a:lnTo>
                    <a:pt x="496" y="993"/>
                  </a:lnTo>
                  <a:lnTo>
                    <a:pt x="435" y="993"/>
                  </a:lnTo>
                  <a:lnTo>
                    <a:pt x="393" y="993"/>
                  </a:lnTo>
                  <a:lnTo>
                    <a:pt x="352" y="993"/>
                  </a:lnTo>
                  <a:lnTo>
                    <a:pt x="291" y="993"/>
                  </a:lnTo>
                  <a:lnTo>
                    <a:pt x="249" y="993"/>
                  </a:lnTo>
                  <a:lnTo>
                    <a:pt x="207" y="993"/>
                  </a:lnTo>
                  <a:lnTo>
                    <a:pt x="165" y="993"/>
                  </a:lnTo>
                  <a:lnTo>
                    <a:pt x="105" y="993"/>
                  </a:lnTo>
                  <a:lnTo>
                    <a:pt x="42" y="993"/>
                  </a:lnTo>
                  <a:lnTo>
                    <a:pt x="0" y="993"/>
                  </a:lnTo>
                  <a:lnTo>
                    <a:pt x="42" y="986"/>
                  </a:lnTo>
                  <a:lnTo>
                    <a:pt x="84" y="986"/>
                  </a:lnTo>
                  <a:lnTo>
                    <a:pt x="126" y="980"/>
                  </a:lnTo>
                  <a:lnTo>
                    <a:pt x="186" y="967"/>
                  </a:lnTo>
                  <a:lnTo>
                    <a:pt x="228" y="967"/>
                  </a:lnTo>
                  <a:lnTo>
                    <a:pt x="270" y="960"/>
                  </a:lnTo>
                  <a:lnTo>
                    <a:pt x="310" y="947"/>
                  </a:lnTo>
                  <a:lnTo>
                    <a:pt x="352" y="940"/>
                  </a:lnTo>
                  <a:lnTo>
                    <a:pt x="393" y="940"/>
                  </a:lnTo>
                  <a:lnTo>
                    <a:pt x="435" y="934"/>
                  </a:lnTo>
                  <a:lnTo>
                    <a:pt x="496" y="921"/>
                  </a:lnTo>
                  <a:lnTo>
                    <a:pt x="538" y="914"/>
                  </a:lnTo>
                  <a:lnTo>
                    <a:pt x="580" y="908"/>
                  </a:lnTo>
                  <a:lnTo>
                    <a:pt x="622" y="901"/>
                  </a:lnTo>
                  <a:lnTo>
                    <a:pt x="661" y="888"/>
                  </a:lnTo>
                  <a:lnTo>
                    <a:pt x="703" y="881"/>
                  </a:lnTo>
                  <a:lnTo>
                    <a:pt x="745" y="875"/>
                  </a:lnTo>
                  <a:lnTo>
                    <a:pt x="787" y="868"/>
                  </a:lnTo>
                  <a:lnTo>
                    <a:pt x="848" y="855"/>
                  </a:lnTo>
                  <a:lnTo>
                    <a:pt x="869" y="842"/>
                  </a:lnTo>
                  <a:lnTo>
                    <a:pt x="910" y="835"/>
                  </a:lnTo>
                  <a:lnTo>
                    <a:pt x="952" y="828"/>
                  </a:lnTo>
                  <a:lnTo>
                    <a:pt x="992" y="809"/>
                  </a:lnTo>
                  <a:lnTo>
                    <a:pt x="1034" y="796"/>
                  </a:lnTo>
                  <a:lnTo>
                    <a:pt x="1055" y="783"/>
                  </a:lnTo>
                  <a:lnTo>
                    <a:pt x="1097" y="770"/>
                  </a:lnTo>
                  <a:lnTo>
                    <a:pt x="1118" y="757"/>
                  </a:lnTo>
                  <a:lnTo>
                    <a:pt x="1136" y="743"/>
                  </a:lnTo>
                  <a:lnTo>
                    <a:pt x="1157" y="730"/>
                  </a:lnTo>
                  <a:lnTo>
                    <a:pt x="1199" y="711"/>
                  </a:lnTo>
                  <a:lnTo>
                    <a:pt x="1220" y="697"/>
                  </a:lnTo>
                  <a:lnTo>
                    <a:pt x="1220" y="684"/>
                  </a:lnTo>
                  <a:lnTo>
                    <a:pt x="1241" y="671"/>
                  </a:lnTo>
                  <a:lnTo>
                    <a:pt x="1262" y="651"/>
                  </a:lnTo>
                  <a:lnTo>
                    <a:pt x="1283" y="638"/>
                  </a:lnTo>
                  <a:lnTo>
                    <a:pt x="1283" y="625"/>
                  </a:lnTo>
                  <a:lnTo>
                    <a:pt x="1302" y="605"/>
                  </a:lnTo>
                  <a:lnTo>
                    <a:pt x="1302" y="592"/>
                  </a:lnTo>
                  <a:lnTo>
                    <a:pt x="1302" y="579"/>
                  </a:lnTo>
                  <a:lnTo>
                    <a:pt x="1302" y="565"/>
                  </a:lnTo>
                  <a:lnTo>
                    <a:pt x="1323" y="546"/>
                  </a:lnTo>
                  <a:lnTo>
                    <a:pt x="1323" y="533"/>
                  </a:lnTo>
                  <a:lnTo>
                    <a:pt x="1323" y="519"/>
                  </a:lnTo>
                  <a:lnTo>
                    <a:pt x="1344" y="506"/>
                  </a:lnTo>
                  <a:lnTo>
                    <a:pt x="1344" y="487"/>
                  </a:lnTo>
                  <a:lnTo>
                    <a:pt x="1344" y="474"/>
                  </a:lnTo>
                  <a:lnTo>
                    <a:pt x="1344" y="460"/>
                  </a:lnTo>
                  <a:lnTo>
                    <a:pt x="1344" y="441"/>
                  </a:lnTo>
                  <a:lnTo>
                    <a:pt x="1344" y="428"/>
                  </a:lnTo>
                  <a:lnTo>
                    <a:pt x="1344" y="414"/>
                  </a:lnTo>
                  <a:lnTo>
                    <a:pt x="1344" y="401"/>
                  </a:lnTo>
                  <a:lnTo>
                    <a:pt x="1344" y="382"/>
                  </a:lnTo>
                  <a:lnTo>
                    <a:pt x="1323" y="368"/>
                  </a:lnTo>
                  <a:lnTo>
                    <a:pt x="1302" y="355"/>
                  </a:lnTo>
                  <a:lnTo>
                    <a:pt x="1302" y="336"/>
                  </a:lnTo>
                  <a:lnTo>
                    <a:pt x="1283" y="322"/>
                  </a:lnTo>
                  <a:lnTo>
                    <a:pt x="1283" y="309"/>
                  </a:lnTo>
                  <a:lnTo>
                    <a:pt x="1262" y="296"/>
                  </a:lnTo>
                  <a:lnTo>
                    <a:pt x="1220" y="283"/>
                  </a:lnTo>
                  <a:lnTo>
                    <a:pt x="1199" y="270"/>
                  </a:lnTo>
                  <a:lnTo>
                    <a:pt x="1157" y="256"/>
                  </a:lnTo>
                  <a:lnTo>
                    <a:pt x="1136" y="243"/>
                  </a:lnTo>
                  <a:lnTo>
                    <a:pt x="1076" y="230"/>
                  </a:lnTo>
                  <a:lnTo>
                    <a:pt x="1055" y="217"/>
                  </a:lnTo>
                  <a:lnTo>
                    <a:pt x="1013" y="210"/>
                  </a:lnTo>
                  <a:lnTo>
                    <a:pt x="992" y="197"/>
                  </a:lnTo>
                  <a:lnTo>
                    <a:pt x="931" y="184"/>
                  </a:lnTo>
                  <a:lnTo>
                    <a:pt x="910" y="171"/>
                  </a:lnTo>
                  <a:lnTo>
                    <a:pt x="889" y="158"/>
                  </a:lnTo>
                  <a:lnTo>
                    <a:pt x="848" y="145"/>
                  </a:lnTo>
                  <a:lnTo>
                    <a:pt x="806" y="132"/>
                  </a:lnTo>
                  <a:lnTo>
                    <a:pt x="766" y="119"/>
                  </a:lnTo>
                  <a:lnTo>
                    <a:pt x="724" y="112"/>
                  </a:lnTo>
                  <a:lnTo>
                    <a:pt x="682" y="99"/>
                  </a:lnTo>
                  <a:lnTo>
                    <a:pt x="640" y="92"/>
                  </a:lnTo>
                  <a:lnTo>
                    <a:pt x="580" y="85"/>
                  </a:lnTo>
                  <a:lnTo>
                    <a:pt x="538" y="79"/>
                  </a:lnTo>
                  <a:lnTo>
                    <a:pt x="496" y="73"/>
                  </a:lnTo>
                  <a:lnTo>
                    <a:pt x="435" y="66"/>
                  </a:lnTo>
                  <a:lnTo>
                    <a:pt x="393" y="59"/>
                  </a:lnTo>
                  <a:lnTo>
                    <a:pt x="352" y="53"/>
                  </a:lnTo>
                  <a:lnTo>
                    <a:pt x="310" y="53"/>
                  </a:lnTo>
                  <a:lnTo>
                    <a:pt x="249" y="46"/>
                  </a:lnTo>
                  <a:lnTo>
                    <a:pt x="207" y="39"/>
                  </a:lnTo>
                  <a:lnTo>
                    <a:pt x="165" y="39"/>
                  </a:lnTo>
                  <a:lnTo>
                    <a:pt x="105" y="27"/>
                  </a:lnTo>
                  <a:lnTo>
                    <a:pt x="165" y="20"/>
                  </a:lnTo>
                  <a:lnTo>
                    <a:pt x="207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5"/>
            <p:cNvSpPr/>
            <p:nvPr/>
          </p:nvSpPr>
          <p:spPr>
            <a:xfrm>
              <a:off x="5019840" y="4665600"/>
              <a:ext cx="2346120" cy="1584360"/>
            </a:xfrm>
            <a:custGeom>
              <a:avLst/>
              <a:gdLst/>
              <a:ahLst/>
              <a:rect l="l" t="t" r="r" b="b"/>
              <a:pathLst>
                <a:path w="1478" h="998">
                  <a:moveTo>
                    <a:pt x="195" y="0"/>
                  </a:moveTo>
                  <a:lnTo>
                    <a:pt x="230" y="10"/>
                  </a:lnTo>
                  <a:lnTo>
                    <a:pt x="258" y="15"/>
                  </a:lnTo>
                  <a:lnTo>
                    <a:pt x="285" y="20"/>
                  </a:lnTo>
                  <a:lnTo>
                    <a:pt x="313" y="20"/>
                  </a:lnTo>
                  <a:lnTo>
                    <a:pt x="352" y="24"/>
                  </a:lnTo>
                  <a:lnTo>
                    <a:pt x="380" y="29"/>
                  </a:lnTo>
                  <a:lnTo>
                    <a:pt x="407" y="34"/>
                  </a:lnTo>
                  <a:lnTo>
                    <a:pt x="447" y="39"/>
                  </a:lnTo>
                  <a:lnTo>
                    <a:pt x="475" y="43"/>
                  </a:lnTo>
                  <a:lnTo>
                    <a:pt x="502" y="43"/>
                  </a:lnTo>
                  <a:lnTo>
                    <a:pt x="529" y="48"/>
                  </a:lnTo>
                  <a:lnTo>
                    <a:pt x="569" y="48"/>
                  </a:lnTo>
                  <a:lnTo>
                    <a:pt x="597" y="53"/>
                  </a:lnTo>
                  <a:lnTo>
                    <a:pt x="624" y="58"/>
                  </a:lnTo>
                  <a:lnTo>
                    <a:pt x="664" y="62"/>
                  </a:lnTo>
                  <a:lnTo>
                    <a:pt x="691" y="67"/>
                  </a:lnTo>
                  <a:lnTo>
                    <a:pt x="719" y="72"/>
                  </a:lnTo>
                  <a:lnTo>
                    <a:pt x="758" y="81"/>
                  </a:lnTo>
                  <a:lnTo>
                    <a:pt x="786" y="86"/>
                  </a:lnTo>
                  <a:lnTo>
                    <a:pt x="813" y="91"/>
                  </a:lnTo>
                  <a:lnTo>
                    <a:pt x="841" y="100"/>
                  </a:lnTo>
                  <a:lnTo>
                    <a:pt x="867" y="110"/>
                  </a:lnTo>
                  <a:lnTo>
                    <a:pt x="894" y="110"/>
                  </a:lnTo>
                  <a:lnTo>
                    <a:pt x="922" y="119"/>
                  </a:lnTo>
                  <a:lnTo>
                    <a:pt x="949" y="124"/>
                  </a:lnTo>
                  <a:lnTo>
                    <a:pt x="963" y="134"/>
                  </a:lnTo>
                  <a:lnTo>
                    <a:pt x="1002" y="143"/>
                  </a:lnTo>
                  <a:lnTo>
                    <a:pt x="1030" y="153"/>
                  </a:lnTo>
                  <a:lnTo>
                    <a:pt x="1083" y="171"/>
                  </a:lnTo>
                  <a:lnTo>
                    <a:pt x="1111" y="176"/>
                  </a:lnTo>
                  <a:lnTo>
                    <a:pt x="1125" y="186"/>
                  </a:lnTo>
                  <a:lnTo>
                    <a:pt x="1152" y="195"/>
                  </a:lnTo>
                  <a:lnTo>
                    <a:pt x="1179" y="205"/>
                  </a:lnTo>
                  <a:lnTo>
                    <a:pt x="1193" y="214"/>
                  </a:lnTo>
                  <a:lnTo>
                    <a:pt x="1205" y="224"/>
                  </a:lnTo>
                  <a:lnTo>
                    <a:pt x="1233" y="229"/>
                  </a:lnTo>
                  <a:lnTo>
                    <a:pt x="1247" y="243"/>
                  </a:lnTo>
                  <a:lnTo>
                    <a:pt x="1274" y="247"/>
                  </a:lnTo>
                  <a:lnTo>
                    <a:pt x="1288" y="257"/>
                  </a:lnTo>
                  <a:lnTo>
                    <a:pt x="1301" y="267"/>
                  </a:lnTo>
                  <a:lnTo>
                    <a:pt x="1328" y="280"/>
                  </a:lnTo>
                  <a:lnTo>
                    <a:pt x="1355" y="285"/>
                  </a:lnTo>
                  <a:lnTo>
                    <a:pt x="1369" y="295"/>
                  </a:lnTo>
                  <a:lnTo>
                    <a:pt x="1382" y="304"/>
                  </a:lnTo>
                  <a:lnTo>
                    <a:pt x="1410" y="314"/>
                  </a:lnTo>
                  <a:lnTo>
                    <a:pt x="1410" y="323"/>
                  </a:lnTo>
                  <a:lnTo>
                    <a:pt x="1422" y="333"/>
                  </a:lnTo>
                  <a:lnTo>
                    <a:pt x="1436" y="347"/>
                  </a:lnTo>
                  <a:lnTo>
                    <a:pt x="1436" y="361"/>
                  </a:lnTo>
                  <a:lnTo>
                    <a:pt x="1450" y="371"/>
                  </a:lnTo>
                  <a:lnTo>
                    <a:pt x="1450" y="380"/>
                  </a:lnTo>
                  <a:lnTo>
                    <a:pt x="1463" y="394"/>
                  </a:lnTo>
                  <a:lnTo>
                    <a:pt x="1463" y="404"/>
                  </a:lnTo>
                  <a:lnTo>
                    <a:pt x="1463" y="413"/>
                  </a:lnTo>
                  <a:lnTo>
                    <a:pt x="1463" y="423"/>
                  </a:lnTo>
                  <a:lnTo>
                    <a:pt x="1477" y="437"/>
                  </a:lnTo>
                  <a:lnTo>
                    <a:pt x="1477" y="447"/>
                  </a:lnTo>
                  <a:lnTo>
                    <a:pt x="1477" y="456"/>
                  </a:lnTo>
                  <a:lnTo>
                    <a:pt x="1477" y="470"/>
                  </a:lnTo>
                  <a:lnTo>
                    <a:pt x="1477" y="480"/>
                  </a:lnTo>
                  <a:lnTo>
                    <a:pt x="1477" y="494"/>
                  </a:lnTo>
                  <a:lnTo>
                    <a:pt x="1477" y="508"/>
                  </a:lnTo>
                  <a:lnTo>
                    <a:pt x="1477" y="518"/>
                  </a:lnTo>
                  <a:lnTo>
                    <a:pt x="1477" y="532"/>
                  </a:lnTo>
                  <a:lnTo>
                    <a:pt x="1477" y="542"/>
                  </a:lnTo>
                  <a:lnTo>
                    <a:pt x="1463" y="556"/>
                  </a:lnTo>
                  <a:lnTo>
                    <a:pt x="1463" y="565"/>
                  </a:lnTo>
                  <a:lnTo>
                    <a:pt x="1463" y="575"/>
                  </a:lnTo>
                  <a:lnTo>
                    <a:pt x="1463" y="589"/>
                  </a:lnTo>
                  <a:lnTo>
                    <a:pt x="1450" y="598"/>
                  </a:lnTo>
                  <a:lnTo>
                    <a:pt x="1450" y="608"/>
                  </a:lnTo>
                  <a:lnTo>
                    <a:pt x="1436" y="618"/>
                  </a:lnTo>
                  <a:lnTo>
                    <a:pt x="1422" y="632"/>
                  </a:lnTo>
                  <a:lnTo>
                    <a:pt x="1410" y="641"/>
                  </a:lnTo>
                  <a:lnTo>
                    <a:pt x="1410" y="651"/>
                  </a:lnTo>
                  <a:lnTo>
                    <a:pt x="1396" y="665"/>
                  </a:lnTo>
                  <a:lnTo>
                    <a:pt x="1382" y="674"/>
                  </a:lnTo>
                  <a:lnTo>
                    <a:pt x="1382" y="684"/>
                  </a:lnTo>
                  <a:lnTo>
                    <a:pt x="1369" y="693"/>
                  </a:lnTo>
                  <a:lnTo>
                    <a:pt x="1355" y="707"/>
                  </a:lnTo>
                  <a:lnTo>
                    <a:pt x="1341" y="717"/>
                  </a:lnTo>
                  <a:lnTo>
                    <a:pt x="1341" y="727"/>
                  </a:lnTo>
                  <a:lnTo>
                    <a:pt x="1314" y="736"/>
                  </a:lnTo>
                  <a:lnTo>
                    <a:pt x="1301" y="745"/>
                  </a:lnTo>
                  <a:lnTo>
                    <a:pt x="1288" y="755"/>
                  </a:lnTo>
                  <a:lnTo>
                    <a:pt x="1274" y="765"/>
                  </a:lnTo>
                  <a:lnTo>
                    <a:pt x="1247" y="774"/>
                  </a:lnTo>
                  <a:lnTo>
                    <a:pt x="1247" y="783"/>
                  </a:lnTo>
                  <a:lnTo>
                    <a:pt x="1219" y="788"/>
                  </a:lnTo>
                  <a:lnTo>
                    <a:pt x="1205" y="798"/>
                  </a:lnTo>
                  <a:lnTo>
                    <a:pt x="1179" y="807"/>
                  </a:lnTo>
                  <a:lnTo>
                    <a:pt x="1152" y="812"/>
                  </a:lnTo>
                  <a:lnTo>
                    <a:pt x="1138" y="821"/>
                  </a:lnTo>
                  <a:lnTo>
                    <a:pt x="1111" y="826"/>
                  </a:lnTo>
                  <a:lnTo>
                    <a:pt x="1083" y="836"/>
                  </a:lnTo>
                  <a:lnTo>
                    <a:pt x="1057" y="845"/>
                  </a:lnTo>
                  <a:lnTo>
                    <a:pt x="1030" y="850"/>
                  </a:lnTo>
                  <a:lnTo>
                    <a:pt x="1016" y="859"/>
                  </a:lnTo>
                  <a:lnTo>
                    <a:pt x="989" y="864"/>
                  </a:lnTo>
                  <a:lnTo>
                    <a:pt x="963" y="874"/>
                  </a:lnTo>
                  <a:lnTo>
                    <a:pt x="935" y="883"/>
                  </a:lnTo>
                  <a:lnTo>
                    <a:pt x="908" y="888"/>
                  </a:lnTo>
                  <a:lnTo>
                    <a:pt x="880" y="892"/>
                  </a:lnTo>
                  <a:lnTo>
                    <a:pt x="841" y="902"/>
                  </a:lnTo>
                  <a:lnTo>
                    <a:pt x="813" y="907"/>
                  </a:lnTo>
                  <a:lnTo>
                    <a:pt x="786" y="912"/>
                  </a:lnTo>
                  <a:lnTo>
                    <a:pt x="746" y="921"/>
                  </a:lnTo>
                  <a:lnTo>
                    <a:pt x="719" y="926"/>
                  </a:lnTo>
                  <a:lnTo>
                    <a:pt x="691" y="930"/>
                  </a:lnTo>
                  <a:lnTo>
                    <a:pt x="650" y="935"/>
                  </a:lnTo>
                  <a:lnTo>
                    <a:pt x="610" y="940"/>
                  </a:lnTo>
                  <a:lnTo>
                    <a:pt x="583" y="945"/>
                  </a:lnTo>
                  <a:lnTo>
                    <a:pt x="555" y="949"/>
                  </a:lnTo>
                  <a:lnTo>
                    <a:pt x="516" y="949"/>
                  </a:lnTo>
                  <a:lnTo>
                    <a:pt x="488" y="954"/>
                  </a:lnTo>
                  <a:lnTo>
                    <a:pt x="461" y="954"/>
                  </a:lnTo>
                  <a:lnTo>
                    <a:pt x="433" y="959"/>
                  </a:lnTo>
                  <a:lnTo>
                    <a:pt x="394" y="964"/>
                  </a:lnTo>
                  <a:lnTo>
                    <a:pt x="352" y="968"/>
                  </a:lnTo>
                  <a:lnTo>
                    <a:pt x="325" y="973"/>
                  </a:lnTo>
                  <a:lnTo>
                    <a:pt x="285" y="978"/>
                  </a:lnTo>
                  <a:lnTo>
                    <a:pt x="258" y="978"/>
                  </a:lnTo>
                  <a:lnTo>
                    <a:pt x="230" y="983"/>
                  </a:lnTo>
                  <a:lnTo>
                    <a:pt x="191" y="987"/>
                  </a:lnTo>
                  <a:lnTo>
                    <a:pt x="163" y="987"/>
                  </a:lnTo>
                  <a:lnTo>
                    <a:pt x="136" y="987"/>
                  </a:lnTo>
                  <a:lnTo>
                    <a:pt x="108" y="987"/>
                  </a:lnTo>
                  <a:lnTo>
                    <a:pt x="69" y="992"/>
                  </a:lnTo>
                  <a:lnTo>
                    <a:pt x="41" y="997"/>
                  </a:lnTo>
                  <a:lnTo>
                    <a:pt x="41" y="987"/>
                  </a:lnTo>
                  <a:lnTo>
                    <a:pt x="69" y="983"/>
                  </a:lnTo>
                  <a:lnTo>
                    <a:pt x="96" y="978"/>
                  </a:lnTo>
                  <a:lnTo>
                    <a:pt x="108" y="968"/>
                  </a:lnTo>
                  <a:lnTo>
                    <a:pt x="136" y="964"/>
                  </a:lnTo>
                  <a:lnTo>
                    <a:pt x="163" y="959"/>
                  </a:lnTo>
                  <a:lnTo>
                    <a:pt x="177" y="949"/>
                  </a:lnTo>
                  <a:lnTo>
                    <a:pt x="204" y="945"/>
                  </a:lnTo>
                  <a:lnTo>
                    <a:pt x="230" y="935"/>
                  </a:lnTo>
                  <a:lnTo>
                    <a:pt x="258" y="930"/>
                  </a:lnTo>
                  <a:lnTo>
                    <a:pt x="285" y="926"/>
                  </a:lnTo>
                  <a:lnTo>
                    <a:pt x="285" y="916"/>
                  </a:lnTo>
                  <a:lnTo>
                    <a:pt x="313" y="916"/>
                  </a:lnTo>
                  <a:lnTo>
                    <a:pt x="325" y="907"/>
                  </a:lnTo>
                  <a:lnTo>
                    <a:pt x="352" y="902"/>
                  </a:lnTo>
                  <a:lnTo>
                    <a:pt x="366" y="892"/>
                  </a:lnTo>
                  <a:lnTo>
                    <a:pt x="394" y="888"/>
                  </a:lnTo>
                  <a:lnTo>
                    <a:pt x="421" y="874"/>
                  </a:lnTo>
                  <a:lnTo>
                    <a:pt x="447" y="864"/>
                  </a:lnTo>
                  <a:lnTo>
                    <a:pt x="475" y="854"/>
                  </a:lnTo>
                  <a:lnTo>
                    <a:pt x="502" y="845"/>
                  </a:lnTo>
                  <a:lnTo>
                    <a:pt x="529" y="840"/>
                  </a:lnTo>
                  <a:lnTo>
                    <a:pt x="542" y="831"/>
                  </a:lnTo>
                  <a:lnTo>
                    <a:pt x="569" y="826"/>
                  </a:lnTo>
                  <a:lnTo>
                    <a:pt x="583" y="816"/>
                  </a:lnTo>
                  <a:lnTo>
                    <a:pt x="610" y="812"/>
                  </a:lnTo>
                  <a:lnTo>
                    <a:pt x="624" y="798"/>
                  </a:lnTo>
                  <a:lnTo>
                    <a:pt x="664" y="788"/>
                  </a:lnTo>
                  <a:lnTo>
                    <a:pt x="677" y="778"/>
                  </a:lnTo>
                  <a:lnTo>
                    <a:pt x="705" y="774"/>
                  </a:lnTo>
                  <a:lnTo>
                    <a:pt x="719" y="760"/>
                  </a:lnTo>
                  <a:lnTo>
                    <a:pt x="746" y="750"/>
                  </a:lnTo>
                  <a:lnTo>
                    <a:pt x="758" y="741"/>
                  </a:lnTo>
                  <a:lnTo>
                    <a:pt x="786" y="731"/>
                  </a:lnTo>
                  <a:lnTo>
                    <a:pt x="786" y="722"/>
                  </a:lnTo>
                  <a:lnTo>
                    <a:pt x="800" y="712"/>
                  </a:lnTo>
                  <a:lnTo>
                    <a:pt x="827" y="703"/>
                  </a:lnTo>
                  <a:lnTo>
                    <a:pt x="841" y="689"/>
                  </a:lnTo>
                  <a:lnTo>
                    <a:pt x="854" y="679"/>
                  </a:lnTo>
                  <a:lnTo>
                    <a:pt x="867" y="669"/>
                  </a:lnTo>
                  <a:lnTo>
                    <a:pt x="880" y="660"/>
                  </a:lnTo>
                  <a:lnTo>
                    <a:pt x="894" y="646"/>
                  </a:lnTo>
                  <a:lnTo>
                    <a:pt x="908" y="636"/>
                  </a:lnTo>
                  <a:lnTo>
                    <a:pt x="908" y="627"/>
                  </a:lnTo>
                  <a:lnTo>
                    <a:pt x="922" y="613"/>
                  </a:lnTo>
                  <a:lnTo>
                    <a:pt x="935" y="603"/>
                  </a:lnTo>
                  <a:lnTo>
                    <a:pt x="935" y="594"/>
                  </a:lnTo>
                  <a:lnTo>
                    <a:pt x="935" y="584"/>
                  </a:lnTo>
                  <a:lnTo>
                    <a:pt x="949" y="570"/>
                  </a:lnTo>
                  <a:lnTo>
                    <a:pt x="963" y="560"/>
                  </a:lnTo>
                  <a:lnTo>
                    <a:pt x="963" y="551"/>
                  </a:lnTo>
                  <a:lnTo>
                    <a:pt x="975" y="537"/>
                  </a:lnTo>
                  <a:lnTo>
                    <a:pt x="975" y="527"/>
                  </a:lnTo>
                  <a:lnTo>
                    <a:pt x="975" y="518"/>
                  </a:lnTo>
                  <a:lnTo>
                    <a:pt x="975" y="508"/>
                  </a:lnTo>
                  <a:lnTo>
                    <a:pt x="975" y="494"/>
                  </a:lnTo>
                  <a:lnTo>
                    <a:pt x="975" y="485"/>
                  </a:lnTo>
                  <a:lnTo>
                    <a:pt x="975" y="475"/>
                  </a:lnTo>
                  <a:lnTo>
                    <a:pt x="975" y="465"/>
                  </a:lnTo>
                  <a:lnTo>
                    <a:pt x="975" y="451"/>
                  </a:lnTo>
                  <a:lnTo>
                    <a:pt x="975" y="442"/>
                  </a:lnTo>
                  <a:lnTo>
                    <a:pt x="963" y="427"/>
                  </a:lnTo>
                  <a:lnTo>
                    <a:pt x="963" y="413"/>
                  </a:lnTo>
                  <a:lnTo>
                    <a:pt x="963" y="404"/>
                  </a:lnTo>
                  <a:lnTo>
                    <a:pt x="963" y="394"/>
                  </a:lnTo>
                  <a:lnTo>
                    <a:pt x="963" y="380"/>
                  </a:lnTo>
                  <a:lnTo>
                    <a:pt x="963" y="371"/>
                  </a:lnTo>
                  <a:lnTo>
                    <a:pt x="949" y="361"/>
                  </a:lnTo>
                  <a:lnTo>
                    <a:pt x="935" y="347"/>
                  </a:lnTo>
                  <a:lnTo>
                    <a:pt x="935" y="338"/>
                  </a:lnTo>
                  <a:lnTo>
                    <a:pt x="935" y="323"/>
                  </a:lnTo>
                  <a:lnTo>
                    <a:pt x="922" y="309"/>
                  </a:lnTo>
                  <a:lnTo>
                    <a:pt x="908" y="295"/>
                  </a:lnTo>
                  <a:lnTo>
                    <a:pt x="908" y="276"/>
                  </a:lnTo>
                  <a:lnTo>
                    <a:pt x="894" y="262"/>
                  </a:lnTo>
                  <a:lnTo>
                    <a:pt x="880" y="247"/>
                  </a:lnTo>
                  <a:lnTo>
                    <a:pt x="880" y="238"/>
                  </a:lnTo>
                  <a:lnTo>
                    <a:pt x="854" y="224"/>
                  </a:lnTo>
                  <a:lnTo>
                    <a:pt x="841" y="214"/>
                  </a:lnTo>
                  <a:lnTo>
                    <a:pt x="813" y="209"/>
                  </a:lnTo>
                  <a:lnTo>
                    <a:pt x="800" y="200"/>
                  </a:lnTo>
                  <a:lnTo>
                    <a:pt x="772" y="191"/>
                  </a:lnTo>
                  <a:lnTo>
                    <a:pt x="746" y="181"/>
                  </a:lnTo>
                  <a:lnTo>
                    <a:pt x="719" y="176"/>
                  </a:lnTo>
                  <a:lnTo>
                    <a:pt x="691" y="167"/>
                  </a:lnTo>
                  <a:lnTo>
                    <a:pt x="664" y="162"/>
                  </a:lnTo>
                  <a:lnTo>
                    <a:pt x="624" y="153"/>
                  </a:lnTo>
                  <a:lnTo>
                    <a:pt x="597" y="148"/>
                  </a:lnTo>
                  <a:lnTo>
                    <a:pt x="569" y="143"/>
                  </a:lnTo>
                  <a:lnTo>
                    <a:pt x="542" y="138"/>
                  </a:lnTo>
                  <a:lnTo>
                    <a:pt x="516" y="129"/>
                  </a:lnTo>
                  <a:lnTo>
                    <a:pt x="488" y="129"/>
                  </a:lnTo>
                  <a:lnTo>
                    <a:pt x="461" y="124"/>
                  </a:lnTo>
                  <a:lnTo>
                    <a:pt x="433" y="119"/>
                  </a:lnTo>
                  <a:lnTo>
                    <a:pt x="380" y="105"/>
                  </a:lnTo>
                  <a:lnTo>
                    <a:pt x="352" y="100"/>
                  </a:lnTo>
                  <a:lnTo>
                    <a:pt x="325" y="96"/>
                  </a:lnTo>
                  <a:lnTo>
                    <a:pt x="285" y="86"/>
                  </a:lnTo>
                  <a:lnTo>
                    <a:pt x="244" y="81"/>
                  </a:lnTo>
                  <a:lnTo>
                    <a:pt x="217" y="77"/>
                  </a:lnTo>
                  <a:lnTo>
                    <a:pt x="177" y="67"/>
                  </a:lnTo>
                  <a:lnTo>
                    <a:pt x="149" y="62"/>
                  </a:lnTo>
                  <a:lnTo>
                    <a:pt x="122" y="62"/>
                  </a:lnTo>
                  <a:lnTo>
                    <a:pt x="82" y="53"/>
                  </a:lnTo>
                  <a:lnTo>
                    <a:pt x="55" y="53"/>
                  </a:lnTo>
                  <a:lnTo>
                    <a:pt x="27" y="48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27" y="29"/>
                  </a:lnTo>
                  <a:lnTo>
                    <a:pt x="55" y="24"/>
                  </a:lnTo>
                  <a:lnTo>
                    <a:pt x="82" y="20"/>
                  </a:lnTo>
                  <a:lnTo>
                    <a:pt x="122" y="20"/>
                  </a:lnTo>
                  <a:lnTo>
                    <a:pt x="149" y="15"/>
                  </a:lnTo>
                  <a:lnTo>
                    <a:pt x="177" y="15"/>
                  </a:lnTo>
                  <a:lnTo>
                    <a:pt x="204" y="15"/>
                  </a:lnTo>
                  <a:lnTo>
                    <a:pt x="244" y="10"/>
                  </a:lnTo>
                  <a:lnTo>
                    <a:pt x="272" y="10"/>
                  </a:lnTo>
                  <a:lnTo>
                    <a:pt x="299" y="10"/>
                  </a:lnTo>
                  <a:lnTo>
                    <a:pt x="339" y="15"/>
                  </a:lnTo>
                  <a:lnTo>
                    <a:pt x="366" y="15"/>
                  </a:lnTo>
                  <a:lnTo>
                    <a:pt x="394" y="15"/>
                  </a:lnTo>
                  <a:lnTo>
                    <a:pt x="421" y="20"/>
                  </a:lnTo>
                  <a:lnTo>
                    <a:pt x="461" y="24"/>
                  </a:lnTo>
                  <a:lnTo>
                    <a:pt x="488" y="29"/>
                  </a:lnTo>
                  <a:lnTo>
                    <a:pt x="516" y="34"/>
                  </a:lnTo>
                  <a:lnTo>
                    <a:pt x="555" y="39"/>
                  </a:lnTo>
                  <a:lnTo>
                    <a:pt x="583" y="43"/>
                  </a:lnTo>
                  <a:lnTo>
                    <a:pt x="610" y="48"/>
                  </a:lnTo>
                  <a:lnTo>
                    <a:pt x="624" y="5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Line 6"/>
          <p:cNvSpPr/>
          <p:nvPr/>
        </p:nvSpPr>
        <p:spPr>
          <a:xfrm>
            <a:off x="1295280" y="5257800"/>
            <a:ext cx="312444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128600" y="5518080"/>
            <a:ext cx="243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nd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54080" y="366840"/>
            <a:ext cx="883584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) TRANSVERSE D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and ridge at right angles to the wind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form because of large  amounts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3359160" y="4044960"/>
            <a:ext cx="291960" cy="2502000"/>
          </a:xfrm>
          <a:custGeom>
            <a:avLst/>
            <a:gdLst>
              <a:gd name="textAreaLeft" fmla="*/ 10440 w 291960"/>
              <a:gd name="textAreaRight" fmla="*/ 281520 w 291960"/>
              <a:gd name="textAreaTop" fmla="*/ 10440 h 2502000"/>
              <a:gd name="textAreaBottom" fmla="*/ 2491560 h 2502000"/>
            </a:gdLst>
            <a:ahLst/>
            <a:rect l="textAreaLeft" t="textAreaTop" r="textAreaRight" b="textAreaBottom"/>
            <a:pathLst>
              <a:path w="21600" h="184903">
                <a:moveTo>
                  <a:pt x="2699" y="0"/>
                </a:moveTo>
                <a:arcTo wR="2699" hR="2699" stAng="16200000" swAng="-5400000"/>
                <a:lnTo>
                  <a:pt x="0" y="182204"/>
                </a:lnTo>
                <a:arcTo wR="2699" hR="2699" stAng="10800000" swAng="-5400000"/>
                <a:lnTo>
                  <a:pt x="18901" y="18490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4197240" y="4044960"/>
            <a:ext cx="292320" cy="2502000"/>
          </a:xfrm>
          <a:custGeom>
            <a:avLst/>
            <a:gdLst>
              <a:gd name="textAreaLeft" fmla="*/ 10440 w 292320"/>
              <a:gd name="textAreaRight" fmla="*/ 281880 w 292320"/>
              <a:gd name="textAreaTop" fmla="*/ 10440 h 2502000"/>
              <a:gd name="textAreaBottom" fmla="*/ 2491560 h 2502000"/>
            </a:gdLst>
            <a:ahLst/>
            <a:rect l="textAreaLeft" t="textAreaTop" r="textAreaRight" b="textAreaBottom"/>
            <a:pathLst>
              <a:path w="21600" h="184676">
                <a:moveTo>
                  <a:pt x="2699" y="0"/>
                </a:moveTo>
                <a:arcTo wR="2699" hR="2699" stAng="16200000" swAng="-5400000"/>
                <a:lnTo>
                  <a:pt x="0" y="181977"/>
                </a:lnTo>
                <a:arcTo wR="2699" hR="2699" stAng="10800000" swAng="-5400000"/>
                <a:lnTo>
                  <a:pt x="18901" y="18467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5035680" y="4044960"/>
            <a:ext cx="291960" cy="2502000"/>
          </a:xfrm>
          <a:custGeom>
            <a:avLst/>
            <a:gdLst>
              <a:gd name="textAreaLeft" fmla="*/ 10440 w 291960"/>
              <a:gd name="textAreaRight" fmla="*/ 281520 w 291960"/>
              <a:gd name="textAreaTop" fmla="*/ 10440 h 2502000"/>
              <a:gd name="textAreaBottom" fmla="*/ 2491560 h 2502000"/>
            </a:gdLst>
            <a:ahLst/>
            <a:rect l="textAreaLeft" t="textAreaTop" r="textAreaRight" b="textAreaBottom"/>
            <a:pathLst>
              <a:path w="21600" h="184903">
                <a:moveTo>
                  <a:pt x="2699" y="0"/>
                </a:moveTo>
                <a:arcTo wR="2699" hR="2699" stAng="16200000" swAng="-5400000"/>
                <a:lnTo>
                  <a:pt x="0" y="182204"/>
                </a:lnTo>
                <a:arcTo wR="2699" hR="2699" stAng="10800000" swAng="-5400000"/>
                <a:lnTo>
                  <a:pt x="18901" y="18490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5873760" y="4044960"/>
            <a:ext cx="291960" cy="2502000"/>
          </a:xfrm>
          <a:custGeom>
            <a:avLst/>
            <a:gdLst>
              <a:gd name="textAreaLeft" fmla="*/ 10440 w 291960"/>
              <a:gd name="textAreaRight" fmla="*/ 281520 w 291960"/>
              <a:gd name="textAreaTop" fmla="*/ 10440 h 2502000"/>
              <a:gd name="textAreaBottom" fmla="*/ 2491560 h 2502000"/>
            </a:gdLst>
            <a:ahLst/>
            <a:rect l="textAreaLeft" t="textAreaTop" r="textAreaRight" b="textAreaBottom"/>
            <a:pathLst>
              <a:path w="21600" h="184903">
                <a:moveTo>
                  <a:pt x="2699" y="0"/>
                </a:moveTo>
                <a:arcTo wR="2699" hR="2699" stAng="16200000" swAng="-5400000"/>
                <a:lnTo>
                  <a:pt x="0" y="182204"/>
                </a:lnTo>
                <a:arcTo wR="2699" hR="2699" stAng="10800000" swAng="-5400000"/>
                <a:lnTo>
                  <a:pt x="18901" y="18490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387360" y="4654440"/>
            <a:ext cx="2577960" cy="825480"/>
          </a:xfrm>
          <a:prstGeom prst="rightArrow">
            <a:avLst>
              <a:gd name="adj1" fmla="val 50000"/>
              <a:gd name="adj2" fmla="val 156163"/>
            </a:avLst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290160" y="5624640"/>
            <a:ext cx="101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54080" y="366840"/>
            <a:ext cx="88358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LONGITUDINAL D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and ridges parallel to the wind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form because of a limited amount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5797440" y="3968640"/>
            <a:ext cx="2806920" cy="2502000"/>
            <a:chOff x="5797440" y="3968640"/>
            <a:chExt cx="2806920" cy="2502000"/>
          </a:xfrm>
        </p:grpSpPr>
        <p:sp>
          <p:nvSpPr>
            <p:cNvPr id="271" name="AutoShape 4"/>
            <p:cNvSpPr/>
            <p:nvPr/>
          </p:nvSpPr>
          <p:spPr>
            <a:xfrm>
              <a:off x="5797440" y="3968640"/>
              <a:ext cx="292320" cy="2502000"/>
            </a:xfrm>
            <a:custGeom>
              <a:avLst/>
              <a:gdLst>
                <a:gd name="textAreaLeft" fmla="*/ 10440 w 292320"/>
                <a:gd name="textAreaRight" fmla="*/ 281880 w 292320"/>
                <a:gd name="textAreaTop" fmla="*/ 10440 h 2502000"/>
                <a:gd name="textAreaBottom" fmla="*/ 2491560 h 2502000"/>
              </a:gdLst>
              <a:ahLst/>
              <a:rect l="textAreaLeft" t="textAreaTop" r="textAreaRight" b="textAreaBottom"/>
              <a:pathLst>
                <a:path w="21600" h="184676">
                  <a:moveTo>
                    <a:pt x="2699" y="0"/>
                  </a:moveTo>
                  <a:arcTo wR="2699" hR="2699" stAng="16200000" swAng="-5400000"/>
                  <a:lnTo>
                    <a:pt x="0" y="181977"/>
                  </a:lnTo>
                  <a:arcTo wR="2699" hR="2699" stAng="10800000" swAng="-5400000"/>
                  <a:lnTo>
                    <a:pt x="18901" y="18467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utoShape 5"/>
            <p:cNvSpPr/>
            <p:nvPr/>
          </p:nvSpPr>
          <p:spPr>
            <a:xfrm>
              <a:off x="6635880" y="3968640"/>
              <a:ext cx="291960" cy="2502000"/>
            </a:xfrm>
            <a:custGeom>
              <a:avLst/>
              <a:gdLst>
                <a:gd name="textAreaLeft" fmla="*/ 10440 w 291960"/>
                <a:gd name="textAreaRight" fmla="*/ 281520 w 291960"/>
                <a:gd name="textAreaTop" fmla="*/ 10440 h 2502000"/>
                <a:gd name="textAreaBottom" fmla="*/ 2491560 h 2502000"/>
              </a:gdLst>
              <a:ahLst/>
              <a:rect l="textAreaLeft" t="textAreaTop" r="textAreaRight" b="textAreaBottom"/>
              <a:pathLst>
                <a:path w="21600" h="184903">
                  <a:moveTo>
                    <a:pt x="2699" y="0"/>
                  </a:moveTo>
                  <a:arcTo wR="2699" hR="2699" stAng="16200000" swAng="-5400000"/>
                  <a:lnTo>
                    <a:pt x="0" y="182204"/>
                  </a:lnTo>
                  <a:arcTo wR="2699" hR="2699" stAng="10800000" swAng="-5400000"/>
                  <a:lnTo>
                    <a:pt x="18901" y="18490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7473960" y="3968640"/>
              <a:ext cx="291960" cy="2502000"/>
            </a:xfrm>
            <a:custGeom>
              <a:avLst/>
              <a:gdLst>
                <a:gd name="textAreaLeft" fmla="*/ 10440 w 291960"/>
                <a:gd name="textAreaRight" fmla="*/ 281520 w 291960"/>
                <a:gd name="textAreaTop" fmla="*/ 10440 h 2502000"/>
                <a:gd name="textAreaBottom" fmla="*/ 2491560 h 2502000"/>
              </a:gdLst>
              <a:ahLst/>
              <a:rect l="textAreaLeft" t="textAreaTop" r="textAreaRight" b="textAreaBottom"/>
              <a:pathLst>
                <a:path w="21600" h="184903">
                  <a:moveTo>
                    <a:pt x="2699" y="0"/>
                  </a:moveTo>
                  <a:arcTo wR="2699" hR="2699" stAng="16200000" swAng="-5400000"/>
                  <a:lnTo>
                    <a:pt x="0" y="182204"/>
                  </a:lnTo>
                  <a:arcTo wR="2699" hR="2699" stAng="10800000" swAng="-5400000"/>
                  <a:lnTo>
                    <a:pt x="18901" y="18490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7"/>
            <p:cNvSpPr/>
            <p:nvPr/>
          </p:nvSpPr>
          <p:spPr>
            <a:xfrm>
              <a:off x="8312040" y="3968640"/>
              <a:ext cx="292320" cy="2502000"/>
            </a:xfrm>
            <a:custGeom>
              <a:avLst/>
              <a:gdLst>
                <a:gd name="textAreaLeft" fmla="*/ 10440 w 292320"/>
                <a:gd name="textAreaRight" fmla="*/ 281880 w 292320"/>
                <a:gd name="textAreaTop" fmla="*/ 10440 h 2502000"/>
                <a:gd name="textAreaBottom" fmla="*/ 2491560 h 2502000"/>
              </a:gdLst>
              <a:ahLst/>
              <a:rect l="textAreaLeft" t="textAreaTop" r="textAreaRight" b="textAreaBottom"/>
              <a:pathLst>
                <a:path w="21600" h="184676">
                  <a:moveTo>
                    <a:pt x="2699" y="0"/>
                  </a:moveTo>
                  <a:arcTo wR="2699" hR="2699" stAng="16200000" swAng="-5400000"/>
                  <a:lnTo>
                    <a:pt x="0" y="181977"/>
                  </a:lnTo>
                  <a:arcTo wR="2699" hR="2699" stAng="10800000" swAng="-5400000"/>
                  <a:lnTo>
                    <a:pt x="18901" y="18467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8"/>
          <p:cNvSpPr/>
          <p:nvPr/>
        </p:nvSpPr>
        <p:spPr>
          <a:xfrm rot="16200000">
            <a:off x="3740040" y="4883040"/>
            <a:ext cx="2502000" cy="673200"/>
          </a:xfrm>
          <a:prstGeom prst="rightArrow">
            <a:avLst>
              <a:gd name="adj1" fmla="val 50000"/>
              <a:gd name="adj2" fmla="val 185846"/>
            </a:avLst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261240" y="5624640"/>
            <a:ext cx="1123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ES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ly textured sediment wind-blown long di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-blown glacial debris formed large depos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L9_image14"/>
          <p:cNvPicPr/>
          <p:nvPr/>
        </p:nvPicPr>
        <p:blipFill>
          <a:blip r:embed="rId1"/>
          <a:stretch/>
        </p:blipFill>
        <p:spPr>
          <a:xfrm>
            <a:off x="3913200" y="914400"/>
            <a:ext cx="5078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 - sequence of breaking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sh - water sliding up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sh - water flowing back down beach to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3968640" y="4197240"/>
            <a:ext cx="5016600" cy="1359000"/>
          </a:xfrm>
          <a:prstGeom prst="parallelogram">
            <a:avLst>
              <a:gd name="adj" fmla="val 9226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6705720" y="4419360"/>
            <a:ext cx="0" cy="19047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4876920" y="4419720"/>
            <a:ext cx="1676160" cy="1752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L9_image2"/>
          <p:cNvPicPr/>
          <p:nvPr/>
        </p:nvPicPr>
        <p:blipFill>
          <a:blip r:embed="rId1"/>
          <a:stretch/>
        </p:blipFill>
        <p:spPr>
          <a:xfrm>
            <a:off x="3886200" y="609480"/>
            <a:ext cx="51307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ve refraction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o coast, water gets more sh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are slowed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aves arrive at an angle, one part is slower than the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waves to bend = wave ref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ve refraction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471640" y="946080"/>
            <a:ext cx="88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21"/>
          <p:cNvGrpSpPr/>
          <p:nvPr/>
        </p:nvGrpSpPr>
        <p:grpSpPr>
          <a:xfrm>
            <a:off x="1523880" y="1768320"/>
            <a:ext cx="6769080" cy="3597480"/>
            <a:chOff x="1523880" y="1768320"/>
            <a:chExt cx="6769080" cy="3597480"/>
          </a:xfrm>
        </p:grpSpPr>
        <p:sp>
          <p:nvSpPr>
            <p:cNvPr id="67" name="Freeform 4"/>
            <p:cNvSpPr/>
            <p:nvPr/>
          </p:nvSpPr>
          <p:spPr>
            <a:xfrm>
              <a:off x="6035760" y="1949400"/>
              <a:ext cx="1440" cy="3416400"/>
            </a:xfrm>
            <a:custGeom>
              <a:avLst/>
              <a:gdLst/>
              <a:ahLst/>
              <a:rect l="l" t="t" r="r" b="b"/>
              <a:pathLst>
                <a:path w="1" h="2152">
                  <a:moveTo>
                    <a:pt x="0" y="2151"/>
                  </a:move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Arc 5"/>
            <p:cNvSpPr/>
            <p:nvPr/>
          </p:nvSpPr>
          <p:spPr>
            <a:xfrm>
              <a:off x="5973840" y="1768320"/>
              <a:ext cx="1341360" cy="1890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2" y="0"/>
                    <a:pt x="21590" y="9659"/>
                    <a:pt x="21599" y="21582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2" y="0"/>
                    <a:pt x="21590" y="9659"/>
                    <a:pt x="21599" y="215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rc 6"/>
            <p:cNvSpPr/>
            <p:nvPr/>
          </p:nvSpPr>
          <p:spPr>
            <a:xfrm>
              <a:off x="7316640" y="3595680"/>
              <a:ext cx="976320" cy="1036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565" y="21599"/>
                  </a:moveTo>
                  <a:cubicBezTo>
                    <a:pt x="9649" y="21580"/>
                    <a:pt x="0" y="11915"/>
                    <a:pt x="0" y="0"/>
                  </a:cubicBezTo>
                </a:path>
                <a:path stroke="0" w="21600" h="21600">
                  <a:moveTo>
                    <a:pt x="21565" y="21599"/>
                  </a:moveTo>
                  <a:cubicBezTo>
                    <a:pt x="9649" y="21580"/>
                    <a:pt x="0" y="11915"/>
                    <a:pt x="0" y="0"/>
                  </a:cubicBezTo>
                  <a:lnTo>
                    <a:pt x="21600" y="0"/>
                  </a:lnTo>
                  <a:lnTo>
                    <a:pt x="21565" y="21599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Arc 7"/>
            <p:cNvSpPr/>
            <p:nvPr/>
          </p:nvSpPr>
          <p:spPr>
            <a:xfrm>
              <a:off x="4878360" y="1768320"/>
              <a:ext cx="1096920" cy="1708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80"/>
                  </a:moveTo>
                  <a:cubicBezTo>
                    <a:pt x="11" y="9670"/>
                    <a:pt x="9659" y="17"/>
                    <a:pt x="21569" y="0"/>
                  </a:cubicBezTo>
                </a:path>
                <a:path stroke="0" w="21600" h="21600">
                  <a:moveTo>
                    <a:pt x="0" y="21580"/>
                  </a:moveTo>
                  <a:cubicBezTo>
                    <a:pt x="11" y="9670"/>
                    <a:pt x="9659" y="17"/>
                    <a:pt x="21569" y="0"/>
                  </a:cubicBezTo>
                  <a:lnTo>
                    <a:pt x="21600" y="21600"/>
                  </a:lnTo>
                  <a:lnTo>
                    <a:pt x="0" y="2158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Arc 8"/>
            <p:cNvSpPr/>
            <p:nvPr/>
          </p:nvSpPr>
          <p:spPr>
            <a:xfrm>
              <a:off x="3902040" y="3429000"/>
              <a:ext cx="977760" cy="1081080"/>
            </a:xfrm>
            <a:custGeom>
              <a:avLst/>
              <a:gdLst/>
              <a:ahLst/>
              <a:rect l="l" t="t" r="r" b="b"/>
              <a:pathLst>
                <a:path fill="none" w="21635" h="21600">
                  <a:moveTo>
                    <a:pt x="21635" y="0"/>
                  </a:moveTo>
                  <a:cubicBezTo>
                    <a:pt x="21635" y="11929"/>
                    <a:pt x="11964" y="21600"/>
                    <a:pt x="35" y="21600"/>
                  </a:cubicBezTo>
                  <a:cubicBezTo>
                    <a:pt x="23" y="21600"/>
                    <a:pt x="11" y="21599"/>
                    <a:pt x="0" y="21599"/>
                  </a:cubicBezTo>
                </a:path>
                <a:path stroke="0" w="21635" h="21600">
                  <a:moveTo>
                    <a:pt x="21635" y="0"/>
                  </a:moveTo>
                  <a:cubicBezTo>
                    <a:pt x="21635" y="11929"/>
                    <a:pt x="11964" y="21600"/>
                    <a:pt x="35" y="21600"/>
                  </a:cubicBezTo>
                  <a:cubicBezTo>
                    <a:pt x="23" y="21600"/>
                    <a:pt x="11" y="21599"/>
                    <a:pt x="0" y="21599"/>
                  </a:cubicBezTo>
                  <a:lnTo>
                    <a:pt x="35" y="0"/>
                  </a:lnTo>
                  <a:lnTo>
                    <a:pt x="21635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rc 9"/>
            <p:cNvSpPr/>
            <p:nvPr/>
          </p:nvSpPr>
          <p:spPr>
            <a:xfrm>
              <a:off x="2927520" y="3473280"/>
              <a:ext cx="976320" cy="1036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565" y="21599"/>
                  </a:moveTo>
                  <a:cubicBezTo>
                    <a:pt x="9649" y="21580"/>
                    <a:pt x="0" y="11915"/>
                    <a:pt x="0" y="0"/>
                  </a:cubicBezTo>
                </a:path>
                <a:path stroke="0" w="21600" h="21600">
                  <a:moveTo>
                    <a:pt x="21565" y="21599"/>
                  </a:moveTo>
                  <a:cubicBezTo>
                    <a:pt x="9649" y="21580"/>
                    <a:pt x="0" y="11915"/>
                    <a:pt x="0" y="0"/>
                  </a:cubicBezTo>
                  <a:lnTo>
                    <a:pt x="21600" y="0"/>
                  </a:lnTo>
                  <a:lnTo>
                    <a:pt x="21565" y="21599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>
              <a:off x="8291520" y="4754520"/>
              <a:ext cx="1440" cy="549360"/>
            </a:xfrm>
            <a:custGeom>
              <a:avLst/>
              <a:gdLst/>
              <a:ahLst/>
              <a:rect l="l" t="t" r="r" b="b"/>
              <a:pathLst>
                <a:path w="1" h="346">
                  <a:moveTo>
                    <a:pt x="0" y="345"/>
                  </a:move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3840120" y="4632480"/>
              <a:ext cx="1800" cy="671400"/>
            </a:xfrm>
            <a:custGeom>
              <a:avLst/>
              <a:gdLst/>
              <a:ahLst/>
              <a:rect l="l" t="t" r="r" b="b"/>
              <a:pathLst>
                <a:path w="1" h="423">
                  <a:moveTo>
                    <a:pt x="0" y="422"/>
                  </a:move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6400800" y="2741760"/>
              <a:ext cx="488880" cy="2624040"/>
            </a:xfrm>
            <a:custGeom>
              <a:avLst/>
              <a:gdLst/>
              <a:ahLst/>
              <a:rect l="l" t="t" r="r" b="b"/>
              <a:pathLst>
                <a:path w="308" h="1653">
                  <a:moveTo>
                    <a:pt x="0" y="1652"/>
                  </a:moveTo>
                  <a:lnTo>
                    <a:pt x="0" y="177"/>
                  </a:lnTo>
                  <a:lnTo>
                    <a:pt x="6" y="156"/>
                  </a:lnTo>
                  <a:lnTo>
                    <a:pt x="6" y="142"/>
                  </a:lnTo>
                  <a:lnTo>
                    <a:pt x="14" y="126"/>
                  </a:lnTo>
                  <a:lnTo>
                    <a:pt x="20" y="112"/>
                  </a:lnTo>
                  <a:lnTo>
                    <a:pt x="26" y="97"/>
                  </a:lnTo>
                  <a:lnTo>
                    <a:pt x="39" y="89"/>
                  </a:lnTo>
                  <a:lnTo>
                    <a:pt x="46" y="74"/>
                  </a:lnTo>
                  <a:lnTo>
                    <a:pt x="59" y="67"/>
                  </a:lnTo>
                  <a:lnTo>
                    <a:pt x="65" y="53"/>
                  </a:lnTo>
                  <a:lnTo>
                    <a:pt x="79" y="53"/>
                  </a:lnTo>
                  <a:lnTo>
                    <a:pt x="85" y="37"/>
                  </a:lnTo>
                  <a:lnTo>
                    <a:pt x="98" y="30"/>
                  </a:lnTo>
                  <a:lnTo>
                    <a:pt x="112" y="23"/>
                  </a:lnTo>
                  <a:lnTo>
                    <a:pt x="124" y="15"/>
                  </a:lnTo>
                  <a:lnTo>
                    <a:pt x="137" y="7"/>
                  </a:lnTo>
                  <a:lnTo>
                    <a:pt x="151" y="7"/>
                  </a:lnTo>
                  <a:lnTo>
                    <a:pt x="163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3" y="0"/>
                  </a:lnTo>
                  <a:lnTo>
                    <a:pt x="216" y="0"/>
                  </a:lnTo>
                  <a:lnTo>
                    <a:pt x="229" y="0"/>
                  </a:lnTo>
                  <a:lnTo>
                    <a:pt x="242" y="0"/>
                  </a:lnTo>
                  <a:lnTo>
                    <a:pt x="255" y="0"/>
                  </a:lnTo>
                  <a:lnTo>
                    <a:pt x="268" y="0"/>
                  </a:lnTo>
                  <a:lnTo>
                    <a:pt x="281" y="0"/>
                  </a:lnTo>
                  <a:lnTo>
                    <a:pt x="294" y="0"/>
                  </a:lnTo>
                  <a:lnTo>
                    <a:pt x="307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181480" y="2741760"/>
              <a:ext cx="551160" cy="2624040"/>
            </a:xfrm>
            <a:custGeom>
              <a:avLst/>
              <a:gdLst/>
              <a:ahLst/>
              <a:rect l="l" t="t" r="r" b="b"/>
              <a:pathLst>
                <a:path w="347" h="1653">
                  <a:moveTo>
                    <a:pt x="346" y="1652"/>
                  </a:moveTo>
                  <a:lnTo>
                    <a:pt x="346" y="177"/>
                  </a:lnTo>
                  <a:lnTo>
                    <a:pt x="339" y="156"/>
                  </a:lnTo>
                  <a:lnTo>
                    <a:pt x="339" y="142"/>
                  </a:lnTo>
                  <a:lnTo>
                    <a:pt x="331" y="126"/>
                  </a:lnTo>
                  <a:lnTo>
                    <a:pt x="324" y="112"/>
                  </a:lnTo>
                  <a:lnTo>
                    <a:pt x="316" y="97"/>
                  </a:lnTo>
                  <a:lnTo>
                    <a:pt x="302" y="89"/>
                  </a:lnTo>
                  <a:lnTo>
                    <a:pt x="294" y="74"/>
                  </a:lnTo>
                  <a:lnTo>
                    <a:pt x="280" y="67"/>
                  </a:lnTo>
                  <a:lnTo>
                    <a:pt x="272" y="53"/>
                  </a:lnTo>
                  <a:lnTo>
                    <a:pt x="257" y="53"/>
                  </a:lnTo>
                  <a:lnTo>
                    <a:pt x="250" y="37"/>
                  </a:lnTo>
                  <a:lnTo>
                    <a:pt x="235" y="30"/>
                  </a:lnTo>
                  <a:lnTo>
                    <a:pt x="220" y="23"/>
                  </a:lnTo>
                  <a:lnTo>
                    <a:pt x="206" y="15"/>
                  </a:lnTo>
                  <a:lnTo>
                    <a:pt x="191" y="7"/>
                  </a:lnTo>
                  <a:lnTo>
                    <a:pt x="176" y="7"/>
                  </a:lnTo>
                  <a:lnTo>
                    <a:pt x="162" y="0"/>
                  </a:lnTo>
                  <a:lnTo>
                    <a:pt x="147" y="0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705720" y="3290760"/>
              <a:ext cx="366480" cy="2075040"/>
            </a:xfrm>
            <a:custGeom>
              <a:avLst/>
              <a:gdLst/>
              <a:ahLst/>
              <a:rect l="l" t="t" r="r" b="b"/>
              <a:pathLst>
                <a:path w="231" h="1307">
                  <a:moveTo>
                    <a:pt x="0" y="1306"/>
                  </a:moveTo>
                  <a:lnTo>
                    <a:pt x="0" y="140"/>
                  </a:lnTo>
                  <a:lnTo>
                    <a:pt x="5" y="123"/>
                  </a:lnTo>
                  <a:lnTo>
                    <a:pt x="5" y="112"/>
                  </a:lnTo>
                  <a:lnTo>
                    <a:pt x="10" y="100"/>
                  </a:lnTo>
                  <a:lnTo>
                    <a:pt x="15" y="88"/>
                  </a:lnTo>
                  <a:lnTo>
                    <a:pt x="20" y="77"/>
                  </a:lnTo>
                  <a:lnTo>
                    <a:pt x="29" y="70"/>
                  </a:lnTo>
                  <a:lnTo>
                    <a:pt x="35" y="59"/>
                  </a:lnTo>
                  <a:lnTo>
                    <a:pt x="44" y="53"/>
                  </a:lnTo>
                  <a:lnTo>
                    <a:pt x="49" y="42"/>
                  </a:lnTo>
                  <a:lnTo>
                    <a:pt x="59" y="42"/>
                  </a:lnTo>
                  <a:lnTo>
                    <a:pt x="64" y="29"/>
                  </a:lnTo>
                  <a:lnTo>
                    <a:pt x="73" y="24"/>
                  </a:lnTo>
                  <a:lnTo>
                    <a:pt x="84" y="18"/>
                  </a:lnTo>
                  <a:lnTo>
                    <a:pt x="93" y="12"/>
                  </a:lnTo>
                  <a:lnTo>
                    <a:pt x="103" y="6"/>
                  </a:lnTo>
                  <a:lnTo>
                    <a:pt x="113" y="6"/>
                  </a:lnTo>
                  <a:lnTo>
                    <a:pt x="122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81" y="0"/>
                  </a:lnTo>
                  <a:lnTo>
                    <a:pt x="191" y="0"/>
                  </a:lnTo>
                  <a:lnTo>
                    <a:pt x="201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3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5121360" y="3290760"/>
              <a:ext cx="366480" cy="2075040"/>
            </a:xfrm>
            <a:custGeom>
              <a:avLst/>
              <a:gdLst/>
              <a:ahLst/>
              <a:rect l="l" t="t" r="r" b="b"/>
              <a:pathLst>
                <a:path w="231" h="1307">
                  <a:moveTo>
                    <a:pt x="230" y="1306"/>
                  </a:moveTo>
                  <a:lnTo>
                    <a:pt x="230" y="140"/>
                  </a:lnTo>
                  <a:lnTo>
                    <a:pt x="225" y="123"/>
                  </a:lnTo>
                  <a:lnTo>
                    <a:pt x="225" y="112"/>
                  </a:lnTo>
                  <a:lnTo>
                    <a:pt x="220" y="100"/>
                  </a:lnTo>
                  <a:lnTo>
                    <a:pt x="215" y="88"/>
                  </a:lnTo>
                  <a:lnTo>
                    <a:pt x="210" y="77"/>
                  </a:lnTo>
                  <a:lnTo>
                    <a:pt x="201" y="70"/>
                  </a:lnTo>
                  <a:lnTo>
                    <a:pt x="195" y="59"/>
                  </a:lnTo>
                  <a:lnTo>
                    <a:pt x="186" y="53"/>
                  </a:lnTo>
                  <a:lnTo>
                    <a:pt x="181" y="42"/>
                  </a:lnTo>
                  <a:lnTo>
                    <a:pt x="171" y="42"/>
                  </a:lnTo>
                  <a:lnTo>
                    <a:pt x="166" y="29"/>
                  </a:lnTo>
                  <a:lnTo>
                    <a:pt x="157" y="24"/>
                  </a:lnTo>
                  <a:lnTo>
                    <a:pt x="146" y="18"/>
                  </a:lnTo>
                  <a:lnTo>
                    <a:pt x="137" y="12"/>
                  </a:lnTo>
                  <a:lnTo>
                    <a:pt x="127" y="6"/>
                  </a:lnTo>
                  <a:lnTo>
                    <a:pt x="117" y="6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Arc 16"/>
            <p:cNvSpPr/>
            <p:nvPr/>
          </p:nvSpPr>
          <p:spPr>
            <a:xfrm>
              <a:off x="1523880" y="1830240"/>
              <a:ext cx="1447920" cy="1676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1" y="0"/>
                    <a:pt x="21588" y="9658"/>
                    <a:pt x="21599" y="2158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1" y="0"/>
                    <a:pt x="21588" y="9658"/>
                    <a:pt x="21599" y="2158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1616040" y="2057400"/>
              <a:ext cx="1800" cy="3232080"/>
            </a:xfrm>
            <a:custGeom>
              <a:avLst/>
              <a:gdLst/>
              <a:ahLst/>
              <a:rect l="l" t="t" r="r" b="b"/>
              <a:pathLst>
                <a:path w="1" h="2036">
                  <a:moveTo>
                    <a:pt x="0" y="2035"/>
                  </a:move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1981080" y="2665440"/>
              <a:ext cx="489240" cy="2624040"/>
            </a:xfrm>
            <a:custGeom>
              <a:avLst/>
              <a:gdLst/>
              <a:ahLst/>
              <a:rect l="l" t="t" r="r" b="b"/>
              <a:pathLst>
                <a:path w="308" h="1653">
                  <a:moveTo>
                    <a:pt x="0" y="1652"/>
                  </a:moveTo>
                  <a:lnTo>
                    <a:pt x="0" y="177"/>
                  </a:lnTo>
                  <a:lnTo>
                    <a:pt x="6" y="156"/>
                  </a:lnTo>
                  <a:lnTo>
                    <a:pt x="6" y="142"/>
                  </a:lnTo>
                  <a:lnTo>
                    <a:pt x="14" y="126"/>
                  </a:lnTo>
                  <a:lnTo>
                    <a:pt x="20" y="112"/>
                  </a:lnTo>
                  <a:lnTo>
                    <a:pt x="26" y="97"/>
                  </a:lnTo>
                  <a:lnTo>
                    <a:pt x="39" y="89"/>
                  </a:lnTo>
                  <a:lnTo>
                    <a:pt x="46" y="74"/>
                  </a:lnTo>
                  <a:lnTo>
                    <a:pt x="59" y="67"/>
                  </a:lnTo>
                  <a:lnTo>
                    <a:pt x="65" y="53"/>
                  </a:lnTo>
                  <a:lnTo>
                    <a:pt x="79" y="53"/>
                  </a:lnTo>
                  <a:lnTo>
                    <a:pt x="85" y="37"/>
                  </a:lnTo>
                  <a:lnTo>
                    <a:pt x="98" y="30"/>
                  </a:lnTo>
                  <a:lnTo>
                    <a:pt x="112" y="23"/>
                  </a:lnTo>
                  <a:lnTo>
                    <a:pt x="124" y="15"/>
                  </a:lnTo>
                  <a:lnTo>
                    <a:pt x="137" y="7"/>
                  </a:lnTo>
                  <a:lnTo>
                    <a:pt x="151" y="7"/>
                  </a:lnTo>
                  <a:lnTo>
                    <a:pt x="163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3" y="0"/>
                  </a:lnTo>
                  <a:lnTo>
                    <a:pt x="216" y="0"/>
                  </a:lnTo>
                  <a:lnTo>
                    <a:pt x="229" y="0"/>
                  </a:lnTo>
                  <a:lnTo>
                    <a:pt x="242" y="0"/>
                  </a:lnTo>
                  <a:lnTo>
                    <a:pt x="255" y="0"/>
                  </a:lnTo>
                  <a:lnTo>
                    <a:pt x="268" y="0"/>
                  </a:lnTo>
                  <a:lnTo>
                    <a:pt x="281" y="0"/>
                  </a:lnTo>
                  <a:lnTo>
                    <a:pt x="294" y="0"/>
                  </a:lnTo>
                  <a:lnTo>
                    <a:pt x="307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2362320" y="3214800"/>
              <a:ext cx="366480" cy="2074680"/>
            </a:xfrm>
            <a:custGeom>
              <a:avLst/>
              <a:gdLst/>
              <a:ahLst/>
              <a:rect l="l" t="t" r="r" b="b"/>
              <a:pathLst>
                <a:path w="231" h="1307">
                  <a:moveTo>
                    <a:pt x="0" y="1306"/>
                  </a:moveTo>
                  <a:lnTo>
                    <a:pt x="0" y="140"/>
                  </a:lnTo>
                  <a:lnTo>
                    <a:pt x="5" y="123"/>
                  </a:lnTo>
                  <a:lnTo>
                    <a:pt x="5" y="112"/>
                  </a:lnTo>
                  <a:lnTo>
                    <a:pt x="10" y="100"/>
                  </a:lnTo>
                  <a:lnTo>
                    <a:pt x="15" y="88"/>
                  </a:lnTo>
                  <a:lnTo>
                    <a:pt x="20" y="77"/>
                  </a:lnTo>
                  <a:lnTo>
                    <a:pt x="29" y="70"/>
                  </a:lnTo>
                  <a:lnTo>
                    <a:pt x="35" y="59"/>
                  </a:lnTo>
                  <a:lnTo>
                    <a:pt x="44" y="53"/>
                  </a:lnTo>
                  <a:lnTo>
                    <a:pt x="49" y="42"/>
                  </a:lnTo>
                  <a:lnTo>
                    <a:pt x="59" y="42"/>
                  </a:lnTo>
                  <a:lnTo>
                    <a:pt x="64" y="29"/>
                  </a:lnTo>
                  <a:lnTo>
                    <a:pt x="73" y="24"/>
                  </a:lnTo>
                  <a:lnTo>
                    <a:pt x="84" y="18"/>
                  </a:lnTo>
                  <a:lnTo>
                    <a:pt x="93" y="12"/>
                  </a:lnTo>
                  <a:lnTo>
                    <a:pt x="103" y="6"/>
                  </a:lnTo>
                  <a:lnTo>
                    <a:pt x="113" y="6"/>
                  </a:lnTo>
                  <a:lnTo>
                    <a:pt x="122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81" y="0"/>
                  </a:lnTo>
                  <a:lnTo>
                    <a:pt x="191" y="0"/>
                  </a:lnTo>
                  <a:lnTo>
                    <a:pt x="201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3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0"/>
            <p:cNvSpPr/>
            <p:nvPr/>
          </p:nvSpPr>
          <p:spPr>
            <a:xfrm>
              <a:off x="2963160" y="3048120"/>
              <a:ext cx="191880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eadlan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arriving at bays are slow (depos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eadlands, faster (ero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7" descr="L9_image3"/>
          <p:cNvPicPr/>
          <p:nvPr/>
        </p:nvPicPr>
        <p:blipFill>
          <a:blip r:embed="rId1"/>
          <a:stretch/>
        </p:blipFill>
        <p:spPr>
          <a:xfrm>
            <a:off x="228600" y="1947960"/>
            <a:ext cx="861048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320" y="160020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quence of features is produced as headlands are degra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cl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erode base 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cu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4114800" y="2590920"/>
            <a:ext cx="4878360" cy="763560"/>
          </a:xfrm>
          <a:custGeom>
            <a:avLst/>
            <a:gdLst/>
            <a:ahLst/>
            <a:rect l="l" t="t" r="r" b="b"/>
            <a:pathLst>
              <a:path w="3073" h="481">
                <a:moveTo>
                  <a:pt x="1728" y="432"/>
                </a:moveTo>
                <a:lnTo>
                  <a:pt x="1704" y="418"/>
                </a:lnTo>
                <a:lnTo>
                  <a:pt x="1776" y="480"/>
                </a:lnTo>
                <a:lnTo>
                  <a:pt x="3072" y="480"/>
                </a:lnTo>
                <a:lnTo>
                  <a:pt x="3072" y="0"/>
                </a:lnTo>
                <a:lnTo>
                  <a:pt x="0" y="0"/>
                </a:lnTo>
                <a:lnTo>
                  <a:pt x="0" y="288"/>
                </a:lnTo>
                <a:lnTo>
                  <a:pt x="21" y="298"/>
                </a:lnTo>
                <a:lnTo>
                  <a:pt x="40" y="307"/>
                </a:lnTo>
                <a:lnTo>
                  <a:pt x="58" y="307"/>
                </a:lnTo>
                <a:lnTo>
                  <a:pt x="77" y="307"/>
                </a:lnTo>
                <a:lnTo>
                  <a:pt x="95" y="307"/>
                </a:lnTo>
                <a:lnTo>
                  <a:pt x="113" y="307"/>
                </a:lnTo>
                <a:lnTo>
                  <a:pt x="132" y="307"/>
                </a:lnTo>
                <a:lnTo>
                  <a:pt x="150" y="307"/>
                </a:lnTo>
                <a:lnTo>
                  <a:pt x="168" y="307"/>
                </a:lnTo>
                <a:lnTo>
                  <a:pt x="187" y="307"/>
                </a:lnTo>
                <a:lnTo>
                  <a:pt x="205" y="317"/>
                </a:lnTo>
                <a:lnTo>
                  <a:pt x="224" y="317"/>
                </a:lnTo>
                <a:lnTo>
                  <a:pt x="242" y="317"/>
                </a:lnTo>
                <a:lnTo>
                  <a:pt x="260" y="317"/>
                </a:lnTo>
                <a:lnTo>
                  <a:pt x="279" y="317"/>
                </a:lnTo>
                <a:lnTo>
                  <a:pt x="297" y="317"/>
                </a:lnTo>
                <a:lnTo>
                  <a:pt x="316" y="317"/>
                </a:lnTo>
                <a:lnTo>
                  <a:pt x="334" y="326"/>
                </a:lnTo>
                <a:lnTo>
                  <a:pt x="352" y="326"/>
                </a:lnTo>
                <a:lnTo>
                  <a:pt x="371" y="326"/>
                </a:lnTo>
                <a:lnTo>
                  <a:pt x="389" y="326"/>
                </a:lnTo>
                <a:lnTo>
                  <a:pt x="408" y="326"/>
                </a:lnTo>
                <a:lnTo>
                  <a:pt x="435" y="335"/>
                </a:lnTo>
                <a:lnTo>
                  <a:pt x="454" y="335"/>
                </a:lnTo>
                <a:lnTo>
                  <a:pt x="472" y="335"/>
                </a:lnTo>
                <a:lnTo>
                  <a:pt x="490" y="335"/>
                </a:lnTo>
                <a:lnTo>
                  <a:pt x="509" y="335"/>
                </a:lnTo>
                <a:lnTo>
                  <a:pt x="527" y="335"/>
                </a:lnTo>
                <a:lnTo>
                  <a:pt x="545" y="335"/>
                </a:lnTo>
                <a:lnTo>
                  <a:pt x="564" y="335"/>
                </a:lnTo>
                <a:lnTo>
                  <a:pt x="582" y="335"/>
                </a:lnTo>
                <a:lnTo>
                  <a:pt x="601" y="335"/>
                </a:lnTo>
                <a:lnTo>
                  <a:pt x="619" y="335"/>
                </a:lnTo>
                <a:lnTo>
                  <a:pt x="637" y="335"/>
                </a:lnTo>
                <a:lnTo>
                  <a:pt x="665" y="335"/>
                </a:lnTo>
                <a:lnTo>
                  <a:pt x="693" y="335"/>
                </a:lnTo>
                <a:lnTo>
                  <a:pt x="711" y="335"/>
                </a:lnTo>
                <a:lnTo>
                  <a:pt x="729" y="326"/>
                </a:lnTo>
                <a:lnTo>
                  <a:pt x="748" y="326"/>
                </a:lnTo>
                <a:lnTo>
                  <a:pt x="766" y="317"/>
                </a:lnTo>
                <a:lnTo>
                  <a:pt x="785" y="317"/>
                </a:lnTo>
                <a:lnTo>
                  <a:pt x="803" y="307"/>
                </a:lnTo>
                <a:lnTo>
                  <a:pt x="821" y="307"/>
                </a:lnTo>
                <a:lnTo>
                  <a:pt x="840" y="307"/>
                </a:lnTo>
                <a:lnTo>
                  <a:pt x="858" y="307"/>
                </a:lnTo>
                <a:lnTo>
                  <a:pt x="877" y="307"/>
                </a:lnTo>
                <a:lnTo>
                  <a:pt x="895" y="298"/>
                </a:lnTo>
                <a:lnTo>
                  <a:pt x="913" y="298"/>
                </a:lnTo>
                <a:lnTo>
                  <a:pt x="932" y="298"/>
                </a:lnTo>
                <a:lnTo>
                  <a:pt x="950" y="298"/>
                </a:lnTo>
                <a:lnTo>
                  <a:pt x="968" y="298"/>
                </a:lnTo>
                <a:lnTo>
                  <a:pt x="987" y="289"/>
                </a:lnTo>
                <a:lnTo>
                  <a:pt x="1005" y="289"/>
                </a:lnTo>
                <a:lnTo>
                  <a:pt x="1024" y="289"/>
                </a:lnTo>
                <a:lnTo>
                  <a:pt x="1042" y="280"/>
                </a:lnTo>
                <a:lnTo>
                  <a:pt x="1060" y="280"/>
                </a:lnTo>
                <a:lnTo>
                  <a:pt x="1079" y="280"/>
                </a:lnTo>
                <a:lnTo>
                  <a:pt x="1097" y="280"/>
                </a:lnTo>
                <a:lnTo>
                  <a:pt x="1116" y="280"/>
                </a:lnTo>
                <a:lnTo>
                  <a:pt x="1134" y="280"/>
                </a:lnTo>
                <a:lnTo>
                  <a:pt x="1152" y="289"/>
                </a:lnTo>
                <a:lnTo>
                  <a:pt x="1171" y="289"/>
                </a:lnTo>
                <a:lnTo>
                  <a:pt x="1189" y="298"/>
                </a:lnTo>
                <a:lnTo>
                  <a:pt x="1208" y="298"/>
                </a:lnTo>
                <a:lnTo>
                  <a:pt x="1226" y="307"/>
                </a:lnTo>
                <a:lnTo>
                  <a:pt x="1244" y="317"/>
                </a:lnTo>
                <a:lnTo>
                  <a:pt x="1263" y="317"/>
                </a:lnTo>
                <a:lnTo>
                  <a:pt x="1290" y="335"/>
                </a:lnTo>
                <a:lnTo>
                  <a:pt x="1309" y="335"/>
                </a:lnTo>
                <a:lnTo>
                  <a:pt x="1327" y="344"/>
                </a:lnTo>
                <a:lnTo>
                  <a:pt x="1345" y="353"/>
                </a:lnTo>
                <a:lnTo>
                  <a:pt x="1364" y="353"/>
                </a:lnTo>
                <a:lnTo>
                  <a:pt x="1382" y="362"/>
                </a:lnTo>
                <a:lnTo>
                  <a:pt x="1401" y="362"/>
                </a:lnTo>
                <a:lnTo>
                  <a:pt x="1419" y="362"/>
                </a:lnTo>
                <a:lnTo>
                  <a:pt x="1437" y="372"/>
                </a:lnTo>
                <a:lnTo>
                  <a:pt x="1456" y="381"/>
                </a:lnTo>
                <a:lnTo>
                  <a:pt x="1474" y="381"/>
                </a:lnTo>
                <a:lnTo>
                  <a:pt x="1502" y="390"/>
                </a:lnTo>
                <a:lnTo>
                  <a:pt x="1520" y="390"/>
                </a:lnTo>
                <a:lnTo>
                  <a:pt x="1539" y="399"/>
                </a:lnTo>
                <a:lnTo>
                  <a:pt x="1557" y="408"/>
                </a:lnTo>
                <a:lnTo>
                  <a:pt x="1575" y="408"/>
                </a:lnTo>
                <a:lnTo>
                  <a:pt x="1594" y="408"/>
                </a:lnTo>
                <a:lnTo>
                  <a:pt x="1612" y="408"/>
                </a:lnTo>
                <a:lnTo>
                  <a:pt x="1631" y="418"/>
                </a:lnTo>
                <a:lnTo>
                  <a:pt x="1649" y="418"/>
                </a:lnTo>
                <a:lnTo>
                  <a:pt x="1677" y="427"/>
                </a:lnTo>
                <a:lnTo>
                  <a:pt x="1695" y="436"/>
                </a:lnTo>
                <a:lnTo>
                  <a:pt x="1713" y="43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4"/>
          <p:cNvSpPr/>
          <p:nvPr/>
        </p:nvSpPr>
        <p:spPr>
          <a:xfrm>
            <a:off x="3930480" y="380880"/>
            <a:ext cx="2907000" cy="2892600"/>
          </a:xfrm>
          <a:custGeom>
            <a:avLst/>
            <a:gdLst/>
            <a:ahLst/>
            <a:rect l="l" t="t" r="r" b="b"/>
            <a:pathLst>
              <a:path w="1831" h="1822">
                <a:moveTo>
                  <a:pt x="20" y="0"/>
                </a:moveTo>
                <a:lnTo>
                  <a:pt x="9" y="19"/>
                </a:lnTo>
                <a:lnTo>
                  <a:pt x="9" y="37"/>
                </a:lnTo>
                <a:lnTo>
                  <a:pt x="9" y="55"/>
                </a:lnTo>
                <a:lnTo>
                  <a:pt x="9" y="74"/>
                </a:lnTo>
                <a:lnTo>
                  <a:pt x="9" y="92"/>
                </a:lnTo>
                <a:lnTo>
                  <a:pt x="9" y="111"/>
                </a:lnTo>
                <a:lnTo>
                  <a:pt x="9" y="138"/>
                </a:lnTo>
                <a:lnTo>
                  <a:pt x="9" y="157"/>
                </a:lnTo>
                <a:lnTo>
                  <a:pt x="9" y="184"/>
                </a:lnTo>
                <a:lnTo>
                  <a:pt x="9" y="202"/>
                </a:lnTo>
                <a:lnTo>
                  <a:pt x="9" y="221"/>
                </a:lnTo>
                <a:lnTo>
                  <a:pt x="9" y="239"/>
                </a:lnTo>
                <a:lnTo>
                  <a:pt x="9" y="258"/>
                </a:lnTo>
                <a:lnTo>
                  <a:pt x="9" y="285"/>
                </a:lnTo>
                <a:lnTo>
                  <a:pt x="0" y="313"/>
                </a:lnTo>
                <a:lnTo>
                  <a:pt x="0" y="350"/>
                </a:lnTo>
                <a:lnTo>
                  <a:pt x="0" y="377"/>
                </a:lnTo>
                <a:lnTo>
                  <a:pt x="0" y="396"/>
                </a:lnTo>
                <a:lnTo>
                  <a:pt x="0" y="414"/>
                </a:lnTo>
                <a:lnTo>
                  <a:pt x="0" y="442"/>
                </a:lnTo>
                <a:lnTo>
                  <a:pt x="0" y="460"/>
                </a:lnTo>
                <a:lnTo>
                  <a:pt x="0" y="478"/>
                </a:lnTo>
                <a:lnTo>
                  <a:pt x="9" y="506"/>
                </a:lnTo>
                <a:lnTo>
                  <a:pt x="9" y="524"/>
                </a:lnTo>
                <a:lnTo>
                  <a:pt x="9" y="543"/>
                </a:lnTo>
                <a:lnTo>
                  <a:pt x="9" y="561"/>
                </a:lnTo>
                <a:lnTo>
                  <a:pt x="9" y="579"/>
                </a:lnTo>
                <a:lnTo>
                  <a:pt x="9" y="598"/>
                </a:lnTo>
                <a:lnTo>
                  <a:pt x="9" y="616"/>
                </a:lnTo>
                <a:lnTo>
                  <a:pt x="18" y="635"/>
                </a:lnTo>
                <a:lnTo>
                  <a:pt x="18" y="653"/>
                </a:lnTo>
                <a:lnTo>
                  <a:pt x="28" y="671"/>
                </a:lnTo>
                <a:lnTo>
                  <a:pt x="28" y="690"/>
                </a:lnTo>
                <a:lnTo>
                  <a:pt x="28" y="708"/>
                </a:lnTo>
                <a:lnTo>
                  <a:pt x="28" y="736"/>
                </a:lnTo>
                <a:lnTo>
                  <a:pt x="28" y="763"/>
                </a:lnTo>
                <a:lnTo>
                  <a:pt x="28" y="782"/>
                </a:lnTo>
                <a:lnTo>
                  <a:pt x="28" y="800"/>
                </a:lnTo>
                <a:lnTo>
                  <a:pt x="28" y="819"/>
                </a:lnTo>
                <a:lnTo>
                  <a:pt x="28" y="846"/>
                </a:lnTo>
                <a:lnTo>
                  <a:pt x="37" y="865"/>
                </a:lnTo>
                <a:lnTo>
                  <a:pt x="46" y="883"/>
                </a:lnTo>
                <a:lnTo>
                  <a:pt x="46" y="920"/>
                </a:lnTo>
                <a:lnTo>
                  <a:pt x="46" y="947"/>
                </a:lnTo>
                <a:lnTo>
                  <a:pt x="46" y="966"/>
                </a:lnTo>
                <a:lnTo>
                  <a:pt x="46" y="984"/>
                </a:lnTo>
                <a:lnTo>
                  <a:pt x="46" y="1002"/>
                </a:lnTo>
                <a:lnTo>
                  <a:pt x="46" y="1021"/>
                </a:lnTo>
                <a:lnTo>
                  <a:pt x="46" y="1039"/>
                </a:lnTo>
                <a:lnTo>
                  <a:pt x="46" y="1058"/>
                </a:lnTo>
                <a:lnTo>
                  <a:pt x="46" y="1076"/>
                </a:lnTo>
                <a:lnTo>
                  <a:pt x="46" y="1094"/>
                </a:lnTo>
                <a:lnTo>
                  <a:pt x="46" y="1113"/>
                </a:lnTo>
                <a:lnTo>
                  <a:pt x="46" y="1131"/>
                </a:lnTo>
                <a:lnTo>
                  <a:pt x="46" y="1159"/>
                </a:lnTo>
                <a:lnTo>
                  <a:pt x="55" y="1177"/>
                </a:lnTo>
                <a:lnTo>
                  <a:pt x="55" y="1196"/>
                </a:lnTo>
                <a:lnTo>
                  <a:pt x="64" y="1223"/>
                </a:lnTo>
                <a:lnTo>
                  <a:pt x="74" y="1251"/>
                </a:lnTo>
                <a:lnTo>
                  <a:pt x="92" y="1278"/>
                </a:lnTo>
                <a:lnTo>
                  <a:pt x="92" y="1297"/>
                </a:lnTo>
                <a:lnTo>
                  <a:pt x="92" y="1315"/>
                </a:lnTo>
                <a:lnTo>
                  <a:pt x="101" y="1334"/>
                </a:lnTo>
                <a:lnTo>
                  <a:pt x="101" y="1352"/>
                </a:lnTo>
                <a:lnTo>
                  <a:pt x="110" y="1370"/>
                </a:lnTo>
                <a:lnTo>
                  <a:pt x="110" y="1389"/>
                </a:lnTo>
                <a:lnTo>
                  <a:pt x="110" y="1407"/>
                </a:lnTo>
                <a:lnTo>
                  <a:pt x="110" y="1425"/>
                </a:lnTo>
                <a:lnTo>
                  <a:pt x="110" y="1444"/>
                </a:lnTo>
                <a:lnTo>
                  <a:pt x="110" y="1462"/>
                </a:lnTo>
                <a:lnTo>
                  <a:pt x="110" y="1481"/>
                </a:lnTo>
                <a:lnTo>
                  <a:pt x="110" y="1499"/>
                </a:lnTo>
                <a:lnTo>
                  <a:pt x="110" y="1517"/>
                </a:lnTo>
                <a:lnTo>
                  <a:pt x="110" y="1545"/>
                </a:lnTo>
                <a:lnTo>
                  <a:pt x="110" y="1573"/>
                </a:lnTo>
                <a:lnTo>
                  <a:pt x="110" y="1591"/>
                </a:lnTo>
                <a:lnTo>
                  <a:pt x="110" y="1609"/>
                </a:lnTo>
                <a:lnTo>
                  <a:pt x="110" y="1628"/>
                </a:lnTo>
                <a:lnTo>
                  <a:pt x="110" y="1655"/>
                </a:lnTo>
                <a:lnTo>
                  <a:pt x="110" y="1674"/>
                </a:lnTo>
                <a:lnTo>
                  <a:pt x="110" y="1692"/>
                </a:lnTo>
                <a:lnTo>
                  <a:pt x="129" y="1701"/>
                </a:lnTo>
                <a:lnTo>
                  <a:pt x="147" y="1701"/>
                </a:lnTo>
                <a:lnTo>
                  <a:pt x="165" y="1692"/>
                </a:lnTo>
                <a:lnTo>
                  <a:pt x="184" y="1692"/>
                </a:lnTo>
                <a:lnTo>
                  <a:pt x="202" y="1701"/>
                </a:lnTo>
                <a:lnTo>
                  <a:pt x="221" y="1701"/>
                </a:lnTo>
                <a:lnTo>
                  <a:pt x="239" y="1701"/>
                </a:lnTo>
                <a:lnTo>
                  <a:pt x="257" y="1701"/>
                </a:lnTo>
                <a:lnTo>
                  <a:pt x="276" y="1701"/>
                </a:lnTo>
                <a:lnTo>
                  <a:pt x="294" y="1701"/>
                </a:lnTo>
                <a:lnTo>
                  <a:pt x="313" y="1711"/>
                </a:lnTo>
                <a:lnTo>
                  <a:pt x="340" y="1711"/>
                </a:lnTo>
                <a:lnTo>
                  <a:pt x="368" y="1711"/>
                </a:lnTo>
                <a:lnTo>
                  <a:pt x="395" y="1711"/>
                </a:lnTo>
                <a:lnTo>
                  <a:pt x="414" y="1711"/>
                </a:lnTo>
                <a:lnTo>
                  <a:pt x="432" y="1711"/>
                </a:lnTo>
                <a:lnTo>
                  <a:pt x="451" y="1711"/>
                </a:lnTo>
                <a:lnTo>
                  <a:pt x="469" y="1711"/>
                </a:lnTo>
                <a:lnTo>
                  <a:pt x="487" y="1711"/>
                </a:lnTo>
                <a:lnTo>
                  <a:pt x="506" y="1711"/>
                </a:lnTo>
                <a:lnTo>
                  <a:pt x="524" y="1711"/>
                </a:lnTo>
                <a:lnTo>
                  <a:pt x="542" y="1720"/>
                </a:lnTo>
                <a:lnTo>
                  <a:pt x="561" y="1720"/>
                </a:lnTo>
                <a:lnTo>
                  <a:pt x="579" y="1720"/>
                </a:lnTo>
                <a:lnTo>
                  <a:pt x="598" y="1720"/>
                </a:lnTo>
                <a:lnTo>
                  <a:pt x="616" y="1720"/>
                </a:lnTo>
                <a:lnTo>
                  <a:pt x="634" y="1720"/>
                </a:lnTo>
                <a:lnTo>
                  <a:pt x="653" y="1720"/>
                </a:lnTo>
                <a:lnTo>
                  <a:pt x="671" y="1720"/>
                </a:lnTo>
                <a:lnTo>
                  <a:pt x="690" y="1720"/>
                </a:lnTo>
                <a:lnTo>
                  <a:pt x="708" y="1720"/>
                </a:lnTo>
                <a:lnTo>
                  <a:pt x="726" y="1720"/>
                </a:lnTo>
                <a:lnTo>
                  <a:pt x="745" y="1720"/>
                </a:lnTo>
                <a:lnTo>
                  <a:pt x="763" y="1720"/>
                </a:lnTo>
                <a:lnTo>
                  <a:pt x="791" y="1720"/>
                </a:lnTo>
                <a:lnTo>
                  <a:pt x="809" y="1720"/>
                </a:lnTo>
                <a:lnTo>
                  <a:pt x="837" y="1720"/>
                </a:lnTo>
                <a:lnTo>
                  <a:pt x="855" y="1720"/>
                </a:lnTo>
                <a:lnTo>
                  <a:pt x="883" y="1720"/>
                </a:lnTo>
                <a:lnTo>
                  <a:pt x="910" y="1720"/>
                </a:lnTo>
                <a:lnTo>
                  <a:pt x="938" y="1711"/>
                </a:lnTo>
                <a:lnTo>
                  <a:pt x="956" y="1711"/>
                </a:lnTo>
                <a:lnTo>
                  <a:pt x="975" y="1701"/>
                </a:lnTo>
                <a:lnTo>
                  <a:pt x="993" y="1701"/>
                </a:lnTo>
                <a:lnTo>
                  <a:pt x="1011" y="1692"/>
                </a:lnTo>
                <a:lnTo>
                  <a:pt x="1030" y="1692"/>
                </a:lnTo>
                <a:lnTo>
                  <a:pt x="1048" y="1683"/>
                </a:lnTo>
                <a:lnTo>
                  <a:pt x="1067" y="1683"/>
                </a:lnTo>
                <a:lnTo>
                  <a:pt x="1085" y="1683"/>
                </a:lnTo>
                <a:lnTo>
                  <a:pt x="1113" y="1683"/>
                </a:lnTo>
                <a:lnTo>
                  <a:pt x="1140" y="1674"/>
                </a:lnTo>
                <a:lnTo>
                  <a:pt x="1159" y="1674"/>
                </a:lnTo>
                <a:lnTo>
                  <a:pt x="1177" y="1674"/>
                </a:lnTo>
                <a:lnTo>
                  <a:pt x="1195" y="1674"/>
                </a:lnTo>
                <a:lnTo>
                  <a:pt x="1214" y="1674"/>
                </a:lnTo>
                <a:lnTo>
                  <a:pt x="1241" y="1674"/>
                </a:lnTo>
                <a:lnTo>
                  <a:pt x="1260" y="1683"/>
                </a:lnTo>
                <a:lnTo>
                  <a:pt x="1278" y="1683"/>
                </a:lnTo>
                <a:lnTo>
                  <a:pt x="1297" y="1692"/>
                </a:lnTo>
                <a:lnTo>
                  <a:pt x="1315" y="1692"/>
                </a:lnTo>
                <a:lnTo>
                  <a:pt x="1333" y="1701"/>
                </a:lnTo>
                <a:lnTo>
                  <a:pt x="1352" y="1701"/>
                </a:lnTo>
                <a:lnTo>
                  <a:pt x="1370" y="1701"/>
                </a:lnTo>
                <a:lnTo>
                  <a:pt x="1398" y="1711"/>
                </a:lnTo>
                <a:lnTo>
                  <a:pt x="1416" y="1711"/>
                </a:lnTo>
                <a:lnTo>
                  <a:pt x="1444" y="1720"/>
                </a:lnTo>
                <a:lnTo>
                  <a:pt x="1471" y="1720"/>
                </a:lnTo>
                <a:lnTo>
                  <a:pt x="1490" y="1729"/>
                </a:lnTo>
                <a:lnTo>
                  <a:pt x="1508" y="1729"/>
                </a:lnTo>
                <a:lnTo>
                  <a:pt x="1526" y="1738"/>
                </a:lnTo>
                <a:lnTo>
                  <a:pt x="1545" y="1747"/>
                </a:lnTo>
                <a:lnTo>
                  <a:pt x="1563" y="1747"/>
                </a:lnTo>
                <a:lnTo>
                  <a:pt x="1582" y="1757"/>
                </a:lnTo>
                <a:lnTo>
                  <a:pt x="1600" y="1766"/>
                </a:lnTo>
                <a:lnTo>
                  <a:pt x="1628" y="1775"/>
                </a:lnTo>
                <a:lnTo>
                  <a:pt x="1646" y="1775"/>
                </a:lnTo>
                <a:lnTo>
                  <a:pt x="1664" y="1784"/>
                </a:lnTo>
                <a:lnTo>
                  <a:pt x="1683" y="1784"/>
                </a:lnTo>
                <a:lnTo>
                  <a:pt x="1701" y="1793"/>
                </a:lnTo>
                <a:lnTo>
                  <a:pt x="1719" y="1802"/>
                </a:lnTo>
                <a:lnTo>
                  <a:pt x="1738" y="1812"/>
                </a:lnTo>
                <a:lnTo>
                  <a:pt x="1756" y="1812"/>
                </a:lnTo>
                <a:lnTo>
                  <a:pt x="1775" y="1812"/>
                </a:lnTo>
                <a:lnTo>
                  <a:pt x="1793" y="1812"/>
                </a:lnTo>
                <a:lnTo>
                  <a:pt x="1811" y="1821"/>
                </a:lnTo>
                <a:lnTo>
                  <a:pt x="1830" y="1821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4557600" y="2228760"/>
            <a:ext cx="4435560" cy="571680"/>
          </a:xfrm>
          <a:custGeom>
            <a:avLst/>
            <a:gdLst/>
            <a:ahLst/>
            <a:rect l="l" t="t" r="r" b="b"/>
            <a:pathLst>
              <a:path w="2794" h="360">
                <a:moveTo>
                  <a:pt x="2793" y="180"/>
                </a:moveTo>
                <a:lnTo>
                  <a:pt x="2768" y="184"/>
                </a:lnTo>
                <a:lnTo>
                  <a:pt x="2749" y="193"/>
                </a:lnTo>
                <a:lnTo>
                  <a:pt x="2731" y="193"/>
                </a:lnTo>
                <a:lnTo>
                  <a:pt x="2712" y="193"/>
                </a:lnTo>
                <a:lnTo>
                  <a:pt x="2694" y="193"/>
                </a:lnTo>
                <a:lnTo>
                  <a:pt x="2676" y="184"/>
                </a:lnTo>
                <a:lnTo>
                  <a:pt x="2657" y="184"/>
                </a:lnTo>
                <a:lnTo>
                  <a:pt x="2639" y="175"/>
                </a:lnTo>
                <a:lnTo>
                  <a:pt x="2620" y="156"/>
                </a:lnTo>
                <a:lnTo>
                  <a:pt x="2602" y="147"/>
                </a:lnTo>
                <a:lnTo>
                  <a:pt x="2584" y="138"/>
                </a:lnTo>
                <a:lnTo>
                  <a:pt x="2556" y="138"/>
                </a:lnTo>
                <a:lnTo>
                  <a:pt x="2529" y="119"/>
                </a:lnTo>
                <a:lnTo>
                  <a:pt x="2510" y="119"/>
                </a:lnTo>
                <a:lnTo>
                  <a:pt x="2492" y="110"/>
                </a:lnTo>
                <a:lnTo>
                  <a:pt x="2473" y="110"/>
                </a:lnTo>
                <a:lnTo>
                  <a:pt x="2446" y="119"/>
                </a:lnTo>
                <a:lnTo>
                  <a:pt x="2427" y="119"/>
                </a:lnTo>
                <a:lnTo>
                  <a:pt x="2409" y="119"/>
                </a:lnTo>
                <a:lnTo>
                  <a:pt x="2391" y="129"/>
                </a:lnTo>
                <a:lnTo>
                  <a:pt x="2372" y="138"/>
                </a:lnTo>
                <a:lnTo>
                  <a:pt x="2354" y="138"/>
                </a:lnTo>
                <a:lnTo>
                  <a:pt x="2345" y="156"/>
                </a:lnTo>
                <a:lnTo>
                  <a:pt x="2326" y="156"/>
                </a:lnTo>
                <a:lnTo>
                  <a:pt x="2317" y="175"/>
                </a:lnTo>
                <a:lnTo>
                  <a:pt x="2289" y="184"/>
                </a:lnTo>
                <a:lnTo>
                  <a:pt x="2271" y="193"/>
                </a:lnTo>
                <a:lnTo>
                  <a:pt x="2253" y="202"/>
                </a:lnTo>
                <a:lnTo>
                  <a:pt x="2234" y="211"/>
                </a:lnTo>
                <a:lnTo>
                  <a:pt x="2216" y="211"/>
                </a:lnTo>
                <a:lnTo>
                  <a:pt x="2198" y="211"/>
                </a:lnTo>
                <a:lnTo>
                  <a:pt x="2179" y="211"/>
                </a:lnTo>
                <a:lnTo>
                  <a:pt x="2161" y="211"/>
                </a:lnTo>
                <a:lnTo>
                  <a:pt x="2142" y="211"/>
                </a:lnTo>
                <a:lnTo>
                  <a:pt x="2124" y="211"/>
                </a:lnTo>
                <a:lnTo>
                  <a:pt x="2106" y="211"/>
                </a:lnTo>
                <a:lnTo>
                  <a:pt x="2087" y="202"/>
                </a:lnTo>
                <a:lnTo>
                  <a:pt x="2060" y="193"/>
                </a:lnTo>
                <a:lnTo>
                  <a:pt x="2041" y="193"/>
                </a:lnTo>
                <a:lnTo>
                  <a:pt x="2014" y="184"/>
                </a:lnTo>
                <a:lnTo>
                  <a:pt x="1995" y="175"/>
                </a:lnTo>
                <a:lnTo>
                  <a:pt x="1977" y="165"/>
                </a:lnTo>
                <a:lnTo>
                  <a:pt x="1958" y="156"/>
                </a:lnTo>
                <a:lnTo>
                  <a:pt x="1940" y="138"/>
                </a:lnTo>
                <a:lnTo>
                  <a:pt x="1922" y="129"/>
                </a:lnTo>
                <a:lnTo>
                  <a:pt x="1903" y="129"/>
                </a:lnTo>
                <a:lnTo>
                  <a:pt x="1885" y="119"/>
                </a:lnTo>
                <a:lnTo>
                  <a:pt x="1866" y="110"/>
                </a:lnTo>
                <a:lnTo>
                  <a:pt x="1848" y="110"/>
                </a:lnTo>
                <a:lnTo>
                  <a:pt x="1830" y="101"/>
                </a:lnTo>
                <a:lnTo>
                  <a:pt x="1811" y="101"/>
                </a:lnTo>
                <a:lnTo>
                  <a:pt x="1793" y="92"/>
                </a:lnTo>
                <a:lnTo>
                  <a:pt x="1775" y="92"/>
                </a:lnTo>
                <a:lnTo>
                  <a:pt x="1747" y="92"/>
                </a:lnTo>
                <a:lnTo>
                  <a:pt x="1729" y="92"/>
                </a:lnTo>
                <a:lnTo>
                  <a:pt x="1710" y="92"/>
                </a:lnTo>
                <a:lnTo>
                  <a:pt x="1692" y="92"/>
                </a:lnTo>
                <a:lnTo>
                  <a:pt x="1673" y="92"/>
                </a:lnTo>
                <a:lnTo>
                  <a:pt x="1655" y="101"/>
                </a:lnTo>
                <a:lnTo>
                  <a:pt x="1637" y="110"/>
                </a:lnTo>
                <a:lnTo>
                  <a:pt x="1618" y="119"/>
                </a:lnTo>
                <a:lnTo>
                  <a:pt x="1600" y="129"/>
                </a:lnTo>
                <a:lnTo>
                  <a:pt x="1581" y="138"/>
                </a:lnTo>
                <a:lnTo>
                  <a:pt x="1563" y="156"/>
                </a:lnTo>
                <a:lnTo>
                  <a:pt x="1545" y="165"/>
                </a:lnTo>
                <a:lnTo>
                  <a:pt x="1526" y="175"/>
                </a:lnTo>
                <a:lnTo>
                  <a:pt x="1508" y="184"/>
                </a:lnTo>
                <a:lnTo>
                  <a:pt x="1480" y="193"/>
                </a:lnTo>
                <a:lnTo>
                  <a:pt x="1462" y="202"/>
                </a:lnTo>
                <a:lnTo>
                  <a:pt x="1443" y="211"/>
                </a:lnTo>
                <a:lnTo>
                  <a:pt x="1425" y="211"/>
                </a:lnTo>
                <a:lnTo>
                  <a:pt x="1407" y="221"/>
                </a:lnTo>
                <a:lnTo>
                  <a:pt x="1388" y="221"/>
                </a:lnTo>
                <a:lnTo>
                  <a:pt x="1370" y="221"/>
                </a:lnTo>
                <a:lnTo>
                  <a:pt x="1352" y="230"/>
                </a:lnTo>
                <a:lnTo>
                  <a:pt x="1353" y="228"/>
                </a:lnTo>
                <a:lnTo>
                  <a:pt x="1333" y="230"/>
                </a:lnTo>
                <a:lnTo>
                  <a:pt x="1315" y="221"/>
                </a:lnTo>
                <a:lnTo>
                  <a:pt x="1296" y="211"/>
                </a:lnTo>
                <a:lnTo>
                  <a:pt x="1269" y="211"/>
                </a:lnTo>
                <a:lnTo>
                  <a:pt x="1250" y="202"/>
                </a:lnTo>
                <a:lnTo>
                  <a:pt x="1232" y="193"/>
                </a:lnTo>
                <a:lnTo>
                  <a:pt x="1204" y="184"/>
                </a:lnTo>
                <a:lnTo>
                  <a:pt x="1186" y="175"/>
                </a:lnTo>
                <a:lnTo>
                  <a:pt x="1177" y="156"/>
                </a:lnTo>
                <a:lnTo>
                  <a:pt x="1158" y="147"/>
                </a:lnTo>
                <a:lnTo>
                  <a:pt x="1149" y="129"/>
                </a:lnTo>
                <a:lnTo>
                  <a:pt x="1131" y="119"/>
                </a:lnTo>
                <a:lnTo>
                  <a:pt x="1112" y="110"/>
                </a:lnTo>
                <a:lnTo>
                  <a:pt x="1094" y="101"/>
                </a:lnTo>
                <a:lnTo>
                  <a:pt x="1076" y="101"/>
                </a:lnTo>
                <a:lnTo>
                  <a:pt x="1057" y="92"/>
                </a:lnTo>
                <a:lnTo>
                  <a:pt x="1039" y="83"/>
                </a:lnTo>
                <a:lnTo>
                  <a:pt x="1020" y="83"/>
                </a:lnTo>
                <a:lnTo>
                  <a:pt x="1002" y="83"/>
                </a:lnTo>
                <a:lnTo>
                  <a:pt x="984" y="83"/>
                </a:lnTo>
                <a:lnTo>
                  <a:pt x="965" y="83"/>
                </a:lnTo>
                <a:lnTo>
                  <a:pt x="947" y="83"/>
                </a:lnTo>
                <a:lnTo>
                  <a:pt x="929" y="83"/>
                </a:lnTo>
                <a:lnTo>
                  <a:pt x="910" y="92"/>
                </a:lnTo>
                <a:lnTo>
                  <a:pt x="892" y="101"/>
                </a:lnTo>
                <a:lnTo>
                  <a:pt x="873" y="101"/>
                </a:lnTo>
                <a:lnTo>
                  <a:pt x="855" y="101"/>
                </a:lnTo>
                <a:lnTo>
                  <a:pt x="837" y="110"/>
                </a:lnTo>
                <a:lnTo>
                  <a:pt x="818" y="119"/>
                </a:lnTo>
                <a:lnTo>
                  <a:pt x="800" y="129"/>
                </a:lnTo>
                <a:lnTo>
                  <a:pt x="781" y="138"/>
                </a:lnTo>
                <a:lnTo>
                  <a:pt x="763" y="147"/>
                </a:lnTo>
                <a:lnTo>
                  <a:pt x="745" y="156"/>
                </a:lnTo>
                <a:lnTo>
                  <a:pt x="726" y="175"/>
                </a:lnTo>
                <a:lnTo>
                  <a:pt x="708" y="175"/>
                </a:lnTo>
                <a:lnTo>
                  <a:pt x="689" y="175"/>
                </a:lnTo>
                <a:lnTo>
                  <a:pt x="671" y="184"/>
                </a:lnTo>
                <a:lnTo>
                  <a:pt x="653" y="184"/>
                </a:lnTo>
                <a:lnTo>
                  <a:pt x="625" y="184"/>
                </a:lnTo>
                <a:lnTo>
                  <a:pt x="607" y="193"/>
                </a:lnTo>
                <a:lnTo>
                  <a:pt x="588" y="193"/>
                </a:lnTo>
                <a:lnTo>
                  <a:pt x="570" y="193"/>
                </a:lnTo>
                <a:lnTo>
                  <a:pt x="552" y="193"/>
                </a:lnTo>
                <a:lnTo>
                  <a:pt x="533" y="184"/>
                </a:lnTo>
                <a:lnTo>
                  <a:pt x="515" y="175"/>
                </a:lnTo>
                <a:lnTo>
                  <a:pt x="506" y="156"/>
                </a:lnTo>
                <a:lnTo>
                  <a:pt x="487" y="156"/>
                </a:lnTo>
                <a:lnTo>
                  <a:pt x="469" y="156"/>
                </a:lnTo>
                <a:lnTo>
                  <a:pt x="450" y="147"/>
                </a:lnTo>
                <a:lnTo>
                  <a:pt x="441" y="129"/>
                </a:lnTo>
                <a:lnTo>
                  <a:pt x="423" y="119"/>
                </a:lnTo>
                <a:lnTo>
                  <a:pt x="423" y="101"/>
                </a:lnTo>
                <a:lnTo>
                  <a:pt x="404" y="92"/>
                </a:lnTo>
                <a:lnTo>
                  <a:pt x="395" y="74"/>
                </a:lnTo>
                <a:lnTo>
                  <a:pt x="377" y="64"/>
                </a:lnTo>
                <a:lnTo>
                  <a:pt x="368" y="46"/>
                </a:lnTo>
                <a:lnTo>
                  <a:pt x="349" y="37"/>
                </a:lnTo>
                <a:lnTo>
                  <a:pt x="331" y="28"/>
                </a:lnTo>
                <a:lnTo>
                  <a:pt x="312" y="18"/>
                </a:lnTo>
                <a:lnTo>
                  <a:pt x="294" y="9"/>
                </a:lnTo>
                <a:lnTo>
                  <a:pt x="276" y="9"/>
                </a:lnTo>
                <a:lnTo>
                  <a:pt x="257" y="9"/>
                </a:lnTo>
                <a:lnTo>
                  <a:pt x="239" y="0"/>
                </a:lnTo>
                <a:lnTo>
                  <a:pt x="220" y="0"/>
                </a:lnTo>
                <a:lnTo>
                  <a:pt x="202" y="0"/>
                </a:lnTo>
                <a:lnTo>
                  <a:pt x="184" y="0"/>
                </a:lnTo>
                <a:lnTo>
                  <a:pt x="165" y="0"/>
                </a:lnTo>
                <a:lnTo>
                  <a:pt x="147" y="0"/>
                </a:lnTo>
                <a:lnTo>
                  <a:pt x="129" y="0"/>
                </a:lnTo>
                <a:lnTo>
                  <a:pt x="110" y="0"/>
                </a:lnTo>
                <a:lnTo>
                  <a:pt x="92" y="18"/>
                </a:lnTo>
                <a:lnTo>
                  <a:pt x="73" y="28"/>
                </a:lnTo>
                <a:lnTo>
                  <a:pt x="55" y="28"/>
                </a:lnTo>
                <a:lnTo>
                  <a:pt x="37" y="37"/>
                </a:lnTo>
                <a:lnTo>
                  <a:pt x="55" y="46"/>
                </a:lnTo>
                <a:lnTo>
                  <a:pt x="73" y="55"/>
                </a:lnTo>
                <a:lnTo>
                  <a:pt x="92" y="55"/>
                </a:lnTo>
                <a:lnTo>
                  <a:pt x="110" y="64"/>
                </a:lnTo>
                <a:lnTo>
                  <a:pt x="129" y="74"/>
                </a:lnTo>
                <a:lnTo>
                  <a:pt x="129" y="92"/>
                </a:lnTo>
                <a:lnTo>
                  <a:pt x="147" y="101"/>
                </a:lnTo>
                <a:lnTo>
                  <a:pt x="147" y="119"/>
                </a:lnTo>
                <a:lnTo>
                  <a:pt x="147" y="138"/>
                </a:lnTo>
                <a:lnTo>
                  <a:pt x="147" y="156"/>
                </a:lnTo>
                <a:lnTo>
                  <a:pt x="147" y="175"/>
                </a:lnTo>
                <a:lnTo>
                  <a:pt x="147" y="193"/>
                </a:lnTo>
                <a:lnTo>
                  <a:pt x="138" y="211"/>
                </a:lnTo>
                <a:lnTo>
                  <a:pt x="119" y="221"/>
                </a:lnTo>
                <a:lnTo>
                  <a:pt x="101" y="230"/>
                </a:lnTo>
                <a:lnTo>
                  <a:pt x="83" y="239"/>
                </a:lnTo>
                <a:lnTo>
                  <a:pt x="64" y="239"/>
                </a:lnTo>
                <a:lnTo>
                  <a:pt x="46" y="239"/>
                </a:lnTo>
                <a:lnTo>
                  <a:pt x="27" y="239"/>
                </a:lnTo>
                <a:lnTo>
                  <a:pt x="9" y="239"/>
                </a:lnTo>
                <a:lnTo>
                  <a:pt x="0" y="257"/>
                </a:lnTo>
                <a:lnTo>
                  <a:pt x="0" y="285"/>
                </a:lnTo>
                <a:lnTo>
                  <a:pt x="0" y="303"/>
                </a:lnTo>
                <a:lnTo>
                  <a:pt x="0" y="322"/>
                </a:lnTo>
                <a:lnTo>
                  <a:pt x="0" y="340"/>
                </a:lnTo>
                <a:lnTo>
                  <a:pt x="18" y="331"/>
                </a:lnTo>
                <a:lnTo>
                  <a:pt x="46" y="331"/>
                </a:lnTo>
                <a:lnTo>
                  <a:pt x="73" y="340"/>
                </a:lnTo>
                <a:lnTo>
                  <a:pt x="92" y="340"/>
                </a:lnTo>
                <a:lnTo>
                  <a:pt x="110" y="340"/>
                </a:lnTo>
                <a:lnTo>
                  <a:pt x="138" y="340"/>
                </a:lnTo>
                <a:lnTo>
                  <a:pt x="156" y="340"/>
                </a:lnTo>
                <a:lnTo>
                  <a:pt x="184" y="340"/>
                </a:lnTo>
                <a:lnTo>
                  <a:pt x="211" y="340"/>
                </a:lnTo>
                <a:lnTo>
                  <a:pt x="239" y="349"/>
                </a:lnTo>
                <a:lnTo>
                  <a:pt x="266" y="349"/>
                </a:lnTo>
                <a:lnTo>
                  <a:pt x="285" y="349"/>
                </a:lnTo>
                <a:lnTo>
                  <a:pt x="303" y="349"/>
                </a:lnTo>
                <a:lnTo>
                  <a:pt x="322" y="349"/>
                </a:lnTo>
                <a:lnTo>
                  <a:pt x="340" y="349"/>
                </a:lnTo>
                <a:lnTo>
                  <a:pt x="386" y="340"/>
                </a:lnTo>
                <a:lnTo>
                  <a:pt x="404" y="340"/>
                </a:lnTo>
                <a:lnTo>
                  <a:pt x="432" y="340"/>
                </a:lnTo>
                <a:lnTo>
                  <a:pt x="450" y="340"/>
                </a:lnTo>
                <a:lnTo>
                  <a:pt x="478" y="331"/>
                </a:lnTo>
                <a:lnTo>
                  <a:pt x="496" y="331"/>
                </a:lnTo>
                <a:lnTo>
                  <a:pt x="515" y="331"/>
                </a:lnTo>
                <a:lnTo>
                  <a:pt x="533" y="331"/>
                </a:lnTo>
                <a:lnTo>
                  <a:pt x="552" y="331"/>
                </a:lnTo>
                <a:lnTo>
                  <a:pt x="570" y="331"/>
                </a:lnTo>
                <a:lnTo>
                  <a:pt x="588" y="331"/>
                </a:lnTo>
                <a:lnTo>
                  <a:pt x="616" y="331"/>
                </a:lnTo>
                <a:lnTo>
                  <a:pt x="643" y="331"/>
                </a:lnTo>
                <a:lnTo>
                  <a:pt x="680" y="331"/>
                </a:lnTo>
                <a:lnTo>
                  <a:pt x="699" y="331"/>
                </a:lnTo>
                <a:lnTo>
                  <a:pt x="726" y="340"/>
                </a:lnTo>
                <a:lnTo>
                  <a:pt x="745" y="340"/>
                </a:lnTo>
                <a:lnTo>
                  <a:pt x="763" y="340"/>
                </a:lnTo>
                <a:lnTo>
                  <a:pt x="781" y="340"/>
                </a:lnTo>
                <a:lnTo>
                  <a:pt x="800" y="340"/>
                </a:lnTo>
                <a:lnTo>
                  <a:pt x="827" y="340"/>
                </a:lnTo>
                <a:lnTo>
                  <a:pt x="864" y="349"/>
                </a:lnTo>
                <a:lnTo>
                  <a:pt x="892" y="349"/>
                </a:lnTo>
                <a:lnTo>
                  <a:pt x="929" y="349"/>
                </a:lnTo>
                <a:lnTo>
                  <a:pt x="956" y="349"/>
                </a:lnTo>
                <a:lnTo>
                  <a:pt x="993" y="349"/>
                </a:lnTo>
                <a:lnTo>
                  <a:pt x="1030" y="349"/>
                </a:lnTo>
                <a:lnTo>
                  <a:pt x="1048" y="349"/>
                </a:lnTo>
                <a:lnTo>
                  <a:pt x="1076" y="349"/>
                </a:lnTo>
                <a:lnTo>
                  <a:pt x="1103" y="349"/>
                </a:lnTo>
                <a:lnTo>
                  <a:pt x="1122" y="349"/>
                </a:lnTo>
                <a:lnTo>
                  <a:pt x="1149" y="349"/>
                </a:lnTo>
                <a:lnTo>
                  <a:pt x="1177" y="349"/>
                </a:lnTo>
                <a:lnTo>
                  <a:pt x="1204" y="349"/>
                </a:lnTo>
                <a:lnTo>
                  <a:pt x="1223" y="349"/>
                </a:lnTo>
                <a:lnTo>
                  <a:pt x="1241" y="349"/>
                </a:lnTo>
                <a:lnTo>
                  <a:pt x="1260" y="349"/>
                </a:lnTo>
                <a:lnTo>
                  <a:pt x="1287" y="349"/>
                </a:lnTo>
                <a:lnTo>
                  <a:pt x="1315" y="349"/>
                </a:lnTo>
                <a:lnTo>
                  <a:pt x="1352" y="349"/>
                </a:lnTo>
                <a:lnTo>
                  <a:pt x="1388" y="349"/>
                </a:lnTo>
                <a:lnTo>
                  <a:pt x="1416" y="359"/>
                </a:lnTo>
                <a:lnTo>
                  <a:pt x="1434" y="359"/>
                </a:lnTo>
                <a:lnTo>
                  <a:pt x="1453" y="359"/>
                </a:lnTo>
                <a:lnTo>
                  <a:pt x="1471" y="359"/>
                </a:lnTo>
                <a:lnTo>
                  <a:pt x="1489" y="359"/>
                </a:lnTo>
                <a:lnTo>
                  <a:pt x="1508" y="359"/>
                </a:lnTo>
                <a:lnTo>
                  <a:pt x="1545" y="359"/>
                </a:lnTo>
                <a:lnTo>
                  <a:pt x="1581" y="359"/>
                </a:lnTo>
                <a:lnTo>
                  <a:pt x="1600" y="359"/>
                </a:lnTo>
                <a:lnTo>
                  <a:pt x="1627" y="359"/>
                </a:lnTo>
                <a:lnTo>
                  <a:pt x="1655" y="359"/>
                </a:lnTo>
                <a:lnTo>
                  <a:pt x="1692" y="359"/>
                </a:lnTo>
                <a:lnTo>
                  <a:pt x="1729" y="359"/>
                </a:lnTo>
                <a:lnTo>
                  <a:pt x="1765" y="359"/>
                </a:lnTo>
                <a:lnTo>
                  <a:pt x="1802" y="359"/>
                </a:lnTo>
                <a:lnTo>
                  <a:pt x="1839" y="359"/>
                </a:lnTo>
                <a:lnTo>
                  <a:pt x="1866" y="349"/>
                </a:lnTo>
                <a:lnTo>
                  <a:pt x="1894" y="349"/>
                </a:lnTo>
                <a:lnTo>
                  <a:pt x="1931" y="349"/>
                </a:lnTo>
                <a:lnTo>
                  <a:pt x="1949" y="349"/>
                </a:lnTo>
                <a:lnTo>
                  <a:pt x="1968" y="349"/>
                </a:lnTo>
                <a:lnTo>
                  <a:pt x="1986" y="349"/>
                </a:lnTo>
                <a:lnTo>
                  <a:pt x="2014" y="349"/>
                </a:lnTo>
                <a:lnTo>
                  <a:pt x="2041" y="349"/>
                </a:lnTo>
                <a:lnTo>
                  <a:pt x="2087" y="349"/>
                </a:lnTo>
                <a:lnTo>
                  <a:pt x="2115" y="349"/>
                </a:lnTo>
                <a:lnTo>
                  <a:pt x="2142" y="349"/>
                </a:lnTo>
                <a:lnTo>
                  <a:pt x="2179" y="349"/>
                </a:lnTo>
                <a:lnTo>
                  <a:pt x="2198" y="349"/>
                </a:lnTo>
                <a:lnTo>
                  <a:pt x="2225" y="349"/>
                </a:lnTo>
                <a:lnTo>
                  <a:pt x="2253" y="349"/>
                </a:lnTo>
                <a:lnTo>
                  <a:pt x="2271" y="349"/>
                </a:lnTo>
                <a:lnTo>
                  <a:pt x="2299" y="349"/>
                </a:lnTo>
                <a:lnTo>
                  <a:pt x="2335" y="349"/>
                </a:lnTo>
                <a:lnTo>
                  <a:pt x="2363" y="349"/>
                </a:lnTo>
                <a:lnTo>
                  <a:pt x="2381" y="349"/>
                </a:lnTo>
                <a:lnTo>
                  <a:pt x="2400" y="349"/>
                </a:lnTo>
                <a:lnTo>
                  <a:pt x="2427" y="349"/>
                </a:lnTo>
                <a:lnTo>
                  <a:pt x="2464" y="349"/>
                </a:lnTo>
                <a:lnTo>
                  <a:pt x="2501" y="349"/>
                </a:lnTo>
                <a:lnTo>
                  <a:pt x="2519" y="349"/>
                </a:lnTo>
                <a:lnTo>
                  <a:pt x="2547" y="349"/>
                </a:lnTo>
                <a:lnTo>
                  <a:pt x="2584" y="349"/>
                </a:lnTo>
                <a:lnTo>
                  <a:pt x="2611" y="349"/>
                </a:lnTo>
                <a:lnTo>
                  <a:pt x="2630" y="349"/>
                </a:lnTo>
                <a:lnTo>
                  <a:pt x="2648" y="349"/>
                </a:lnTo>
                <a:lnTo>
                  <a:pt x="2666" y="349"/>
                </a:lnTo>
                <a:lnTo>
                  <a:pt x="2685" y="349"/>
                </a:lnTo>
                <a:lnTo>
                  <a:pt x="2703" y="349"/>
                </a:lnTo>
                <a:lnTo>
                  <a:pt x="2722" y="349"/>
                </a:lnTo>
                <a:lnTo>
                  <a:pt x="2740" y="349"/>
                </a:lnTo>
                <a:lnTo>
                  <a:pt x="2758" y="349"/>
                </a:lnTo>
                <a:lnTo>
                  <a:pt x="2777" y="349"/>
                </a:lnTo>
                <a:lnTo>
                  <a:pt x="2793" y="18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 flipH="1">
            <a:off x="5797440" y="1911240"/>
            <a:ext cx="1511280" cy="368280"/>
          </a:xfrm>
          <a:prstGeom prst="rightArrow">
            <a:avLst>
              <a:gd name="adj1" fmla="val 50000"/>
              <a:gd name="adj2" fmla="val 20519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3625920" y="380880"/>
            <a:ext cx="871560" cy="2668680"/>
          </a:xfrm>
          <a:custGeom>
            <a:avLst/>
            <a:gdLst/>
            <a:ahLst/>
            <a:rect l="l" t="t" r="r" b="b"/>
            <a:pathLst>
              <a:path w="549" h="1681">
                <a:moveTo>
                  <a:pt x="6" y="0"/>
                </a:moveTo>
                <a:lnTo>
                  <a:pt x="3" y="18"/>
                </a:lnTo>
                <a:lnTo>
                  <a:pt x="3" y="34"/>
                </a:lnTo>
                <a:lnTo>
                  <a:pt x="3" y="51"/>
                </a:lnTo>
                <a:lnTo>
                  <a:pt x="3" y="68"/>
                </a:lnTo>
                <a:lnTo>
                  <a:pt x="3" y="85"/>
                </a:lnTo>
                <a:lnTo>
                  <a:pt x="3" y="102"/>
                </a:lnTo>
                <a:lnTo>
                  <a:pt x="3" y="127"/>
                </a:lnTo>
                <a:lnTo>
                  <a:pt x="3" y="145"/>
                </a:lnTo>
                <a:lnTo>
                  <a:pt x="3" y="170"/>
                </a:lnTo>
                <a:lnTo>
                  <a:pt x="3" y="186"/>
                </a:lnTo>
                <a:lnTo>
                  <a:pt x="3" y="204"/>
                </a:lnTo>
                <a:lnTo>
                  <a:pt x="3" y="220"/>
                </a:lnTo>
                <a:lnTo>
                  <a:pt x="3" y="238"/>
                </a:lnTo>
                <a:lnTo>
                  <a:pt x="3" y="263"/>
                </a:lnTo>
                <a:lnTo>
                  <a:pt x="0" y="289"/>
                </a:lnTo>
                <a:lnTo>
                  <a:pt x="0" y="323"/>
                </a:lnTo>
                <a:lnTo>
                  <a:pt x="0" y="348"/>
                </a:lnTo>
                <a:lnTo>
                  <a:pt x="0" y="365"/>
                </a:lnTo>
                <a:lnTo>
                  <a:pt x="0" y="382"/>
                </a:lnTo>
                <a:lnTo>
                  <a:pt x="0" y="408"/>
                </a:lnTo>
                <a:lnTo>
                  <a:pt x="0" y="424"/>
                </a:lnTo>
                <a:lnTo>
                  <a:pt x="0" y="441"/>
                </a:lnTo>
                <a:lnTo>
                  <a:pt x="3" y="467"/>
                </a:lnTo>
                <a:lnTo>
                  <a:pt x="3" y="483"/>
                </a:lnTo>
                <a:lnTo>
                  <a:pt x="3" y="501"/>
                </a:lnTo>
                <a:lnTo>
                  <a:pt x="3" y="518"/>
                </a:lnTo>
                <a:lnTo>
                  <a:pt x="3" y="534"/>
                </a:lnTo>
                <a:lnTo>
                  <a:pt x="3" y="552"/>
                </a:lnTo>
                <a:lnTo>
                  <a:pt x="3" y="568"/>
                </a:lnTo>
                <a:lnTo>
                  <a:pt x="5" y="586"/>
                </a:lnTo>
                <a:lnTo>
                  <a:pt x="5" y="602"/>
                </a:lnTo>
                <a:lnTo>
                  <a:pt x="8" y="619"/>
                </a:lnTo>
                <a:lnTo>
                  <a:pt x="8" y="637"/>
                </a:lnTo>
                <a:lnTo>
                  <a:pt x="8" y="653"/>
                </a:lnTo>
                <a:lnTo>
                  <a:pt x="8" y="679"/>
                </a:lnTo>
                <a:lnTo>
                  <a:pt x="8" y="704"/>
                </a:lnTo>
                <a:lnTo>
                  <a:pt x="8" y="721"/>
                </a:lnTo>
                <a:lnTo>
                  <a:pt x="8" y="738"/>
                </a:lnTo>
                <a:lnTo>
                  <a:pt x="8" y="756"/>
                </a:lnTo>
                <a:lnTo>
                  <a:pt x="8" y="780"/>
                </a:lnTo>
                <a:lnTo>
                  <a:pt x="11" y="798"/>
                </a:lnTo>
                <a:lnTo>
                  <a:pt x="14" y="815"/>
                </a:lnTo>
                <a:lnTo>
                  <a:pt x="14" y="849"/>
                </a:lnTo>
                <a:lnTo>
                  <a:pt x="14" y="874"/>
                </a:lnTo>
                <a:lnTo>
                  <a:pt x="14" y="891"/>
                </a:lnTo>
                <a:lnTo>
                  <a:pt x="14" y="908"/>
                </a:lnTo>
                <a:lnTo>
                  <a:pt x="14" y="924"/>
                </a:lnTo>
                <a:lnTo>
                  <a:pt x="14" y="942"/>
                </a:lnTo>
                <a:lnTo>
                  <a:pt x="14" y="959"/>
                </a:lnTo>
                <a:lnTo>
                  <a:pt x="14" y="976"/>
                </a:lnTo>
                <a:lnTo>
                  <a:pt x="14" y="993"/>
                </a:lnTo>
                <a:lnTo>
                  <a:pt x="14" y="1009"/>
                </a:lnTo>
                <a:lnTo>
                  <a:pt x="14" y="1027"/>
                </a:lnTo>
                <a:lnTo>
                  <a:pt x="14" y="1043"/>
                </a:lnTo>
                <a:lnTo>
                  <a:pt x="14" y="1069"/>
                </a:lnTo>
                <a:lnTo>
                  <a:pt x="16" y="1086"/>
                </a:lnTo>
                <a:lnTo>
                  <a:pt x="16" y="1103"/>
                </a:lnTo>
                <a:lnTo>
                  <a:pt x="19" y="1128"/>
                </a:lnTo>
                <a:lnTo>
                  <a:pt x="22" y="1154"/>
                </a:lnTo>
                <a:lnTo>
                  <a:pt x="28" y="1179"/>
                </a:lnTo>
                <a:lnTo>
                  <a:pt x="28" y="1197"/>
                </a:lnTo>
                <a:lnTo>
                  <a:pt x="28" y="1213"/>
                </a:lnTo>
                <a:lnTo>
                  <a:pt x="30" y="1231"/>
                </a:lnTo>
                <a:lnTo>
                  <a:pt x="30" y="1247"/>
                </a:lnTo>
                <a:lnTo>
                  <a:pt x="33" y="1264"/>
                </a:lnTo>
                <a:lnTo>
                  <a:pt x="33" y="1281"/>
                </a:lnTo>
                <a:lnTo>
                  <a:pt x="33" y="1298"/>
                </a:lnTo>
                <a:lnTo>
                  <a:pt x="33" y="1315"/>
                </a:lnTo>
                <a:lnTo>
                  <a:pt x="33" y="1332"/>
                </a:lnTo>
                <a:lnTo>
                  <a:pt x="33" y="1349"/>
                </a:lnTo>
                <a:lnTo>
                  <a:pt x="33" y="1366"/>
                </a:lnTo>
                <a:lnTo>
                  <a:pt x="33" y="1383"/>
                </a:lnTo>
                <a:lnTo>
                  <a:pt x="33" y="1400"/>
                </a:lnTo>
                <a:lnTo>
                  <a:pt x="33" y="1425"/>
                </a:lnTo>
                <a:lnTo>
                  <a:pt x="33" y="1451"/>
                </a:lnTo>
                <a:lnTo>
                  <a:pt x="33" y="1468"/>
                </a:lnTo>
                <a:lnTo>
                  <a:pt x="33" y="1484"/>
                </a:lnTo>
                <a:lnTo>
                  <a:pt x="33" y="1502"/>
                </a:lnTo>
                <a:lnTo>
                  <a:pt x="33" y="1527"/>
                </a:lnTo>
                <a:lnTo>
                  <a:pt x="33" y="1544"/>
                </a:lnTo>
                <a:lnTo>
                  <a:pt x="33" y="1561"/>
                </a:lnTo>
                <a:lnTo>
                  <a:pt x="39" y="1569"/>
                </a:lnTo>
                <a:lnTo>
                  <a:pt x="44" y="1569"/>
                </a:lnTo>
                <a:lnTo>
                  <a:pt x="49" y="1561"/>
                </a:lnTo>
                <a:lnTo>
                  <a:pt x="55" y="1561"/>
                </a:lnTo>
                <a:lnTo>
                  <a:pt x="60" y="1569"/>
                </a:lnTo>
                <a:lnTo>
                  <a:pt x="66" y="1569"/>
                </a:lnTo>
                <a:lnTo>
                  <a:pt x="72" y="1569"/>
                </a:lnTo>
                <a:lnTo>
                  <a:pt x="77" y="1569"/>
                </a:lnTo>
                <a:lnTo>
                  <a:pt x="83" y="1569"/>
                </a:lnTo>
                <a:lnTo>
                  <a:pt x="88" y="1569"/>
                </a:lnTo>
                <a:lnTo>
                  <a:pt x="94" y="1579"/>
                </a:lnTo>
                <a:lnTo>
                  <a:pt x="102" y="1579"/>
                </a:lnTo>
                <a:lnTo>
                  <a:pt x="110" y="1579"/>
                </a:lnTo>
                <a:lnTo>
                  <a:pt x="118" y="1579"/>
                </a:lnTo>
                <a:lnTo>
                  <a:pt x="124" y="1579"/>
                </a:lnTo>
                <a:lnTo>
                  <a:pt x="129" y="1579"/>
                </a:lnTo>
                <a:lnTo>
                  <a:pt x="135" y="1579"/>
                </a:lnTo>
                <a:lnTo>
                  <a:pt x="140" y="1579"/>
                </a:lnTo>
                <a:lnTo>
                  <a:pt x="146" y="1579"/>
                </a:lnTo>
                <a:lnTo>
                  <a:pt x="152" y="1579"/>
                </a:lnTo>
                <a:lnTo>
                  <a:pt x="157" y="1579"/>
                </a:lnTo>
                <a:lnTo>
                  <a:pt x="162" y="1587"/>
                </a:lnTo>
                <a:lnTo>
                  <a:pt x="168" y="1587"/>
                </a:lnTo>
                <a:lnTo>
                  <a:pt x="173" y="1587"/>
                </a:lnTo>
                <a:lnTo>
                  <a:pt x="179" y="1587"/>
                </a:lnTo>
                <a:lnTo>
                  <a:pt x="184" y="1587"/>
                </a:lnTo>
                <a:lnTo>
                  <a:pt x="190" y="1587"/>
                </a:lnTo>
                <a:lnTo>
                  <a:pt x="196" y="1587"/>
                </a:lnTo>
                <a:lnTo>
                  <a:pt x="201" y="1587"/>
                </a:lnTo>
                <a:lnTo>
                  <a:pt x="207" y="1587"/>
                </a:lnTo>
                <a:lnTo>
                  <a:pt x="212" y="1587"/>
                </a:lnTo>
                <a:lnTo>
                  <a:pt x="217" y="1587"/>
                </a:lnTo>
                <a:lnTo>
                  <a:pt x="223" y="1587"/>
                </a:lnTo>
                <a:lnTo>
                  <a:pt x="228" y="1587"/>
                </a:lnTo>
                <a:lnTo>
                  <a:pt x="237" y="1587"/>
                </a:lnTo>
                <a:lnTo>
                  <a:pt x="242" y="1587"/>
                </a:lnTo>
                <a:lnTo>
                  <a:pt x="251" y="1587"/>
                </a:lnTo>
                <a:lnTo>
                  <a:pt x="256" y="1587"/>
                </a:lnTo>
                <a:lnTo>
                  <a:pt x="264" y="1587"/>
                </a:lnTo>
                <a:lnTo>
                  <a:pt x="273" y="1587"/>
                </a:lnTo>
                <a:lnTo>
                  <a:pt x="281" y="1579"/>
                </a:lnTo>
                <a:lnTo>
                  <a:pt x="286" y="1579"/>
                </a:lnTo>
                <a:lnTo>
                  <a:pt x="292" y="1569"/>
                </a:lnTo>
                <a:lnTo>
                  <a:pt x="297" y="1569"/>
                </a:lnTo>
                <a:lnTo>
                  <a:pt x="303" y="1561"/>
                </a:lnTo>
                <a:lnTo>
                  <a:pt x="308" y="1561"/>
                </a:lnTo>
                <a:lnTo>
                  <a:pt x="314" y="1553"/>
                </a:lnTo>
                <a:lnTo>
                  <a:pt x="320" y="1553"/>
                </a:lnTo>
                <a:lnTo>
                  <a:pt x="325" y="1553"/>
                </a:lnTo>
                <a:lnTo>
                  <a:pt x="333" y="1553"/>
                </a:lnTo>
                <a:lnTo>
                  <a:pt x="341" y="1544"/>
                </a:lnTo>
                <a:lnTo>
                  <a:pt x="347" y="1544"/>
                </a:lnTo>
                <a:lnTo>
                  <a:pt x="352" y="1544"/>
                </a:lnTo>
                <a:lnTo>
                  <a:pt x="358" y="1544"/>
                </a:lnTo>
                <a:lnTo>
                  <a:pt x="364" y="1544"/>
                </a:lnTo>
                <a:lnTo>
                  <a:pt x="372" y="1544"/>
                </a:lnTo>
                <a:lnTo>
                  <a:pt x="377" y="1553"/>
                </a:lnTo>
                <a:lnTo>
                  <a:pt x="383" y="1553"/>
                </a:lnTo>
                <a:lnTo>
                  <a:pt x="388" y="1561"/>
                </a:lnTo>
                <a:lnTo>
                  <a:pt x="394" y="1561"/>
                </a:lnTo>
                <a:lnTo>
                  <a:pt x="399" y="1569"/>
                </a:lnTo>
                <a:lnTo>
                  <a:pt x="405" y="1569"/>
                </a:lnTo>
                <a:lnTo>
                  <a:pt x="410" y="1569"/>
                </a:lnTo>
                <a:lnTo>
                  <a:pt x="419" y="1579"/>
                </a:lnTo>
                <a:lnTo>
                  <a:pt x="424" y="1579"/>
                </a:lnTo>
                <a:lnTo>
                  <a:pt x="432" y="1587"/>
                </a:lnTo>
                <a:lnTo>
                  <a:pt x="440" y="1587"/>
                </a:lnTo>
                <a:lnTo>
                  <a:pt x="446" y="1595"/>
                </a:lnTo>
                <a:lnTo>
                  <a:pt x="452" y="1595"/>
                </a:lnTo>
                <a:lnTo>
                  <a:pt x="457" y="1603"/>
                </a:lnTo>
                <a:lnTo>
                  <a:pt x="463" y="1612"/>
                </a:lnTo>
                <a:lnTo>
                  <a:pt x="468" y="1612"/>
                </a:lnTo>
                <a:lnTo>
                  <a:pt x="474" y="1621"/>
                </a:lnTo>
                <a:lnTo>
                  <a:pt x="479" y="1629"/>
                </a:lnTo>
                <a:lnTo>
                  <a:pt x="488" y="1638"/>
                </a:lnTo>
                <a:lnTo>
                  <a:pt x="493" y="1638"/>
                </a:lnTo>
                <a:lnTo>
                  <a:pt x="498" y="1646"/>
                </a:lnTo>
                <a:lnTo>
                  <a:pt x="504" y="1646"/>
                </a:lnTo>
                <a:lnTo>
                  <a:pt x="509" y="1654"/>
                </a:lnTo>
                <a:lnTo>
                  <a:pt x="515" y="1662"/>
                </a:lnTo>
                <a:lnTo>
                  <a:pt x="520" y="1672"/>
                </a:lnTo>
                <a:lnTo>
                  <a:pt x="526" y="1672"/>
                </a:lnTo>
                <a:lnTo>
                  <a:pt x="532" y="1672"/>
                </a:lnTo>
                <a:lnTo>
                  <a:pt x="537" y="1672"/>
                </a:lnTo>
                <a:lnTo>
                  <a:pt x="542" y="1680"/>
                </a:lnTo>
                <a:lnTo>
                  <a:pt x="548" y="168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253040" y="4070520"/>
            <a:ext cx="22222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cliff retre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321000" y="380880"/>
            <a:ext cx="871560" cy="2668680"/>
          </a:xfrm>
          <a:custGeom>
            <a:avLst/>
            <a:gdLst/>
            <a:ahLst/>
            <a:rect l="l" t="t" r="r" b="b"/>
            <a:pathLst>
              <a:path w="549" h="1681">
                <a:moveTo>
                  <a:pt x="6" y="0"/>
                </a:moveTo>
                <a:lnTo>
                  <a:pt x="3" y="18"/>
                </a:lnTo>
                <a:lnTo>
                  <a:pt x="3" y="34"/>
                </a:lnTo>
                <a:lnTo>
                  <a:pt x="3" y="51"/>
                </a:lnTo>
                <a:lnTo>
                  <a:pt x="3" y="68"/>
                </a:lnTo>
                <a:lnTo>
                  <a:pt x="3" y="85"/>
                </a:lnTo>
                <a:lnTo>
                  <a:pt x="3" y="102"/>
                </a:lnTo>
                <a:lnTo>
                  <a:pt x="3" y="127"/>
                </a:lnTo>
                <a:lnTo>
                  <a:pt x="3" y="145"/>
                </a:lnTo>
                <a:lnTo>
                  <a:pt x="3" y="170"/>
                </a:lnTo>
                <a:lnTo>
                  <a:pt x="3" y="186"/>
                </a:lnTo>
                <a:lnTo>
                  <a:pt x="3" y="204"/>
                </a:lnTo>
                <a:lnTo>
                  <a:pt x="3" y="220"/>
                </a:lnTo>
                <a:lnTo>
                  <a:pt x="3" y="238"/>
                </a:lnTo>
                <a:lnTo>
                  <a:pt x="3" y="263"/>
                </a:lnTo>
                <a:lnTo>
                  <a:pt x="0" y="289"/>
                </a:lnTo>
                <a:lnTo>
                  <a:pt x="0" y="323"/>
                </a:lnTo>
                <a:lnTo>
                  <a:pt x="0" y="348"/>
                </a:lnTo>
                <a:lnTo>
                  <a:pt x="0" y="365"/>
                </a:lnTo>
                <a:lnTo>
                  <a:pt x="0" y="382"/>
                </a:lnTo>
                <a:lnTo>
                  <a:pt x="0" y="408"/>
                </a:lnTo>
                <a:lnTo>
                  <a:pt x="0" y="424"/>
                </a:lnTo>
                <a:lnTo>
                  <a:pt x="0" y="441"/>
                </a:lnTo>
                <a:lnTo>
                  <a:pt x="3" y="467"/>
                </a:lnTo>
                <a:lnTo>
                  <a:pt x="3" y="483"/>
                </a:lnTo>
                <a:lnTo>
                  <a:pt x="3" y="501"/>
                </a:lnTo>
                <a:lnTo>
                  <a:pt x="3" y="518"/>
                </a:lnTo>
                <a:lnTo>
                  <a:pt x="3" y="534"/>
                </a:lnTo>
                <a:lnTo>
                  <a:pt x="3" y="552"/>
                </a:lnTo>
                <a:lnTo>
                  <a:pt x="3" y="568"/>
                </a:lnTo>
                <a:lnTo>
                  <a:pt x="5" y="586"/>
                </a:lnTo>
                <a:lnTo>
                  <a:pt x="5" y="602"/>
                </a:lnTo>
                <a:lnTo>
                  <a:pt x="8" y="619"/>
                </a:lnTo>
                <a:lnTo>
                  <a:pt x="8" y="637"/>
                </a:lnTo>
                <a:lnTo>
                  <a:pt x="8" y="653"/>
                </a:lnTo>
                <a:lnTo>
                  <a:pt x="8" y="679"/>
                </a:lnTo>
                <a:lnTo>
                  <a:pt x="8" y="704"/>
                </a:lnTo>
                <a:lnTo>
                  <a:pt x="8" y="721"/>
                </a:lnTo>
                <a:lnTo>
                  <a:pt x="8" y="738"/>
                </a:lnTo>
                <a:lnTo>
                  <a:pt x="8" y="756"/>
                </a:lnTo>
                <a:lnTo>
                  <a:pt x="8" y="780"/>
                </a:lnTo>
                <a:lnTo>
                  <a:pt x="11" y="798"/>
                </a:lnTo>
                <a:lnTo>
                  <a:pt x="14" y="815"/>
                </a:lnTo>
                <a:lnTo>
                  <a:pt x="14" y="849"/>
                </a:lnTo>
                <a:lnTo>
                  <a:pt x="14" y="874"/>
                </a:lnTo>
                <a:lnTo>
                  <a:pt x="14" y="891"/>
                </a:lnTo>
                <a:lnTo>
                  <a:pt x="14" y="908"/>
                </a:lnTo>
                <a:lnTo>
                  <a:pt x="14" y="924"/>
                </a:lnTo>
                <a:lnTo>
                  <a:pt x="14" y="942"/>
                </a:lnTo>
                <a:lnTo>
                  <a:pt x="14" y="959"/>
                </a:lnTo>
                <a:lnTo>
                  <a:pt x="14" y="976"/>
                </a:lnTo>
                <a:lnTo>
                  <a:pt x="14" y="993"/>
                </a:lnTo>
                <a:lnTo>
                  <a:pt x="14" y="1009"/>
                </a:lnTo>
                <a:lnTo>
                  <a:pt x="14" y="1027"/>
                </a:lnTo>
                <a:lnTo>
                  <a:pt x="14" y="1043"/>
                </a:lnTo>
                <a:lnTo>
                  <a:pt x="14" y="1069"/>
                </a:lnTo>
                <a:lnTo>
                  <a:pt x="16" y="1086"/>
                </a:lnTo>
                <a:lnTo>
                  <a:pt x="16" y="1103"/>
                </a:lnTo>
                <a:lnTo>
                  <a:pt x="19" y="1128"/>
                </a:lnTo>
                <a:lnTo>
                  <a:pt x="22" y="1154"/>
                </a:lnTo>
                <a:lnTo>
                  <a:pt x="28" y="1179"/>
                </a:lnTo>
                <a:lnTo>
                  <a:pt x="28" y="1197"/>
                </a:lnTo>
                <a:lnTo>
                  <a:pt x="28" y="1213"/>
                </a:lnTo>
                <a:lnTo>
                  <a:pt x="30" y="1231"/>
                </a:lnTo>
                <a:lnTo>
                  <a:pt x="30" y="1247"/>
                </a:lnTo>
                <a:lnTo>
                  <a:pt x="33" y="1264"/>
                </a:lnTo>
                <a:lnTo>
                  <a:pt x="33" y="1281"/>
                </a:lnTo>
                <a:lnTo>
                  <a:pt x="33" y="1298"/>
                </a:lnTo>
                <a:lnTo>
                  <a:pt x="33" y="1315"/>
                </a:lnTo>
                <a:lnTo>
                  <a:pt x="33" y="1332"/>
                </a:lnTo>
                <a:lnTo>
                  <a:pt x="33" y="1349"/>
                </a:lnTo>
                <a:lnTo>
                  <a:pt x="33" y="1366"/>
                </a:lnTo>
                <a:lnTo>
                  <a:pt x="33" y="1383"/>
                </a:lnTo>
                <a:lnTo>
                  <a:pt x="33" y="1400"/>
                </a:lnTo>
                <a:lnTo>
                  <a:pt x="33" y="1425"/>
                </a:lnTo>
                <a:lnTo>
                  <a:pt x="33" y="1451"/>
                </a:lnTo>
                <a:lnTo>
                  <a:pt x="33" y="1468"/>
                </a:lnTo>
                <a:lnTo>
                  <a:pt x="33" y="1484"/>
                </a:lnTo>
                <a:lnTo>
                  <a:pt x="33" y="1502"/>
                </a:lnTo>
                <a:lnTo>
                  <a:pt x="33" y="1527"/>
                </a:lnTo>
                <a:lnTo>
                  <a:pt x="33" y="1544"/>
                </a:lnTo>
                <a:lnTo>
                  <a:pt x="33" y="1561"/>
                </a:lnTo>
                <a:lnTo>
                  <a:pt x="39" y="1569"/>
                </a:lnTo>
                <a:lnTo>
                  <a:pt x="44" y="1569"/>
                </a:lnTo>
                <a:lnTo>
                  <a:pt x="49" y="1561"/>
                </a:lnTo>
                <a:lnTo>
                  <a:pt x="55" y="1561"/>
                </a:lnTo>
                <a:lnTo>
                  <a:pt x="60" y="1569"/>
                </a:lnTo>
                <a:lnTo>
                  <a:pt x="66" y="1569"/>
                </a:lnTo>
                <a:lnTo>
                  <a:pt x="72" y="1569"/>
                </a:lnTo>
                <a:lnTo>
                  <a:pt x="77" y="1569"/>
                </a:lnTo>
                <a:lnTo>
                  <a:pt x="83" y="1569"/>
                </a:lnTo>
                <a:lnTo>
                  <a:pt x="88" y="1569"/>
                </a:lnTo>
                <a:lnTo>
                  <a:pt x="94" y="1579"/>
                </a:lnTo>
                <a:lnTo>
                  <a:pt x="102" y="1579"/>
                </a:lnTo>
                <a:lnTo>
                  <a:pt x="110" y="1579"/>
                </a:lnTo>
                <a:lnTo>
                  <a:pt x="118" y="1579"/>
                </a:lnTo>
                <a:lnTo>
                  <a:pt x="124" y="1579"/>
                </a:lnTo>
                <a:lnTo>
                  <a:pt x="129" y="1579"/>
                </a:lnTo>
                <a:lnTo>
                  <a:pt x="135" y="1579"/>
                </a:lnTo>
                <a:lnTo>
                  <a:pt x="140" y="1579"/>
                </a:lnTo>
                <a:lnTo>
                  <a:pt x="146" y="1579"/>
                </a:lnTo>
                <a:lnTo>
                  <a:pt x="152" y="1579"/>
                </a:lnTo>
                <a:lnTo>
                  <a:pt x="157" y="1579"/>
                </a:lnTo>
                <a:lnTo>
                  <a:pt x="162" y="1587"/>
                </a:lnTo>
                <a:lnTo>
                  <a:pt x="168" y="1587"/>
                </a:lnTo>
                <a:lnTo>
                  <a:pt x="173" y="1587"/>
                </a:lnTo>
                <a:lnTo>
                  <a:pt x="179" y="1587"/>
                </a:lnTo>
                <a:lnTo>
                  <a:pt x="184" y="1587"/>
                </a:lnTo>
                <a:lnTo>
                  <a:pt x="190" y="1587"/>
                </a:lnTo>
                <a:lnTo>
                  <a:pt x="196" y="1587"/>
                </a:lnTo>
                <a:lnTo>
                  <a:pt x="201" y="1587"/>
                </a:lnTo>
                <a:lnTo>
                  <a:pt x="207" y="1587"/>
                </a:lnTo>
                <a:lnTo>
                  <a:pt x="212" y="1587"/>
                </a:lnTo>
                <a:lnTo>
                  <a:pt x="217" y="1587"/>
                </a:lnTo>
                <a:lnTo>
                  <a:pt x="223" y="1587"/>
                </a:lnTo>
                <a:lnTo>
                  <a:pt x="228" y="1587"/>
                </a:lnTo>
                <a:lnTo>
                  <a:pt x="237" y="1587"/>
                </a:lnTo>
                <a:lnTo>
                  <a:pt x="242" y="1587"/>
                </a:lnTo>
                <a:lnTo>
                  <a:pt x="251" y="1587"/>
                </a:lnTo>
                <a:lnTo>
                  <a:pt x="256" y="1587"/>
                </a:lnTo>
                <a:lnTo>
                  <a:pt x="264" y="1587"/>
                </a:lnTo>
                <a:lnTo>
                  <a:pt x="273" y="1587"/>
                </a:lnTo>
                <a:lnTo>
                  <a:pt x="281" y="1579"/>
                </a:lnTo>
                <a:lnTo>
                  <a:pt x="286" y="1579"/>
                </a:lnTo>
                <a:lnTo>
                  <a:pt x="292" y="1569"/>
                </a:lnTo>
                <a:lnTo>
                  <a:pt x="297" y="1569"/>
                </a:lnTo>
                <a:lnTo>
                  <a:pt x="303" y="1561"/>
                </a:lnTo>
                <a:lnTo>
                  <a:pt x="308" y="1561"/>
                </a:lnTo>
                <a:lnTo>
                  <a:pt x="314" y="1553"/>
                </a:lnTo>
                <a:lnTo>
                  <a:pt x="320" y="1553"/>
                </a:lnTo>
                <a:lnTo>
                  <a:pt x="325" y="1553"/>
                </a:lnTo>
                <a:lnTo>
                  <a:pt x="333" y="1553"/>
                </a:lnTo>
                <a:lnTo>
                  <a:pt x="341" y="1544"/>
                </a:lnTo>
                <a:lnTo>
                  <a:pt x="347" y="1544"/>
                </a:lnTo>
                <a:lnTo>
                  <a:pt x="352" y="1544"/>
                </a:lnTo>
                <a:lnTo>
                  <a:pt x="358" y="1544"/>
                </a:lnTo>
                <a:lnTo>
                  <a:pt x="364" y="1544"/>
                </a:lnTo>
                <a:lnTo>
                  <a:pt x="372" y="1544"/>
                </a:lnTo>
                <a:lnTo>
                  <a:pt x="377" y="1553"/>
                </a:lnTo>
                <a:lnTo>
                  <a:pt x="383" y="1553"/>
                </a:lnTo>
                <a:lnTo>
                  <a:pt x="388" y="1561"/>
                </a:lnTo>
                <a:lnTo>
                  <a:pt x="394" y="1561"/>
                </a:lnTo>
                <a:lnTo>
                  <a:pt x="399" y="1569"/>
                </a:lnTo>
                <a:lnTo>
                  <a:pt x="405" y="1569"/>
                </a:lnTo>
                <a:lnTo>
                  <a:pt x="410" y="1569"/>
                </a:lnTo>
                <a:lnTo>
                  <a:pt x="419" y="1579"/>
                </a:lnTo>
                <a:lnTo>
                  <a:pt x="424" y="1579"/>
                </a:lnTo>
                <a:lnTo>
                  <a:pt x="432" y="1587"/>
                </a:lnTo>
                <a:lnTo>
                  <a:pt x="440" y="1587"/>
                </a:lnTo>
                <a:lnTo>
                  <a:pt x="446" y="1595"/>
                </a:lnTo>
                <a:lnTo>
                  <a:pt x="452" y="1595"/>
                </a:lnTo>
                <a:lnTo>
                  <a:pt x="457" y="1603"/>
                </a:lnTo>
                <a:lnTo>
                  <a:pt x="463" y="1612"/>
                </a:lnTo>
                <a:lnTo>
                  <a:pt x="468" y="1612"/>
                </a:lnTo>
                <a:lnTo>
                  <a:pt x="474" y="1621"/>
                </a:lnTo>
                <a:lnTo>
                  <a:pt x="479" y="1629"/>
                </a:lnTo>
                <a:lnTo>
                  <a:pt x="488" y="1638"/>
                </a:lnTo>
                <a:lnTo>
                  <a:pt x="493" y="1638"/>
                </a:lnTo>
                <a:lnTo>
                  <a:pt x="498" y="1646"/>
                </a:lnTo>
                <a:lnTo>
                  <a:pt x="504" y="1646"/>
                </a:lnTo>
                <a:lnTo>
                  <a:pt x="509" y="1654"/>
                </a:lnTo>
                <a:lnTo>
                  <a:pt x="515" y="1662"/>
                </a:lnTo>
                <a:lnTo>
                  <a:pt x="520" y="1672"/>
                </a:lnTo>
                <a:lnTo>
                  <a:pt x="526" y="1672"/>
                </a:lnTo>
                <a:lnTo>
                  <a:pt x="532" y="1672"/>
                </a:lnTo>
                <a:lnTo>
                  <a:pt x="537" y="1672"/>
                </a:lnTo>
                <a:lnTo>
                  <a:pt x="542" y="1680"/>
                </a:lnTo>
                <a:lnTo>
                  <a:pt x="548" y="168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 flipV="1">
            <a:off x="3733920" y="2971440"/>
            <a:ext cx="91440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3352680" y="2286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2"/>
          <p:cNvSpPr/>
          <p:nvPr/>
        </p:nvSpPr>
        <p:spPr>
          <a:xfrm>
            <a:off x="4862520" y="2895480"/>
            <a:ext cx="3978360" cy="362160"/>
          </a:xfrm>
          <a:custGeom>
            <a:avLst/>
            <a:gdLst/>
            <a:ahLst/>
            <a:rect l="l" t="t" r="r" b="b"/>
            <a:pathLst>
              <a:path w="2506" h="228">
                <a:moveTo>
                  <a:pt x="2505" y="114"/>
                </a:moveTo>
                <a:lnTo>
                  <a:pt x="2483" y="116"/>
                </a:lnTo>
                <a:lnTo>
                  <a:pt x="2466" y="122"/>
                </a:lnTo>
                <a:lnTo>
                  <a:pt x="2449" y="122"/>
                </a:lnTo>
                <a:lnTo>
                  <a:pt x="2432" y="122"/>
                </a:lnTo>
                <a:lnTo>
                  <a:pt x="2416" y="122"/>
                </a:lnTo>
                <a:lnTo>
                  <a:pt x="2400" y="116"/>
                </a:lnTo>
                <a:lnTo>
                  <a:pt x="2383" y="116"/>
                </a:lnTo>
                <a:lnTo>
                  <a:pt x="2367" y="111"/>
                </a:lnTo>
                <a:lnTo>
                  <a:pt x="2350" y="99"/>
                </a:lnTo>
                <a:lnTo>
                  <a:pt x="2334" y="93"/>
                </a:lnTo>
                <a:lnTo>
                  <a:pt x="2318" y="87"/>
                </a:lnTo>
                <a:lnTo>
                  <a:pt x="2292" y="87"/>
                </a:lnTo>
                <a:lnTo>
                  <a:pt x="2268" y="75"/>
                </a:lnTo>
                <a:lnTo>
                  <a:pt x="2251" y="75"/>
                </a:lnTo>
                <a:lnTo>
                  <a:pt x="2235" y="70"/>
                </a:lnTo>
                <a:lnTo>
                  <a:pt x="2218" y="70"/>
                </a:lnTo>
                <a:lnTo>
                  <a:pt x="2194" y="75"/>
                </a:lnTo>
                <a:lnTo>
                  <a:pt x="2177" y="75"/>
                </a:lnTo>
                <a:lnTo>
                  <a:pt x="2161" y="75"/>
                </a:lnTo>
                <a:lnTo>
                  <a:pt x="2144" y="82"/>
                </a:lnTo>
                <a:lnTo>
                  <a:pt x="2127" y="87"/>
                </a:lnTo>
                <a:lnTo>
                  <a:pt x="2111" y="87"/>
                </a:lnTo>
                <a:lnTo>
                  <a:pt x="2103" y="99"/>
                </a:lnTo>
                <a:lnTo>
                  <a:pt x="2086" y="99"/>
                </a:lnTo>
                <a:lnTo>
                  <a:pt x="2078" y="111"/>
                </a:lnTo>
                <a:lnTo>
                  <a:pt x="2053" y="116"/>
                </a:lnTo>
                <a:lnTo>
                  <a:pt x="2037" y="122"/>
                </a:lnTo>
                <a:lnTo>
                  <a:pt x="2021" y="128"/>
                </a:lnTo>
                <a:lnTo>
                  <a:pt x="2004" y="133"/>
                </a:lnTo>
                <a:lnTo>
                  <a:pt x="1987" y="133"/>
                </a:lnTo>
                <a:lnTo>
                  <a:pt x="1971" y="133"/>
                </a:lnTo>
                <a:lnTo>
                  <a:pt x="1954" y="133"/>
                </a:lnTo>
                <a:lnTo>
                  <a:pt x="1938" y="133"/>
                </a:lnTo>
                <a:lnTo>
                  <a:pt x="1921" y="133"/>
                </a:lnTo>
                <a:lnTo>
                  <a:pt x="1905" y="133"/>
                </a:lnTo>
                <a:lnTo>
                  <a:pt x="1889" y="133"/>
                </a:lnTo>
                <a:lnTo>
                  <a:pt x="1872" y="128"/>
                </a:lnTo>
                <a:lnTo>
                  <a:pt x="1848" y="122"/>
                </a:lnTo>
                <a:lnTo>
                  <a:pt x="1831" y="122"/>
                </a:lnTo>
                <a:lnTo>
                  <a:pt x="1806" y="116"/>
                </a:lnTo>
                <a:lnTo>
                  <a:pt x="1789" y="111"/>
                </a:lnTo>
                <a:lnTo>
                  <a:pt x="1773" y="104"/>
                </a:lnTo>
                <a:lnTo>
                  <a:pt x="1756" y="99"/>
                </a:lnTo>
                <a:lnTo>
                  <a:pt x="1740" y="87"/>
                </a:lnTo>
                <a:lnTo>
                  <a:pt x="1724" y="82"/>
                </a:lnTo>
                <a:lnTo>
                  <a:pt x="1707" y="82"/>
                </a:lnTo>
                <a:lnTo>
                  <a:pt x="1691" y="75"/>
                </a:lnTo>
                <a:lnTo>
                  <a:pt x="1674" y="70"/>
                </a:lnTo>
                <a:lnTo>
                  <a:pt x="1657" y="70"/>
                </a:lnTo>
                <a:lnTo>
                  <a:pt x="1641" y="64"/>
                </a:lnTo>
                <a:lnTo>
                  <a:pt x="1624" y="64"/>
                </a:lnTo>
                <a:lnTo>
                  <a:pt x="1608" y="58"/>
                </a:lnTo>
                <a:lnTo>
                  <a:pt x="1592" y="58"/>
                </a:lnTo>
                <a:lnTo>
                  <a:pt x="1567" y="58"/>
                </a:lnTo>
                <a:lnTo>
                  <a:pt x="1551" y="58"/>
                </a:lnTo>
                <a:lnTo>
                  <a:pt x="1534" y="58"/>
                </a:lnTo>
                <a:lnTo>
                  <a:pt x="1518" y="58"/>
                </a:lnTo>
                <a:lnTo>
                  <a:pt x="1500" y="58"/>
                </a:lnTo>
                <a:lnTo>
                  <a:pt x="1484" y="64"/>
                </a:lnTo>
                <a:lnTo>
                  <a:pt x="1468" y="70"/>
                </a:lnTo>
                <a:lnTo>
                  <a:pt x="1451" y="75"/>
                </a:lnTo>
                <a:lnTo>
                  <a:pt x="1435" y="82"/>
                </a:lnTo>
                <a:lnTo>
                  <a:pt x="1418" y="87"/>
                </a:lnTo>
                <a:lnTo>
                  <a:pt x="1402" y="99"/>
                </a:lnTo>
                <a:lnTo>
                  <a:pt x="1386" y="104"/>
                </a:lnTo>
                <a:lnTo>
                  <a:pt x="1369" y="111"/>
                </a:lnTo>
                <a:lnTo>
                  <a:pt x="1353" y="116"/>
                </a:lnTo>
                <a:lnTo>
                  <a:pt x="1327" y="122"/>
                </a:lnTo>
                <a:lnTo>
                  <a:pt x="1311" y="128"/>
                </a:lnTo>
                <a:lnTo>
                  <a:pt x="1294" y="133"/>
                </a:lnTo>
                <a:lnTo>
                  <a:pt x="1278" y="133"/>
                </a:lnTo>
                <a:lnTo>
                  <a:pt x="1262" y="140"/>
                </a:lnTo>
                <a:lnTo>
                  <a:pt x="1245" y="140"/>
                </a:lnTo>
                <a:lnTo>
                  <a:pt x="1229" y="140"/>
                </a:lnTo>
                <a:lnTo>
                  <a:pt x="1213" y="145"/>
                </a:lnTo>
                <a:lnTo>
                  <a:pt x="1213" y="144"/>
                </a:lnTo>
                <a:lnTo>
                  <a:pt x="1196" y="145"/>
                </a:lnTo>
                <a:lnTo>
                  <a:pt x="1179" y="140"/>
                </a:lnTo>
                <a:lnTo>
                  <a:pt x="1162" y="133"/>
                </a:lnTo>
                <a:lnTo>
                  <a:pt x="1138" y="133"/>
                </a:lnTo>
                <a:lnTo>
                  <a:pt x="1121" y="128"/>
                </a:lnTo>
                <a:lnTo>
                  <a:pt x="1105" y="122"/>
                </a:lnTo>
                <a:lnTo>
                  <a:pt x="1080" y="116"/>
                </a:lnTo>
                <a:lnTo>
                  <a:pt x="1064" y="111"/>
                </a:lnTo>
                <a:lnTo>
                  <a:pt x="1056" y="99"/>
                </a:lnTo>
                <a:lnTo>
                  <a:pt x="1039" y="93"/>
                </a:lnTo>
                <a:lnTo>
                  <a:pt x="1031" y="82"/>
                </a:lnTo>
                <a:lnTo>
                  <a:pt x="1014" y="75"/>
                </a:lnTo>
                <a:lnTo>
                  <a:pt x="997" y="70"/>
                </a:lnTo>
                <a:lnTo>
                  <a:pt x="981" y="64"/>
                </a:lnTo>
                <a:lnTo>
                  <a:pt x="965" y="64"/>
                </a:lnTo>
                <a:lnTo>
                  <a:pt x="948" y="58"/>
                </a:lnTo>
                <a:lnTo>
                  <a:pt x="932" y="52"/>
                </a:lnTo>
                <a:lnTo>
                  <a:pt x="915" y="52"/>
                </a:lnTo>
                <a:lnTo>
                  <a:pt x="899" y="52"/>
                </a:lnTo>
                <a:lnTo>
                  <a:pt x="883" y="52"/>
                </a:lnTo>
                <a:lnTo>
                  <a:pt x="865" y="52"/>
                </a:lnTo>
                <a:lnTo>
                  <a:pt x="849" y="52"/>
                </a:lnTo>
                <a:lnTo>
                  <a:pt x="833" y="52"/>
                </a:lnTo>
                <a:lnTo>
                  <a:pt x="816" y="58"/>
                </a:lnTo>
                <a:lnTo>
                  <a:pt x="800" y="64"/>
                </a:lnTo>
                <a:lnTo>
                  <a:pt x="783" y="64"/>
                </a:lnTo>
                <a:lnTo>
                  <a:pt x="767" y="64"/>
                </a:lnTo>
                <a:lnTo>
                  <a:pt x="751" y="70"/>
                </a:lnTo>
                <a:lnTo>
                  <a:pt x="734" y="75"/>
                </a:lnTo>
                <a:lnTo>
                  <a:pt x="718" y="82"/>
                </a:lnTo>
                <a:lnTo>
                  <a:pt x="700" y="87"/>
                </a:lnTo>
                <a:lnTo>
                  <a:pt x="684" y="93"/>
                </a:lnTo>
                <a:lnTo>
                  <a:pt x="668" y="99"/>
                </a:lnTo>
                <a:lnTo>
                  <a:pt x="651" y="111"/>
                </a:lnTo>
                <a:lnTo>
                  <a:pt x="635" y="111"/>
                </a:lnTo>
                <a:lnTo>
                  <a:pt x="618" y="111"/>
                </a:lnTo>
                <a:lnTo>
                  <a:pt x="602" y="116"/>
                </a:lnTo>
                <a:lnTo>
                  <a:pt x="586" y="116"/>
                </a:lnTo>
                <a:lnTo>
                  <a:pt x="561" y="116"/>
                </a:lnTo>
                <a:lnTo>
                  <a:pt x="544" y="122"/>
                </a:lnTo>
                <a:lnTo>
                  <a:pt x="527" y="122"/>
                </a:lnTo>
                <a:lnTo>
                  <a:pt x="511" y="122"/>
                </a:lnTo>
                <a:lnTo>
                  <a:pt x="495" y="122"/>
                </a:lnTo>
                <a:lnTo>
                  <a:pt x="478" y="116"/>
                </a:lnTo>
                <a:lnTo>
                  <a:pt x="462" y="111"/>
                </a:lnTo>
                <a:lnTo>
                  <a:pt x="454" y="99"/>
                </a:lnTo>
                <a:lnTo>
                  <a:pt x="437" y="99"/>
                </a:lnTo>
                <a:lnTo>
                  <a:pt x="421" y="99"/>
                </a:lnTo>
                <a:lnTo>
                  <a:pt x="404" y="93"/>
                </a:lnTo>
                <a:lnTo>
                  <a:pt x="396" y="82"/>
                </a:lnTo>
                <a:lnTo>
                  <a:pt x="379" y="75"/>
                </a:lnTo>
                <a:lnTo>
                  <a:pt x="379" y="64"/>
                </a:lnTo>
                <a:lnTo>
                  <a:pt x="362" y="58"/>
                </a:lnTo>
                <a:lnTo>
                  <a:pt x="354" y="47"/>
                </a:lnTo>
                <a:lnTo>
                  <a:pt x="338" y="40"/>
                </a:lnTo>
                <a:lnTo>
                  <a:pt x="330" y="29"/>
                </a:lnTo>
                <a:lnTo>
                  <a:pt x="313" y="23"/>
                </a:lnTo>
                <a:lnTo>
                  <a:pt x="297" y="18"/>
                </a:lnTo>
                <a:lnTo>
                  <a:pt x="280" y="11"/>
                </a:lnTo>
                <a:lnTo>
                  <a:pt x="264" y="6"/>
                </a:lnTo>
                <a:lnTo>
                  <a:pt x="248" y="6"/>
                </a:lnTo>
                <a:lnTo>
                  <a:pt x="230" y="6"/>
                </a:lnTo>
                <a:lnTo>
                  <a:pt x="214" y="0"/>
                </a:lnTo>
                <a:lnTo>
                  <a:pt x="197" y="0"/>
                </a:lnTo>
                <a:lnTo>
                  <a:pt x="181" y="0"/>
                </a:lnTo>
                <a:lnTo>
                  <a:pt x="165" y="0"/>
                </a:lnTo>
                <a:lnTo>
                  <a:pt x="148" y="0"/>
                </a:lnTo>
                <a:lnTo>
                  <a:pt x="132" y="0"/>
                </a:lnTo>
                <a:lnTo>
                  <a:pt x="116" y="0"/>
                </a:lnTo>
                <a:lnTo>
                  <a:pt x="99" y="0"/>
                </a:lnTo>
                <a:lnTo>
                  <a:pt x="83" y="11"/>
                </a:lnTo>
                <a:lnTo>
                  <a:pt x="65" y="18"/>
                </a:lnTo>
                <a:lnTo>
                  <a:pt x="49" y="18"/>
                </a:lnTo>
                <a:lnTo>
                  <a:pt x="33" y="23"/>
                </a:lnTo>
                <a:lnTo>
                  <a:pt x="49" y="29"/>
                </a:lnTo>
                <a:lnTo>
                  <a:pt x="65" y="35"/>
                </a:lnTo>
                <a:lnTo>
                  <a:pt x="83" y="35"/>
                </a:lnTo>
                <a:lnTo>
                  <a:pt x="99" y="40"/>
                </a:lnTo>
                <a:lnTo>
                  <a:pt x="116" y="47"/>
                </a:lnTo>
                <a:lnTo>
                  <a:pt x="116" y="58"/>
                </a:lnTo>
                <a:lnTo>
                  <a:pt x="132" y="64"/>
                </a:lnTo>
                <a:lnTo>
                  <a:pt x="132" y="75"/>
                </a:lnTo>
                <a:lnTo>
                  <a:pt x="132" y="87"/>
                </a:lnTo>
                <a:lnTo>
                  <a:pt x="132" y="99"/>
                </a:lnTo>
                <a:lnTo>
                  <a:pt x="132" y="111"/>
                </a:lnTo>
                <a:lnTo>
                  <a:pt x="132" y="122"/>
                </a:lnTo>
                <a:lnTo>
                  <a:pt x="124" y="133"/>
                </a:lnTo>
                <a:lnTo>
                  <a:pt x="107" y="140"/>
                </a:lnTo>
                <a:lnTo>
                  <a:pt x="91" y="145"/>
                </a:lnTo>
                <a:lnTo>
                  <a:pt x="74" y="151"/>
                </a:lnTo>
                <a:lnTo>
                  <a:pt x="57" y="151"/>
                </a:lnTo>
                <a:lnTo>
                  <a:pt x="41" y="151"/>
                </a:lnTo>
                <a:lnTo>
                  <a:pt x="24" y="151"/>
                </a:lnTo>
                <a:lnTo>
                  <a:pt x="8" y="151"/>
                </a:lnTo>
                <a:lnTo>
                  <a:pt x="0" y="163"/>
                </a:lnTo>
                <a:lnTo>
                  <a:pt x="0" y="180"/>
                </a:lnTo>
                <a:lnTo>
                  <a:pt x="0" y="192"/>
                </a:lnTo>
                <a:lnTo>
                  <a:pt x="0" y="204"/>
                </a:lnTo>
                <a:lnTo>
                  <a:pt x="0" y="215"/>
                </a:lnTo>
                <a:lnTo>
                  <a:pt x="16" y="209"/>
                </a:lnTo>
                <a:lnTo>
                  <a:pt x="41" y="209"/>
                </a:lnTo>
                <a:lnTo>
                  <a:pt x="65" y="215"/>
                </a:lnTo>
                <a:lnTo>
                  <a:pt x="83" y="215"/>
                </a:lnTo>
                <a:lnTo>
                  <a:pt x="99" y="215"/>
                </a:lnTo>
                <a:lnTo>
                  <a:pt x="124" y="215"/>
                </a:lnTo>
                <a:lnTo>
                  <a:pt x="140" y="215"/>
                </a:lnTo>
                <a:lnTo>
                  <a:pt x="165" y="215"/>
                </a:lnTo>
                <a:lnTo>
                  <a:pt x="189" y="215"/>
                </a:lnTo>
                <a:lnTo>
                  <a:pt x="214" y="221"/>
                </a:lnTo>
                <a:lnTo>
                  <a:pt x="239" y="221"/>
                </a:lnTo>
                <a:lnTo>
                  <a:pt x="256" y="221"/>
                </a:lnTo>
                <a:lnTo>
                  <a:pt x="272" y="221"/>
                </a:lnTo>
                <a:lnTo>
                  <a:pt x="289" y="221"/>
                </a:lnTo>
                <a:lnTo>
                  <a:pt x="305" y="221"/>
                </a:lnTo>
                <a:lnTo>
                  <a:pt x="346" y="215"/>
                </a:lnTo>
                <a:lnTo>
                  <a:pt x="362" y="215"/>
                </a:lnTo>
                <a:lnTo>
                  <a:pt x="387" y="215"/>
                </a:lnTo>
                <a:lnTo>
                  <a:pt x="404" y="215"/>
                </a:lnTo>
                <a:lnTo>
                  <a:pt x="429" y="209"/>
                </a:lnTo>
                <a:lnTo>
                  <a:pt x="445" y="209"/>
                </a:lnTo>
                <a:lnTo>
                  <a:pt x="462" y="209"/>
                </a:lnTo>
                <a:lnTo>
                  <a:pt x="478" y="209"/>
                </a:lnTo>
                <a:lnTo>
                  <a:pt x="495" y="209"/>
                </a:lnTo>
                <a:lnTo>
                  <a:pt x="511" y="209"/>
                </a:lnTo>
                <a:lnTo>
                  <a:pt x="527" y="209"/>
                </a:lnTo>
                <a:lnTo>
                  <a:pt x="552" y="209"/>
                </a:lnTo>
                <a:lnTo>
                  <a:pt x="577" y="209"/>
                </a:lnTo>
                <a:lnTo>
                  <a:pt x="610" y="209"/>
                </a:lnTo>
                <a:lnTo>
                  <a:pt x="627" y="209"/>
                </a:lnTo>
                <a:lnTo>
                  <a:pt x="651" y="215"/>
                </a:lnTo>
                <a:lnTo>
                  <a:pt x="668" y="215"/>
                </a:lnTo>
                <a:lnTo>
                  <a:pt x="684" y="215"/>
                </a:lnTo>
                <a:lnTo>
                  <a:pt x="700" y="215"/>
                </a:lnTo>
                <a:lnTo>
                  <a:pt x="718" y="215"/>
                </a:lnTo>
                <a:lnTo>
                  <a:pt x="742" y="215"/>
                </a:lnTo>
                <a:lnTo>
                  <a:pt x="775" y="221"/>
                </a:lnTo>
                <a:lnTo>
                  <a:pt x="800" y="221"/>
                </a:lnTo>
                <a:lnTo>
                  <a:pt x="833" y="221"/>
                </a:lnTo>
                <a:lnTo>
                  <a:pt x="857" y="221"/>
                </a:lnTo>
                <a:lnTo>
                  <a:pt x="891" y="221"/>
                </a:lnTo>
                <a:lnTo>
                  <a:pt x="924" y="221"/>
                </a:lnTo>
                <a:lnTo>
                  <a:pt x="940" y="221"/>
                </a:lnTo>
                <a:lnTo>
                  <a:pt x="965" y="221"/>
                </a:lnTo>
                <a:lnTo>
                  <a:pt x="989" y="221"/>
                </a:lnTo>
                <a:lnTo>
                  <a:pt x="1006" y="221"/>
                </a:lnTo>
                <a:lnTo>
                  <a:pt x="1031" y="221"/>
                </a:lnTo>
                <a:lnTo>
                  <a:pt x="1056" y="221"/>
                </a:lnTo>
                <a:lnTo>
                  <a:pt x="1080" y="221"/>
                </a:lnTo>
                <a:lnTo>
                  <a:pt x="1097" y="221"/>
                </a:lnTo>
                <a:lnTo>
                  <a:pt x="1113" y="221"/>
                </a:lnTo>
                <a:lnTo>
                  <a:pt x="1130" y="221"/>
                </a:lnTo>
                <a:lnTo>
                  <a:pt x="1154" y="221"/>
                </a:lnTo>
                <a:lnTo>
                  <a:pt x="1179" y="221"/>
                </a:lnTo>
                <a:lnTo>
                  <a:pt x="1213" y="221"/>
                </a:lnTo>
                <a:lnTo>
                  <a:pt x="1245" y="221"/>
                </a:lnTo>
                <a:lnTo>
                  <a:pt x="1270" y="227"/>
                </a:lnTo>
                <a:lnTo>
                  <a:pt x="1286" y="227"/>
                </a:lnTo>
                <a:lnTo>
                  <a:pt x="1303" y="227"/>
                </a:lnTo>
                <a:lnTo>
                  <a:pt x="1319" y="227"/>
                </a:lnTo>
                <a:lnTo>
                  <a:pt x="1335" y="227"/>
                </a:lnTo>
                <a:lnTo>
                  <a:pt x="1353" y="227"/>
                </a:lnTo>
                <a:lnTo>
                  <a:pt x="1386" y="227"/>
                </a:lnTo>
                <a:lnTo>
                  <a:pt x="1418" y="227"/>
                </a:lnTo>
                <a:lnTo>
                  <a:pt x="1435" y="227"/>
                </a:lnTo>
                <a:lnTo>
                  <a:pt x="1459" y="227"/>
                </a:lnTo>
                <a:lnTo>
                  <a:pt x="1484" y="227"/>
                </a:lnTo>
                <a:lnTo>
                  <a:pt x="1518" y="227"/>
                </a:lnTo>
                <a:lnTo>
                  <a:pt x="1551" y="227"/>
                </a:lnTo>
                <a:lnTo>
                  <a:pt x="1583" y="227"/>
                </a:lnTo>
                <a:lnTo>
                  <a:pt x="1616" y="227"/>
                </a:lnTo>
                <a:lnTo>
                  <a:pt x="1649" y="227"/>
                </a:lnTo>
                <a:lnTo>
                  <a:pt x="1674" y="221"/>
                </a:lnTo>
                <a:lnTo>
                  <a:pt x="1699" y="221"/>
                </a:lnTo>
                <a:lnTo>
                  <a:pt x="1732" y="221"/>
                </a:lnTo>
                <a:lnTo>
                  <a:pt x="1748" y="221"/>
                </a:lnTo>
                <a:lnTo>
                  <a:pt x="1765" y="221"/>
                </a:lnTo>
                <a:lnTo>
                  <a:pt x="1781" y="221"/>
                </a:lnTo>
                <a:lnTo>
                  <a:pt x="1806" y="221"/>
                </a:lnTo>
                <a:lnTo>
                  <a:pt x="1831" y="221"/>
                </a:lnTo>
                <a:lnTo>
                  <a:pt x="1872" y="221"/>
                </a:lnTo>
                <a:lnTo>
                  <a:pt x="1897" y="221"/>
                </a:lnTo>
                <a:lnTo>
                  <a:pt x="1921" y="221"/>
                </a:lnTo>
                <a:lnTo>
                  <a:pt x="1954" y="221"/>
                </a:lnTo>
                <a:lnTo>
                  <a:pt x="1971" y="221"/>
                </a:lnTo>
                <a:lnTo>
                  <a:pt x="1996" y="221"/>
                </a:lnTo>
                <a:lnTo>
                  <a:pt x="2021" y="221"/>
                </a:lnTo>
                <a:lnTo>
                  <a:pt x="2037" y="221"/>
                </a:lnTo>
                <a:lnTo>
                  <a:pt x="2062" y="221"/>
                </a:lnTo>
                <a:lnTo>
                  <a:pt x="2094" y="221"/>
                </a:lnTo>
                <a:lnTo>
                  <a:pt x="2119" y="221"/>
                </a:lnTo>
                <a:lnTo>
                  <a:pt x="2135" y="221"/>
                </a:lnTo>
                <a:lnTo>
                  <a:pt x="2153" y="221"/>
                </a:lnTo>
                <a:lnTo>
                  <a:pt x="2177" y="221"/>
                </a:lnTo>
                <a:lnTo>
                  <a:pt x="2210" y="221"/>
                </a:lnTo>
                <a:lnTo>
                  <a:pt x="2243" y="221"/>
                </a:lnTo>
                <a:lnTo>
                  <a:pt x="2259" y="221"/>
                </a:lnTo>
                <a:lnTo>
                  <a:pt x="2284" y="221"/>
                </a:lnTo>
                <a:lnTo>
                  <a:pt x="2318" y="221"/>
                </a:lnTo>
                <a:lnTo>
                  <a:pt x="2342" y="221"/>
                </a:lnTo>
                <a:lnTo>
                  <a:pt x="2359" y="221"/>
                </a:lnTo>
                <a:lnTo>
                  <a:pt x="2375" y="221"/>
                </a:lnTo>
                <a:lnTo>
                  <a:pt x="2391" y="221"/>
                </a:lnTo>
                <a:lnTo>
                  <a:pt x="2408" y="221"/>
                </a:lnTo>
                <a:lnTo>
                  <a:pt x="2424" y="221"/>
                </a:lnTo>
                <a:lnTo>
                  <a:pt x="2441" y="221"/>
                </a:lnTo>
                <a:lnTo>
                  <a:pt x="2457" y="221"/>
                </a:lnTo>
                <a:lnTo>
                  <a:pt x="2474" y="221"/>
                </a:lnTo>
                <a:lnTo>
                  <a:pt x="2491" y="221"/>
                </a:lnTo>
                <a:lnTo>
                  <a:pt x="2505" y="114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30040" y="306360"/>
            <a:ext cx="35020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sea c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liffs retreat produces a wave-cut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 flipH="1">
            <a:off x="5797440" y="1911240"/>
            <a:ext cx="1511280" cy="368280"/>
          </a:xfrm>
          <a:prstGeom prst="rightArrow">
            <a:avLst>
              <a:gd name="adj1" fmla="val 50000"/>
              <a:gd name="adj2" fmla="val 20519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4091040" y="411120"/>
            <a:ext cx="4749840" cy="2890800"/>
          </a:xfrm>
          <a:custGeom>
            <a:avLst/>
            <a:gdLst/>
            <a:ahLst/>
            <a:rect l="l" t="t" r="r" b="b"/>
            <a:pathLst>
              <a:path w="2992" h="1821">
                <a:moveTo>
                  <a:pt x="2991" y="1805"/>
                </a:moveTo>
                <a:lnTo>
                  <a:pt x="495" y="1805"/>
                </a:lnTo>
                <a:lnTo>
                  <a:pt x="469" y="1820"/>
                </a:lnTo>
                <a:lnTo>
                  <a:pt x="450" y="1820"/>
                </a:lnTo>
                <a:lnTo>
                  <a:pt x="432" y="1820"/>
                </a:lnTo>
                <a:lnTo>
                  <a:pt x="413" y="1820"/>
                </a:lnTo>
                <a:lnTo>
                  <a:pt x="395" y="1820"/>
                </a:lnTo>
                <a:lnTo>
                  <a:pt x="377" y="1811"/>
                </a:lnTo>
                <a:lnTo>
                  <a:pt x="358" y="1811"/>
                </a:lnTo>
                <a:lnTo>
                  <a:pt x="340" y="1802"/>
                </a:lnTo>
                <a:lnTo>
                  <a:pt x="321" y="1802"/>
                </a:lnTo>
                <a:lnTo>
                  <a:pt x="303" y="1793"/>
                </a:lnTo>
                <a:lnTo>
                  <a:pt x="285" y="1793"/>
                </a:lnTo>
                <a:lnTo>
                  <a:pt x="266" y="1783"/>
                </a:lnTo>
                <a:lnTo>
                  <a:pt x="248" y="1774"/>
                </a:lnTo>
                <a:lnTo>
                  <a:pt x="229" y="1765"/>
                </a:lnTo>
                <a:lnTo>
                  <a:pt x="211" y="1756"/>
                </a:lnTo>
                <a:lnTo>
                  <a:pt x="193" y="1738"/>
                </a:lnTo>
                <a:lnTo>
                  <a:pt x="174" y="1728"/>
                </a:lnTo>
                <a:lnTo>
                  <a:pt x="156" y="1710"/>
                </a:lnTo>
                <a:lnTo>
                  <a:pt x="137" y="1701"/>
                </a:lnTo>
                <a:lnTo>
                  <a:pt x="119" y="1692"/>
                </a:lnTo>
                <a:lnTo>
                  <a:pt x="110" y="1673"/>
                </a:lnTo>
                <a:lnTo>
                  <a:pt x="92" y="1673"/>
                </a:lnTo>
                <a:lnTo>
                  <a:pt x="82" y="1655"/>
                </a:lnTo>
                <a:lnTo>
                  <a:pt x="64" y="1655"/>
                </a:lnTo>
                <a:lnTo>
                  <a:pt x="55" y="1636"/>
                </a:lnTo>
                <a:lnTo>
                  <a:pt x="36" y="1627"/>
                </a:lnTo>
                <a:lnTo>
                  <a:pt x="36" y="1609"/>
                </a:lnTo>
                <a:lnTo>
                  <a:pt x="27" y="1590"/>
                </a:lnTo>
                <a:lnTo>
                  <a:pt x="18" y="1572"/>
                </a:lnTo>
                <a:lnTo>
                  <a:pt x="9" y="1554"/>
                </a:lnTo>
                <a:lnTo>
                  <a:pt x="0" y="1535"/>
                </a:lnTo>
                <a:lnTo>
                  <a:pt x="0" y="1517"/>
                </a:lnTo>
                <a:lnTo>
                  <a:pt x="0" y="1498"/>
                </a:lnTo>
                <a:lnTo>
                  <a:pt x="0" y="1480"/>
                </a:lnTo>
                <a:lnTo>
                  <a:pt x="0" y="1462"/>
                </a:lnTo>
                <a:lnTo>
                  <a:pt x="9" y="1443"/>
                </a:lnTo>
                <a:lnTo>
                  <a:pt x="18" y="1425"/>
                </a:lnTo>
                <a:lnTo>
                  <a:pt x="18" y="1406"/>
                </a:lnTo>
                <a:lnTo>
                  <a:pt x="27" y="1388"/>
                </a:lnTo>
                <a:lnTo>
                  <a:pt x="36" y="1370"/>
                </a:lnTo>
                <a:lnTo>
                  <a:pt x="55" y="1360"/>
                </a:lnTo>
                <a:lnTo>
                  <a:pt x="73" y="1351"/>
                </a:lnTo>
                <a:lnTo>
                  <a:pt x="92" y="1342"/>
                </a:lnTo>
                <a:lnTo>
                  <a:pt x="110" y="1333"/>
                </a:lnTo>
                <a:lnTo>
                  <a:pt x="128" y="1324"/>
                </a:lnTo>
                <a:lnTo>
                  <a:pt x="147" y="1315"/>
                </a:lnTo>
                <a:lnTo>
                  <a:pt x="165" y="1315"/>
                </a:lnTo>
                <a:lnTo>
                  <a:pt x="183" y="1315"/>
                </a:lnTo>
                <a:lnTo>
                  <a:pt x="202" y="1305"/>
                </a:lnTo>
                <a:lnTo>
                  <a:pt x="220" y="1296"/>
                </a:lnTo>
                <a:lnTo>
                  <a:pt x="239" y="1296"/>
                </a:lnTo>
                <a:lnTo>
                  <a:pt x="257" y="1287"/>
                </a:lnTo>
                <a:lnTo>
                  <a:pt x="275" y="1278"/>
                </a:lnTo>
                <a:lnTo>
                  <a:pt x="294" y="1278"/>
                </a:lnTo>
                <a:lnTo>
                  <a:pt x="312" y="1269"/>
                </a:lnTo>
                <a:lnTo>
                  <a:pt x="331" y="1269"/>
                </a:lnTo>
                <a:lnTo>
                  <a:pt x="349" y="1259"/>
                </a:lnTo>
                <a:lnTo>
                  <a:pt x="367" y="1259"/>
                </a:lnTo>
                <a:lnTo>
                  <a:pt x="386" y="1250"/>
                </a:lnTo>
                <a:lnTo>
                  <a:pt x="395" y="1232"/>
                </a:lnTo>
                <a:lnTo>
                  <a:pt x="404" y="1213"/>
                </a:lnTo>
                <a:lnTo>
                  <a:pt x="404" y="1186"/>
                </a:lnTo>
                <a:lnTo>
                  <a:pt x="404" y="1167"/>
                </a:lnTo>
                <a:lnTo>
                  <a:pt x="404" y="1149"/>
                </a:lnTo>
                <a:lnTo>
                  <a:pt x="404" y="1131"/>
                </a:lnTo>
                <a:lnTo>
                  <a:pt x="404" y="1112"/>
                </a:lnTo>
                <a:lnTo>
                  <a:pt x="404" y="1094"/>
                </a:lnTo>
                <a:lnTo>
                  <a:pt x="413" y="1075"/>
                </a:lnTo>
                <a:lnTo>
                  <a:pt x="413" y="1057"/>
                </a:lnTo>
                <a:lnTo>
                  <a:pt x="413" y="1039"/>
                </a:lnTo>
                <a:lnTo>
                  <a:pt x="423" y="1011"/>
                </a:lnTo>
                <a:lnTo>
                  <a:pt x="423" y="983"/>
                </a:lnTo>
                <a:lnTo>
                  <a:pt x="423" y="965"/>
                </a:lnTo>
                <a:lnTo>
                  <a:pt x="413" y="938"/>
                </a:lnTo>
                <a:lnTo>
                  <a:pt x="413" y="919"/>
                </a:lnTo>
                <a:lnTo>
                  <a:pt x="413" y="901"/>
                </a:lnTo>
                <a:lnTo>
                  <a:pt x="413" y="882"/>
                </a:lnTo>
                <a:lnTo>
                  <a:pt x="413" y="864"/>
                </a:lnTo>
                <a:lnTo>
                  <a:pt x="404" y="846"/>
                </a:lnTo>
                <a:lnTo>
                  <a:pt x="404" y="818"/>
                </a:lnTo>
                <a:lnTo>
                  <a:pt x="404" y="790"/>
                </a:lnTo>
                <a:lnTo>
                  <a:pt x="404" y="763"/>
                </a:lnTo>
                <a:lnTo>
                  <a:pt x="413" y="735"/>
                </a:lnTo>
                <a:lnTo>
                  <a:pt x="413" y="717"/>
                </a:lnTo>
                <a:lnTo>
                  <a:pt x="413" y="698"/>
                </a:lnTo>
                <a:lnTo>
                  <a:pt x="413" y="680"/>
                </a:lnTo>
                <a:lnTo>
                  <a:pt x="413" y="662"/>
                </a:lnTo>
                <a:lnTo>
                  <a:pt x="413" y="643"/>
                </a:lnTo>
                <a:lnTo>
                  <a:pt x="413" y="625"/>
                </a:lnTo>
                <a:lnTo>
                  <a:pt x="413" y="606"/>
                </a:lnTo>
                <a:lnTo>
                  <a:pt x="413" y="588"/>
                </a:lnTo>
                <a:lnTo>
                  <a:pt x="413" y="560"/>
                </a:lnTo>
                <a:lnTo>
                  <a:pt x="413" y="533"/>
                </a:lnTo>
                <a:lnTo>
                  <a:pt x="413" y="505"/>
                </a:lnTo>
                <a:lnTo>
                  <a:pt x="413" y="487"/>
                </a:lnTo>
                <a:lnTo>
                  <a:pt x="413" y="469"/>
                </a:lnTo>
                <a:lnTo>
                  <a:pt x="413" y="432"/>
                </a:lnTo>
                <a:lnTo>
                  <a:pt x="404" y="404"/>
                </a:lnTo>
                <a:lnTo>
                  <a:pt x="404" y="386"/>
                </a:lnTo>
                <a:lnTo>
                  <a:pt x="404" y="367"/>
                </a:lnTo>
                <a:lnTo>
                  <a:pt x="404" y="349"/>
                </a:lnTo>
                <a:lnTo>
                  <a:pt x="404" y="331"/>
                </a:lnTo>
                <a:lnTo>
                  <a:pt x="404" y="312"/>
                </a:lnTo>
                <a:lnTo>
                  <a:pt x="404" y="275"/>
                </a:lnTo>
                <a:lnTo>
                  <a:pt x="413" y="248"/>
                </a:lnTo>
                <a:lnTo>
                  <a:pt x="423" y="220"/>
                </a:lnTo>
                <a:lnTo>
                  <a:pt x="423" y="202"/>
                </a:lnTo>
                <a:lnTo>
                  <a:pt x="423" y="183"/>
                </a:lnTo>
                <a:lnTo>
                  <a:pt x="423" y="165"/>
                </a:lnTo>
                <a:lnTo>
                  <a:pt x="423" y="147"/>
                </a:lnTo>
                <a:lnTo>
                  <a:pt x="423" y="128"/>
                </a:lnTo>
                <a:lnTo>
                  <a:pt x="423" y="110"/>
                </a:lnTo>
                <a:lnTo>
                  <a:pt x="423" y="92"/>
                </a:lnTo>
                <a:lnTo>
                  <a:pt x="423" y="64"/>
                </a:lnTo>
                <a:lnTo>
                  <a:pt x="423" y="36"/>
                </a:lnTo>
                <a:lnTo>
                  <a:pt x="423" y="18"/>
                </a:lnTo>
                <a:lnTo>
                  <a:pt x="4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2895480" y="990720"/>
            <a:ext cx="121932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5530680" y="3733920"/>
            <a:ext cx="2907000" cy="2892240"/>
          </a:xfrm>
          <a:custGeom>
            <a:avLst/>
            <a:gdLst/>
            <a:ahLst/>
            <a:rect l="l" t="t" r="r" b="b"/>
            <a:pathLst>
              <a:path w="1831" h="1822">
                <a:moveTo>
                  <a:pt x="20" y="0"/>
                </a:moveTo>
                <a:lnTo>
                  <a:pt x="9" y="19"/>
                </a:lnTo>
                <a:lnTo>
                  <a:pt x="9" y="37"/>
                </a:lnTo>
                <a:lnTo>
                  <a:pt x="9" y="55"/>
                </a:lnTo>
                <a:lnTo>
                  <a:pt x="9" y="74"/>
                </a:lnTo>
                <a:lnTo>
                  <a:pt x="9" y="92"/>
                </a:lnTo>
                <a:lnTo>
                  <a:pt x="9" y="111"/>
                </a:lnTo>
                <a:lnTo>
                  <a:pt x="9" y="138"/>
                </a:lnTo>
                <a:lnTo>
                  <a:pt x="9" y="157"/>
                </a:lnTo>
                <a:lnTo>
                  <a:pt x="9" y="184"/>
                </a:lnTo>
                <a:lnTo>
                  <a:pt x="9" y="202"/>
                </a:lnTo>
                <a:lnTo>
                  <a:pt x="9" y="221"/>
                </a:lnTo>
                <a:lnTo>
                  <a:pt x="9" y="239"/>
                </a:lnTo>
                <a:lnTo>
                  <a:pt x="9" y="258"/>
                </a:lnTo>
                <a:lnTo>
                  <a:pt x="9" y="285"/>
                </a:lnTo>
                <a:lnTo>
                  <a:pt x="0" y="313"/>
                </a:lnTo>
                <a:lnTo>
                  <a:pt x="0" y="350"/>
                </a:lnTo>
                <a:lnTo>
                  <a:pt x="0" y="377"/>
                </a:lnTo>
                <a:lnTo>
                  <a:pt x="0" y="396"/>
                </a:lnTo>
                <a:lnTo>
                  <a:pt x="0" y="414"/>
                </a:lnTo>
                <a:lnTo>
                  <a:pt x="0" y="442"/>
                </a:lnTo>
                <a:lnTo>
                  <a:pt x="0" y="460"/>
                </a:lnTo>
                <a:lnTo>
                  <a:pt x="0" y="478"/>
                </a:lnTo>
                <a:lnTo>
                  <a:pt x="9" y="506"/>
                </a:lnTo>
                <a:lnTo>
                  <a:pt x="9" y="524"/>
                </a:lnTo>
                <a:lnTo>
                  <a:pt x="9" y="543"/>
                </a:lnTo>
                <a:lnTo>
                  <a:pt x="9" y="561"/>
                </a:lnTo>
                <a:lnTo>
                  <a:pt x="9" y="579"/>
                </a:lnTo>
                <a:lnTo>
                  <a:pt x="9" y="598"/>
                </a:lnTo>
                <a:lnTo>
                  <a:pt x="9" y="616"/>
                </a:lnTo>
                <a:lnTo>
                  <a:pt x="18" y="635"/>
                </a:lnTo>
                <a:lnTo>
                  <a:pt x="18" y="653"/>
                </a:lnTo>
                <a:lnTo>
                  <a:pt x="28" y="671"/>
                </a:lnTo>
                <a:lnTo>
                  <a:pt x="28" y="690"/>
                </a:lnTo>
                <a:lnTo>
                  <a:pt x="28" y="708"/>
                </a:lnTo>
                <a:lnTo>
                  <a:pt x="28" y="736"/>
                </a:lnTo>
                <a:lnTo>
                  <a:pt x="28" y="763"/>
                </a:lnTo>
                <a:lnTo>
                  <a:pt x="28" y="782"/>
                </a:lnTo>
                <a:lnTo>
                  <a:pt x="28" y="800"/>
                </a:lnTo>
                <a:lnTo>
                  <a:pt x="28" y="819"/>
                </a:lnTo>
                <a:lnTo>
                  <a:pt x="28" y="846"/>
                </a:lnTo>
                <a:lnTo>
                  <a:pt x="37" y="865"/>
                </a:lnTo>
                <a:lnTo>
                  <a:pt x="46" y="883"/>
                </a:lnTo>
                <a:lnTo>
                  <a:pt x="46" y="920"/>
                </a:lnTo>
                <a:lnTo>
                  <a:pt x="46" y="947"/>
                </a:lnTo>
                <a:lnTo>
                  <a:pt x="46" y="966"/>
                </a:lnTo>
                <a:lnTo>
                  <a:pt x="46" y="984"/>
                </a:lnTo>
                <a:lnTo>
                  <a:pt x="46" y="1002"/>
                </a:lnTo>
                <a:lnTo>
                  <a:pt x="46" y="1021"/>
                </a:lnTo>
                <a:lnTo>
                  <a:pt x="46" y="1039"/>
                </a:lnTo>
                <a:lnTo>
                  <a:pt x="46" y="1058"/>
                </a:lnTo>
                <a:lnTo>
                  <a:pt x="46" y="1076"/>
                </a:lnTo>
                <a:lnTo>
                  <a:pt x="46" y="1094"/>
                </a:lnTo>
                <a:lnTo>
                  <a:pt x="46" y="1113"/>
                </a:lnTo>
                <a:lnTo>
                  <a:pt x="46" y="1131"/>
                </a:lnTo>
                <a:lnTo>
                  <a:pt x="46" y="1159"/>
                </a:lnTo>
                <a:lnTo>
                  <a:pt x="55" y="1177"/>
                </a:lnTo>
                <a:lnTo>
                  <a:pt x="55" y="1196"/>
                </a:lnTo>
                <a:lnTo>
                  <a:pt x="64" y="1223"/>
                </a:lnTo>
                <a:lnTo>
                  <a:pt x="74" y="1251"/>
                </a:lnTo>
                <a:lnTo>
                  <a:pt x="92" y="1278"/>
                </a:lnTo>
                <a:lnTo>
                  <a:pt x="92" y="1297"/>
                </a:lnTo>
                <a:lnTo>
                  <a:pt x="92" y="1315"/>
                </a:lnTo>
                <a:lnTo>
                  <a:pt x="101" y="1334"/>
                </a:lnTo>
                <a:lnTo>
                  <a:pt x="101" y="1352"/>
                </a:lnTo>
                <a:lnTo>
                  <a:pt x="110" y="1370"/>
                </a:lnTo>
                <a:lnTo>
                  <a:pt x="110" y="1389"/>
                </a:lnTo>
                <a:lnTo>
                  <a:pt x="110" y="1407"/>
                </a:lnTo>
                <a:lnTo>
                  <a:pt x="110" y="1425"/>
                </a:lnTo>
                <a:lnTo>
                  <a:pt x="110" y="1444"/>
                </a:lnTo>
                <a:lnTo>
                  <a:pt x="110" y="1462"/>
                </a:lnTo>
                <a:lnTo>
                  <a:pt x="110" y="1481"/>
                </a:lnTo>
                <a:lnTo>
                  <a:pt x="110" y="1499"/>
                </a:lnTo>
                <a:lnTo>
                  <a:pt x="110" y="1517"/>
                </a:lnTo>
                <a:lnTo>
                  <a:pt x="110" y="1545"/>
                </a:lnTo>
                <a:lnTo>
                  <a:pt x="110" y="1573"/>
                </a:lnTo>
                <a:lnTo>
                  <a:pt x="110" y="1591"/>
                </a:lnTo>
                <a:lnTo>
                  <a:pt x="110" y="1609"/>
                </a:lnTo>
                <a:lnTo>
                  <a:pt x="110" y="1628"/>
                </a:lnTo>
                <a:lnTo>
                  <a:pt x="110" y="1655"/>
                </a:lnTo>
                <a:lnTo>
                  <a:pt x="110" y="1674"/>
                </a:lnTo>
                <a:lnTo>
                  <a:pt x="110" y="1692"/>
                </a:lnTo>
                <a:lnTo>
                  <a:pt x="129" y="1701"/>
                </a:lnTo>
                <a:lnTo>
                  <a:pt x="147" y="1701"/>
                </a:lnTo>
                <a:lnTo>
                  <a:pt x="165" y="1692"/>
                </a:lnTo>
                <a:lnTo>
                  <a:pt x="184" y="1692"/>
                </a:lnTo>
                <a:lnTo>
                  <a:pt x="202" y="1701"/>
                </a:lnTo>
                <a:lnTo>
                  <a:pt x="221" y="1701"/>
                </a:lnTo>
                <a:lnTo>
                  <a:pt x="239" y="1701"/>
                </a:lnTo>
                <a:lnTo>
                  <a:pt x="257" y="1701"/>
                </a:lnTo>
                <a:lnTo>
                  <a:pt x="276" y="1701"/>
                </a:lnTo>
                <a:lnTo>
                  <a:pt x="294" y="1701"/>
                </a:lnTo>
                <a:lnTo>
                  <a:pt x="313" y="1711"/>
                </a:lnTo>
                <a:lnTo>
                  <a:pt x="340" y="1711"/>
                </a:lnTo>
                <a:lnTo>
                  <a:pt x="368" y="1711"/>
                </a:lnTo>
                <a:lnTo>
                  <a:pt x="395" y="1711"/>
                </a:lnTo>
                <a:lnTo>
                  <a:pt x="414" y="1711"/>
                </a:lnTo>
                <a:lnTo>
                  <a:pt x="432" y="1711"/>
                </a:lnTo>
                <a:lnTo>
                  <a:pt x="451" y="1711"/>
                </a:lnTo>
                <a:lnTo>
                  <a:pt x="469" y="1711"/>
                </a:lnTo>
                <a:lnTo>
                  <a:pt x="487" y="1711"/>
                </a:lnTo>
                <a:lnTo>
                  <a:pt x="506" y="1711"/>
                </a:lnTo>
                <a:lnTo>
                  <a:pt x="524" y="1711"/>
                </a:lnTo>
                <a:lnTo>
                  <a:pt x="542" y="1720"/>
                </a:lnTo>
                <a:lnTo>
                  <a:pt x="561" y="1720"/>
                </a:lnTo>
                <a:lnTo>
                  <a:pt x="579" y="1720"/>
                </a:lnTo>
                <a:lnTo>
                  <a:pt x="598" y="1720"/>
                </a:lnTo>
                <a:lnTo>
                  <a:pt x="616" y="1720"/>
                </a:lnTo>
                <a:lnTo>
                  <a:pt x="634" y="1720"/>
                </a:lnTo>
                <a:lnTo>
                  <a:pt x="653" y="1720"/>
                </a:lnTo>
                <a:lnTo>
                  <a:pt x="671" y="1720"/>
                </a:lnTo>
                <a:lnTo>
                  <a:pt x="690" y="1720"/>
                </a:lnTo>
                <a:lnTo>
                  <a:pt x="708" y="1720"/>
                </a:lnTo>
                <a:lnTo>
                  <a:pt x="726" y="1720"/>
                </a:lnTo>
                <a:lnTo>
                  <a:pt x="745" y="1720"/>
                </a:lnTo>
                <a:lnTo>
                  <a:pt x="763" y="1720"/>
                </a:lnTo>
                <a:lnTo>
                  <a:pt x="791" y="1720"/>
                </a:lnTo>
                <a:lnTo>
                  <a:pt x="809" y="1720"/>
                </a:lnTo>
                <a:lnTo>
                  <a:pt x="837" y="1720"/>
                </a:lnTo>
                <a:lnTo>
                  <a:pt x="855" y="1720"/>
                </a:lnTo>
                <a:lnTo>
                  <a:pt x="883" y="1720"/>
                </a:lnTo>
                <a:lnTo>
                  <a:pt x="910" y="1720"/>
                </a:lnTo>
                <a:lnTo>
                  <a:pt x="938" y="1711"/>
                </a:lnTo>
                <a:lnTo>
                  <a:pt x="956" y="1711"/>
                </a:lnTo>
                <a:lnTo>
                  <a:pt x="975" y="1701"/>
                </a:lnTo>
                <a:lnTo>
                  <a:pt x="993" y="1701"/>
                </a:lnTo>
                <a:lnTo>
                  <a:pt x="1011" y="1692"/>
                </a:lnTo>
                <a:lnTo>
                  <a:pt x="1030" y="1692"/>
                </a:lnTo>
                <a:lnTo>
                  <a:pt x="1048" y="1683"/>
                </a:lnTo>
                <a:lnTo>
                  <a:pt x="1067" y="1683"/>
                </a:lnTo>
                <a:lnTo>
                  <a:pt x="1085" y="1683"/>
                </a:lnTo>
                <a:lnTo>
                  <a:pt x="1113" y="1683"/>
                </a:lnTo>
                <a:lnTo>
                  <a:pt x="1140" y="1674"/>
                </a:lnTo>
                <a:lnTo>
                  <a:pt x="1159" y="1674"/>
                </a:lnTo>
                <a:lnTo>
                  <a:pt x="1177" y="1674"/>
                </a:lnTo>
                <a:lnTo>
                  <a:pt x="1195" y="1674"/>
                </a:lnTo>
                <a:lnTo>
                  <a:pt x="1214" y="1674"/>
                </a:lnTo>
                <a:lnTo>
                  <a:pt x="1241" y="1674"/>
                </a:lnTo>
                <a:lnTo>
                  <a:pt x="1260" y="1683"/>
                </a:lnTo>
                <a:lnTo>
                  <a:pt x="1278" y="1683"/>
                </a:lnTo>
                <a:lnTo>
                  <a:pt x="1297" y="1692"/>
                </a:lnTo>
                <a:lnTo>
                  <a:pt x="1315" y="1692"/>
                </a:lnTo>
                <a:lnTo>
                  <a:pt x="1333" y="1701"/>
                </a:lnTo>
                <a:lnTo>
                  <a:pt x="1352" y="1701"/>
                </a:lnTo>
                <a:lnTo>
                  <a:pt x="1370" y="1701"/>
                </a:lnTo>
                <a:lnTo>
                  <a:pt x="1398" y="1711"/>
                </a:lnTo>
                <a:lnTo>
                  <a:pt x="1416" y="1711"/>
                </a:lnTo>
                <a:lnTo>
                  <a:pt x="1444" y="1720"/>
                </a:lnTo>
                <a:lnTo>
                  <a:pt x="1471" y="1720"/>
                </a:lnTo>
                <a:lnTo>
                  <a:pt x="1490" y="1729"/>
                </a:lnTo>
                <a:lnTo>
                  <a:pt x="1508" y="1729"/>
                </a:lnTo>
                <a:lnTo>
                  <a:pt x="1526" y="1738"/>
                </a:lnTo>
                <a:lnTo>
                  <a:pt x="1545" y="1747"/>
                </a:lnTo>
                <a:lnTo>
                  <a:pt x="1563" y="1747"/>
                </a:lnTo>
                <a:lnTo>
                  <a:pt x="1582" y="1757"/>
                </a:lnTo>
                <a:lnTo>
                  <a:pt x="1600" y="1766"/>
                </a:lnTo>
                <a:lnTo>
                  <a:pt x="1628" y="1775"/>
                </a:lnTo>
                <a:lnTo>
                  <a:pt x="1646" y="1775"/>
                </a:lnTo>
                <a:lnTo>
                  <a:pt x="1664" y="1784"/>
                </a:lnTo>
                <a:lnTo>
                  <a:pt x="1683" y="1784"/>
                </a:lnTo>
                <a:lnTo>
                  <a:pt x="1701" y="1793"/>
                </a:lnTo>
                <a:lnTo>
                  <a:pt x="1719" y="1802"/>
                </a:lnTo>
                <a:lnTo>
                  <a:pt x="1738" y="1812"/>
                </a:lnTo>
                <a:lnTo>
                  <a:pt x="1756" y="1812"/>
                </a:lnTo>
                <a:lnTo>
                  <a:pt x="1775" y="1812"/>
                </a:lnTo>
                <a:lnTo>
                  <a:pt x="1793" y="1812"/>
                </a:lnTo>
                <a:lnTo>
                  <a:pt x="1811" y="1821"/>
                </a:lnTo>
                <a:lnTo>
                  <a:pt x="1830" y="1821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4648320" y="365760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5024520" y="3733920"/>
            <a:ext cx="701640" cy="2733480"/>
          </a:xfrm>
          <a:custGeom>
            <a:avLst/>
            <a:gdLst/>
            <a:ahLst/>
            <a:rect l="l" t="t" r="r" b="b"/>
            <a:pathLst>
              <a:path w="442" h="1722">
                <a:moveTo>
                  <a:pt x="51" y="0"/>
                </a:moveTo>
                <a:lnTo>
                  <a:pt x="28" y="10"/>
                </a:lnTo>
                <a:lnTo>
                  <a:pt x="28" y="29"/>
                </a:lnTo>
                <a:lnTo>
                  <a:pt x="28" y="47"/>
                </a:lnTo>
                <a:lnTo>
                  <a:pt x="28" y="65"/>
                </a:lnTo>
                <a:lnTo>
                  <a:pt x="28" y="84"/>
                </a:lnTo>
                <a:lnTo>
                  <a:pt x="18" y="102"/>
                </a:lnTo>
                <a:lnTo>
                  <a:pt x="18" y="121"/>
                </a:lnTo>
                <a:lnTo>
                  <a:pt x="18" y="139"/>
                </a:lnTo>
                <a:lnTo>
                  <a:pt x="9" y="167"/>
                </a:lnTo>
                <a:lnTo>
                  <a:pt x="9" y="194"/>
                </a:lnTo>
                <a:lnTo>
                  <a:pt x="0" y="213"/>
                </a:lnTo>
                <a:lnTo>
                  <a:pt x="0" y="240"/>
                </a:lnTo>
                <a:lnTo>
                  <a:pt x="0" y="268"/>
                </a:lnTo>
                <a:lnTo>
                  <a:pt x="0" y="286"/>
                </a:lnTo>
                <a:lnTo>
                  <a:pt x="0" y="305"/>
                </a:lnTo>
                <a:lnTo>
                  <a:pt x="0" y="332"/>
                </a:lnTo>
                <a:lnTo>
                  <a:pt x="0" y="351"/>
                </a:lnTo>
                <a:lnTo>
                  <a:pt x="0" y="369"/>
                </a:lnTo>
                <a:lnTo>
                  <a:pt x="0" y="387"/>
                </a:lnTo>
                <a:lnTo>
                  <a:pt x="0" y="406"/>
                </a:lnTo>
                <a:lnTo>
                  <a:pt x="0" y="424"/>
                </a:lnTo>
                <a:lnTo>
                  <a:pt x="0" y="452"/>
                </a:lnTo>
                <a:lnTo>
                  <a:pt x="0" y="479"/>
                </a:lnTo>
                <a:lnTo>
                  <a:pt x="0" y="498"/>
                </a:lnTo>
                <a:lnTo>
                  <a:pt x="0" y="525"/>
                </a:lnTo>
                <a:lnTo>
                  <a:pt x="0" y="553"/>
                </a:lnTo>
                <a:lnTo>
                  <a:pt x="0" y="571"/>
                </a:lnTo>
                <a:lnTo>
                  <a:pt x="0" y="599"/>
                </a:lnTo>
                <a:lnTo>
                  <a:pt x="0" y="626"/>
                </a:lnTo>
                <a:lnTo>
                  <a:pt x="0" y="645"/>
                </a:lnTo>
                <a:lnTo>
                  <a:pt x="0" y="663"/>
                </a:lnTo>
                <a:lnTo>
                  <a:pt x="0" y="700"/>
                </a:lnTo>
                <a:lnTo>
                  <a:pt x="0" y="718"/>
                </a:lnTo>
                <a:lnTo>
                  <a:pt x="0" y="737"/>
                </a:lnTo>
                <a:lnTo>
                  <a:pt x="0" y="755"/>
                </a:lnTo>
                <a:lnTo>
                  <a:pt x="0" y="774"/>
                </a:lnTo>
                <a:lnTo>
                  <a:pt x="0" y="792"/>
                </a:lnTo>
                <a:lnTo>
                  <a:pt x="0" y="810"/>
                </a:lnTo>
                <a:lnTo>
                  <a:pt x="9" y="838"/>
                </a:lnTo>
                <a:lnTo>
                  <a:pt x="9" y="856"/>
                </a:lnTo>
                <a:lnTo>
                  <a:pt x="9" y="875"/>
                </a:lnTo>
                <a:lnTo>
                  <a:pt x="18" y="902"/>
                </a:lnTo>
                <a:lnTo>
                  <a:pt x="28" y="930"/>
                </a:lnTo>
                <a:lnTo>
                  <a:pt x="28" y="957"/>
                </a:lnTo>
                <a:lnTo>
                  <a:pt x="28" y="976"/>
                </a:lnTo>
                <a:lnTo>
                  <a:pt x="37" y="994"/>
                </a:lnTo>
                <a:lnTo>
                  <a:pt x="37" y="1013"/>
                </a:lnTo>
                <a:lnTo>
                  <a:pt x="46" y="1059"/>
                </a:lnTo>
                <a:lnTo>
                  <a:pt x="55" y="1086"/>
                </a:lnTo>
                <a:lnTo>
                  <a:pt x="55" y="1114"/>
                </a:lnTo>
                <a:lnTo>
                  <a:pt x="64" y="1141"/>
                </a:lnTo>
                <a:lnTo>
                  <a:pt x="64" y="1169"/>
                </a:lnTo>
                <a:lnTo>
                  <a:pt x="64" y="1187"/>
                </a:lnTo>
                <a:lnTo>
                  <a:pt x="74" y="1206"/>
                </a:lnTo>
                <a:lnTo>
                  <a:pt x="74" y="1233"/>
                </a:lnTo>
                <a:lnTo>
                  <a:pt x="83" y="1270"/>
                </a:lnTo>
                <a:lnTo>
                  <a:pt x="92" y="1298"/>
                </a:lnTo>
                <a:lnTo>
                  <a:pt x="92" y="1316"/>
                </a:lnTo>
                <a:lnTo>
                  <a:pt x="101" y="1334"/>
                </a:lnTo>
                <a:lnTo>
                  <a:pt x="101" y="1362"/>
                </a:lnTo>
                <a:lnTo>
                  <a:pt x="101" y="1380"/>
                </a:lnTo>
                <a:lnTo>
                  <a:pt x="101" y="1399"/>
                </a:lnTo>
                <a:lnTo>
                  <a:pt x="101" y="1417"/>
                </a:lnTo>
                <a:lnTo>
                  <a:pt x="101" y="1436"/>
                </a:lnTo>
                <a:lnTo>
                  <a:pt x="110" y="1454"/>
                </a:lnTo>
                <a:lnTo>
                  <a:pt x="110" y="1472"/>
                </a:lnTo>
                <a:lnTo>
                  <a:pt x="110" y="1491"/>
                </a:lnTo>
                <a:lnTo>
                  <a:pt x="110" y="1518"/>
                </a:lnTo>
                <a:lnTo>
                  <a:pt x="110" y="1537"/>
                </a:lnTo>
                <a:lnTo>
                  <a:pt x="120" y="1564"/>
                </a:lnTo>
                <a:lnTo>
                  <a:pt x="120" y="1583"/>
                </a:lnTo>
                <a:lnTo>
                  <a:pt x="129" y="1601"/>
                </a:lnTo>
                <a:lnTo>
                  <a:pt x="129" y="1619"/>
                </a:lnTo>
                <a:lnTo>
                  <a:pt x="138" y="1638"/>
                </a:lnTo>
                <a:lnTo>
                  <a:pt x="138" y="1656"/>
                </a:lnTo>
                <a:lnTo>
                  <a:pt x="138" y="1675"/>
                </a:lnTo>
                <a:lnTo>
                  <a:pt x="138" y="1702"/>
                </a:lnTo>
                <a:lnTo>
                  <a:pt x="147" y="1721"/>
                </a:lnTo>
                <a:lnTo>
                  <a:pt x="175" y="1721"/>
                </a:lnTo>
                <a:lnTo>
                  <a:pt x="193" y="1721"/>
                </a:lnTo>
                <a:lnTo>
                  <a:pt x="212" y="1711"/>
                </a:lnTo>
                <a:lnTo>
                  <a:pt x="230" y="1711"/>
                </a:lnTo>
                <a:lnTo>
                  <a:pt x="248" y="1711"/>
                </a:lnTo>
                <a:lnTo>
                  <a:pt x="267" y="1711"/>
                </a:lnTo>
                <a:lnTo>
                  <a:pt x="294" y="1702"/>
                </a:lnTo>
                <a:lnTo>
                  <a:pt x="313" y="1702"/>
                </a:lnTo>
                <a:lnTo>
                  <a:pt x="331" y="1702"/>
                </a:lnTo>
                <a:lnTo>
                  <a:pt x="349" y="1702"/>
                </a:lnTo>
                <a:lnTo>
                  <a:pt x="368" y="1702"/>
                </a:lnTo>
                <a:lnTo>
                  <a:pt x="386" y="1702"/>
                </a:lnTo>
                <a:lnTo>
                  <a:pt x="405" y="1711"/>
                </a:lnTo>
                <a:lnTo>
                  <a:pt x="423" y="1711"/>
                </a:lnTo>
                <a:lnTo>
                  <a:pt x="441" y="1721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4643280" y="3733920"/>
            <a:ext cx="702000" cy="2733480"/>
          </a:xfrm>
          <a:custGeom>
            <a:avLst/>
            <a:gdLst/>
            <a:ahLst/>
            <a:rect l="l" t="t" r="r" b="b"/>
            <a:pathLst>
              <a:path w="442" h="1722">
                <a:moveTo>
                  <a:pt x="51" y="0"/>
                </a:moveTo>
                <a:lnTo>
                  <a:pt x="28" y="10"/>
                </a:lnTo>
                <a:lnTo>
                  <a:pt x="28" y="29"/>
                </a:lnTo>
                <a:lnTo>
                  <a:pt x="28" y="47"/>
                </a:lnTo>
                <a:lnTo>
                  <a:pt x="28" y="65"/>
                </a:lnTo>
                <a:lnTo>
                  <a:pt x="28" y="84"/>
                </a:lnTo>
                <a:lnTo>
                  <a:pt x="18" y="102"/>
                </a:lnTo>
                <a:lnTo>
                  <a:pt x="18" y="121"/>
                </a:lnTo>
                <a:lnTo>
                  <a:pt x="18" y="139"/>
                </a:lnTo>
                <a:lnTo>
                  <a:pt x="9" y="167"/>
                </a:lnTo>
                <a:lnTo>
                  <a:pt x="9" y="194"/>
                </a:lnTo>
                <a:lnTo>
                  <a:pt x="0" y="213"/>
                </a:lnTo>
                <a:lnTo>
                  <a:pt x="0" y="240"/>
                </a:lnTo>
                <a:lnTo>
                  <a:pt x="0" y="268"/>
                </a:lnTo>
                <a:lnTo>
                  <a:pt x="0" y="286"/>
                </a:lnTo>
                <a:lnTo>
                  <a:pt x="0" y="305"/>
                </a:lnTo>
                <a:lnTo>
                  <a:pt x="0" y="332"/>
                </a:lnTo>
                <a:lnTo>
                  <a:pt x="0" y="351"/>
                </a:lnTo>
                <a:lnTo>
                  <a:pt x="0" y="369"/>
                </a:lnTo>
                <a:lnTo>
                  <a:pt x="0" y="387"/>
                </a:lnTo>
                <a:lnTo>
                  <a:pt x="0" y="406"/>
                </a:lnTo>
                <a:lnTo>
                  <a:pt x="0" y="424"/>
                </a:lnTo>
                <a:lnTo>
                  <a:pt x="0" y="452"/>
                </a:lnTo>
                <a:lnTo>
                  <a:pt x="0" y="479"/>
                </a:lnTo>
                <a:lnTo>
                  <a:pt x="0" y="498"/>
                </a:lnTo>
                <a:lnTo>
                  <a:pt x="0" y="525"/>
                </a:lnTo>
                <a:lnTo>
                  <a:pt x="0" y="553"/>
                </a:lnTo>
                <a:lnTo>
                  <a:pt x="0" y="571"/>
                </a:lnTo>
                <a:lnTo>
                  <a:pt x="0" y="599"/>
                </a:lnTo>
                <a:lnTo>
                  <a:pt x="0" y="626"/>
                </a:lnTo>
                <a:lnTo>
                  <a:pt x="0" y="645"/>
                </a:lnTo>
                <a:lnTo>
                  <a:pt x="0" y="663"/>
                </a:lnTo>
                <a:lnTo>
                  <a:pt x="0" y="700"/>
                </a:lnTo>
                <a:lnTo>
                  <a:pt x="0" y="718"/>
                </a:lnTo>
                <a:lnTo>
                  <a:pt x="0" y="737"/>
                </a:lnTo>
                <a:lnTo>
                  <a:pt x="0" y="755"/>
                </a:lnTo>
                <a:lnTo>
                  <a:pt x="0" y="774"/>
                </a:lnTo>
                <a:lnTo>
                  <a:pt x="0" y="792"/>
                </a:lnTo>
                <a:lnTo>
                  <a:pt x="0" y="810"/>
                </a:lnTo>
                <a:lnTo>
                  <a:pt x="9" y="838"/>
                </a:lnTo>
                <a:lnTo>
                  <a:pt x="9" y="856"/>
                </a:lnTo>
                <a:lnTo>
                  <a:pt x="9" y="875"/>
                </a:lnTo>
                <a:lnTo>
                  <a:pt x="18" y="902"/>
                </a:lnTo>
                <a:lnTo>
                  <a:pt x="28" y="930"/>
                </a:lnTo>
                <a:lnTo>
                  <a:pt x="28" y="957"/>
                </a:lnTo>
                <a:lnTo>
                  <a:pt x="28" y="976"/>
                </a:lnTo>
                <a:lnTo>
                  <a:pt x="37" y="994"/>
                </a:lnTo>
                <a:lnTo>
                  <a:pt x="37" y="1013"/>
                </a:lnTo>
                <a:lnTo>
                  <a:pt x="46" y="1059"/>
                </a:lnTo>
                <a:lnTo>
                  <a:pt x="55" y="1086"/>
                </a:lnTo>
                <a:lnTo>
                  <a:pt x="55" y="1114"/>
                </a:lnTo>
                <a:lnTo>
                  <a:pt x="64" y="1141"/>
                </a:lnTo>
                <a:lnTo>
                  <a:pt x="64" y="1169"/>
                </a:lnTo>
                <a:lnTo>
                  <a:pt x="64" y="1187"/>
                </a:lnTo>
                <a:lnTo>
                  <a:pt x="74" y="1206"/>
                </a:lnTo>
                <a:lnTo>
                  <a:pt x="74" y="1233"/>
                </a:lnTo>
                <a:lnTo>
                  <a:pt x="83" y="1270"/>
                </a:lnTo>
                <a:lnTo>
                  <a:pt x="92" y="1298"/>
                </a:lnTo>
                <a:lnTo>
                  <a:pt x="92" y="1316"/>
                </a:lnTo>
                <a:lnTo>
                  <a:pt x="101" y="1334"/>
                </a:lnTo>
                <a:lnTo>
                  <a:pt x="101" y="1362"/>
                </a:lnTo>
                <a:lnTo>
                  <a:pt x="101" y="1380"/>
                </a:lnTo>
                <a:lnTo>
                  <a:pt x="101" y="1399"/>
                </a:lnTo>
                <a:lnTo>
                  <a:pt x="101" y="1417"/>
                </a:lnTo>
                <a:lnTo>
                  <a:pt x="101" y="1436"/>
                </a:lnTo>
                <a:lnTo>
                  <a:pt x="110" y="1454"/>
                </a:lnTo>
                <a:lnTo>
                  <a:pt x="110" y="1472"/>
                </a:lnTo>
                <a:lnTo>
                  <a:pt x="110" y="1491"/>
                </a:lnTo>
                <a:lnTo>
                  <a:pt x="110" y="1518"/>
                </a:lnTo>
                <a:lnTo>
                  <a:pt x="110" y="1537"/>
                </a:lnTo>
                <a:lnTo>
                  <a:pt x="120" y="1564"/>
                </a:lnTo>
                <a:lnTo>
                  <a:pt x="120" y="1583"/>
                </a:lnTo>
                <a:lnTo>
                  <a:pt x="129" y="1601"/>
                </a:lnTo>
                <a:lnTo>
                  <a:pt x="129" y="1619"/>
                </a:lnTo>
                <a:lnTo>
                  <a:pt x="138" y="1638"/>
                </a:lnTo>
                <a:lnTo>
                  <a:pt x="138" y="1656"/>
                </a:lnTo>
                <a:lnTo>
                  <a:pt x="138" y="1675"/>
                </a:lnTo>
                <a:lnTo>
                  <a:pt x="138" y="1702"/>
                </a:lnTo>
                <a:lnTo>
                  <a:pt x="147" y="1721"/>
                </a:lnTo>
                <a:lnTo>
                  <a:pt x="175" y="1721"/>
                </a:lnTo>
                <a:lnTo>
                  <a:pt x="193" y="1721"/>
                </a:lnTo>
                <a:lnTo>
                  <a:pt x="212" y="1711"/>
                </a:lnTo>
                <a:lnTo>
                  <a:pt x="230" y="1711"/>
                </a:lnTo>
                <a:lnTo>
                  <a:pt x="248" y="1711"/>
                </a:lnTo>
                <a:lnTo>
                  <a:pt x="267" y="1711"/>
                </a:lnTo>
                <a:lnTo>
                  <a:pt x="294" y="1702"/>
                </a:lnTo>
                <a:lnTo>
                  <a:pt x="313" y="1702"/>
                </a:lnTo>
                <a:lnTo>
                  <a:pt x="331" y="1702"/>
                </a:lnTo>
                <a:lnTo>
                  <a:pt x="349" y="1702"/>
                </a:lnTo>
                <a:lnTo>
                  <a:pt x="368" y="1702"/>
                </a:lnTo>
                <a:lnTo>
                  <a:pt x="386" y="1702"/>
                </a:lnTo>
                <a:lnTo>
                  <a:pt x="405" y="1711"/>
                </a:lnTo>
                <a:lnTo>
                  <a:pt x="423" y="1711"/>
                </a:lnTo>
                <a:lnTo>
                  <a:pt x="441" y="1721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2209680" y="6095880"/>
            <a:ext cx="25909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39:24Z</dcterms:created>
  <dc:creator>Martin Andresen</dc:creator>
  <dc:description/>
  <cp:keywords/>
  <dc:language>en-US</dc:language>
  <cp:lastModifiedBy>RomaK</cp:lastModifiedBy>
  <dcterms:modified xsi:type="dcterms:W3CDTF">2015-09-04T09:42:23Z</dcterms:modified>
  <cp:revision>55</cp:revision>
  <dc:subject/>
  <dc:title>The Work of the Waves and the Wind</dc:title>
</cp:coreProperties>
</file>