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12.jpeg" ContentType="image/jpeg"/>
  <Override PartName="/ppt/media/image9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0D3D8-F836-4CE4-B47A-8C304EA3FBE3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rosion and Weather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rosion and Weather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UBRI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UBRI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erosion?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geology) the mechanical process of wearing or grinding something down (as by particles washing over it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wearing away of the earth’s surface by natural process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rosion: erosion by chemical acti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erosion?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geology) the mechanical process of wearing or grinding something down (as by particles washing over it)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wearing away of the earth’s surface by natural processe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rrosion: erosion by chemical action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ypes of Ero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laci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i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ypes of Eros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t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in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laci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i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ccurs from chemicals in the water and the force and flow of w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emicals break down certain rocks like limestone or chal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ce of water creates cracks and crevas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get bigger and bigger as it gets eroded, particles of the rock get carried in the water and further aid ero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t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ccurs from chemicals in the water and the force and flow of wat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emicals break down certain rocks like limestone or chalk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orce of water creates cracks and crevass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se get bigger and bigger as it gets eroded, particles of the rock get carried in the water and further aid eros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wind picks up smaller particles of rock (pebbles and sand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hit landforms and take pieces off th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friction causes the break up of landfor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in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wind picks up smaller particles of rock (pebbles and sand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se hit landforms and take pieces off the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friction causes the break up of landform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lacier Ero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a GLACIER?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huge mass of ice slowly flowing over a land mass, formed from compacted snow in an area where snow accumulation exceeds melt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large bodies of ice that pick up rocks and earth and erode the earth’s surf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werful eroding machine, picking up pieces of rock the size of houses in some pla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laciers are so powerful they can carve valleys and create landfor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lacier Eros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a GLACIER?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huge mass of ice slowly flowing over a land mass, formed from compacted snow in an area where snow accumulation exceeds melt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se large bodies of ice that pick up rocks and earth and erode the earth’s surfa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werful eroding machine, picking up pieces of rock the size of houses in some plac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laciers are so powerful they can carve valleys and create landform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a Ero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lts and other chemicals in the water erode coastal rock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are dragged out to sea and deposited in other areas (Long shore Drif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ve power creates erosion. Also particles of rock and sediment aid to the erosion proc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a Eros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alts and other chemicals in the water erode coastal rock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se are dragged out to sea and deposited in other areas (Long shore Drift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ve power creates erosion. Also particles of rock and sediment aid to the erosion proces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il Ero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ggest problem for farm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nd and rain remove topsoil and nutri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kes the soil infertile and it breaks up leaving dong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il Eros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iggest problem for farm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ind and rain remove topsoil and nutrien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kes the soil infertile and it breaks up leaving donga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S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are a forester in South Africa and you have just acquired some land and you are faced with a problem with soil erosion due to poor farming techniqu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R PROBLEM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NGAS CASUED BY EROSION HAVE TAKEN UP CRITICAL SPACE FOR YOU TO PLANT AND GROW TRE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STEPS ARE YOU GOING TO TAKE TO REPAIR THE DONGA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MPROVED PLANTING TECHNIQUES ARE YOU GOING TO US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ASK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You are a forester in South Africa and you have just acquired some land and you are faced with a problem with soil erosion due to poor farming techniques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YOUR PROBLEM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ONGAS CASUED BY EROSION HAVE TAKEN UP CRITICAL SPACE FOR YOU TO PLANT AND GROW TRE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STEPS ARE YOU GOING TO TAKE TO REPAIR THE DONGAS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MPROVED PLANTING TECHNIQUES ARE YOU GOING TO USE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C2554-B285-4CAB-AB69-7C33D2AD8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39873-9721-465C-AD5F-C5B4252BE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0CA1C-7E68-4AEF-964E-C24E98CDA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4A94A-0F6F-411D-B146-8F00F4E1B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EFD490-145D-49DA-BF1E-D97716749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46B3F8-1A21-4A00-BD52-B6BC74E36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6ACAC9-D432-4495-AC2D-9741FC273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D8459A-A9B9-4FA8-A8B7-344990848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87E60E-363C-4278-9337-ECB7097A2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AA899D-9D1B-4ECD-A7B1-041AD8781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B01CE5-DDB4-42FD-BF8E-4882346F2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70F86-BB4D-49CB-A497-397862715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30765F-78A7-4459-A1EE-652B8931E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EADC18-2F6B-47AF-BA34-5BDBF4FD1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C3AF85-A9C9-4B00-9942-7829A55ED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5E5283-C000-478A-9A47-8ADB2F62F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6B62D0-76A1-448F-8271-910D3128E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726CF-AB99-4BFB-9B46-95947D201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B5638-1AD8-4C15-BEA1-713FC6E14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87A7F-7EEF-4864-8F21-C345F84EF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BC3DF-713B-4D03-8F53-3C12AD1A9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D2B7E-27A9-4DA8-8127-D56970B36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E00C5-50A0-4A4D-899C-C680EB0EC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78971-B471-4D7B-BBA5-1F3312548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EFA8C-CB6E-4A19-8D68-1117D5750DA5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CE40D-724D-4169-A98F-65560116FF1A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5400" spc="-1" strike="noStrike">
                <a:solidFill>
                  <a:srgbClr val="e3e3ff"/>
                </a:solidFill>
                <a:latin typeface="Arial"/>
              </a:rPr>
              <a:t>Erosion and Weathering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e3e3ff"/>
                </a:solidFill>
                <a:latin typeface="Arial"/>
              </a:rPr>
              <a:t>RUBRIC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457200" y="1600200"/>
          <a:ext cx="8229600" cy="4495680"/>
        </p:xfrm>
        <a:graphic>
          <a:graphicData uri="http://schemas.openxmlformats.org/drawingml/2006/table">
            <a:tbl>
              <a:tblPr/>
              <a:tblGrid>
                <a:gridCol w="1320840"/>
                <a:gridCol w="1380960"/>
                <a:gridCol w="1381320"/>
                <a:gridCol w="1382760"/>
                <a:gridCol w="1380960"/>
                <a:gridCol w="1382760"/>
              </a:tblGrid>
              <a:tr h="763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Rubric for task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6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teps to combat problem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Just outline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Just points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o steps good points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Good outline good points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ery good step by step outline with relevant points and techniques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8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Repair Dongas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Just technique no explanation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o technique vague explanation 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dequate technique and vague explanation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Good technique, adequate explanation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Relevant techniques and clear explanation of techniques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14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mproved faming methods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Little effort made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dequate methods no explanation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dequate methods and adequate explanation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Good methods and good explanation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Excellent methods and explanations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42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otal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             </a:t>
                      </a: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77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2" dur="770" fill="hold"/>
                                        <p:tgtEl>
                                          <p:spTgt spid="16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24" dur="77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26" dur="77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000" spc="-1" strike="noStrike">
                <a:solidFill>
                  <a:srgbClr val="e3e3ff"/>
                </a:solidFill>
                <a:latin typeface="Arial"/>
              </a:rPr>
              <a:t>What is erosion?</a:t>
            </a:r>
            <a:br>
              <a:rPr sz="4000"/>
            </a:b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(geology) the mechanical process of wearing or grinding something down (as by particles washing over it)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The wearing away of the earth’s surface by natural processes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orrosion: erosion by chemical action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Picture 8" descr="erosion2"/>
          <p:cNvPicPr/>
          <p:nvPr/>
        </p:nvPicPr>
        <p:blipFill>
          <a:blip r:embed="rId1"/>
          <a:stretch/>
        </p:blipFill>
        <p:spPr>
          <a:xfrm>
            <a:off x="4643280" y="2349360"/>
            <a:ext cx="3810240" cy="25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" nodeType="afterEffect" fill="hold" presetClass="entr" presetID="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1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1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4" nodeType="afterEffect" fill="hold" presetClass="entr" presetID="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9" nodeType="afterEffect" fill="hold" presetClass="entr" presetID="8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e3e3ff"/>
                </a:solidFill>
                <a:latin typeface="Arial"/>
              </a:rPr>
              <a:t>Types of Erosio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ffffff"/>
                </a:solidFill>
                <a:latin typeface="Arial"/>
              </a:rPr>
              <a:t>Wa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ffffff"/>
                </a:solidFill>
                <a:latin typeface="Arial"/>
              </a:rPr>
              <a:t>Wi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ffffff"/>
                </a:solidFill>
                <a:latin typeface="Arial"/>
              </a:rPr>
              <a:t>Glaci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ffffff"/>
                </a:solidFill>
                <a:latin typeface="Arial"/>
              </a:rPr>
              <a:t>Soi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ffffff"/>
                </a:solidFill>
                <a:latin typeface="Arial"/>
              </a:rPr>
              <a:t>Se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2300"/>
                            </p:stCondLst>
                            <p:childTnLst>
                              <p:par>
                                <p:cTn id="4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3300"/>
                            </p:stCondLst>
                            <p:childTnLst>
                              <p:par>
                                <p:cTn id="4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1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1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4300"/>
                            </p:stCondLst>
                            <p:childTnLst>
                              <p:par>
                                <p:cTn id="5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1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1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5300"/>
                            </p:stCondLst>
                            <p:childTnLst>
                              <p:par>
                                <p:cTn id="5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1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1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6300"/>
                            </p:stCondLst>
                            <p:childTnLst>
                              <p:par>
                                <p:cTn id="6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10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10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e3e3ff"/>
                </a:solidFill>
                <a:latin typeface="Arial"/>
              </a:rPr>
              <a:t>Water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400" spc="-1" strike="noStrike">
                <a:solidFill>
                  <a:srgbClr val="ffffff"/>
                </a:solidFill>
                <a:latin typeface="Arial"/>
              </a:rPr>
              <a:t>Occurs from chemicals in the water and the force and flow of wat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400" spc="-1" strike="noStrike">
                <a:solidFill>
                  <a:srgbClr val="ffffff"/>
                </a:solidFill>
                <a:latin typeface="Arial"/>
              </a:rPr>
              <a:t>Chemicals break down certain rocks like limestone or chal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400" spc="-1" strike="noStrike">
                <a:solidFill>
                  <a:srgbClr val="ffffff"/>
                </a:solidFill>
                <a:latin typeface="Arial"/>
              </a:rPr>
              <a:t>Force of water creates cracks and crevass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400" spc="-1" strike="noStrike">
                <a:solidFill>
                  <a:srgbClr val="ffffff"/>
                </a:solidFill>
                <a:latin typeface="Arial"/>
              </a:rPr>
              <a:t>These get bigger and bigger as it gets eroded, particles of the rock get carried in the water and further aid eros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8" descr="Photo: Waterfall and turquoise water on Baffin Island"/>
          <p:cNvPicPr/>
          <p:nvPr/>
        </p:nvPicPr>
        <p:blipFill>
          <a:blip r:embed="rId1"/>
          <a:stretch/>
        </p:blipFill>
        <p:spPr>
          <a:xfrm>
            <a:off x="4643280" y="1628640"/>
            <a:ext cx="3997440" cy="29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10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9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9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1000" fill="hold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e3e3ff"/>
                </a:solidFill>
                <a:latin typeface="Arial"/>
              </a:rPr>
              <a:t>Wind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400" spc="-1" strike="noStrike">
                <a:solidFill>
                  <a:srgbClr val="ffffff"/>
                </a:solidFill>
                <a:latin typeface="Arial"/>
              </a:rPr>
              <a:t>The wind picks up smaller particles of rock (pebbles and sand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400" spc="-1" strike="noStrike">
                <a:solidFill>
                  <a:srgbClr val="ffffff"/>
                </a:solidFill>
                <a:latin typeface="Arial"/>
              </a:rPr>
              <a:t>These hit landforms and take pieces off the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400" spc="-1" strike="noStrike">
                <a:solidFill>
                  <a:srgbClr val="ffffff"/>
                </a:solidFill>
                <a:latin typeface="Arial"/>
              </a:rPr>
              <a:t>This friction causes the break up of landform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Picture 8" descr="nm_Vermilion_080326_ssh"/>
          <p:cNvPicPr/>
          <p:nvPr/>
        </p:nvPicPr>
        <p:blipFill>
          <a:blip r:embed="rId1"/>
          <a:stretch/>
        </p:blipFill>
        <p:spPr>
          <a:xfrm>
            <a:off x="108000" y="189000"/>
            <a:ext cx="3263760" cy="25257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0" descr="dscn2150"/>
          <p:cNvPicPr/>
          <p:nvPr/>
        </p:nvPicPr>
        <p:blipFill>
          <a:blip r:embed="rId2"/>
          <a:stretch/>
        </p:blipFill>
        <p:spPr>
          <a:xfrm>
            <a:off x="179280" y="2997360"/>
            <a:ext cx="2052720" cy="27352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2" descr="sol_wind_erosion_BGR_big"/>
          <p:cNvPicPr/>
          <p:nvPr/>
        </p:nvPicPr>
        <p:blipFill>
          <a:blip r:embed="rId3"/>
          <a:stretch/>
        </p:blipFill>
        <p:spPr>
          <a:xfrm>
            <a:off x="3780000" y="3645000"/>
            <a:ext cx="4572000" cy="30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1300"/>
                            </p:stCondLst>
                            <p:childTnLst>
                              <p:par>
                                <p:cTn id="11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30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4300"/>
                            </p:stCondLst>
                            <p:childTnLst>
                              <p:par>
                                <p:cTn id="120" nodeType="afterEffect" fill="hold" presetClass="entr" presetID="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10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10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6800"/>
                            </p:stCondLst>
                            <p:childTnLst>
                              <p:par>
                                <p:cTn id="125" nodeType="afterEffect" fill="hold" presetClass="entr" presetID="4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7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9300"/>
                            </p:stCondLst>
                            <p:childTnLst>
                              <p:par>
                                <p:cTn id="129" nodeType="afterEffect" fill="hold" presetClass="entr" presetID="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11300"/>
                            </p:stCondLst>
                            <p:childTnLst>
                              <p:par>
                                <p:cTn id="134" nodeType="afterEffect" fill="hold" presetClass="entr" presetID="31">
                                  <p:stCondLst>
                                    <p:cond delay="1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e3e3ff"/>
                </a:solidFill>
                <a:latin typeface="Arial"/>
              </a:rPr>
              <a:t>Glacier Erosio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400" spc="-1" strike="noStrike">
                <a:solidFill>
                  <a:srgbClr val="ffffff"/>
                </a:solidFill>
                <a:latin typeface="Arial"/>
              </a:rPr>
              <a:t>What is a GLACIER?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000" spc="-1" strike="noStrike">
                <a:solidFill>
                  <a:srgbClr val="ffffff"/>
                </a:solidFill>
                <a:latin typeface="Arial"/>
              </a:rPr>
              <a:t>A huge mass of ice slowly flowing over a land mass, formed from compacted snow in an area where snow accumulation exceeds meltin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400" spc="-1" strike="noStrike">
                <a:solidFill>
                  <a:srgbClr val="ffffff"/>
                </a:solidFill>
                <a:latin typeface="Arial"/>
              </a:rPr>
              <a:t>These large bodies of ice that pick up rocks and earth and erode the earth’s surfa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400" spc="-1" strike="noStrike">
                <a:solidFill>
                  <a:srgbClr val="ffffff"/>
                </a:solidFill>
                <a:latin typeface="Arial"/>
              </a:rPr>
              <a:t>Powerful eroding machine, picking up pieces of rock the size of houses in some plac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400" spc="-1" strike="noStrike">
                <a:solidFill>
                  <a:srgbClr val="ffffff"/>
                </a:solidFill>
                <a:latin typeface="Arial"/>
              </a:rPr>
              <a:t>Glaciers are so powerful they can carve valleys and create landform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Picture 8" descr="image024"/>
          <p:cNvPicPr/>
          <p:nvPr/>
        </p:nvPicPr>
        <p:blipFill>
          <a:blip r:embed="rId1"/>
          <a:stretch/>
        </p:blipFill>
        <p:spPr>
          <a:xfrm>
            <a:off x="4500720" y="1484280"/>
            <a:ext cx="4392360" cy="31860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0" descr="MuldrowGlacier(2)"/>
          <p:cNvPicPr/>
          <p:nvPr/>
        </p:nvPicPr>
        <p:blipFill>
          <a:blip r:embed="rId2"/>
          <a:stretch/>
        </p:blipFill>
        <p:spPr>
          <a:xfrm>
            <a:off x="324000" y="4149720"/>
            <a:ext cx="3382920" cy="24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1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1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57" nodeType="afterEffect" fill="hold" presetClass="entr" presetID="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10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10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62" nodeType="afterEffect" fill="hold" presetClass="entr" presetID="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10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67" nodeType="afterEffect" fill="hold" presetClass="entr" presetID="31">
                                  <p:stCondLst>
                                    <p:cond delay="1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174" nodeType="afterEffect" fill="hold" presetClass="entr" presetID="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10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10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179" nodeType="afterEffect" fill="hold" presetClass="entr" presetID="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10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10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184" nodeType="afterEffect" fill="hold" presetClass="entr" presetID="3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e3e3ff"/>
                </a:solidFill>
                <a:latin typeface="Arial"/>
              </a:rPr>
              <a:t>Sea Erosio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400" spc="-1" strike="noStrike">
                <a:solidFill>
                  <a:srgbClr val="ffffff"/>
                </a:solidFill>
                <a:latin typeface="Arial"/>
              </a:rPr>
              <a:t>Salts and other chemicals in the water erode coastal rock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400" spc="-1" strike="noStrike">
                <a:solidFill>
                  <a:srgbClr val="ffffff"/>
                </a:solidFill>
                <a:latin typeface="Arial"/>
              </a:rPr>
              <a:t>These are dragged out to sea and deposited in other areas (Long shore Drif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400" spc="-1" strike="noStrike">
                <a:solidFill>
                  <a:srgbClr val="ffffff"/>
                </a:solidFill>
                <a:latin typeface="Arial"/>
              </a:rPr>
              <a:t>Wave power creates erosion. Also particles of rock and sediment aid to the erosion proces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8" descr="erodedbeach"/>
          <p:cNvPicPr/>
          <p:nvPr/>
        </p:nvPicPr>
        <p:blipFill>
          <a:blip r:embed="rId1"/>
          <a:stretch/>
        </p:blipFill>
        <p:spPr>
          <a:xfrm>
            <a:off x="250920" y="1197000"/>
            <a:ext cx="3809880" cy="266688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0" descr="biarritz-stone-bridge"/>
          <p:cNvPicPr/>
          <p:nvPr/>
        </p:nvPicPr>
        <p:blipFill>
          <a:blip r:embed="rId2"/>
          <a:stretch/>
        </p:blipFill>
        <p:spPr>
          <a:xfrm>
            <a:off x="5796000" y="4149720"/>
            <a:ext cx="3205080" cy="240048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2" descr="fg_mustang_3"/>
          <p:cNvPicPr/>
          <p:nvPr/>
        </p:nvPicPr>
        <p:blipFill>
          <a:blip r:embed="rId3"/>
          <a:stretch/>
        </p:blipFill>
        <p:spPr>
          <a:xfrm>
            <a:off x="324000" y="4017960"/>
            <a:ext cx="4787640" cy="28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2" nodeType="afterEffect" fill="hold" presetClass="entr" presetID="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07" nodeType="afterEffect" fill="hold" presetClass="entr" presetID="5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9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11" nodeType="afterEffect" fill="hold" presetClass="entr" presetID="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10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216" nodeType="afterEffect" fill="hold" presetClass="entr" presetID="5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220" nodeType="afterEffect" fill="hold" presetClass="entr" presetID="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225" nodeType="afterEffect" fill="hold" presetClass="entr" presetID="31">
                                  <p:stCondLst>
                                    <p:cond delay="1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e3e3ff"/>
                </a:solidFill>
                <a:latin typeface="Arial"/>
              </a:rPr>
              <a:t>Soil Erosio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400" spc="-1" strike="noStrike">
                <a:solidFill>
                  <a:srgbClr val="ffffff"/>
                </a:solidFill>
                <a:latin typeface="Arial"/>
              </a:rPr>
              <a:t>Biggest problem for farmer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400" spc="-1" strike="noStrike">
                <a:solidFill>
                  <a:srgbClr val="ffffff"/>
                </a:solidFill>
                <a:latin typeface="Arial"/>
              </a:rPr>
              <a:t>Wind and rain remove topsoil and nutrien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400" spc="-1" strike="noStrike">
                <a:solidFill>
                  <a:srgbClr val="ffffff"/>
                </a:solidFill>
                <a:latin typeface="Arial"/>
              </a:rPr>
              <a:t>Makes the soil infertile and it breaks up leaving donga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1" name="Picture 8" descr="sierra_madre_gully"/>
          <p:cNvPicPr/>
          <p:nvPr/>
        </p:nvPicPr>
        <p:blipFill>
          <a:blip r:embed="rId1"/>
          <a:stretch/>
        </p:blipFill>
        <p:spPr>
          <a:xfrm>
            <a:off x="250920" y="3357720"/>
            <a:ext cx="4127400" cy="309564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0" descr="fig07"/>
          <p:cNvPicPr/>
          <p:nvPr/>
        </p:nvPicPr>
        <p:blipFill>
          <a:blip r:embed="rId2"/>
          <a:stretch/>
        </p:blipFill>
        <p:spPr>
          <a:xfrm>
            <a:off x="5003640" y="1916280"/>
            <a:ext cx="3810240" cy="28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9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" nodeType="afterEffect" fill="hold" presetClass="entr" presetID="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1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1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47" nodeType="afterEffect" fill="hold" presetClass="entr" presetID="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10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52" nodeType="afterEffect" fill="hold" presetClass="entr" presetID="31">
                                  <p:stCondLst>
                                    <p:cond delay="1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259" nodeType="afterEffect" fill="hold" presetClass="entr" presetID="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10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264" nodeType="afterEffect" fill="hold" presetClass="entr" presetID="25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e3e3ff"/>
                </a:solidFill>
                <a:latin typeface="Arial"/>
              </a:rPr>
              <a:t>TASK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1970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400" spc="-1" strike="noStrike">
                <a:solidFill>
                  <a:srgbClr val="ffffff"/>
                </a:solidFill>
                <a:latin typeface="Arial"/>
              </a:rPr>
              <a:t>You are a forester in South Africa and you have just acquired some land and you are faced with a problem with soil erosion due to poor farming techniques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1400" spc="-1" strike="noStrike" u="sng">
                <a:solidFill>
                  <a:srgbClr val="ffffff"/>
                </a:solidFill>
                <a:uFillTx/>
                <a:latin typeface="Arial"/>
              </a:rPr>
              <a:t>YOUR PROBLEM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"/>
              </a:rPr>
              <a:t>DONGAS CASUED BY EROSION HAVE TAKEN UP CRITICAL SPACE FOR YOU TO PLANT AND GROW TRE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"/>
              </a:rPr>
              <a:t>WHAT STEPS ARE YOU GOING TO TAKE TO REPAIR THE DONGAS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"/>
              </a:rPr>
              <a:t>WHAT IMPROVED PLANTING TECHNIQUES ARE YOU GOING TO USE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Picture 5" descr="Hallet_Cove_017"/>
          <p:cNvPicPr/>
          <p:nvPr/>
        </p:nvPicPr>
        <p:blipFill>
          <a:blip r:embed="rId1"/>
          <a:stretch/>
        </p:blipFill>
        <p:spPr>
          <a:xfrm>
            <a:off x="3276720" y="2565360"/>
            <a:ext cx="2808000" cy="21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3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10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10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88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10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10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1000" fill="hold"/>
                                        <p:tgtEl>
                                          <p:spTgt spid="1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1000" fill="hold"/>
                                        <p:tgtEl>
                                          <p:spTgt spid="1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99" nodeType="afterEffect" fill="hold" presetClass="entr" presetID="31">
                                  <p:stCondLst>
                                    <p:cond delay="1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06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1000" fill="hold"/>
                                        <p:tgtEl>
                                          <p:spTgt spid="16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1000" fill="hold"/>
                                        <p:tgtEl>
                                          <p:spTgt spid="16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11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1000" fill="hold"/>
                                        <p:tgtEl>
                                          <p:spTgt spid="16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1000" fill="hold"/>
                                        <p:tgtEl>
                                          <p:spTgt spid="16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0T11:53:14Z</dcterms:created>
  <dc:creator>hendersonb</dc:creator>
  <dc:description/>
  <dc:language>en-US</dc:language>
  <cp:lastModifiedBy>RomaK</cp:lastModifiedBy>
  <dcterms:modified xsi:type="dcterms:W3CDTF">2015-09-04T09:42:17Z</dcterms:modified>
  <cp:revision>8</cp:revision>
  <dc:subject/>
  <dc:title>Erosion and Weathering</dc:title>
</cp:coreProperties>
</file>