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4AF8-775C-4D21-BF81-113A08FE52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osion and 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osion and 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ring away of the earth’s surface by natural proce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on: erosion by chemical 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break down certain rocks like limestone or ch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water creates cracks and crev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nd picks up smaller particles of rock (pebbles and sa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it landforms and take pieces of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riction causes the break up of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GLACIER?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ts and other chemicals in the water erode coastal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problem for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rain remove topsoil an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the soil infertile and it breaks up leaving don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PROBL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TEPS ARE YOU GOING TO TAKE TO REPAIR THE DONG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MPROVED PLANTING TECHNIQUES ARE YOU GOING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PROBLE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DE5-BDD0-4F7F-8D0C-02464293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BE2-7F29-49F8-88F3-A7E27C17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3C4-7C55-448E-9CB4-C03DF99F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AD8A-DBDF-42FF-BDBC-0BDD7775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DA17E-FC5A-4E78-9AE1-842DB7B6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A5E80-C54A-402E-A6BB-DA7AFA9D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3AD62-275D-4530-8629-51678013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A5BA0-954B-483A-B68B-46EE2DD7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5DB47-1E8A-4DDA-B9BD-B2C32641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1BE46-F616-465A-A849-793198A5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BE190-F6B1-4DE2-8E43-0EE50353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A45-6750-4A01-842D-EDFAD85F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F8519-3442-4524-BEF0-38BC2324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5A456-875D-4805-BD0F-CD4FD961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12247-9265-415D-9B2A-BF1F6127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80DBD-802C-4D56-9D3D-92304D40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A27A8-2B58-4D9C-85A6-3D2EF4C9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AB9-4B7B-4EDE-960C-8FE14608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93E-73B0-4118-B110-37F307C2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C40-476E-418C-89A9-60BB5294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9E8-032E-42DE-91CA-EE7E0EA9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ADB-96CB-430D-9F6B-1D5B9F11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40EC-CF82-4498-9C3C-46B48590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357-896C-4F86-98BC-AA9F4688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752E-2FBB-49DA-949D-399F28D7A98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9DCE-9952-4231-89FB-B82D95322EA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5400" spc="-1" strike="noStrike">
                <a:solidFill>
                  <a:srgbClr val="e3e3ff"/>
                </a:solidFill>
                <a:latin typeface="Arial"/>
              </a:rPr>
              <a:t>Erosion and Weatherin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320840"/>
                <a:gridCol w="1380960"/>
                <a:gridCol w="1381320"/>
                <a:gridCol w="1382760"/>
                <a:gridCol w="1380960"/>
                <a:gridCol w="13827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bric for t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ps to combat probl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outli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steps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outline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y good step by step outline with relevant points and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air Donga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technique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technique vague explanation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technique and vagu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technique,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evant techniques and clear explanation of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proved faming metho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effort ma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and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methods and good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lent methods and explanatio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e3e3ff"/>
                </a:solidFill>
                <a:latin typeface="Arial"/>
              </a:rPr>
              <a:t>What is erosion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erosion2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ypes of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Photo: Waterfall and turquoise water on Baffin Island"/>
          <p:cNvPicPr/>
          <p:nvPr/>
        </p:nvPicPr>
        <p:blipFill>
          <a:blip r:embed="rId1"/>
          <a:stretch/>
        </p:blipFill>
        <p:spPr>
          <a:xfrm>
            <a:off x="4643280" y="1628640"/>
            <a:ext cx="39974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nm_Vermilion_080326_ssh"/>
          <p:cNvPicPr/>
          <p:nvPr/>
        </p:nvPicPr>
        <p:blipFill>
          <a:blip r:embed="rId1"/>
          <a:stretch/>
        </p:blipFill>
        <p:spPr>
          <a:xfrm>
            <a:off x="108000" y="189000"/>
            <a:ext cx="3263760" cy="2525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dscn2150"/>
          <p:cNvPicPr/>
          <p:nvPr/>
        </p:nvPicPr>
        <p:blipFill>
          <a:blip r:embed="rId2"/>
          <a:stretch/>
        </p:blipFill>
        <p:spPr>
          <a:xfrm>
            <a:off x="179280" y="299736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sol_wind_erosion_BGR_big"/>
          <p:cNvPicPr/>
          <p:nvPr/>
        </p:nvPicPr>
        <p:blipFill>
          <a:blip r:embed="rId3"/>
          <a:stretch/>
        </p:blipFill>
        <p:spPr>
          <a:xfrm>
            <a:off x="3780000" y="3645000"/>
            <a:ext cx="45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Glacier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image024"/>
          <p:cNvPicPr/>
          <p:nvPr/>
        </p:nvPicPr>
        <p:blipFill>
          <a:blip r:embed="rId1"/>
          <a:stretch/>
        </p:blipFill>
        <p:spPr>
          <a:xfrm>
            <a:off x="4500720" y="1484280"/>
            <a:ext cx="4392360" cy="31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uldrowGlacier(2)"/>
          <p:cNvPicPr/>
          <p:nvPr/>
        </p:nvPicPr>
        <p:blipFill>
          <a:blip r:embed="rId2"/>
          <a:stretch/>
        </p:blipFill>
        <p:spPr>
          <a:xfrm>
            <a:off x="324000" y="4149720"/>
            <a:ext cx="3382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ea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erodedbeach"/>
          <p:cNvPicPr/>
          <p:nvPr/>
        </p:nvPicPr>
        <p:blipFill>
          <a:blip r:embed="rId1"/>
          <a:stretch/>
        </p:blipFill>
        <p:spPr>
          <a:xfrm>
            <a:off x="250920" y="11970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iarritz-stone-bridge"/>
          <p:cNvPicPr/>
          <p:nvPr/>
        </p:nvPicPr>
        <p:blipFill>
          <a:blip r:embed="rId2"/>
          <a:stretch/>
        </p:blipFill>
        <p:spPr>
          <a:xfrm>
            <a:off x="5796000" y="4149720"/>
            <a:ext cx="3205080" cy="240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fg_mustang_3"/>
          <p:cNvPicPr/>
          <p:nvPr/>
        </p:nvPicPr>
        <p:blipFill>
          <a:blip r:embed="rId3"/>
          <a:stretch/>
        </p:blipFill>
        <p:spPr>
          <a:xfrm>
            <a:off x="324000" y="4017960"/>
            <a:ext cx="4787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oil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sierra_madre_gully"/>
          <p:cNvPicPr/>
          <p:nvPr/>
        </p:nvPicPr>
        <p:blipFill>
          <a:blip r:embed="rId1"/>
          <a:stretch/>
        </p:blipFill>
        <p:spPr>
          <a:xfrm>
            <a:off x="250920" y="335772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fig07"/>
          <p:cNvPicPr/>
          <p:nvPr/>
        </p:nvPicPr>
        <p:blipFill>
          <a:blip r:embed="rId2"/>
          <a:stretch/>
        </p:blipFill>
        <p:spPr>
          <a:xfrm>
            <a:off x="5003640" y="19162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 u="sng">
                <a:solidFill>
                  <a:srgbClr val="ffffff"/>
                </a:solidFill>
                <a:uFillTx/>
                <a:latin typeface="Arial"/>
              </a:rPr>
              <a:t>YOUR PROBLEM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allet_Cove_017"/>
          <p:cNvPicPr/>
          <p:nvPr/>
        </p:nvPicPr>
        <p:blipFill>
          <a:blip r:embed="rId1"/>
          <a:stretch/>
        </p:blipFill>
        <p:spPr>
          <a:xfrm>
            <a:off x="3276720" y="2565360"/>
            <a:ext cx="2808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53:14Z</dcterms:created>
  <dc:creator>hendersonb</dc:creator>
  <dc:description/>
  <dc:language>en-US</dc:language>
  <cp:lastModifiedBy>RomaK</cp:lastModifiedBy>
  <dcterms:modified xsi:type="dcterms:W3CDTF">2015-09-04T09:42:17Z</dcterms:modified>
  <cp:revision>8</cp:revision>
  <dc:subject/>
  <dc:title>Erosion and Weathering</dc:title>
</cp:coreProperties>
</file>