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2F99-AED2-4505-B98D-D39D158A11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zo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azo compou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 coupling reaction between a diazonium salt an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N=N-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azo compou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 coupling reaction between a diazonium salt an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N=N-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nium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se -N+N as N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rich benzene ring stabilises the -N+N  group but decomposition occurs above about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 cold soln. sodium nitrite (NaNO2) to arylamine soln. In dilute acid below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t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e -N+N as N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rich benzene ring stabilises the -N+N  group but decomposition occurs above about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cold soln. sodium nitrite (NaNO2) to arylamine soln. In dilute acid below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t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he salt is m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nitrous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NO2 (aq) + HCl (aq) HNO2 (aq) + Na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yl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salt is m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nitrous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NO2 (aq) + HCl (aq) HNO2 (aq) + Na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yl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 coupling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 coupling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pling with phen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pling with phen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pling with am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zo compounds are stable so dyes do not f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pling with am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compounds are stable so dyes do not f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AA4E-6406-41C6-B6D6-510AC915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1DB-136E-480C-B579-77DE922A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BA5-6A7C-48FE-91C5-DE407DD4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6F8-B35F-4452-98A9-2432E82F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5383-D0C4-4EF9-AF3E-5A6F98F6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011-7A9F-4250-B28D-59F5D9F6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EDD-AB7D-4F9E-9C05-CBB28D72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8CE-AA4A-42FD-9B0E-0E28AD1C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830D-7841-4938-9978-6DE3EEC2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1BA5-6FD0-4705-B3C7-E601E7DB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368A-ADE6-414F-83F5-45A318AC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823-BDA8-48CE-89EE-A7589CF5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713E-EFC7-4D1F-B993-EB7181FB17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1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Azo Compoun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Times New Roman"/>
              </a:rPr>
              <a:t>What are azo compoun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724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ult of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coupling reac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tween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diazonium sal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coupling ag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4952880" y="243828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ll MT"/>
              </a:rPr>
              <a:t>R-N=N-R'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ll MT"/>
              <a:ea typeface="Bell MT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5562720" y="2362320"/>
            <a:ext cx="1904760" cy="1371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638680" y="42670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Diazonium sa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ose -N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 as N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lectron rich benzene ring stabilises the -N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  group but decomposition occurs above about 5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dd cold soln. sodium nitrite (NaNO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) to arylamine soln. In dilute acid below 5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3333cc"/>
                </a:solidFill>
                <a:latin typeface="Times New Roman"/>
              </a:rPr>
              <a:t>Diazotis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3"/>
          <p:cNvGrpSpPr/>
          <p:nvPr/>
        </p:nvGrpSpPr>
        <p:grpSpPr>
          <a:xfrm>
            <a:off x="3276720" y="1600200"/>
            <a:ext cx="2895120" cy="685800"/>
            <a:chOff x="3276720" y="1600200"/>
            <a:chExt cx="2895120" cy="685800"/>
          </a:xfrm>
        </p:grpSpPr>
        <p:sp>
          <p:nvSpPr>
            <p:cNvPr id="59" name="Line 6"/>
            <p:cNvSpPr/>
            <p:nvPr/>
          </p:nvSpPr>
          <p:spPr>
            <a:xfrm>
              <a:off x="4037040" y="195588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Group 12"/>
            <p:cNvGrpSpPr/>
            <p:nvPr/>
          </p:nvGrpSpPr>
          <p:grpSpPr>
            <a:xfrm>
              <a:off x="3276720" y="1600200"/>
              <a:ext cx="2895120" cy="685800"/>
              <a:chOff x="3276720" y="1600200"/>
              <a:chExt cx="2895120" cy="685800"/>
            </a:xfrm>
          </p:grpSpPr>
          <p:sp>
            <p:nvSpPr>
              <p:cNvPr id="61" name="AutoShape 9"/>
              <p:cNvSpPr/>
              <p:nvPr/>
            </p:nvSpPr>
            <p:spPr>
              <a:xfrm>
                <a:off x="3276720" y="1600200"/>
                <a:ext cx="761760" cy="685800"/>
              </a:xfrm>
              <a:prstGeom prst="hexagon">
                <a:avLst>
                  <a:gd name="adj" fmla="val 27769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Oval 10"/>
              <p:cNvSpPr/>
              <p:nvPr/>
            </p:nvSpPr>
            <p:spPr>
              <a:xfrm>
                <a:off x="3429000" y="1712880"/>
                <a:ext cx="45684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Text Box 11"/>
              <p:cNvSpPr/>
              <p:nvPr/>
            </p:nvSpPr>
            <p:spPr>
              <a:xfrm>
                <a:off x="4179600" y="1714680"/>
                <a:ext cx="1992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GB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N         Cl</a:t>
                </a:r>
                <a:r>
                  <a:rPr b="0" lang="en-GB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33"/>
                </a:solidFill>
                <a:latin typeface="Times New Roman"/>
              </a:rPr>
              <a:t>How the salt is ma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itrous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aNO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2 (aq)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+ HCl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+ NaCl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42"/>
          <p:cNvGrpSpPr/>
          <p:nvPr/>
        </p:nvGrpSpPr>
        <p:grpSpPr>
          <a:xfrm>
            <a:off x="1295280" y="3809880"/>
            <a:ext cx="6400440" cy="685800"/>
            <a:chOff x="1295280" y="3809880"/>
            <a:chExt cx="6400440" cy="685800"/>
          </a:xfrm>
        </p:grpSpPr>
        <p:grpSp>
          <p:nvGrpSpPr>
            <p:cNvPr id="67" name="Group 41"/>
            <p:cNvGrpSpPr/>
            <p:nvPr/>
          </p:nvGrpSpPr>
          <p:grpSpPr>
            <a:xfrm>
              <a:off x="1295280" y="3809880"/>
              <a:ext cx="6400440" cy="685800"/>
              <a:chOff x="1295280" y="3809880"/>
              <a:chExt cx="6400440" cy="685800"/>
            </a:xfrm>
          </p:grpSpPr>
          <p:grpSp>
            <p:nvGrpSpPr>
              <p:cNvPr id="68" name="Group 23"/>
              <p:cNvGrpSpPr/>
              <p:nvPr/>
            </p:nvGrpSpPr>
            <p:grpSpPr>
              <a:xfrm>
                <a:off x="1904760" y="3809880"/>
                <a:ext cx="5790960" cy="685800"/>
                <a:chOff x="1904760" y="3809880"/>
                <a:chExt cx="5790960" cy="685800"/>
              </a:xfrm>
            </p:grpSpPr>
            <p:sp>
              <p:nvSpPr>
                <p:cNvPr id="69" name="Line 20"/>
                <p:cNvSpPr/>
                <p:nvPr/>
              </p:nvSpPr>
              <p:spPr>
                <a:xfrm>
                  <a:off x="5560920" y="4165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Group 22"/>
                <p:cNvGrpSpPr/>
                <p:nvPr/>
              </p:nvGrpSpPr>
              <p:grpSpPr>
                <a:xfrm>
                  <a:off x="1904760" y="3809880"/>
                  <a:ext cx="5790960" cy="685800"/>
                  <a:chOff x="1904760" y="3809880"/>
                  <a:chExt cx="5790960" cy="685800"/>
                </a:xfrm>
              </p:grpSpPr>
              <p:sp>
                <p:nvSpPr>
                  <p:cNvPr id="71" name="Text Box 16"/>
                  <p:cNvSpPr/>
                  <p:nvPr/>
                </p:nvSpPr>
                <p:spPr>
                  <a:xfrm>
                    <a:off x="1904760" y="3886200"/>
                    <a:ext cx="5715000" cy="49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   </a:t>
                    </a: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 HNO</a:t>
                    </a:r>
                    <a:r>
                      <a:rPr b="0" i="1" lang="en-GB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+ H</a:t>
                    </a:r>
                    <a:r>
                      <a:rPr b="0" i="1" lang="en-GB" sz="20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+ </a:t>
                    </a:r>
                    <a:r>
                      <a:rPr b="0" i="1" lang="en-GB" sz="24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AutoShape 18"/>
                  <p:cNvSpPr/>
                  <p:nvPr/>
                </p:nvSpPr>
                <p:spPr>
                  <a:xfrm>
                    <a:off x="4800240" y="3809880"/>
                    <a:ext cx="762120" cy="685800"/>
                  </a:xfrm>
                  <a:prstGeom prst="hexagon">
                    <a:avLst>
                      <a:gd name="adj" fmla="val 27782"/>
                      <a:gd name="vf" fmla="val 11547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Oval 19"/>
                  <p:cNvSpPr/>
                  <p:nvPr/>
                </p:nvSpPr>
                <p:spPr>
                  <a:xfrm>
                    <a:off x="4952520" y="3922560"/>
                    <a:ext cx="457200" cy="457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Text Box 21"/>
                  <p:cNvSpPr/>
                  <p:nvPr/>
                </p:nvSpPr>
                <p:spPr>
                  <a:xfrm>
                    <a:off x="5703480" y="3924360"/>
                    <a:ext cx="1992240" cy="47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r>
                      <a:rPr b="0" lang="en-GB" sz="22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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 + 2 H</a:t>
                    </a:r>
                    <a:r>
                      <a:rPr b="0" lang="en-GB" sz="2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" name="Group 39"/>
              <p:cNvGrpSpPr/>
              <p:nvPr/>
            </p:nvGrpSpPr>
            <p:grpSpPr>
              <a:xfrm>
                <a:off x="1295280" y="3809880"/>
                <a:ext cx="1600200" cy="685800"/>
                <a:chOff x="1295280" y="3809880"/>
                <a:chExt cx="1600200" cy="685800"/>
              </a:xfrm>
            </p:grpSpPr>
            <p:sp>
              <p:nvSpPr>
                <p:cNvPr id="76" name="AutoShape 29"/>
                <p:cNvSpPr/>
                <p:nvPr/>
              </p:nvSpPr>
              <p:spPr>
                <a:xfrm>
                  <a:off x="1295280" y="3809880"/>
                  <a:ext cx="762120" cy="685800"/>
                </a:xfrm>
                <a:prstGeom prst="hexagon">
                  <a:avLst>
                    <a:gd name="adj" fmla="val 27782"/>
                    <a:gd name="vf" fmla="val 11547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30"/>
                <p:cNvSpPr/>
                <p:nvPr/>
              </p:nvSpPr>
              <p:spPr>
                <a:xfrm>
                  <a:off x="1447920" y="3922560"/>
                  <a:ext cx="45720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Text Box 31"/>
                <p:cNvSpPr/>
                <p:nvPr/>
              </p:nvSpPr>
              <p:spPr>
                <a:xfrm>
                  <a:off x="2198520" y="3924000"/>
                  <a:ext cx="6969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Times New Roman"/>
                    </a:rPr>
                    <a:t>NH</a:t>
                  </a:r>
                  <a:r>
                    <a:rPr b="0" lang="en-GB" sz="2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" name="Line 26"/>
            <p:cNvSpPr/>
            <p:nvPr/>
          </p:nvSpPr>
          <p:spPr>
            <a:xfrm>
              <a:off x="2054160" y="4159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Text Box 43"/>
          <p:cNvSpPr/>
          <p:nvPr/>
        </p:nvSpPr>
        <p:spPr>
          <a:xfrm>
            <a:off x="914400" y="4800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phenyl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4"/>
          <p:cNvSpPr/>
          <p:nvPr/>
        </p:nvSpPr>
        <p:spPr>
          <a:xfrm>
            <a:off x="4419720" y="4800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benzenediazonium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oupling"/>
          <p:cNvPicPr/>
          <p:nvPr/>
        </p:nvPicPr>
        <p:blipFill>
          <a:blip r:embed="rId1"/>
          <a:stretch/>
        </p:blipFill>
        <p:spPr>
          <a:xfrm>
            <a:off x="0" y="2125800"/>
            <a:ext cx="5062680" cy="2128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imes New Roman"/>
              </a:rPr>
              <a:t>Diazo coupling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coupling a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Coupling with phen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diazonium"/>
          <p:cNvPicPr/>
          <p:nvPr/>
        </p:nvPicPr>
        <p:blipFill>
          <a:blip r:embed="rId1"/>
          <a:stretch/>
        </p:blipFill>
        <p:spPr>
          <a:xfrm>
            <a:off x="457200" y="3060720"/>
            <a:ext cx="8229600" cy="1419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red azo"/>
          <p:cNvPicPr/>
          <p:nvPr/>
        </p:nvPicPr>
        <p:blipFill>
          <a:blip r:embed="rId2"/>
          <a:stretch/>
        </p:blipFill>
        <p:spPr>
          <a:xfrm>
            <a:off x="685800" y="4267080"/>
            <a:ext cx="7848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imes New Roman"/>
              </a:rPr>
              <a:t>Coupling with am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zo compounds are stable so dyes do not fad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yellow azo"/>
          <p:cNvPicPr/>
          <p:nvPr/>
        </p:nvPicPr>
        <p:blipFill>
          <a:blip r:embed="rId1"/>
          <a:stretch/>
        </p:blipFill>
        <p:spPr>
          <a:xfrm>
            <a:off x="380880" y="4419720"/>
            <a:ext cx="85629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20:46:38Z</dcterms:created>
  <dc:creator>M Tyrrell</dc:creator>
  <dc:description/>
  <dc:language>en-US</dc:language>
  <cp:lastModifiedBy>LEGION</cp:lastModifiedBy>
  <dcterms:modified xsi:type="dcterms:W3CDTF">2015-09-04T09:50:56Z</dcterms:modified>
  <cp:revision>17</cp:revision>
  <dc:subject/>
  <dc:title>Azo Compounds</dc:title>
</cp:coreProperties>
</file>