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1.jpeg" ContentType="image/jpeg"/>
  <Override PartName="/ppt/media/image9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A7F3E-78E1-4112-8C93-9651F4BA3B0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Earthquak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haking or trembling caused by the sudden release of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ually associated with faulting or breaking of roc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inuing adjustment of position results in aftershoc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Earthquak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haking or trembling caused by the sudden release of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ually associated with faulting or breaking of roc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inuing adjustment of position results in aftershoc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is an Earthquake’s Epicenter Locat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ismic wave behavi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 waves arrive first, then S waves, then L and 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erage speeds for all these waves is know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ter an earthquake, the difference in arrival times at a seismograph station can be used to calculate the distance from the seismograph to the epicen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is an Earthquake’s Epicenter Locat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ismic wave behavi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 waves arrive first, then S waves, then L and 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erage speeds for all these waves is know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ter an earthquake, the difference in arrival times at a seismograph station can be used to calculate the distance from the seismograph to the epicen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is an Earthquake’s Epicenter Locat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me-distance graph showing the average travel times for P- and S-waves. The farther away a seismograph is from the focus of an earthquake, the longer the interval between the arrivals of the P- and S- w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is an Earthquake’s Epicenter Locat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me-distance graph showing the average travel times for P- and S-waves. The farther away a seismograph is from the focus of an earthquake, the longer the interval between the arrivals of the P- and S- w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is an Earthquake’s Epicenter Locat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e seismograph stations are needed to locate the epicenter of an earthqua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ircle where the radius equals the distance to the epicenter is draw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ntersection of the circles locates the epicent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is an Earthquake’s Epicenter Locat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e seismograph stations are needed to locate the epicenter of an earthqua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ircle where the radius equals the distance to the epicenter is draw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ntersection of the circles locates the epicent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are the Size and Strength of an Earthquake Measur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dified Mercalli Intensity Ma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94 Northridge, CA earthquake, magnitude 6.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n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jective measure of the kind of damage done and people’s reactions to 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oseismal lines identify areas of equal inten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are the Size and Strength of an Earthquake Measur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dified Mercalli Intensity Ma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94 Northridge, CA earthquake, magnitude 6.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n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jective measure of the kind of damage done and people’s reactions to 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oseismal lines identify areas of equal inten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are the Size and Strength of an Earthquake Measur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itu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chter scale measures total amount of energy released by an earthquake; independent of inten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plitude of the largest wave produced by an event is corrected for distance and assigned a value on an open-ended logarithmic sc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are the Size and Strength of an Earthquake Measur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itu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chter scale measures total amount of energy released by an earthquake; independent of inten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plitude of the largest wave produced by an event is corrected for distance and assigned a value on an open-ended logarithmic sc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the Destructive Effects of Earthquak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ound Shak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plitude, duration, and damage increases in poorly consolidated roc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the Destructive Effects of Earthquak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ound Shak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plitude, duration, and damage increases in poorly consolidated roc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Earthquakes be Predict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thquake Precursor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s in elevation or tilting of land surface, fluctuations in groundwater levels, magnetic field, electrical resistance of the gro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ismic dilatancy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ismic ga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Earthquakes be Predict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thquake Precursor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s in elevation or tilting of land surface, fluctuations in groundwater levels, magnetic field, electrical resistance of the gro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ismic dilatancy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ismic ga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Earthquakes be Predict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thquake Prediction Progra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lude laboratory and field studies of rocks before, during, and after earthquak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nitor activity along major fa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e risk assess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Earthquakes be Predict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thquake Prediction Progra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lude laboratory and field studies of rocks before, during, and after earthquak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nitor activity along major fa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e risk assess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Earthquakes be Controll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ph showing the relationship between the amount of waste injected into wells per month and the average number of Denver earthquakes per mon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have suggested that pumping fluids into seismic gaps will cause small earthquakes while preventing large 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Earthquakes be Controll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ph showing the relationship between the amount of waste injected into wells per month and the average number of Denver earthquakes per mon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have suggested that pumping fluids into seismic gaps will cause small earthquakes while preventing large 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Elastic Rebound Theor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s how energy is stored in roc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cks bend until the strength of the rock is exceed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upture occurs and the rocks quickly rebound to an undeformed sha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is released in waves that radiate outward from the fau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Elastic Rebound Theor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s how energy is stored in roc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cks bend until the strength of the rock is exceed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upture occurs and the rocks quickly rebound to an undeformed sha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is released in waves that radiate outward from the fau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ocus and Epicenter of an Earthqua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oint within Earth where faulting begins is the focus, or hypo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oint directly above the focus on the surface is the epi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ocus and Epicenter of an Earthqua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oint within Earth where faulting begins is the focus, or hypo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oint directly above the focus on the surface is the epi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ismographs record earthquake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convergent boundaries, focal depth increases along a dipping seismic zone called a Benioff z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ismographs record earthquake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convergent boundaries, focal depth increases along a dipping seismic zone called a Benioff z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 Earthquakes Occur and How Ofte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80% of all earthquakes occur in the circum-Pacific be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of these result from convergent margin acti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15% occur in the Mediterranean-Asiatic be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aining 5% occur in the interiors of plates and on spreading ridge ce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than 150,000 quakes strong enough to be felt are recorded each y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 Earthquakes Occur and How Ofte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80% of all earthquakes occur in the circum-Pacific be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of these result from convergent margin acti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15% occur in the Mediterranean-Asiatic be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aining 5% occur in the interiors of plates and on spreading ridge ce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than 150,000 quakes strong enough to be felt are recorded each y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conomics and Societal Impacts of EQ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mage in Oakland, CA, 198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ing collap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suna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ound fail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conomics and Societal Impacts of EQ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mage in Oakland, CA, 198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ing collap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suna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ound fail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Seismic Wav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 of material to the arrival of energy fronts released by rup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typ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dy w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 and 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face w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 and 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Seismic Wav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 of material to the arrival of energy fronts released by rup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typ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dy w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 and 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face w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 and 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dy Waves: P and S w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dy w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 or primary w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stest w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vel through solids, liquids, or g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ressional wave, material movement is in the same direction as wave mov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 or secondary w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ower than P w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vel through solid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ear waves - move material perpendicular to wave mov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dy Waves: P and S w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dy w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 or primary w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stest w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vel through solids, liquids, or g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ressional wave, material movement is in the same direction as wave mov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 or secondary w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ower than P w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vel through solid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ear waves - move material perpendicular to wave mov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face Waves: R and L w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face W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vel just below or along the ground’s surf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ower than body waves; rolling and side-to-side mov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pecially damaging to build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face Waves: R and L w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face W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vel just below or along the ground’s surf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ower than body waves; rolling and side-to-side mov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pecially damaging to build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221F3-35BA-4ABA-8CCF-793A51B29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07B51-B075-41DA-811E-75F7F2BB8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127BD-FCFB-47E0-A893-C772CCB54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1528A-B030-4CAC-A5D5-3846A917F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52A1F-CFDA-436E-9A98-F9A4DE58A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2FF8A-2B32-416A-AE8A-3B492DAEC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91353-C0A4-4A12-83CE-F34C8D7CD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8B84C-F6A8-45E2-9BE5-2333868B4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413D0-88FA-4C36-9DFB-208034435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B845C-2A25-4DA7-BD31-2FA772237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0E06D-B302-4C16-90AA-5443D0F8F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2F8D0-61DE-4870-8F36-42BA2952F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9A6C6-4308-4DBB-B808-EC4244C2A3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981080" y="914040"/>
            <a:ext cx="56390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are Earthquake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haking or trembling caused by the sudden release of ener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ually associated with faulting or breaking of ro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inuing adjustment of position results in aftersho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 is an Earthquake’s Epicenter Locat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Picture 4" descr="MWPG40914"/>
          <p:cNvPicPr/>
          <p:nvPr/>
        </p:nvPicPr>
        <p:blipFill>
          <a:blip r:embed="rId1"/>
          <a:stretch/>
        </p:blipFill>
        <p:spPr>
          <a:xfrm>
            <a:off x="838080" y="2971800"/>
            <a:ext cx="7620120" cy="542772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2640" y="914040"/>
            <a:ext cx="746748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ismic wave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 waves arrive first, then S waves, then L and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verage speeds for all these waves is know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After an earthquake, the difference in arrival times at a seismograph station can be used to calculate the distance from the seismograph to the epicent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5"/>
          <p:cNvSpPr/>
          <p:nvPr/>
        </p:nvSpPr>
        <p:spPr>
          <a:xfrm>
            <a:off x="1066680" y="6324480"/>
            <a:ext cx="7467840" cy="1676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w is an Earthquake’s Epicenter Loc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90360" y="1295280"/>
            <a:ext cx="335268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ime-distance graph showing the average travel times for P- and S-waves. 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The farther away a seismograph is from the focus of an earthquake, the longer the interval between the arrivals of the P- and S- wav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4" descr="MWPG40915"/>
          <p:cNvPicPr/>
          <p:nvPr/>
        </p:nvPicPr>
        <p:blipFill>
          <a:blip r:embed="rId1"/>
          <a:stretch/>
        </p:blipFill>
        <p:spPr>
          <a:xfrm>
            <a:off x="4430880" y="990720"/>
            <a:ext cx="418464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is an Earthquake’s Epicenter Located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58128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ree seismograph stations are needed to locate the epicenter of an earthquak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circle where the radius equals the distance to the epicenter is draw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section of the circles locates the epicente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4" descr="MWPG40916"/>
          <p:cNvPicPr/>
          <p:nvPr/>
        </p:nvPicPr>
        <p:blipFill>
          <a:blip r:embed="rId1"/>
          <a:stretch/>
        </p:blipFill>
        <p:spPr>
          <a:xfrm>
            <a:off x="4267080" y="1905120"/>
            <a:ext cx="4876920" cy="44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w are the Size and Strength of an Earthquake Measured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icture 4" descr="MWPG40917"/>
          <p:cNvPicPr/>
          <p:nvPr/>
        </p:nvPicPr>
        <p:blipFill>
          <a:blip r:embed="rId1"/>
          <a:stretch/>
        </p:blipFill>
        <p:spPr>
          <a:xfrm>
            <a:off x="1143000" y="1447920"/>
            <a:ext cx="4876920" cy="336384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5"/>
          <p:cNvSpPr/>
          <p:nvPr/>
        </p:nvSpPr>
        <p:spPr>
          <a:xfrm>
            <a:off x="1752480" y="4952880"/>
            <a:ext cx="45720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ified Mercalli Intensity M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994 Northridge, CA earthquake, magnitude 6.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638320" y="1599840"/>
            <a:ext cx="312444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ns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ubjectiv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asure of the kind of damage done and people’s reactions to 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soseismal lines identify areas of equal intens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4" descr="MWPG40919"/>
          <p:cNvPicPr/>
          <p:nvPr/>
        </p:nvPicPr>
        <p:blipFill>
          <a:blip r:embed="rId1"/>
          <a:stretch/>
        </p:blipFill>
        <p:spPr>
          <a:xfrm>
            <a:off x="3886200" y="1143000"/>
            <a:ext cx="4597560" cy="5334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w are the Size and Strength of an Earthquake Measured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160" y="15238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gnitu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ter scale measures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otal amount of energ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released by an earthquake; independent of intens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mplitude of the largest wave produced by an event is corrected for distance and assigned a value on an open-ended logarithmic sca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MWPG40920a"/>
          <p:cNvPicPr/>
          <p:nvPr/>
        </p:nvPicPr>
        <p:blipFill>
          <a:blip r:embed="rId1"/>
          <a:stretch/>
        </p:blipFill>
        <p:spPr>
          <a:xfrm>
            <a:off x="1828800" y="2057400"/>
            <a:ext cx="5715000" cy="38685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are the Destructive Effects of Earthquake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320" y="990720"/>
            <a:ext cx="723924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round Shak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mplitude, duration, and damage increases in poorly consolidated roc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5" descr="MWPG40929"/>
          <p:cNvPicPr/>
          <p:nvPr/>
        </p:nvPicPr>
        <p:blipFill>
          <a:blip r:embed="rId1"/>
          <a:stretch/>
        </p:blipFill>
        <p:spPr>
          <a:xfrm>
            <a:off x="4114800" y="2438280"/>
            <a:ext cx="4267080" cy="392436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n Earthquakes be Predic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523520" y="1143000"/>
            <a:ext cx="678204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rthquake Precurso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nges in elevation or tilting of land surface, fluctuations in groundwater levels, magnetic field, electrical resistance of the grou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ismic dilatanc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ismic ga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2640" y="533160"/>
            <a:ext cx="670572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n Earthquakes be Predic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90720" y="1142640"/>
            <a:ext cx="761976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rthquake Prediction Progra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clude laboratory and field studies of rocks before, during, and after earthquak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nitor activity along major faul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 risk assess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icture 4" descr="MWPG40928"/>
          <p:cNvPicPr/>
          <p:nvPr/>
        </p:nvPicPr>
        <p:blipFill>
          <a:blip r:embed="rId1"/>
          <a:stretch/>
        </p:blipFill>
        <p:spPr>
          <a:xfrm>
            <a:off x="914400" y="2895480"/>
            <a:ext cx="7620120" cy="32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676520" y="457200"/>
            <a:ext cx="586728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n Earthquakes be Controll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3" descr="MWPG40931b"/>
          <p:cNvPicPr/>
          <p:nvPr/>
        </p:nvPicPr>
        <p:blipFill>
          <a:blip r:embed="rId1"/>
          <a:stretch/>
        </p:blipFill>
        <p:spPr>
          <a:xfrm>
            <a:off x="4038480" y="1066680"/>
            <a:ext cx="4800600" cy="45691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3581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raph showing the relationship between the amount of waste injected into wells per month and the average number of Denver earthquakes per mon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me have suggested that pumping fluids into seismic gaps will cause small earthquakes while preventing large 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MWPG40903a"/>
          <p:cNvPicPr/>
          <p:nvPr/>
        </p:nvPicPr>
        <p:blipFill>
          <a:blip r:embed="rId1"/>
          <a:stretch/>
        </p:blipFill>
        <p:spPr>
          <a:xfrm>
            <a:off x="3581280" y="2057400"/>
            <a:ext cx="5257800" cy="351648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400" y="7617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at is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Elastic Rebound Theory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160" y="1905120"/>
            <a:ext cx="32763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plains how energy is stored in roc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cks bend until the strength of the rock is excee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upture occurs and the rocks quickly rebound to an undeformed sha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ergy is released in waves that radiate outward from the faul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447920" y="1066680"/>
            <a:ext cx="670536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ocu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picent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f an Earthqua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4" descr="MWPG40906"/>
          <p:cNvPicPr/>
          <p:nvPr/>
        </p:nvPicPr>
        <p:blipFill>
          <a:blip r:embed="rId1"/>
          <a:stretch/>
        </p:blipFill>
        <p:spPr>
          <a:xfrm>
            <a:off x="4343400" y="2362320"/>
            <a:ext cx="3733920" cy="334152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6"/>
          <p:cNvSpPr/>
          <p:nvPr/>
        </p:nvSpPr>
        <p:spPr>
          <a:xfrm>
            <a:off x="1371600" y="2438280"/>
            <a:ext cx="29718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oint within Earth where faulting begins is the focus, or hypocen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oint directly above the focus on the surface is the epicen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294920" y="1142640"/>
            <a:ext cx="29718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ismograph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record earthquak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4"/>
          <p:cNvSpPr/>
          <p:nvPr/>
        </p:nvSpPr>
        <p:spPr>
          <a:xfrm>
            <a:off x="4952880" y="4038480"/>
            <a:ext cx="381024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5"/>
          <p:cNvSpPr/>
          <p:nvPr/>
        </p:nvSpPr>
        <p:spPr>
          <a:xfrm>
            <a:off x="5486400" y="3733920"/>
            <a:ext cx="312408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 convergent boundaries,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focal dept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creases along a dipping seismic zone called a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enioff z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6" descr="MWPG40905a"/>
          <p:cNvPicPr/>
          <p:nvPr/>
        </p:nvPicPr>
        <p:blipFill>
          <a:blip r:embed="rId1"/>
          <a:stretch/>
        </p:blipFill>
        <p:spPr>
          <a:xfrm>
            <a:off x="4648320" y="609480"/>
            <a:ext cx="3733560" cy="26211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7" descr="MWPG40908"/>
          <p:cNvPicPr/>
          <p:nvPr/>
        </p:nvPicPr>
        <p:blipFill>
          <a:blip r:embed="rId2"/>
          <a:stretch/>
        </p:blipFill>
        <p:spPr>
          <a:xfrm>
            <a:off x="990720" y="3505320"/>
            <a:ext cx="4343400" cy="257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ere Do Earthquakes Occur and How Oft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2640" y="99072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~80% of all earthquakes occur in the circum-Pacific bel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st of these result from convergent margin activ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~15% occur in the Mediterranean-Asiatic bel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maining 5% occur in the interiors of plates and on spreading ridge cent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re than 150,000 quakes strong enough to be felt are recorded each ye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4" descr="MWPG40907"/>
          <p:cNvPicPr/>
          <p:nvPr/>
        </p:nvPicPr>
        <p:blipFill>
          <a:blip r:embed="rId1"/>
          <a:stretch/>
        </p:blipFill>
        <p:spPr>
          <a:xfrm>
            <a:off x="2514600" y="3276720"/>
            <a:ext cx="4419720" cy="29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3" descr="MWPG40909a"/>
          <p:cNvPicPr/>
          <p:nvPr/>
        </p:nvPicPr>
        <p:blipFill>
          <a:blip r:embed="rId1"/>
          <a:stretch/>
        </p:blipFill>
        <p:spPr>
          <a:xfrm>
            <a:off x="4572000" y="1143000"/>
            <a:ext cx="3886200" cy="264312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Economics and Societal Impacts of EQ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6" descr="MWPG40922"/>
          <p:cNvPicPr/>
          <p:nvPr/>
        </p:nvPicPr>
        <p:blipFill>
          <a:blip r:embed="rId2"/>
          <a:stretch/>
        </p:blipFill>
        <p:spPr>
          <a:xfrm>
            <a:off x="5486400" y="3657600"/>
            <a:ext cx="3276720" cy="28368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MWPG40927"/>
          <p:cNvPicPr/>
          <p:nvPr/>
        </p:nvPicPr>
        <p:blipFill>
          <a:blip r:embed="rId3"/>
          <a:stretch/>
        </p:blipFill>
        <p:spPr>
          <a:xfrm>
            <a:off x="1219320" y="3540240"/>
            <a:ext cx="4267080" cy="2950920"/>
          </a:xfrm>
          <a:prstGeom prst="rect">
            <a:avLst/>
          </a:prstGeom>
          <a:ln w="0">
            <a:noFill/>
          </a:ln>
        </p:spPr>
      </p:pic>
      <p:sp>
        <p:nvSpPr>
          <p:cNvPr id="68" name="Text Box 4"/>
          <p:cNvSpPr/>
          <p:nvPr/>
        </p:nvSpPr>
        <p:spPr>
          <a:xfrm>
            <a:off x="4572000" y="1143000"/>
            <a:ext cx="3753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amage in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Oaklan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CA, 198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8"/>
          <p:cNvSpPr/>
          <p:nvPr/>
        </p:nvSpPr>
        <p:spPr>
          <a:xfrm>
            <a:off x="1676520" y="1447920"/>
            <a:ext cx="27432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collap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unam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round fail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828440" y="609480"/>
            <a:ext cx="57913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are Seismic Wav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752120" y="1599840"/>
            <a:ext cx="52578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ponse of material to the arrival of energy fronts released by rup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typ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dy wa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 and 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face wa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 and 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4" descr="MWPG40912"/>
          <p:cNvPicPr/>
          <p:nvPr/>
        </p:nvPicPr>
        <p:blipFill>
          <a:blip r:embed="rId1"/>
          <a:stretch/>
        </p:blipFill>
        <p:spPr>
          <a:xfrm>
            <a:off x="1066680" y="1676520"/>
            <a:ext cx="4724640" cy="363996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33360" y="533160"/>
            <a:ext cx="518148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ody Waves: P and S wa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257440" y="1295280"/>
            <a:ext cx="35053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dy wav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P or primary wav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est wav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vel through solids, liquids, or ga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ressional wave, material movement is in the same direction as wave mov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 or secondary wav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lower than P wav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vel through solids on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ar waves - move material perpendicular to wave mov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057040" y="609480"/>
            <a:ext cx="56386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rface Waves: R and L wa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95280" y="4572000"/>
            <a:ext cx="68580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rface Wav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vel just below or along the ground’s su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lower than body waves; rolling and side-to-side mov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specially damaging to build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4" descr="MWPG40913"/>
          <p:cNvPicPr/>
          <p:nvPr/>
        </p:nvPicPr>
        <p:blipFill>
          <a:blip r:embed="rId1"/>
          <a:stretch/>
        </p:blipFill>
        <p:spPr>
          <a:xfrm>
            <a:off x="914400" y="1676520"/>
            <a:ext cx="7848720" cy="27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6T15:06:16Z</dcterms:created>
  <dc:creator>Harry Rowe</dc:creator>
  <dc:description/>
  <dc:language>en-US</dc:language>
  <cp:lastModifiedBy>RomaK</cp:lastModifiedBy>
  <dcterms:modified xsi:type="dcterms:W3CDTF">2015-09-04T09:42:11Z</dcterms:modified>
  <cp:revision>13</cp:revision>
  <dc:subject/>
  <dc:title>what are earthquakes</dc:title>
</cp:coreProperties>
</file>