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C1CD-05AB-4582-9ACE-F60C91E8D4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wave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waves arrive first, then S waves, then L and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speeds for all these waves is 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an earthquake, the difference in arrival times at a seismograph station can be used to calculate the distance from the seismograph to the epi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distance graph showing the average travel times for P- and S-waves. The farther away a seismograph is from the focus of an earthquake, the longer the interval between the arrivals of the P- and S-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eismograph stations are needed to locate the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le where the radius equals the distance to the epicenter is dra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ection of the circles locates the epi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d Mercalli Intensity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4 Northridge, CA earthquake, magnitude 6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ive measure of the kind of damage done and people’s reactions to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seismal lines identify areas of equal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ize and Strength of an Earthquake Measu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ter scale measures total amount of energy released by an earthquake; independent of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of the largest wave produced by an event is corrected for distance and assigned a value on an open-ended logarithmic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Destructive Effects of Earthquak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h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, duration, and damage increases in poorly consolidated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Predi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 Prediction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laboratory and field studies of rocks before, during, and after earthqu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activity along major fa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risk assess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Earthquakes be Contro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showing the relationship between the amount of waste injected into wells per month and the average number of Denver earthquakes per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ve suggested that pumping fluids into seismic gaps will cause small earthquakes while preventing larg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lastic Rebound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how energy is stored in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bend until the strength of the rock is exc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pture occurs and the rocks quickly rebound to an undeformed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released in waves that radiate outward from the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cus and Epicenter of an 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within Earth where faulting begins is the focus, or hypo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directly above the focus on the surface is the epi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smographs record earthquak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onvergent boundaries, focal depth increases along a dipping seismic zone called a Benioff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Earthquakes Occur and How Oft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80% of all earthquakes occur in the circum-Pacif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se result from convergent margin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15% occur in the Mediterranean-Asiatic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5% occur in the interiors of plates and on spreading ridge ce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50,000 quakes strong enough to be felt are record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nomics and Societal Impacts of E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 in Oakland, CA,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coll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ismic Wa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: P and 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or prim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st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, liquids,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ional wave, material movement is in the same direction as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or secondary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P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hrough solid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ar waves - move material perpendicular to wav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: R and 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just below or along the ground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er than body waves; rolling and side-to-side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damaging t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2E9-0584-4052-8946-24675E87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927-5166-4949-8B1D-785C7A9E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945-1948-4E92-A9E5-7083D241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E38-2AA5-4E17-87F4-14104745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DE7-BE18-4FCC-856C-7215676F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B66-7FD7-443A-B972-CE74E5FA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350-045A-4F63-9B2D-4DA20229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B29-59EB-4EE7-987F-CD1E4E90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493-4D79-46DF-8F87-821BA333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305-E376-4025-89B7-CEBA9569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BBB-ADB2-4146-903E-A25F6F01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BC9-83EA-4999-B882-C44F1F24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85C6-13EB-41EA-95F6-203F918AF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Earthquak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aking or trembling caused by the sudden release of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associated with faulting or breaking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adjustment of position results in aftersh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MWPG40914"/>
          <p:cNvPicPr/>
          <p:nvPr/>
        </p:nvPicPr>
        <p:blipFill>
          <a:blip r:embed="rId1"/>
          <a:stretch/>
        </p:blipFill>
        <p:spPr>
          <a:xfrm>
            <a:off x="838080" y="2971800"/>
            <a:ext cx="7620120" cy="542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2640" y="91404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ic wav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waves arrive first, then S waves, then L and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s for all these waves is 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fter an earthquake, the difference in arrival times at a seismograph station can be used to calculate the distance from the seismograph to the epicen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066680" y="6324480"/>
            <a:ext cx="74678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s an Earthquake’s Epicenter Loc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3352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distance graph showing the average travel times for P- and S-waves.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he farther away a seismograph is from the focus of an earthquake, the longer the interval between the arrivals of the P- and S-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MWPG40915"/>
          <p:cNvPicPr/>
          <p:nvPr/>
        </p:nvPicPr>
        <p:blipFill>
          <a:blip r:embed="rId1"/>
          <a:stretch/>
        </p:blipFill>
        <p:spPr>
          <a:xfrm>
            <a:off x="4430880" y="990720"/>
            <a:ext cx="41846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s an Earthquake’s Epicenter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581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seismograph stations are needed to locate the epicenter of an earthqu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ircle where the radius equals the distance to the epicenter is dra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section of the circles locates the epi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MWPG40916"/>
          <p:cNvPicPr/>
          <p:nvPr/>
        </p:nvPicPr>
        <p:blipFill>
          <a:blip r:embed="rId1"/>
          <a:stretch/>
        </p:blipFill>
        <p:spPr>
          <a:xfrm>
            <a:off x="4267080" y="1905120"/>
            <a:ext cx="48769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MWPG40917"/>
          <p:cNvPicPr/>
          <p:nvPr/>
        </p:nvPicPr>
        <p:blipFill>
          <a:blip r:embed="rId1"/>
          <a:stretch/>
        </p:blipFill>
        <p:spPr>
          <a:xfrm>
            <a:off x="1143000" y="1447920"/>
            <a:ext cx="4876920" cy="3363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1752480" y="49528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ercalli Intensity 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Northridge, CA earthquake, magnitude 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38320" y="1599840"/>
            <a:ext cx="31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bje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sure of the kind of damage done and people’s reactions 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seismal lines identify areas of equal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MWPG40919"/>
          <p:cNvPicPr/>
          <p:nvPr/>
        </p:nvPicPr>
        <p:blipFill>
          <a:blip r:embed="rId1"/>
          <a:stretch/>
        </p:blipFill>
        <p:spPr>
          <a:xfrm>
            <a:off x="3886200" y="1143000"/>
            <a:ext cx="4597560" cy="5334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re the Size and Strength of an Earthquake Meas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ter scale measur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tal amount of 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leased by an earthquake; independent of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of the largest wave produced by an event is corrected for distance and assigned a value on an open-ended logarithmic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MWPG40920a"/>
          <p:cNvPicPr/>
          <p:nvPr/>
        </p:nvPicPr>
        <p:blipFill>
          <a:blip r:embed="rId1"/>
          <a:stretch/>
        </p:blipFill>
        <p:spPr>
          <a:xfrm>
            <a:off x="1828800" y="2057400"/>
            <a:ext cx="5715000" cy="386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Destructive Effects of Earthquak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 Sh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, duration, and damage increases in poorly consolidated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WPG40929"/>
          <p:cNvPicPr/>
          <p:nvPr/>
        </p:nvPicPr>
        <p:blipFill>
          <a:blip r:embed="rId1"/>
          <a:stretch/>
        </p:blipFill>
        <p:spPr>
          <a:xfrm>
            <a:off x="4114800" y="2438280"/>
            <a:ext cx="4267080" cy="392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 Precur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elevation or tilting of land surface, fluctuations in groundwater levels, magnetic field, electrical resistance of the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dilatanc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ismic g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Predi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quake Predic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laboratory and field studies of rocks before, during, and after earthqu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 activity along major fa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 risk assess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WPG40928"/>
          <p:cNvPicPr/>
          <p:nvPr/>
        </p:nvPicPr>
        <p:blipFill>
          <a:blip r:embed="rId1"/>
          <a:stretch/>
        </p:blipFill>
        <p:spPr>
          <a:xfrm>
            <a:off x="914400" y="2895480"/>
            <a:ext cx="76201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Earthquakes be Contro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MWPG40931b"/>
          <p:cNvPicPr/>
          <p:nvPr/>
        </p:nvPicPr>
        <p:blipFill>
          <a:blip r:embed="rId1"/>
          <a:stretch/>
        </p:blipFill>
        <p:spPr>
          <a:xfrm>
            <a:off x="4038480" y="1066680"/>
            <a:ext cx="4800600" cy="4569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showing the relationship between the amount of waste injected into wells per month and the average number of Denver earthquakes per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have suggested that pumping fluids into seismic gaps will cause small earthquakes while preventing large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WPG40903a"/>
          <p:cNvPicPr/>
          <p:nvPr/>
        </p:nvPicPr>
        <p:blipFill>
          <a:blip r:embed="rId1"/>
          <a:stretch/>
        </p:blipFill>
        <p:spPr>
          <a:xfrm>
            <a:off x="3581280" y="2057400"/>
            <a:ext cx="5257800" cy="3516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astic Rebound Theo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276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s how energy is stored in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bend until the strength of the rock is exc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pture occurs and the rocks quickly rebound to an undeformed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is released in waves that radiate outward from the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n 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MWPG40906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1371600" y="2438280"/>
            <a:ext cx="2971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within Earth where faulting begins is the focus, or hypo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int directly above the focus on the surface is the epi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4920" y="114264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ismo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 earthquak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952880" y="4038480"/>
            <a:ext cx="3810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486400" y="373392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nvergent boundari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ocal dep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along a dipping seismic zone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ioff z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WPG40905a"/>
          <p:cNvPicPr/>
          <p:nvPr/>
        </p:nvPicPr>
        <p:blipFill>
          <a:blip r:embed="rId1"/>
          <a:stretch/>
        </p:blipFill>
        <p:spPr>
          <a:xfrm>
            <a:off x="4648320" y="609480"/>
            <a:ext cx="3733560" cy="262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WPG40908"/>
          <p:cNvPicPr/>
          <p:nvPr/>
        </p:nvPicPr>
        <p:blipFill>
          <a:blip r:embed="rId2"/>
          <a:stretch/>
        </p:blipFill>
        <p:spPr>
          <a:xfrm>
            <a:off x="990720" y="3505320"/>
            <a:ext cx="43434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Earthquakes Occur and How Of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990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80% of all earthquakes occur in the circum-Pacif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of these result from convergent margin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15% occur in the Mediterranean-Asiatic 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ing 5% occur in the interiors of plates and on spreading ridge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150,000 quakes strong enough to be felt are recorded eac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MWPG40907"/>
          <p:cNvPicPr/>
          <p:nvPr/>
        </p:nvPicPr>
        <p:blipFill>
          <a:blip r:embed="rId1"/>
          <a:stretch/>
        </p:blipFill>
        <p:spPr>
          <a:xfrm>
            <a:off x="2514600" y="327672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WPG40909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2643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s and Societal Impacts of E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MWPG40922"/>
          <p:cNvPicPr/>
          <p:nvPr/>
        </p:nvPicPr>
        <p:blipFill>
          <a:blip r:embed="rId2"/>
          <a:stretch/>
        </p:blipFill>
        <p:spPr>
          <a:xfrm>
            <a:off x="5486400" y="36576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WPG40927"/>
          <p:cNvPicPr/>
          <p:nvPr/>
        </p:nvPicPr>
        <p:blipFill>
          <a:blip r:embed="rId3"/>
          <a:stretch/>
        </p:blipFill>
        <p:spPr>
          <a:xfrm>
            <a:off x="1219320" y="3540240"/>
            <a:ext cx="4267080" cy="2950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572000" y="1143000"/>
            <a:ext cx="375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age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akl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676520" y="1447920"/>
            <a:ext cx="2743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lla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un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nd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eismic Wa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of material to the arrival of energy fronts released by rup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nd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ac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and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MWPG40912"/>
          <p:cNvPicPr/>
          <p:nvPr/>
        </p:nvPicPr>
        <p:blipFill>
          <a:blip r:embed="rId1"/>
          <a:stretch/>
        </p:blipFill>
        <p:spPr>
          <a:xfrm>
            <a:off x="1066680" y="1676520"/>
            <a:ext cx="4724640" cy="36399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Waves: P and S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57440" y="1295280"/>
            <a:ext cx="3505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 or prim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, liquids, or g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al wave, material movement is in the same direction as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 or secondary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than P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l through solid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ar waves - move material perpendicular to wav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face Waves: R and L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4572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 just below or along the ground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er than body waves; rolling and side-to-side 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ially damaging to buil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MWPG40913"/>
          <p:cNvPicPr/>
          <p:nvPr/>
        </p:nvPicPr>
        <p:blipFill>
          <a:blip r:embed="rId1"/>
          <a:stretch/>
        </p:blipFill>
        <p:spPr>
          <a:xfrm>
            <a:off x="914400" y="1676520"/>
            <a:ext cx="7848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5:06:16Z</dcterms:created>
  <dc:creator>Harry Rowe</dc:creator>
  <dc:description/>
  <dc:language>en-US</dc:language>
  <cp:lastModifiedBy>RomaK</cp:lastModifiedBy>
  <dcterms:modified xsi:type="dcterms:W3CDTF">2015-09-04T09:42:11Z</dcterms:modified>
  <cp:revision>13</cp:revision>
  <dc:subject/>
  <dc:title>what are earthquakes</dc:title>
</cp:coreProperties>
</file>