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70D1-D9A0-4336-9276-685A7CE6C6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335-7929-497E-B227-24E05929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D79-E97A-4FBB-AFA1-D8C81B91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8A4-DE23-413A-8733-D4976D35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B61-B2BF-41FD-9973-9836510C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2DB-7660-4649-884C-5CDB3FBE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30D-D62F-43DB-8818-42E2A23F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A6D-B77A-4E7C-B8C8-85DFF9E3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355-38BE-4DE6-A5DC-6F1B7A90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C04-CEE5-4F9F-ABB5-FC0956AF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1A8-B39F-4C2D-BDD6-191DC90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3CB-DDAA-4C27-AF12-BB0C413D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067-E6B8-4EAB-8204-F1813BB9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B0F5-508A-44A7-AB44-92BA98A57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MWPG40914"/>
          <p:cNvPicPr/>
          <p:nvPr/>
        </p:nvPicPr>
        <p:blipFill>
          <a:blip r:embed="rId1"/>
          <a:stretch/>
        </p:blipFill>
        <p:spPr>
          <a:xfrm>
            <a:off x="838080" y="2971800"/>
            <a:ext cx="7620120" cy="542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ic wav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waves arrive first, then S waves, then L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s for all these waves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fter an earthquake, the difference in arrival times at a seismograph station can be used to calculate the distance from the seismograph to the epi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6324480"/>
            <a:ext cx="74678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distance graph showing the average travel times for P- and S-waves.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farther away a seismograph is from the focus of an earthquake, the longer the interval between the arrivals of the P- and S-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WPG40915"/>
          <p:cNvPicPr/>
          <p:nvPr/>
        </p:nvPicPr>
        <p:blipFill>
          <a:blip r:embed="rId1"/>
          <a:stretch/>
        </p:blipFill>
        <p:spPr>
          <a:xfrm>
            <a:off x="4430880" y="990720"/>
            <a:ext cx="4184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seismograph stations are needed to locate the epicenter of an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where the radius equals the distance to the epicenter is 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section of the circles locates the epi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WPG40916"/>
          <p:cNvPicPr/>
          <p:nvPr/>
        </p:nvPicPr>
        <p:blipFill>
          <a:blip r:embed="rId1"/>
          <a:stretch/>
        </p:blipFill>
        <p:spPr>
          <a:xfrm>
            <a:off x="4267080" y="1905120"/>
            <a:ext cx="4876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WPG40917"/>
          <p:cNvPicPr/>
          <p:nvPr/>
        </p:nvPicPr>
        <p:blipFill>
          <a:blip r:embed="rId1"/>
          <a:stretch/>
        </p:blipFill>
        <p:spPr>
          <a:xfrm>
            <a:off x="1143000" y="1447920"/>
            <a:ext cx="4876920" cy="336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52480" y="49528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ercalli Intensit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Northridge, CA earthquake, magnitude 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bje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the kind of damage done and people’s reactions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eismal lines identify areas of equal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WPG40919"/>
          <p:cNvPicPr/>
          <p:nvPr/>
        </p:nvPicPr>
        <p:blipFill>
          <a:blip r:embed="rId1"/>
          <a:stretch/>
        </p:blipFill>
        <p:spPr>
          <a:xfrm>
            <a:off x="3886200" y="1143000"/>
            <a:ext cx="45975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ter scale measur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amou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leased by an earthquake; independent of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of the largest wave produced by an event is corrected for distance and assigned a value on an open-ended logarithmic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WPG40920a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86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Destructive Effects of Earthquak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Sh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, duration, and damage increases in poorly consolidated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WPG40929"/>
          <p:cNvPicPr/>
          <p:nvPr/>
        </p:nvPicPr>
        <p:blipFill>
          <a:blip r:embed="rId1"/>
          <a:stretch/>
        </p:blipFill>
        <p:spPr>
          <a:xfrm>
            <a:off x="4114800" y="2438280"/>
            <a:ext cx="4267080" cy="39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 Predic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laboratory and field studies of rocks before, during, and after earthqu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 activity along major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risk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WPG40928"/>
          <p:cNvPicPr/>
          <p:nvPr/>
        </p:nvPicPr>
        <p:blipFill>
          <a:blip r:embed="rId1"/>
          <a:stretch/>
        </p:blipFill>
        <p:spPr>
          <a:xfrm>
            <a:off x="914400" y="2895480"/>
            <a:ext cx="7620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Contro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MWPG40931b"/>
          <p:cNvPicPr/>
          <p:nvPr/>
        </p:nvPicPr>
        <p:blipFill>
          <a:blip r:embed="rId1"/>
          <a:stretch/>
        </p:blipFill>
        <p:spPr>
          <a:xfrm>
            <a:off x="4038480" y="1066680"/>
            <a:ext cx="4800600" cy="456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showing the relationship between the amount of waste injected into wells per month and the average number of Denver earthquakes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ave suggested that pumping fluids into seismic gaps will cause small earthquakes while preventing larg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WPG40903a"/>
          <p:cNvPicPr/>
          <p:nvPr/>
        </p:nvPicPr>
        <p:blipFill>
          <a:blip r:embed="rId1"/>
          <a:stretch/>
        </p:blipFill>
        <p:spPr>
          <a:xfrm>
            <a:off x="3581280" y="2057400"/>
            <a:ext cx="5257800" cy="351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astic Rebound The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s how energy is stored in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bend until the strength of the rock is exc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pture occurs and the rocks quickly rebound to an undeforme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released in waves that radiate outward from th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WPG40906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371600" y="2438280"/>
            <a:ext cx="2971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within Earth where faulting begins is the focus, or hypo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directly above the focus on the surface is the epi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142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ismo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 earthquak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52880" y="4038480"/>
            <a:ext cx="3810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8640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nvergent boundar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cal dep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along a dipping seismic zon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ioff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WPG40905a"/>
          <p:cNvPicPr/>
          <p:nvPr/>
        </p:nvPicPr>
        <p:blipFill>
          <a:blip r:embed="rId1"/>
          <a:stretch/>
        </p:blipFill>
        <p:spPr>
          <a:xfrm>
            <a:off x="4648320" y="609480"/>
            <a:ext cx="373356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WPG40908"/>
          <p:cNvPicPr/>
          <p:nvPr/>
        </p:nvPicPr>
        <p:blipFill>
          <a:blip r:embed="rId2"/>
          <a:stretch/>
        </p:blipFill>
        <p:spPr>
          <a:xfrm>
            <a:off x="990720" y="3505320"/>
            <a:ext cx="43434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Earthquakes Occur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0% of all earthquakes occur in the circum-Pacif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 these result from convergent margi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5% occur in the Mediterranean-Asiat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5% occur in the interiors of plates and on spreading ridge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150,000 quakes strong enough to be felt are recorded eac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WPG40907"/>
          <p:cNvPicPr/>
          <p:nvPr/>
        </p:nvPicPr>
        <p:blipFill>
          <a:blip r:embed="rId1"/>
          <a:stretch/>
        </p:blipFill>
        <p:spPr>
          <a:xfrm>
            <a:off x="2514600" y="327672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WPG40909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2643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s and Societal Impacts of 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MWPG40922"/>
          <p:cNvPicPr/>
          <p:nvPr/>
        </p:nvPicPr>
        <p:blipFill>
          <a:blip r:embed="rId2"/>
          <a:stretch/>
        </p:blipFill>
        <p:spPr>
          <a:xfrm>
            <a:off x="5486400" y="36576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WPG40927"/>
          <p:cNvPicPr/>
          <p:nvPr/>
        </p:nvPicPr>
        <p:blipFill>
          <a:blip r:embed="rId3"/>
          <a:stretch/>
        </p:blipFill>
        <p:spPr>
          <a:xfrm>
            <a:off x="1219320" y="3540240"/>
            <a:ext cx="4267080" cy="2950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14300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age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ak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76520" y="14479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eismic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WPG40912"/>
          <p:cNvPicPr/>
          <p:nvPr/>
        </p:nvPicPr>
        <p:blipFill>
          <a:blip r:embed="rId1"/>
          <a:stretch/>
        </p:blipFill>
        <p:spPr>
          <a:xfrm>
            <a:off x="1066680" y="1676520"/>
            <a:ext cx="4724640" cy="3639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Waves: P and S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44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 or prim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, liquids, or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al wave, material movement is in the same direction as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or second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than P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waves - move material perpendicular to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face Waves: R and L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572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just below or along the ground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than body waves; rolling and side-to-sid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damaging to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MWPG40913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6:16Z</dcterms:created>
  <dc:creator>Harry Rowe</dc:creator>
  <dc:description/>
  <dc:language>en-US</dc:language>
  <cp:lastModifiedBy>RomaK</cp:lastModifiedBy>
  <dcterms:modified xsi:type="dcterms:W3CDTF">2015-09-04T09:42:11Z</dcterms:modified>
  <cp:revision>13</cp:revision>
  <dc:subject/>
  <dc:title>what are earthquakes</dc:title>
</cp:coreProperties>
</file>