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2F06-6ABB-456F-8196-275F7CD44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 13:  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3:  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-latitude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in rain shad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-latitude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st in rain sha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erosion: Important in arid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Types of sand du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dune shape depends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t or hil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 steady or intermitt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irection const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getation 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erosion: Important in arid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Types of sand dun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dune shape depends 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 or hil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s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s steady or intermitt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direction cons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getation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nd dun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and dune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pa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 pa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survive the des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ima In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on’t survive the dese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ive her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ima In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d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ded b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dry regions:  30% of all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limate types of dry reg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 (ar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pe (semi-arid, surrounds deser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much rain do we get in Tempe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dry regions:  30% of all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imate types of dry reg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 (ar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pe (semi-arid, surrounds dese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much rain do we get in Tempe every yea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deser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distribu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eatherchanne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deser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facto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distrib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weatherchanne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atitude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call: “latitude” = east-west line on the glo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s to 15-2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ntras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-latitude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 of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 of Capric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: “latitude” = east-west line on the glo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to 15-2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pressure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671-B181-49D8-A353-1F1A17F8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7C19-4B56-4314-9E9C-3A84371A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738-1FB1-468D-83D4-48FF14A4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40F8-0A25-40B7-97FF-B39F51F9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5B0-085B-4EE3-960C-369C4F18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3187-BC4B-4016-9EB5-60B24BE3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C4C-1218-4E5C-AF85-6738B8EA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CFC-928E-4251-BB70-BD51A687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A8D-8D3A-4795-A6AB-D7709B43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7F37-F172-45B8-87B4-8D7D462F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0EC-90BA-4C58-842D-13F9C8A6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5DE1-7F7E-4061-8F8C-22A79A61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72E3-FAB6-4F40-B69C-3C71AFAAF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eatherchannel.com/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078" descr="Kresan 3e-14-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074"/>
          <p:cNvSpPr/>
          <p:nvPr/>
        </p:nvSpPr>
        <p:spPr>
          <a:xfrm>
            <a:off x="1981080" y="76320"/>
            <a:ext cx="525780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 13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eserts &amp; W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075"/>
          <p:cNvSpPr/>
          <p:nvPr/>
        </p:nvSpPr>
        <p:spPr>
          <a:xfrm>
            <a:off x="686520" y="152280"/>
            <a:ext cx="1015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30" descr="figure 14-01"/>
          <p:cNvPicPr/>
          <p:nvPr/>
        </p:nvPicPr>
        <p:blipFill>
          <a:blip r:embed="rId1"/>
          <a:stretch/>
        </p:blipFill>
        <p:spPr>
          <a:xfrm>
            <a:off x="1727280" y="711360"/>
            <a:ext cx="5689440" cy="5435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31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2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33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2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27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28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29"/>
          <p:cNvSpPr/>
          <p:nvPr/>
        </p:nvSpPr>
        <p:spPr>
          <a:xfrm>
            <a:off x="598320" y="1208160"/>
            <a:ext cx="40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Middle-latitude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30"/>
          <p:cNvSpPr/>
          <p:nvPr/>
        </p:nvSpPr>
        <p:spPr>
          <a:xfrm>
            <a:off x="1859400" y="1905120"/>
            <a:ext cx="36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 in rain sha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37" descr="plummer rain shadow"/>
          <p:cNvPicPr/>
          <p:nvPr/>
        </p:nvPicPr>
        <p:blipFill>
          <a:blip r:embed="rId1"/>
          <a:stretch/>
        </p:blipFill>
        <p:spPr>
          <a:xfrm>
            <a:off x="1692360" y="2357280"/>
            <a:ext cx="6384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2a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819520" y="152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) 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5160" y="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61520" y="1143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633320" y="175248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plummer basin &amp; range origin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71600" y="2362320"/>
            <a:ext cx="59832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2a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098"/>
          <p:cNvSpPr/>
          <p:nvPr/>
        </p:nvSpPr>
        <p:spPr>
          <a:xfrm>
            <a:off x="0" y="0"/>
            <a:ext cx="5562720" cy="9144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99"/>
          <p:cNvSpPr/>
          <p:nvPr/>
        </p:nvSpPr>
        <p:spPr>
          <a:xfrm>
            <a:off x="304920" y="304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) 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100"/>
          <p:cNvSpPr/>
          <p:nvPr/>
        </p:nvSpPr>
        <p:spPr>
          <a:xfrm>
            <a:off x="155160" y="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101"/>
          <p:cNvSpPr/>
          <p:nvPr/>
        </p:nvSpPr>
        <p:spPr>
          <a:xfrm>
            <a:off x="461520" y="1143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02"/>
          <p:cNvSpPr/>
          <p:nvPr/>
        </p:nvSpPr>
        <p:spPr>
          <a:xfrm>
            <a:off x="490320" y="198108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104" descr="plummer basin &amp; range landforms"/>
          <p:cNvPicPr/>
          <p:nvPr/>
        </p:nvPicPr>
        <p:blipFill>
          <a:blip r:embed="rId1"/>
          <a:stretch/>
        </p:blipFill>
        <p:spPr>
          <a:xfrm>
            <a:off x="5437080" y="0"/>
            <a:ext cx="370692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33520" y="1143000"/>
            <a:ext cx="641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ind ero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ortant in arid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33880" y="2133720"/>
            <a:ext cx="483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ample:  Types of sand du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905480" y="3048120"/>
            <a:ext cx="471888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nd dune shap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 or hi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s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s steady or intermitt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direction cons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on 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055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lummer sand dune form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33720" y="2209680"/>
            <a:ext cx="5029200" cy="3959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989280" y="152388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d dun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lummer mud desert pavement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3544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1048680" y="15350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rt pa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figure 14-08b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1523880"/>
            <a:ext cx="8610480" cy="4632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untitled2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30" descr="figure 14-21"/>
          <p:cNvPicPr/>
          <p:nvPr/>
        </p:nvPicPr>
        <p:blipFill>
          <a:blip r:embed="rId1"/>
          <a:stretch/>
        </p:blipFill>
        <p:spPr>
          <a:xfrm>
            <a:off x="1600200" y="150840"/>
            <a:ext cx="5791320" cy="4344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1"/>
          <p:cNvSpPr/>
          <p:nvPr/>
        </p:nvSpPr>
        <p:spPr>
          <a:xfrm>
            <a:off x="1981800" y="4572000"/>
            <a:ext cx="59994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don’t survive the dese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liv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Pima Ind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chernicoff graded bedding"/>
          <p:cNvPicPr/>
          <p:nvPr/>
        </p:nvPicPr>
        <p:blipFill>
          <a:blip r:embed="rId1"/>
          <a:stretch/>
        </p:blipFill>
        <p:spPr>
          <a:xfrm>
            <a:off x="3657600" y="990720"/>
            <a:ext cx="5160960" cy="5627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293480" y="198108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d b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6" descr="az_rep_dust_storm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09680" y="685800"/>
            <a:ext cx="8505720" cy="577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7" descr="az_rep_dust_storm_caption"/>
          <p:cNvPicPr/>
          <p:nvPr/>
        </p:nvPicPr>
        <p:blipFill>
          <a:blip r:embed="rId2"/>
          <a:stretch/>
        </p:blipFill>
        <p:spPr>
          <a:xfrm>
            <a:off x="295200" y="119160"/>
            <a:ext cx="5191200" cy="4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28" descr="az_rep_dust_storm_date"/>
          <p:cNvPicPr/>
          <p:nvPr/>
        </p:nvPicPr>
        <p:blipFill>
          <a:blip r:embed="rId3"/>
          <a:stretch/>
        </p:blipFill>
        <p:spPr>
          <a:xfrm>
            <a:off x="7391520" y="228600"/>
            <a:ext cx="10540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80160" y="1219320"/>
            <a:ext cx="58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arth’s dry reg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30% of all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62960" y="2057400"/>
            <a:ext cx="5968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climate types of dry reg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ert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r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emi-arid, surrounds dese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56000" y="4724280"/>
            <a:ext cx="73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w much rain do we get in Tempe every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6960" y="1143000"/>
            <a:ext cx="39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causes dese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88440" y="2286000"/>
            <a:ext cx="22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09880" y="1763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mportant fa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00960" y="22096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distribu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312120" y="4162320"/>
            <a:ext cx="22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04920" y="40384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>
            <a:hlinkClick r:id="rId1"/>
          </p:cNvPr>
          <p:cNvSpPr/>
          <p:nvPr/>
        </p:nvSpPr>
        <p:spPr>
          <a:xfrm>
            <a:off x="4221720" y="62784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weatherchanne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us_wind_cur_600x405"/>
          <p:cNvPicPr/>
          <p:nvPr/>
        </p:nvPicPr>
        <p:blipFill>
          <a:blip r:embed="rId2"/>
          <a:stretch/>
        </p:blipFill>
        <p:spPr>
          <a:xfrm>
            <a:off x="4800600" y="914400"/>
            <a:ext cx="4038480" cy="272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curwx_600x405"/>
          <p:cNvPicPr/>
          <p:nvPr/>
        </p:nvPicPr>
        <p:blipFill>
          <a:blip r:embed="rId3"/>
          <a:stretch/>
        </p:blipFill>
        <p:spPr>
          <a:xfrm>
            <a:off x="4800600" y="3581280"/>
            <a:ext cx="41148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plummer mud cracked playa"/>
          <p:cNvPicPr/>
          <p:nvPr/>
        </p:nvPicPr>
        <p:blipFill>
          <a:blip r:embed="rId1"/>
          <a:stretch/>
        </p:blipFill>
        <p:spPr>
          <a:xfrm>
            <a:off x="2349360" y="685800"/>
            <a:ext cx="4443480" cy="6019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98320" y="120816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Low-latitude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327320" y="2286000"/>
            <a:ext cx="326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ic of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92640" y="1752480"/>
            <a:ext cx="54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call: “latitude” = east-west line on the glob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235880" y="4724280"/>
            <a:ext cx="33274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t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es to 15-2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pressure 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84000" y="434340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ernicoff 3d air currents"/>
          <p:cNvPicPr/>
          <p:nvPr/>
        </p:nvPicPr>
        <p:blipFill>
          <a:blip r:embed="rId1"/>
          <a:stretch/>
        </p:blipFill>
        <p:spPr>
          <a:xfrm>
            <a:off x="1219320" y="536400"/>
            <a:ext cx="6705360" cy="6397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lummer air circ 3d"/>
          <p:cNvPicPr/>
          <p:nvPr/>
        </p:nvPicPr>
        <p:blipFill>
          <a:blip r:embed="rId1"/>
          <a:stretch/>
        </p:blipFill>
        <p:spPr>
          <a:xfrm>
            <a:off x="1295280" y="533520"/>
            <a:ext cx="6402600" cy="64008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1371600" y="5562720"/>
            <a:ext cx="1600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omaK</cp:lastModifiedBy>
  <dcterms:modified xsi:type="dcterms:W3CDTF">2015-09-04T09:42:04Z</dcterms:modified>
  <cp:revision>268</cp:revision>
  <dc:subject/>
  <dc:title>deserts and winds</dc:title>
</cp:coreProperties>
</file>