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B2B1-3B52-4AEA-8C32-BCFAADE67B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84CE-0F44-44DA-AE94-23E994A8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B47-228D-48C5-958B-E15AF635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4E1-F657-43B5-B4F4-A40B2E24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14E-87E1-46BB-9360-9D94DC86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140-FABD-4295-9F2B-51B75B2E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03E-BFFC-4212-892C-14E30D43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F22-D43C-4092-9FC2-315978C0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B39-E11C-46E9-B214-46E93CEE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F70-06DA-4136-BEC9-EA31E938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DA21-C484-47A6-BAE7-EF781650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BCE-05CB-4ECB-B0C8-FDEFE04A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66F-BB93-4982-B382-D3E14C3F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95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C9DC-5FC2-4F4B-8BFC-909FAB9D5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Sand Dun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F253-BD83-479D-8B35-D8DC8D038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58800" y="3581280"/>
            <a:ext cx="787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UK - around 7-8% of coast has vegetated dunes.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04800" y="4800600"/>
            <a:ext cx="800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Needs vegetation, low rainfall, strong winds and abundant s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66CD-2643-4811-8692-0FAF84EC4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l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nd blown downwind. Transfers energy through other gr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75% of sand moved by    this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urface Cr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y product of sal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ushed along sand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Must be 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4821120" y="1752480"/>
          <a:ext cx="432288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1120" y="1752480"/>
                    <a:ext cx="43228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AEC1-D02D-4835-82C8-C9CFC9212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mbryo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bstacle forces deposition of 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4648320" y="4030560"/>
            <a:ext cx="4306680" cy="1354320"/>
          </a:xfrm>
          <a:custGeom>
            <a:avLst/>
            <a:gdLst/>
            <a:ahLst/>
            <a:rect l="l" t="t" r="r" b="b"/>
            <a:pathLst>
              <a:path w="2713" h="853">
                <a:moveTo>
                  <a:pt x="0" y="853"/>
                </a:moveTo>
                <a:cubicBezTo>
                  <a:pt x="168" y="785"/>
                  <a:pt x="336" y="717"/>
                  <a:pt x="432" y="661"/>
                </a:cubicBezTo>
                <a:cubicBezTo>
                  <a:pt x="528" y="605"/>
                  <a:pt x="528" y="533"/>
                  <a:pt x="576" y="517"/>
                </a:cubicBezTo>
                <a:cubicBezTo>
                  <a:pt x="624" y="501"/>
                  <a:pt x="672" y="573"/>
                  <a:pt x="720" y="565"/>
                </a:cubicBezTo>
                <a:cubicBezTo>
                  <a:pt x="768" y="557"/>
                  <a:pt x="816" y="477"/>
                  <a:pt x="864" y="469"/>
                </a:cubicBezTo>
                <a:cubicBezTo>
                  <a:pt x="912" y="461"/>
                  <a:pt x="960" y="541"/>
                  <a:pt x="1008" y="517"/>
                </a:cubicBezTo>
                <a:cubicBezTo>
                  <a:pt x="1056" y="493"/>
                  <a:pt x="1096" y="325"/>
                  <a:pt x="1152" y="325"/>
                </a:cubicBezTo>
                <a:cubicBezTo>
                  <a:pt x="1208" y="325"/>
                  <a:pt x="1264" y="557"/>
                  <a:pt x="1344" y="517"/>
                </a:cubicBezTo>
                <a:cubicBezTo>
                  <a:pt x="1424" y="477"/>
                  <a:pt x="1566" y="170"/>
                  <a:pt x="1632" y="85"/>
                </a:cubicBezTo>
                <a:cubicBezTo>
                  <a:pt x="1698" y="0"/>
                  <a:pt x="1707" y="5"/>
                  <a:pt x="1739" y="5"/>
                </a:cubicBezTo>
                <a:cubicBezTo>
                  <a:pt x="1771" y="5"/>
                  <a:pt x="1786" y="8"/>
                  <a:pt x="1824" y="85"/>
                </a:cubicBezTo>
                <a:cubicBezTo>
                  <a:pt x="1862" y="162"/>
                  <a:pt x="1920" y="413"/>
                  <a:pt x="1968" y="469"/>
                </a:cubicBezTo>
                <a:cubicBezTo>
                  <a:pt x="2016" y="525"/>
                  <a:pt x="2064" y="485"/>
                  <a:pt x="2112" y="421"/>
                </a:cubicBezTo>
                <a:cubicBezTo>
                  <a:pt x="2160" y="357"/>
                  <a:pt x="2200" y="141"/>
                  <a:pt x="2256" y="85"/>
                </a:cubicBezTo>
                <a:cubicBezTo>
                  <a:pt x="2312" y="29"/>
                  <a:pt x="2392" y="21"/>
                  <a:pt x="2448" y="85"/>
                </a:cubicBezTo>
                <a:cubicBezTo>
                  <a:pt x="2504" y="149"/>
                  <a:pt x="2548" y="415"/>
                  <a:pt x="2592" y="469"/>
                </a:cubicBezTo>
                <a:cubicBezTo>
                  <a:pt x="2636" y="523"/>
                  <a:pt x="2688" y="425"/>
                  <a:pt x="2713" y="4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7242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464832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 flipV="1">
            <a:off x="6095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86868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095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7315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457164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 flipV="1">
            <a:off x="46483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518148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771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>
            <a:off x="777240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685800" y="3124080"/>
            <a:ext cx="38098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Fore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mbryo dunes coalesce late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762120" y="4572000"/>
            <a:ext cx="37335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Grey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cludes 1st, 2nd, 3rd dune ridges etc. Growth of fore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5A12-2338-430E-98BD-88039265B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704880" y="2028960"/>
          <a:ext cx="776124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28960"/>
                    <a:ext cx="776124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2FD1-8DD6-443F-9B8D-9631F32B2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ay Dunes eg. Stud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Spit Dunes eg. Ynyslas, se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Hindshore Dunes eg. Merthyr Maw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Ness or Forland Dunes eg. Tentsmu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Offshore Island Dunes eg. Scott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4724280" y="3352680"/>
          <a:ext cx="2810160" cy="211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352680"/>
                    <a:ext cx="281016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6"/>
          <p:cNvSpPr/>
          <p:nvPr/>
        </p:nvSpPr>
        <p:spPr>
          <a:xfrm>
            <a:off x="4648320" y="548640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02920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nyslas D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6476760" y="3962520"/>
            <a:ext cx="1523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9:34:56Z</dcterms:created>
  <dc:creator>Lindsey Wood</dc:creator>
  <dc:description/>
  <dc:language>en-US</dc:language>
  <cp:lastModifiedBy>RomaK</cp:lastModifiedBy>
  <dcterms:modified xsi:type="dcterms:W3CDTF">2015-09-04T09:41:05Z</dcterms:modified>
  <cp:revision>39</cp:revision>
  <dc:subject/>
  <dc:title>Coastal Environments</dc:title>
</cp:coreProperties>
</file>