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7BCA3-C8CD-47DA-A18F-3647EBDA865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astal 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nd Dune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astal Environ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and Dune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stal 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e latitudes. Accumulation of windblown sediment needed in backshore z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K - around 7-8% of coast has vegetated dunes.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s vegetation, low rainfall, strong winds and abundant s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stal 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e latitudes. Accumulation of windblown sediment needed in backshore z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K - around 7-8% of coast has vegetated dunes.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s vegetation, low rainfall, strong winds and abundant s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d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d blown downwind. Transfers energy through other gr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5% of sand moved by    this meth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Cr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product of sal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ed along sand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t be d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d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d blown downwind. Transfers energy through other gr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5% of sand moved by    this meth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Cr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product of sal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ed along sand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t be d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mbryo 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bstacle forces deposition of s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e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mbryo dunes coalesce later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ey 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ludes 1st, 2nd, 3rd dune ridges etc. Growth of fore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mbryo 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bstacle forces deposition of s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e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mbryo dunes coalesce later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ey 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ludes 1st, 2nd, 3rd dune ridges etc. Growth of fore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urther Class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y Dunes eg. Stud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it Dunes eg. Ynyslas, see 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ndshore Dunes eg. Merthyr Maw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ss or Forland Dunes eg. Tentsmu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shore Island Dunes eg. Scott 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bbc.co.uk/wales/mid/fun/wallpaper/pages/ynyslas_sand_dunes.s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nyslas 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urther Class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y Dunes eg. Stud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it Dunes eg. Ynyslas, see 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ndshore Dunes eg. Merthyr Maw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ss or Forland Dunes eg. Tentsmu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shore Island Dunes eg. Scott 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bbc.co.uk/wales/mid/fun/wallpaper/pages/ynyslas_sand_dunes.s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nyslas 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1D70-FE6C-4B06-8BA9-5D990A18A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2455-5EA0-4B41-8DD1-FABF91551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C5ED-8A8B-4FF3-8065-9C5A26EA5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159D-965B-4DE2-BD5F-9B3574568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AEAA-F436-4A3A-ABD6-D6710224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739C-2FF3-49D6-B394-81A69A8F3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532A-F25D-4680-A6DF-7DC7164FF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11BA-5295-4CDC-BD4F-A1A688B21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737A-4EA5-4C8A-9EA0-BCDBA922A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B0A5-41B9-4F71-93CF-2B2342C5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3A00-E710-413D-8979-61FFBE8B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2611-11E2-47A6-BC3C-265DEB5F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1956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D0722-9F40-440B-97EF-EC94B8B0D3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astal Environ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Times New Roman"/>
              </a:rPr>
              <a:t>Sand Dun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Місце для нижнього колонтитула 4"/>
          <p:cNvSpPr/>
          <p:nvPr/>
        </p:nvSpPr>
        <p:spPr>
          <a:xfrm>
            <a:off x="601992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Місце для номера слайда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7C304-8A36-4EA8-9FF6-A3E367744E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astal Du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Times New Roman"/>
              </a:rPr>
              <a:t>Temperate latitudes. Accumulation of windblown sediment needed in backshore z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658800" y="3581280"/>
            <a:ext cx="787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285480"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Times New Roman"/>
              </a:rPr>
              <a:t>UK - around 7-8% of coast has vegetated dunes.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04800" y="4800600"/>
            <a:ext cx="8005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Times New Roman"/>
              </a:rPr>
              <a:t>Needs vegetation, low rainfall, strong winds and abundant s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" dur="1" fill="hold"/>
                                  <p:tgtEl>
                                    <p:spTgt spid="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Місце для нижнього колонтитула 5"/>
          <p:cNvSpPr/>
          <p:nvPr/>
        </p:nvSpPr>
        <p:spPr>
          <a:xfrm>
            <a:off x="601992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омера слайда 6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23D64-72A0-4E0C-BA3B-0C5F442AF2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and Mov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4419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Sal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sand blown downwind. Transfers energy through other grai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75% of sand moved by    this meth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Surface Cr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By product of sal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Pushed along sand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Must be d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Object 4"/>
          <p:cNvGraphicFramePr/>
          <p:nvPr/>
        </p:nvGraphicFramePr>
        <p:xfrm>
          <a:off x="4821120" y="1752480"/>
          <a:ext cx="432288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1120" y="1752480"/>
                    <a:ext cx="432288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r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Місце для нижнього колонтитула 5"/>
          <p:cNvSpPr/>
          <p:nvPr/>
        </p:nvSpPr>
        <p:spPr>
          <a:xfrm>
            <a:off x="601992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Місце для номера слайда 6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E5431-7F91-45EE-8905-8C853A6F36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380988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Embryo du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obstacle forces deposition of s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reeform 8"/>
          <p:cNvSpPr/>
          <p:nvPr/>
        </p:nvSpPr>
        <p:spPr>
          <a:xfrm>
            <a:off x="4648320" y="4030560"/>
            <a:ext cx="4306680" cy="1354320"/>
          </a:xfrm>
          <a:custGeom>
            <a:avLst/>
            <a:gdLst/>
            <a:ahLst/>
            <a:rect l="l" t="t" r="r" b="b"/>
            <a:pathLst>
              <a:path w="2713" h="853">
                <a:moveTo>
                  <a:pt x="0" y="853"/>
                </a:moveTo>
                <a:cubicBezTo>
                  <a:pt x="168" y="785"/>
                  <a:pt x="336" y="717"/>
                  <a:pt x="432" y="661"/>
                </a:cubicBezTo>
                <a:cubicBezTo>
                  <a:pt x="528" y="605"/>
                  <a:pt x="528" y="533"/>
                  <a:pt x="576" y="517"/>
                </a:cubicBezTo>
                <a:cubicBezTo>
                  <a:pt x="624" y="501"/>
                  <a:pt x="672" y="573"/>
                  <a:pt x="720" y="565"/>
                </a:cubicBezTo>
                <a:cubicBezTo>
                  <a:pt x="768" y="557"/>
                  <a:pt x="816" y="477"/>
                  <a:pt x="864" y="469"/>
                </a:cubicBezTo>
                <a:cubicBezTo>
                  <a:pt x="912" y="461"/>
                  <a:pt x="960" y="541"/>
                  <a:pt x="1008" y="517"/>
                </a:cubicBezTo>
                <a:cubicBezTo>
                  <a:pt x="1056" y="493"/>
                  <a:pt x="1096" y="325"/>
                  <a:pt x="1152" y="325"/>
                </a:cubicBezTo>
                <a:cubicBezTo>
                  <a:pt x="1208" y="325"/>
                  <a:pt x="1264" y="557"/>
                  <a:pt x="1344" y="517"/>
                </a:cubicBezTo>
                <a:cubicBezTo>
                  <a:pt x="1424" y="477"/>
                  <a:pt x="1566" y="170"/>
                  <a:pt x="1632" y="85"/>
                </a:cubicBezTo>
                <a:cubicBezTo>
                  <a:pt x="1698" y="0"/>
                  <a:pt x="1707" y="5"/>
                  <a:pt x="1739" y="5"/>
                </a:cubicBezTo>
                <a:cubicBezTo>
                  <a:pt x="1771" y="5"/>
                  <a:pt x="1786" y="8"/>
                  <a:pt x="1824" y="85"/>
                </a:cubicBezTo>
                <a:cubicBezTo>
                  <a:pt x="1862" y="162"/>
                  <a:pt x="1920" y="413"/>
                  <a:pt x="1968" y="469"/>
                </a:cubicBezTo>
                <a:cubicBezTo>
                  <a:pt x="2016" y="525"/>
                  <a:pt x="2064" y="485"/>
                  <a:pt x="2112" y="421"/>
                </a:cubicBezTo>
                <a:cubicBezTo>
                  <a:pt x="2160" y="357"/>
                  <a:pt x="2200" y="141"/>
                  <a:pt x="2256" y="85"/>
                </a:cubicBezTo>
                <a:cubicBezTo>
                  <a:pt x="2312" y="29"/>
                  <a:pt x="2392" y="21"/>
                  <a:pt x="2448" y="85"/>
                </a:cubicBezTo>
                <a:cubicBezTo>
                  <a:pt x="2504" y="149"/>
                  <a:pt x="2548" y="415"/>
                  <a:pt x="2592" y="469"/>
                </a:cubicBezTo>
                <a:cubicBezTo>
                  <a:pt x="2636" y="523"/>
                  <a:pt x="2688" y="425"/>
                  <a:pt x="2713" y="41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4724280" y="2743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mbr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1"/>
          <p:cNvSpPr/>
          <p:nvPr/>
        </p:nvSpPr>
        <p:spPr>
          <a:xfrm>
            <a:off x="4648320" y="388620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13"/>
          <p:cNvSpPr/>
          <p:nvPr/>
        </p:nvSpPr>
        <p:spPr>
          <a:xfrm flipV="1">
            <a:off x="609588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4"/>
          <p:cNvSpPr/>
          <p:nvPr/>
        </p:nvSpPr>
        <p:spPr>
          <a:xfrm flipV="1">
            <a:off x="685800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15"/>
          <p:cNvSpPr/>
          <p:nvPr/>
        </p:nvSpPr>
        <p:spPr>
          <a:xfrm flipV="1">
            <a:off x="868680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6"/>
          <p:cNvSpPr/>
          <p:nvPr/>
        </p:nvSpPr>
        <p:spPr>
          <a:xfrm>
            <a:off x="609588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7"/>
          <p:cNvSpPr/>
          <p:nvPr/>
        </p:nvSpPr>
        <p:spPr>
          <a:xfrm>
            <a:off x="7315200" y="2743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r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18"/>
          <p:cNvSpPr/>
          <p:nvPr/>
        </p:nvSpPr>
        <p:spPr>
          <a:xfrm flipH="1">
            <a:off x="4571640" y="5105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9"/>
          <p:cNvSpPr/>
          <p:nvPr/>
        </p:nvSpPr>
        <p:spPr>
          <a:xfrm flipV="1">
            <a:off x="464832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20"/>
          <p:cNvSpPr/>
          <p:nvPr/>
        </p:nvSpPr>
        <p:spPr>
          <a:xfrm>
            <a:off x="5181480" y="3124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21"/>
          <p:cNvSpPr/>
          <p:nvPr/>
        </p:nvSpPr>
        <p:spPr>
          <a:xfrm>
            <a:off x="6477120" y="3200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22"/>
          <p:cNvSpPr/>
          <p:nvPr/>
        </p:nvSpPr>
        <p:spPr>
          <a:xfrm>
            <a:off x="7772400" y="3200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3"/>
          <p:cNvSpPr/>
          <p:nvPr/>
        </p:nvSpPr>
        <p:spPr>
          <a:xfrm>
            <a:off x="685800" y="3124080"/>
            <a:ext cx="380988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Foredu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15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embryo dunes coalesce later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6"/>
          <p:cNvSpPr/>
          <p:nvPr/>
        </p:nvSpPr>
        <p:spPr>
          <a:xfrm>
            <a:off x="762120" y="4572000"/>
            <a:ext cx="373356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Grey du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15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includes 1st, 2nd, 3rd dune ridges etc. Growth of foredu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9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8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Місце для нижнього колонтитула 4"/>
          <p:cNvSpPr/>
          <p:nvPr/>
        </p:nvSpPr>
        <p:spPr>
          <a:xfrm>
            <a:off x="601992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Місце для номера слайда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65C29-B32D-46B3-B99C-646E9D9503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ass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Object 3"/>
          <p:cNvGraphicFramePr/>
          <p:nvPr/>
        </p:nvGraphicFramePr>
        <p:xfrm>
          <a:off x="704880" y="2028960"/>
          <a:ext cx="7761240" cy="456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2028960"/>
                    <a:ext cx="7761240" cy="45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r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Місце для нижнього колонтитула 5"/>
          <p:cNvSpPr/>
          <p:nvPr/>
        </p:nvSpPr>
        <p:spPr>
          <a:xfrm>
            <a:off x="601992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Місце для номера слайда 6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E17CA-CA7D-4672-ACF4-EADAAB9024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urther Class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Bay Dunes eg. Stud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Spit Dunes eg. Ynyslas, see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Hindshore Dunes eg. Merthyr Maw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Ness or Forland Dunes eg. Tentsmu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Offshore Island Dunes eg. Scott H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Object 5"/>
          <p:cNvGraphicFramePr/>
          <p:nvPr/>
        </p:nvGraphicFramePr>
        <p:xfrm>
          <a:off x="4724280" y="3352680"/>
          <a:ext cx="2810160" cy="211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3352680"/>
                    <a:ext cx="2810160" cy="21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Text Box 6"/>
          <p:cNvSpPr/>
          <p:nvPr/>
        </p:nvSpPr>
        <p:spPr>
          <a:xfrm>
            <a:off x="4648320" y="5486400"/>
            <a:ext cx="3504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ttp://www.bbc.co.uk/wales/mid/fun/wallpaper/pages/ynyslas_sand_dunes.s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5029200" y="30481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Ynyslas Du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8001000" y="3657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u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9"/>
          <p:cNvSpPr/>
          <p:nvPr/>
        </p:nvSpPr>
        <p:spPr>
          <a:xfrm flipH="1">
            <a:off x="6476760" y="3962520"/>
            <a:ext cx="152388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1T19:34:56Z</dcterms:created>
  <dc:creator>Lindsey Wood</dc:creator>
  <dc:description/>
  <dc:language>en-US</dc:language>
  <cp:lastModifiedBy>RomaK</cp:lastModifiedBy>
  <dcterms:modified xsi:type="dcterms:W3CDTF">2015-09-04T09:41:05Z</dcterms:modified>
  <cp:revision>39</cp:revision>
  <dc:subject/>
  <dc:title>Coastal Environments</dc:title>
</cp:coreProperties>
</file>