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41BB6-0ADC-4962-A717-3601948C011C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astal Environ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and Dune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oastal Environme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and Dune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al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latitudes. Accumulation of windblown sediment needed in backshore z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 - around 7-8% of coast has vegetated dunes.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vegetation, low rainfall, strong winds and abundant s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astal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mperate latitudes. Accumulation of windblown sediment needed in backshore zon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K - around 7-8% of coast has vegetated dunes.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eeds vegetation, low rainfall, strong winds and abundant san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blown downwind. Transfers energy through other gr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% of sand moved by    this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Cr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roduct of sal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d along sand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d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Mov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l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and blown downwind. Transfers energy through other grai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75% of sand moved by    this method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Cr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y product of salt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d along sand surfa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ust be d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bstacle forces deposition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e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 dunes coalesce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y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s 1st, 2nd, 3rd dune ridges etc. Growth of fore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bstacle forces deposition of s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ore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mbryo dunes coalesce later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rey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ncludes 1st, 2nd, 3rd dune ridges etc. Growth of fore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rther 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y Dunes eg. Stud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t Dunes eg. Ynyslas, se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ndshore Dunes eg. Merthyr Maw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ss or Forland Dunes eg. Tentsm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hore Island Dunes eg. Scott 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bbc.co.uk/wales/mid/fun/wallpaper/pages/ynyslas_sand_dunes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nyslas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urther Classif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y Dunes eg. Stud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pit Dunes eg. Ynyslas, see r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indshore Dunes eg. Merthyr Maw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ess or Forland Dunes eg. Tentsmu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Offshore Island Dunes eg. Scott H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www.bbc.co.uk/wales/mid/fun/wallpaper/pages/ynyslas_sand_dunes.s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nyslas 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u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3AAA6-8160-4775-8B9D-596788BED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A90A-38C4-4888-B09C-A7748248E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078F6-9214-45CA-A2BA-809DB8B49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9AEE-A690-4639-84B0-421411FF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3EF14-16FF-4AF3-8124-7F8A350E6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F92AE-F4AC-4B3F-A894-EE3842706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E1AF7-75B5-448A-B2D0-B8FF935D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8F851-D798-4C7C-A03F-C6867279B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D6DE3-8CDD-4707-B5C0-C0ED86D53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C4B0D-C5FA-445C-A5ED-E1C2EF6FD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EBABD-71B7-45CF-ABD7-4158830F8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11DD4-A2D5-4EED-84D7-A75AC1815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cc"/>
            </a:gs>
            <a:gs pos="100000">
              <a:srgbClr val="cc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601956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44FE1-70DF-4FD4-A420-A63C99FD53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astal Environ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Sand Dune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Місце для нижнього колонтитула 4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Місце для номера слайда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C4BCA-A5E3-417B-B885-24C4841542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oastal Du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Temperate latitudes. Accumulation of windblown sediment needed in backshore zon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5"/>
          <p:cNvSpPr/>
          <p:nvPr/>
        </p:nvSpPr>
        <p:spPr>
          <a:xfrm>
            <a:off x="658800" y="3581280"/>
            <a:ext cx="787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285480"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895320"/>
                <a:tab algn="l" pos="1790640"/>
                <a:tab algn="l" pos="2685960"/>
                <a:tab algn="l" pos="3581280"/>
                <a:tab algn="l" pos="4476600"/>
                <a:tab algn="l" pos="5372280"/>
                <a:tab algn="l" pos="6267600"/>
                <a:tab algn="l" pos="7162920"/>
                <a:tab algn="l" pos="8058240"/>
                <a:tab algn="l" pos="8953560"/>
                <a:tab algn="l" pos="9848880"/>
                <a:tab algn="l" pos="107442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UK - around 7-8% of coast has vegetated dunes.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604800" y="4800600"/>
            <a:ext cx="8005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spcBef>
                <a:spcPts val="20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99"/>
                </a:solidFill>
                <a:latin typeface="Times New Roman"/>
              </a:rPr>
              <a:t>Needs vegetation, low rainfall, strong winds and abundant san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9" dur="1" fill="hold"/>
                                  <p:tgtEl>
                                    <p:spTgt spid="5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Місце для нижнього колонтитула 5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Місце для номера слайда 6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B8C2CC-576A-43FA-8D5B-0CD885A7F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Sand Movem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914040" y="1066680"/>
            <a:ext cx="44197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alt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and blown downwind. Transfers energy through other grain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75% of sand moved by    this metho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5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Surface Cree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By product of saltatio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Pushed along sand su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Must be d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Object 4"/>
          <p:cNvGraphicFramePr/>
          <p:nvPr/>
        </p:nvGraphicFramePr>
        <p:xfrm>
          <a:off x="4821120" y="1752480"/>
          <a:ext cx="4322880" cy="41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21120" y="1752480"/>
                    <a:ext cx="4322880" cy="41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r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3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4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9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Місце для нижнього колонтитула 5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Місце для номера слайда 6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4EC42-4194-4BA4-8C77-F4AAEFB73A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orm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676160"/>
            <a:ext cx="380988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Embryo du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obstacle forces deposition of sa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8"/>
          <p:cNvSpPr/>
          <p:nvPr/>
        </p:nvSpPr>
        <p:spPr>
          <a:xfrm>
            <a:off x="4648320" y="4030560"/>
            <a:ext cx="4306680" cy="1354320"/>
          </a:xfrm>
          <a:custGeom>
            <a:avLst/>
            <a:gdLst/>
            <a:ahLst/>
            <a:rect l="l" t="t" r="r" b="b"/>
            <a:pathLst>
              <a:path w="2713" h="853">
                <a:moveTo>
                  <a:pt x="0" y="853"/>
                </a:moveTo>
                <a:cubicBezTo>
                  <a:pt x="168" y="785"/>
                  <a:pt x="336" y="717"/>
                  <a:pt x="432" y="661"/>
                </a:cubicBezTo>
                <a:cubicBezTo>
                  <a:pt x="528" y="605"/>
                  <a:pt x="528" y="533"/>
                  <a:pt x="576" y="517"/>
                </a:cubicBezTo>
                <a:cubicBezTo>
                  <a:pt x="624" y="501"/>
                  <a:pt x="672" y="573"/>
                  <a:pt x="720" y="565"/>
                </a:cubicBezTo>
                <a:cubicBezTo>
                  <a:pt x="768" y="557"/>
                  <a:pt x="816" y="477"/>
                  <a:pt x="864" y="469"/>
                </a:cubicBezTo>
                <a:cubicBezTo>
                  <a:pt x="912" y="461"/>
                  <a:pt x="960" y="541"/>
                  <a:pt x="1008" y="517"/>
                </a:cubicBezTo>
                <a:cubicBezTo>
                  <a:pt x="1056" y="493"/>
                  <a:pt x="1096" y="325"/>
                  <a:pt x="1152" y="325"/>
                </a:cubicBezTo>
                <a:cubicBezTo>
                  <a:pt x="1208" y="325"/>
                  <a:pt x="1264" y="557"/>
                  <a:pt x="1344" y="517"/>
                </a:cubicBezTo>
                <a:cubicBezTo>
                  <a:pt x="1424" y="477"/>
                  <a:pt x="1566" y="170"/>
                  <a:pt x="1632" y="85"/>
                </a:cubicBezTo>
                <a:cubicBezTo>
                  <a:pt x="1698" y="0"/>
                  <a:pt x="1707" y="5"/>
                  <a:pt x="1739" y="5"/>
                </a:cubicBezTo>
                <a:cubicBezTo>
                  <a:pt x="1771" y="5"/>
                  <a:pt x="1786" y="8"/>
                  <a:pt x="1824" y="85"/>
                </a:cubicBezTo>
                <a:cubicBezTo>
                  <a:pt x="1862" y="162"/>
                  <a:pt x="1920" y="413"/>
                  <a:pt x="1968" y="469"/>
                </a:cubicBezTo>
                <a:cubicBezTo>
                  <a:pt x="2016" y="525"/>
                  <a:pt x="2064" y="485"/>
                  <a:pt x="2112" y="421"/>
                </a:cubicBezTo>
                <a:cubicBezTo>
                  <a:pt x="2160" y="357"/>
                  <a:pt x="2200" y="141"/>
                  <a:pt x="2256" y="85"/>
                </a:cubicBezTo>
                <a:cubicBezTo>
                  <a:pt x="2312" y="29"/>
                  <a:pt x="2392" y="21"/>
                  <a:pt x="2448" y="85"/>
                </a:cubicBezTo>
                <a:cubicBezTo>
                  <a:pt x="2504" y="149"/>
                  <a:pt x="2548" y="415"/>
                  <a:pt x="2592" y="469"/>
                </a:cubicBezTo>
                <a:cubicBezTo>
                  <a:pt x="2636" y="523"/>
                  <a:pt x="2688" y="425"/>
                  <a:pt x="2713" y="413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10"/>
          <p:cNvSpPr/>
          <p:nvPr/>
        </p:nvSpPr>
        <p:spPr>
          <a:xfrm>
            <a:off x="4724280" y="27432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mbry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11"/>
          <p:cNvSpPr/>
          <p:nvPr/>
        </p:nvSpPr>
        <p:spPr>
          <a:xfrm>
            <a:off x="4648320" y="3886200"/>
            <a:ext cx="4495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Line 13"/>
          <p:cNvSpPr/>
          <p:nvPr/>
        </p:nvSpPr>
        <p:spPr>
          <a:xfrm flipV="1">
            <a:off x="609588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14"/>
          <p:cNvSpPr/>
          <p:nvPr/>
        </p:nvSpPr>
        <p:spPr>
          <a:xfrm flipV="1">
            <a:off x="68580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Line 15"/>
          <p:cNvSpPr/>
          <p:nvPr/>
        </p:nvSpPr>
        <p:spPr>
          <a:xfrm flipV="1">
            <a:off x="868680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16"/>
          <p:cNvSpPr/>
          <p:nvPr/>
        </p:nvSpPr>
        <p:spPr>
          <a:xfrm>
            <a:off x="6095880" y="274320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17"/>
          <p:cNvSpPr/>
          <p:nvPr/>
        </p:nvSpPr>
        <p:spPr>
          <a:xfrm>
            <a:off x="7315200" y="27432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r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Line 18"/>
          <p:cNvSpPr/>
          <p:nvPr/>
        </p:nvSpPr>
        <p:spPr>
          <a:xfrm flipH="1">
            <a:off x="4571640" y="5105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Line 19"/>
          <p:cNvSpPr/>
          <p:nvPr/>
        </p:nvSpPr>
        <p:spPr>
          <a:xfrm flipV="1">
            <a:off x="4648320" y="36576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Line 20"/>
          <p:cNvSpPr/>
          <p:nvPr/>
        </p:nvSpPr>
        <p:spPr>
          <a:xfrm>
            <a:off x="5181480" y="3124080"/>
            <a:ext cx="22860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Line 21"/>
          <p:cNvSpPr/>
          <p:nvPr/>
        </p:nvSpPr>
        <p:spPr>
          <a:xfrm>
            <a:off x="6477120" y="3200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22"/>
          <p:cNvSpPr/>
          <p:nvPr/>
        </p:nvSpPr>
        <p:spPr>
          <a:xfrm>
            <a:off x="7772400" y="32004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23"/>
          <p:cNvSpPr/>
          <p:nvPr/>
        </p:nvSpPr>
        <p:spPr>
          <a:xfrm>
            <a:off x="685800" y="3124080"/>
            <a:ext cx="3809880" cy="144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Foredu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embryo dunes coalesce later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 Box 26"/>
          <p:cNvSpPr/>
          <p:nvPr/>
        </p:nvSpPr>
        <p:spPr>
          <a:xfrm>
            <a:off x="762120" y="4572000"/>
            <a:ext cx="3733560" cy="180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Grey du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spcBef>
                <a:spcPts val="1500"/>
              </a:spcBef>
              <a:buClr>
                <a:srgbClr val="0000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99"/>
                </a:solidFill>
                <a:latin typeface="Times New Roman"/>
              </a:rPr>
              <a:t>includes 1st, 2nd, 3rd dune ridges etc. Growth of foredu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7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8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09" dur="1" fill="hold">
                                    <p:stCondLst>
                                      <p:cond delay="1000"/>
                                    </p:stCondLst>
                                  </p:cTn>
                                  <p:tgtEl>
                                    <p:spTgt spid="80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2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3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3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4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5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6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Місце для нижнього колонтитула 4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Місце для номера слайда 5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D0DB5-D701-46C8-9A1A-D686AD6C7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Object 3"/>
          <p:cNvGraphicFramePr/>
          <p:nvPr/>
        </p:nvGraphicFramePr>
        <p:xfrm>
          <a:off x="704880" y="2028960"/>
          <a:ext cx="7761240" cy="45687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85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4880" y="2028960"/>
                    <a:ext cx="7761240" cy="4568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cover dir="r"/>
  </p:transition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Місце для нижнього колонтитула 5"/>
          <p:cNvSpPr/>
          <p:nvPr/>
        </p:nvSpPr>
        <p:spPr>
          <a:xfrm>
            <a:off x="6019920" y="61722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indsey Wood, liw2, 02242383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Місце для номера слайда 6"/>
          <p:cNvSpPr/>
          <p:nvPr/>
        </p:nvSpPr>
        <p:spPr>
          <a:xfrm>
            <a:off x="7238880" y="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BB398-BA37-4D45-9808-7ED11E649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Further Classifi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Bay Dunes eg. Studla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Spit Dunes eg. Ynyslas, see r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Hindshore Dunes eg. Merthyr Maw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Ness or Forland Dunes eg. Tentsmui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99"/>
                </a:solidFill>
                <a:latin typeface="Times New Roman"/>
              </a:rPr>
              <a:t>Offshore Island Dunes eg. Scott He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Object 5"/>
          <p:cNvGraphicFramePr/>
          <p:nvPr/>
        </p:nvGraphicFramePr>
        <p:xfrm>
          <a:off x="4724280" y="3352680"/>
          <a:ext cx="2810160" cy="2117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92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3352680"/>
                    <a:ext cx="2810160" cy="211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6"/>
          <p:cNvSpPr/>
          <p:nvPr/>
        </p:nvSpPr>
        <p:spPr>
          <a:xfrm>
            <a:off x="4648320" y="5486400"/>
            <a:ext cx="35049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Times New Roman"/>
              </a:rPr>
              <a:t>http://www.bbc.co.uk/wales/mid/fun/wallpaper/pages/ynyslas_sand_dunes.shtm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7"/>
          <p:cNvSpPr/>
          <p:nvPr/>
        </p:nvSpPr>
        <p:spPr>
          <a:xfrm>
            <a:off x="5029200" y="304812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Ynyslas Du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8"/>
          <p:cNvSpPr/>
          <p:nvPr/>
        </p:nvSpPr>
        <p:spPr>
          <a:xfrm>
            <a:off x="8001000" y="36576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u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9"/>
          <p:cNvSpPr/>
          <p:nvPr/>
        </p:nvSpPr>
        <p:spPr>
          <a:xfrm flipH="1">
            <a:off x="6476760" y="3962520"/>
            <a:ext cx="1523880" cy="5331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r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8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0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  <p:par>
                          <p:cTn id="20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14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1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11T19:34:56Z</dcterms:created>
  <dc:creator>Lindsey Wood</dc:creator>
  <dc:description/>
  <dc:language>en-US</dc:language>
  <cp:lastModifiedBy>RomaK</cp:lastModifiedBy>
  <dcterms:modified xsi:type="dcterms:W3CDTF">2015-09-04T09:41:05Z</dcterms:modified>
  <cp:revision>39</cp:revision>
  <dc:subject/>
  <dc:title>Coastal Environments</dc:title>
</cp:coreProperties>
</file>