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A388-2B82-4C59-9732-CFC1E37684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loud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clouds for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How do clouds form?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ud in contact with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FOG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loud in contact with the ground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IMBO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and puffy clouds that usually mean good we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ite and puffy clouds that usually mean good weather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ONIMB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IRR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975-B961-4802-B93F-5F124AB6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453-FE95-4914-9E35-8004C252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A7A-79AA-4661-853F-23320D89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470-F0B4-4CB2-A3A3-CE40D92C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8481-00CE-45E3-8DA0-0DB6EB92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9B4F-07D9-4D54-BA54-5B505019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88F2-44C1-46BE-932F-A67D11EC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E6FB-5F01-4E3D-8B17-FAA320DB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3674-6A33-4845-B059-B70E12A5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045D-D165-44DA-AB5E-591774BE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B52E-E3EA-4DC0-9F7F-3EF793F5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09D-A0A7-4867-944D-ADDB8A89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46ED-6718-4006-9EBE-A90AB702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1C8B-D839-46CC-BCDD-4FDAFCFB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8E65-EDE8-4B55-BD52-C3EC092F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382F-B387-4BCD-A900-0F0B351B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C6AE-6D8C-415A-916F-CAD841D1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FC6-61AB-4F75-9BEA-02D75C6F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FFB-9CEC-4BC6-A199-10377C90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FAF-6595-4991-AF13-BBE4968E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BFF-5A1E-4EBB-804C-AEBC3EE7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12B-1221-4246-BB8A-61AF4A80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FD0-EEAC-4793-8DD9-30BFD6AC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041-8A8B-453F-94ED-0FBB8ED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939C-C791-4968-864B-2A9A1917E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65D1-8A14-4817-BE84-816EF18C744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loud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0" y="2286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When water vapor in the air becomes liquid water or ice crystals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304920" y="990720"/>
            <a:ext cx="86104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45472"/>
                </a:solidFill>
                <a:latin typeface="Times New Roman"/>
              </a:rPr>
              <a:t>How do clouds form?</a:t>
            </a:r>
            <a:endParaRPr b="0" lang="en-US" sz="7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Picture 1028" descr="\\coam4100g112-01\software$\office2k\Disk2\PFiles\MSOffice\Clipart\WebArt\na01875_.gif"/>
          <p:cNvPicPr/>
          <p:nvPr/>
        </p:nvPicPr>
        <p:blipFill>
          <a:blip r:embed="rId1"/>
          <a:stretch/>
        </p:blipFill>
        <p:spPr>
          <a:xfrm>
            <a:off x="2590920" y="3733920"/>
            <a:ext cx="39621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9144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FOG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2590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A cloud in contact with the ground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Picture 5" descr="http://thomashawk.com/hello/305309/1024/Mendocino%20Morning%20Fog-2005.06.12-20.02.58.jpg"/>
          <p:cNvPicPr/>
          <p:nvPr/>
        </p:nvPicPr>
        <p:blipFill>
          <a:blip r:embed="rId1"/>
          <a:stretch/>
        </p:blipFill>
        <p:spPr>
          <a:xfrm>
            <a:off x="990720" y="3505320"/>
            <a:ext cx="70102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STRAT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Sheets of low, grey clouds that bring light snow, rain, or drizzle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2" name="Picture 9" descr="http://ww2010.atmos.uiuc.edu/guides/mtr/cld/cldtyp/lw/gifs/strcu.gif"/>
          <p:cNvPicPr/>
          <p:nvPr/>
        </p:nvPicPr>
        <p:blipFill>
          <a:blip r:embed="rId1"/>
          <a:stretch/>
        </p:blipFill>
        <p:spPr>
          <a:xfrm>
            <a:off x="838080" y="3429000"/>
            <a:ext cx="76201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838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545472"/>
                </a:solidFill>
                <a:latin typeface="Times New Roman"/>
              </a:rPr>
              <a:t>NIMBOSTRATUS</a:t>
            </a:r>
            <a:endParaRPr b="0" lang="en-US" sz="9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2209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Thicker layer than stratus clouds that completely block out the sun.  They cause </a:t>
            </a:r>
            <a:r>
              <a:rPr b="0" lang="en-US" sz="4000" spc="-1" strike="noStrike" u="sng">
                <a:solidFill>
                  <a:srgbClr val="545472"/>
                </a:solidFill>
                <a:uFillTx/>
                <a:latin typeface="Times New Roman"/>
              </a:rPr>
              <a:t>steady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rain or snow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Picture 7" descr="http://ww2010.atmos.uiuc.edu/guides/mtr/cld/cldtyp/lw/gifs/nbstr.gif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UMUL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21337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45472"/>
                </a:solidFill>
                <a:latin typeface="Times New Roman"/>
              </a:rPr>
              <a:t>White and puffy clouds that usually mean good weather.</a:t>
            </a:r>
            <a:endParaRPr b="0" lang="en-US" sz="4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Picture 7" descr="http://ww2010.atmos.uiuc.edu/guides/mtr/cld/cldtyp/vrt/gifs/frcu1.gif"/>
          <p:cNvPicPr/>
          <p:nvPr/>
        </p:nvPicPr>
        <p:blipFill>
          <a:blip r:embed="rId1"/>
          <a:stretch/>
        </p:blipFill>
        <p:spPr>
          <a:xfrm>
            <a:off x="914400" y="3505320"/>
            <a:ext cx="74674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914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CUMULONIMBUS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2133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Dark, towering clouds that are also called “thunderheads”.  These clouds produce heavy rain, thunder, and lighting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1" name="Picture 5" descr="http://tm.ask.com/r?t=c&amp;s=p&amp;sv=0a300511&amp;uid=074FD61C08F9F3434&amp;sid=19A0471C08F9F3434&amp;o=0&amp;id=30751&amp;p=%2Ffr&amp;u=http%3A%2F%2Fwww.capetownskies.com%2F8834%2F10_cumulonimbusc.jpg"/>
          <p:cNvPicPr/>
          <p:nvPr/>
        </p:nvPicPr>
        <p:blipFill>
          <a:blip r:embed="rId1"/>
          <a:stretch/>
        </p:blipFill>
        <p:spPr>
          <a:xfrm>
            <a:off x="838080" y="4038480"/>
            <a:ext cx="73915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IRR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36232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imes New Roman"/>
              </a:rPr>
              <a:t>Thin, featherlike clouds that are made of ice crystals high in the atmosphere.  Usually means a change in the weather is coming.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Picture 7" descr="http://ww2010.atmos.uiuc.edu/guides/mtr/cld/cldtyp/hgh/gifs/crs2.gif"/>
          <p:cNvPicPr/>
          <p:nvPr/>
        </p:nvPicPr>
        <p:blipFill>
          <a:blip r:embed="rId1"/>
          <a:stretch/>
        </p:blipFill>
        <p:spPr>
          <a:xfrm>
            <a:off x="685800" y="4038480"/>
            <a:ext cx="8001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5:22:35Z</dcterms:created>
  <dc:creator>abrown</dc:creator>
  <dc:description/>
  <dc:language>en-US</dc:language>
  <cp:lastModifiedBy>RomaK</cp:lastModifiedBy>
  <dcterms:modified xsi:type="dcterms:W3CDTF">2015-09-04T09:41:12Z</dcterms:modified>
  <cp:revision>15</cp:revision>
  <dc:subject/>
  <dc:title>PowerPoint Presentation</dc:title>
</cp:coreProperties>
</file>