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DE6F-975E-481D-8832-97698DCD53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lou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Cloud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water vapor in the air becomes liquid water or ice cryst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clouds for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hen water vapor in the air becomes liquid water or ice crystals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How do clouds form?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loud in contact with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FOG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A cloud in contact with the ground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ets of low, grey clouds that bring light snow, rain, or drizz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STRATU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Sheets of low, grey clouds that bring light snow, rain, or drizzle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MBOSTR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cker layer than stratus clouds that completely block out the sun.  They cause steady rain or sn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NIMBOSTRATU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Thicker layer than stratus clouds that completely block out the sun.  They cause steady rain or snow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MU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and puffy clouds that usually mean good wea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CUMULU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hite and puffy clouds that usually mean good weather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MULONIMB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, towering clouds that are also called “thunderheads”.  These clouds produce heavy rain, thunder, and ligh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CUMULONIMBU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Dark, towering clouds that are also called “thunderheads”.  These clouds produce heavy rain, thunder, and lighting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, featherlike clouds that are made of ice crystals high in the atmosphere.  Usually means a change in the weather is com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CIRRU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Thin, featherlike clouds that are made of ice crystals high in the atmosphere.  Usually means a change in the weather is coming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FA0C-B48A-44C1-9864-429C37E6B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D9F2-2B52-4AD6-843D-EA28F453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5C4D-A7B5-44DC-8F6D-0D1008B79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4B9E-2F3E-42C7-9EFE-E6BC2E38A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3901-3B90-4123-9A71-4538FE7A7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C9A2-EB61-4A55-AA46-58C8961C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5924-01F7-40B7-94AA-E329C8452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4CFE9-EFD3-4AC2-AEDA-474265C2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82303-ED31-48D0-B793-8EEF3C47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12B4E-A846-48C3-B728-51C07C0F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D53A-6286-4946-BFD3-F656AEEF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5DB3-9303-45F7-B9E7-F0980867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67222-A2C2-40C0-87D0-7EF05E48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4FE7-BEE7-4D24-BC31-7B4ACA08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6A64-BB18-473C-804B-D79D069B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2BC3-1526-4B9E-AAC8-47449CB52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3D466-FFB4-4CEF-B3E7-436B0C768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1561-7EDB-44C6-ADC8-758235A1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B176-B6C1-40F5-A27A-5FA01EB5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F3F4-0699-497B-A290-254AB435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38B4-1A32-4F02-9A6E-A6127F79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8187-3A22-416D-9738-0B1F1722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6CCE-3479-43AC-98CC-A97B9BC8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CAB6-88E6-4183-AA85-CD17EE1E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6CC4-5E04-4062-943D-FBBCCFFC2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6C80-D63B-4081-82F8-16A71336CE94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2"/>
          <p:cNvSpPr txBox="1"/>
          <p:nvPr/>
        </p:nvSpPr>
        <p:spPr>
          <a:xfrm>
            <a:off x="533520" y="1066680"/>
            <a:ext cx="807696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Cloud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026"/>
          <p:cNvSpPr/>
          <p:nvPr/>
        </p:nvSpPr>
        <p:spPr>
          <a:xfrm>
            <a:off x="0" y="22860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When water vapor in the air becomes liquid water or ice crystals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5" name="Text Box 1027"/>
          <p:cNvSpPr/>
          <p:nvPr/>
        </p:nvSpPr>
        <p:spPr>
          <a:xfrm>
            <a:off x="304920" y="990720"/>
            <a:ext cx="861048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545472"/>
                </a:solidFill>
                <a:latin typeface="Times New Roman"/>
              </a:rPr>
              <a:t>How do clouds form?</a:t>
            </a:r>
            <a:endParaRPr b="0" lang="en-US" sz="75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6" name="Picture 1028" descr="\\coam4100g112-01\software$\office2k\Disk2\PFiles\MSOffice\Clipart\WebArt\na01875_.gif"/>
          <p:cNvPicPr/>
          <p:nvPr/>
        </p:nvPicPr>
        <p:blipFill>
          <a:blip r:embed="rId1"/>
          <a:stretch/>
        </p:blipFill>
        <p:spPr>
          <a:xfrm>
            <a:off x="2590920" y="3733920"/>
            <a:ext cx="396216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0" y="9144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545472"/>
                </a:solidFill>
                <a:latin typeface="Times New Roman"/>
              </a:rPr>
              <a:t>FOG</a:t>
            </a:r>
            <a:endParaRPr b="0" lang="en-US" sz="10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0" y="2590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A cloud in contact with the ground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9" name="Picture 5" descr="http://thomashawk.com/hello/305309/1024/Mendocino%20Morning%20Fog-2005.06.12-20.02.58.jpg"/>
          <p:cNvPicPr/>
          <p:nvPr/>
        </p:nvPicPr>
        <p:blipFill>
          <a:blip r:embed="rId1"/>
          <a:stretch/>
        </p:blipFill>
        <p:spPr>
          <a:xfrm>
            <a:off x="990720" y="3505320"/>
            <a:ext cx="701028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0" y="6858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545472"/>
                </a:solidFill>
                <a:latin typeface="Times New Roman"/>
              </a:rPr>
              <a:t>STRATUS</a:t>
            </a:r>
            <a:endParaRPr b="0" lang="en-US" sz="10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0" y="22096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Sheets of low, grey clouds that bring light snow, rain, or drizzle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2" name="Picture 9" descr="http://ww2010.atmos.uiuc.edu/guides/mtr/cld/cldtyp/lw/gifs/strcu.gif"/>
          <p:cNvPicPr/>
          <p:nvPr/>
        </p:nvPicPr>
        <p:blipFill>
          <a:blip r:embed="rId1"/>
          <a:stretch/>
        </p:blipFill>
        <p:spPr>
          <a:xfrm>
            <a:off x="838080" y="3429000"/>
            <a:ext cx="762012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0" y="83808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545472"/>
                </a:solidFill>
                <a:latin typeface="Times New Roman"/>
              </a:rPr>
              <a:t>NIMBOSTRATUS</a:t>
            </a:r>
            <a:endParaRPr b="0" lang="en-US" sz="9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0" y="22096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Thicker layer than stratus clouds that completely block out the sun.  They cause </a:t>
            </a:r>
            <a:r>
              <a:rPr b="0" lang="en-US" sz="4000" spc="-1" strike="noStrike" u="sng">
                <a:solidFill>
                  <a:srgbClr val="545472"/>
                </a:solidFill>
                <a:uFillTx/>
                <a:latin typeface="Times New Roman"/>
              </a:rPr>
              <a:t>steady</a:t>
            </a: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rain or snow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5" name="Picture 7" descr="http://ww2010.atmos.uiuc.edu/guides/mtr/cld/cldtyp/lw/gifs/nbstr.gif"/>
          <p:cNvPicPr/>
          <p:nvPr/>
        </p:nvPicPr>
        <p:blipFill>
          <a:blip r:embed="rId1"/>
          <a:stretch/>
        </p:blipFill>
        <p:spPr>
          <a:xfrm>
            <a:off x="762120" y="4267080"/>
            <a:ext cx="7467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0" y="6858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545472"/>
                </a:solidFill>
                <a:latin typeface="Times New Roman"/>
              </a:rPr>
              <a:t>CUMULUS</a:t>
            </a:r>
            <a:endParaRPr b="0" lang="en-US" sz="10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213372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545472"/>
                </a:solidFill>
                <a:latin typeface="Times New Roman"/>
              </a:rPr>
              <a:t>White and puffy clouds that usually mean good weather.</a:t>
            </a:r>
            <a:endParaRPr b="0" lang="en-US" sz="45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8" name="Picture 7" descr="http://ww2010.atmos.uiuc.edu/guides/mtr/cld/cldtyp/vrt/gifs/frcu1.gif"/>
          <p:cNvPicPr/>
          <p:nvPr/>
        </p:nvPicPr>
        <p:blipFill>
          <a:blip r:embed="rId1"/>
          <a:stretch/>
        </p:blipFill>
        <p:spPr>
          <a:xfrm>
            <a:off x="914400" y="3505320"/>
            <a:ext cx="7467480" cy="28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0" y="9144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545472"/>
                </a:solidFill>
                <a:latin typeface="Times New Roman"/>
              </a:rPr>
              <a:t>CUMULONIMBUS</a:t>
            </a:r>
            <a:endParaRPr b="0" lang="en-US" sz="8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0" y="21337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Dark, towering clouds that are also called “thunderheads”.  These clouds produce heavy rain, thunder, and lighting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61" name="Picture 5" descr="http://tm.ask.com/r?t=c&amp;s=p&amp;sv=0a300511&amp;uid=074FD61C08F9F3434&amp;sid=19A0471C08F9F3434&amp;o=0&amp;id=30751&amp;p=%2Ffr&amp;u=http%3A%2F%2Fwww.capetownskies.com%2F8834%2F10_cumulonimbusc.jpg"/>
          <p:cNvPicPr/>
          <p:nvPr/>
        </p:nvPicPr>
        <p:blipFill>
          <a:blip r:embed="rId1"/>
          <a:stretch/>
        </p:blipFill>
        <p:spPr>
          <a:xfrm>
            <a:off x="838080" y="4038480"/>
            <a:ext cx="739152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0" y="6858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545472"/>
                </a:solidFill>
                <a:latin typeface="Times New Roman"/>
              </a:rPr>
              <a:t>CIRRUS</a:t>
            </a:r>
            <a:endParaRPr b="0" lang="en-US" sz="10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0" y="2362320"/>
            <a:ext cx="91440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45472"/>
                </a:solidFill>
                <a:latin typeface="Times New Roman"/>
              </a:rPr>
              <a:t>Thin, featherlike clouds that are made of ice crystals high in the atmosphere.  Usually means a change in the weather is coming.</a:t>
            </a:r>
            <a:endParaRPr b="0" lang="en-US" sz="35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64" name="Picture 7" descr="http://ww2010.atmos.uiuc.edu/guides/mtr/cld/cldtyp/hgh/gifs/crs2.gif"/>
          <p:cNvPicPr/>
          <p:nvPr/>
        </p:nvPicPr>
        <p:blipFill>
          <a:blip r:embed="rId1"/>
          <a:stretch/>
        </p:blipFill>
        <p:spPr>
          <a:xfrm>
            <a:off x="685800" y="4038480"/>
            <a:ext cx="8001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15:22:35Z</dcterms:created>
  <dc:creator>abrown</dc:creator>
  <dc:description/>
  <dc:language>en-US</dc:language>
  <cp:lastModifiedBy>RomaK</cp:lastModifiedBy>
  <dcterms:modified xsi:type="dcterms:W3CDTF">2015-09-04T09:41:12Z</dcterms:modified>
  <cp:revision>15</cp:revision>
  <dc:subject/>
  <dc:title>PowerPoint Presentation</dc:title>
</cp:coreProperties>
</file>