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335D-E0B3-4C9D-B714-F8C169BDE9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loud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ater vapor in the air becomes liquid water or ice crys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clouds for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hen water vapor in the air becomes liquid water or ice crystal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How do clouds form?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loud in contact with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FOG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 cloud in contact with the ground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ets of low, grey clouds that bring light snow, rain, or drizz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STRAT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Sheets of low, grey clouds that bring light snow, rain, or drizzle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MBOST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er layer than stratus clouds that completely block out the sun.  They cause steady rain or sn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NIMBOSTRAT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Thicker layer than stratus clouds that completely block out the sun.  They cause steady rain or snow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M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and puffy clouds that usually mean good wea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UMUL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hite and puffy clouds that usually mean good weather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MULONIMB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, towering clouds that are also called “thunderheads”.  These clouds produce heavy rain, thunder, and l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UMULONIMB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Dark, towering clouds that are also called “thunderheads”.  These clouds produce heavy rain, thunder, and lighting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, featherlike clouds that are made of ice crystals high in the atmosphere.  Usually means a change in the weather is com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IRRU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Thin, featherlike clouds that are made of ice crystals high in the atmosphere.  Usually means a change in the weather is coming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A577-2EFF-4238-9A1B-7DF01BEA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4FD2-54B9-4988-BE08-00EA9CBA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E40A-6E09-4FBB-B2BA-E4A5DB13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A7AE-11E8-48F1-8049-AE9CAF90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0F0E-668B-4F66-A1A2-128AF052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C5E8-4240-4C2B-8F51-D4997F54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6291-B319-4E50-95AA-21E81112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97CC-8DCD-4DAE-81ED-CF67B122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D675-4AD6-40F2-9DA5-78910073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99D9-A741-4C6A-AA4E-197BCC87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4322-D94A-4630-8744-D90C6A75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379D-95D8-4591-BDB7-84D77C53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0308-4F16-4603-8DA0-C99770DA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D7DF-F554-4118-A3DD-D21624E2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C581-43B3-40A2-A592-2A46DA20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474F-A0EE-49E4-AC12-790C38E2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6FF7-D902-462F-BF51-F04B7D8D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FF60-DB69-4552-91FC-53D26A13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8C6E-4D68-4AE3-A960-E46D64FB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AED-1803-4E0C-90D7-5C682B37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930B-7809-4B77-BC65-8E9C4CCA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57F6-714F-462C-A890-0618D4C2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ED3D-63A1-486F-BCAA-F9AB6CAB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9709-D303-4E03-B7B7-36AB4502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DA71-897D-4183-A024-51018210D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0ACE-793F-4E42-8BF0-3960D70FCC54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533520" y="1066680"/>
            <a:ext cx="807696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loud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026"/>
          <p:cNvSpPr/>
          <p:nvPr/>
        </p:nvSpPr>
        <p:spPr>
          <a:xfrm>
            <a:off x="0" y="2286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When water vapor in the air becomes liquid water or ice crystals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Text Box 1027"/>
          <p:cNvSpPr/>
          <p:nvPr/>
        </p:nvSpPr>
        <p:spPr>
          <a:xfrm>
            <a:off x="304920" y="990720"/>
            <a:ext cx="86104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545472"/>
                </a:solidFill>
                <a:latin typeface="Times New Roman"/>
              </a:rPr>
              <a:t>How do clouds form?</a:t>
            </a:r>
            <a:endParaRPr b="0" lang="en-US" sz="75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6" name="Picture 1028" descr="\\coam4100g112-01\software$\office2k\Disk2\PFiles\MSOffice\Clipart\WebArt\na01875_.gif"/>
          <p:cNvPicPr/>
          <p:nvPr/>
        </p:nvPicPr>
        <p:blipFill>
          <a:blip r:embed="rId1"/>
          <a:stretch/>
        </p:blipFill>
        <p:spPr>
          <a:xfrm>
            <a:off x="2590920" y="3733920"/>
            <a:ext cx="39621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0" y="9144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545472"/>
                </a:solidFill>
                <a:latin typeface="Times New Roman"/>
              </a:rPr>
              <a:t>FOG</a:t>
            </a:r>
            <a:endParaRPr b="0" lang="en-US" sz="10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0" y="2590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A cloud in contact with the ground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9" name="Picture 5" descr="http://thomashawk.com/hello/305309/1024/Mendocino%20Morning%20Fog-2005.06.12-20.02.58.jpg"/>
          <p:cNvPicPr/>
          <p:nvPr/>
        </p:nvPicPr>
        <p:blipFill>
          <a:blip r:embed="rId1"/>
          <a:stretch/>
        </p:blipFill>
        <p:spPr>
          <a:xfrm>
            <a:off x="990720" y="3505320"/>
            <a:ext cx="70102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0" y="6858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545472"/>
                </a:solidFill>
                <a:latin typeface="Times New Roman"/>
              </a:rPr>
              <a:t>STRATUS</a:t>
            </a:r>
            <a:endParaRPr b="0" lang="en-US" sz="10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0" y="2209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Sheets of low, grey clouds that bring light snow, rain, or drizzle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2" name="Picture 9" descr="http://ww2010.atmos.uiuc.edu/guides/mtr/cld/cldtyp/lw/gifs/strcu.gif"/>
          <p:cNvPicPr/>
          <p:nvPr/>
        </p:nvPicPr>
        <p:blipFill>
          <a:blip r:embed="rId1"/>
          <a:stretch/>
        </p:blipFill>
        <p:spPr>
          <a:xfrm>
            <a:off x="838080" y="3429000"/>
            <a:ext cx="762012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8380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545472"/>
                </a:solidFill>
                <a:latin typeface="Times New Roman"/>
              </a:rPr>
              <a:t>NIMBOSTRATUS</a:t>
            </a:r>
            <a:endParaRPr b="0" lang="en-US" sz="9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22096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Thicker layer than stratus clouds that completely block out the sun.  They cause </a:t>
            </a:r>
            <a:r>
              <a:rPr b="0" lang="en-US" sz="4000" spc="-1" strike="noStrike" u="sng">
                <a:solidFill>
                  <a:srgbClr val="545472"/>
                </a:solidFill>
                <a:uFillTx/>
                <a:latin typeface="Times New Roman"/>
              </a:rPr>
              <a:t>steady</a:t>
            </a: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rain or snow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5" name="Picture 7" descr="http://ww2010.atmos.uiuc.edu/guides/mtr/cld/cldtyp/lw/gifs/nbstr.gif"/>
          <p:cNvPicPr/>
          <p:nvPr/>
        </p:nvPicPr>
        <p:blipFill>
          <a:blip r:embed="rId1"/>
          <a:stretch/>
        </p:blipFill>
        <p:spPr>
          <a:xfrm>
            <a:off x="762120" y="4267080"/>
            <a:ext cx="7467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0" y="6858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545472"/>
                </a:solidFill>
                <a:latin typeface="Times New Roman"/>
              </a:rPr>
              <a:t>CUMULUS</a:t>
            </a:r>
            <a:endParaRPr b="0" lang="en-US" sz="10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21337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545472"/>
                </a:solidFill>
                <a:latin typeface="Times New Roman"/>
              </a:rPr>
              <a:t>White and puffy clouds that usually mean good weather.</a:t>
            </a:r>
            <a:endParaRPr b="0" lang="en-US" sz="45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8" name="Picture 7" descr="http://ww2010.atmos.uiuc.edu/guides/mtr/cld/cldtyp/vrt/gifs/frcu1.gif"/>
          <p:cNvPicPr/>
          <p:nvPr/>
        </p:nvPicPr>
        <p:blipFill>
          <a:blip r:embed="rId1"/>
          <a:stretch/>
        </p:blipFill>
        <p:spPr>
          <a:xfrm>
            <a:off x="914400" y="3505320"/>
            <a:ext cx="746748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9144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45472"/>
                </a:solidFill>
                <a:latin typeface="Times New Roman"/>
              </a:rPr>
              <a:t>CUMULONIMBUS</a:t>
            </a:r>
            <a:endParaRPr b="0" lang="en-US" sz="8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0" y="21337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Dark, towering clouds that are also called “thunderheads”.  These clouds produce heavy rain, thunder, and lighting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1" name="Picture 5" descr="http://tm.ask.com/r?t=c&amp;s=p&amp;sv=0a300511&amp;uid=074FD61C08F9F3434&amp;sid=19A0471C08F9F3434&amp;o=0&amp;id=30751&amp;p=%2Ffr&amp;u=http%3A%2F%2Fwww.capetownskies.com%2F8834%2F10_cumulonimbusc.jpg"/>
          <p:cNvPicPr/>
          <p:nvPr/>
        </p:nvPicPr>
        <p:blipFill>
          <a:blip r:embed="rId1"/>
          <a:stretch/>
        </p:blipFill>
        <p:spPr>
          <a:xfrm>
            <a:off x="838080" y="4038480"/>
            <a:ext cx="739152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6858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545472"/>
                </a:solidFill>
                <a:latin typeface="Times New Roman"/>
              </a:rPr>
              <a:t>CIRRUS</a:t>
            </a:r>
            <a:endParaRPr b="0" lang="en-US" sz="10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0" y="2362320"/>
            <a:ext cx="9144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45472"/>
                </a:solidFill>
                <a:latin typeface="Times New Roman"/>
              </a:rPr>
              <a:t>Thin, featherlike clouds that are made of ice crystals high in the atmosphere.  Usually means a change in the weather is coming.</a:t>
            </a:r>
            <a:endParaRPr b="0" lang="en-US" sz="35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4" name="Picture 7" descr="http://ww2010.atmos.uiuc.edu/guides/mtr/cld/cldtyp/hgh/gifs/crs2.gif"/>
          <p:cNvPicPr/>
          <p:nvPr/>
        </p:nvPicPr>
        <p:blipFill>
          <a:blip r:embed="rId1"/>
          <a:stretch/>
        </p:blipFill>
        <p:spPr>
          <a:xfrm>
            <a:off x="685800" y="4038480"/>
            <a:ext cx="8001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5:22:35Z</dcterms:created>
  <dc:creator>abrown</dc:creator>
  <dc:description/>
  <dc:language>en-US</dc:language>
  <cp:lastModifiedBy>RomaK</cp:lastModifiedBy>
  <dcterms:modified xsi:type="dcterms:W3CDTF">2015-09-04T09:41:12Z</dcterms:modified>
  <cp:revision>15</cp:revision>
  <dc:subject/>
  <dc:title>PowerPoint Presentation</dc:title>
</cp:coreProperties>
</file>