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B023-BE42-480A-A22C-E645AE12EE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180-411F-4CB6-872D-4EA53ADB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B4A-1325-4B4C-A79E-2A352A38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102-99C1-499F-93F5-4A5BF884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C2E-4D53-4B53-8B85-AB9EC985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A2D-0637-41C5-A51C-B782102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770-7139-47A5-A0B0-3CD1411E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880-5F1E-4D2F-BD7D-16126048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C1B-9BDC-424F-B7F9-D476E3F0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8A6-B8FA-4A50-AC94-489DF699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107-9B6E-461C-B1E5-B1C32D6A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241-3E53-470B-95A3-149458A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F4F-3D80-41EC-BA47-15CF0476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6B80-35F0-40D1-B13B-47AF393D1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akovan1"/>
          <p:cNvPicPr/>
          <p:nvPr/>
        </p:nvPicPr>
        <p:blipFill>
          <a:blip r:embed="rId1"/>
          <a:stretch/>
        </p:blipFill>
        <p:spPr>
          <a:xfrm>
            <a:off x="0" y="21128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57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343400" y="76320"/>
            <a:ext cx="472428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is made up of at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toms dictate their properties. How atoms combine dictate what we see in the 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292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ologies allow us to peer ever closer at the minute structures of minerals, down to the scale of individual ato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914400"/>
            <a:ext cx="891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read from top to bottom, left to right, as atomic number increases: 1=H, 2=He, 3=Li, 4=Be, 5=B, 6=C, and so 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75"/>
          <p:cNvSpPr/>
          <p:nvPr/>
        </p:nvSpPr>
        <p:spPr>
          <a:xfrm>
            <a:off x="3962520" y="31680"/>
            <a:ext cx="47242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oups) have simi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-electron configur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tend to behave simil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076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4038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77"/>
          <p:cNvSpPr/>
          <p:nvPr/>
        </p:nvSpPr>
        <p:spPr>
          <a:xfrm rot="16297200">
            <a:off x="-181440" y="4982040"/>
            <a:ext cx="9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78"/>
          <p:cNvSpPr/>
          <p:nvPr/>
        </p:nvSpPr>
        <p:spPr>
          <a:xfrm>
            <a:off x="609480" y="990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079"/>
          <p:cNvSpPr/>
          <p:nvPr/>
        </p:nvSpPr>
        <p:spPr>
          <a:xfrm>
            <a:off x="0" y="563868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80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81"/>
          <p:cNvSpPr/>
          <p:nvPr/>
        </p:nvSpPr>
        <p:spPr>
          <a:xfrm>
            <a:off x="7467480" y="601992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82"/>
          <p:cNvSpPr/>
          <p:nvPr/>
        </p:nvSpPr>
        <p:spPr>
          <a:xfrm>
            <a:off x="2286000" y="22096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84"/>
          <p:cNvSpPr/>
          <p:nvPr/>
        </p:nvSpPr>
        <p:spPr>
          <a:xfrm flipV="1">
            <a:off x="990720" y="5867280"/>
            <a:ext cx="380880" cy="609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85"/>
          <p:cNvSpPr/>
          <p:nvPr/>
        </p:nvSpPr>
        <p:spPr>
          <a:xfrm>
            <a:off x="990720" y="6477120"/>
            <a:ext cx="457200" cy="228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86"/>
          <p:cNvSpPr/>
          <p:nvPr/>
        </p:nvSpPr>
        <p:spPr>
          <a:xfrm>
            <a:off x="1447920" y="646128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83"/>
          <p:cNvSpPr/>
          <p:nvPr/>
        </p:nvSpPr>
        <p:spPr>
          <a:xfrm flipV="1">
            <a:off x="762120" y="5105520"/>
            <a:ext cx="533160" cy="7617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87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88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89"/>
          <p:cNvSpPr/>
          <p:nvPr/>
        </p:nvSpPr>
        <p:spPr>
          <a:xfrm flipV="1">
            <a:off x="8991720" y="426708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66680" y="4800600"/>
            <a:ext cx="784872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will form the same kinds of ions all th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l the alkalis form +1 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alogens form -1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ation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 rot="16297200">
            <a:off x="-181440" y="5058000"/>
            <a:ext cx="9144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ized and Reduc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152280" y="4267080"/>
            <a:ext cx="891540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nsition metal cation with a higher charge is more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xidiz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lower charge. That comes from the fact that materials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oportions of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 in enviro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oxygen is abunda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is also true, and we call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4"/>
          <p:cNvSpPr/>
          <p:nvPr/>
        </p:nvSpPr>
        <p:spPr>
          <a:xfrm>
            <a:off x="2209680" y="1143000"/>
            <a:ext cx="2133720" cy="398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33"/>
          <p:cNvSpPr/>
          <p:nvPr/>
        </p:nvSpPr>
        <p:spPr>
          <a:xfrm>
            <a:off x="1066680" y="3200400"/>
            <a:ext cx="7848720" cy="13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more electronically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orm ions of various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ron (Fe) is found as +2 and +3 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6868440" y="4602240"/>
            <a:ext cx="120780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oxid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38"/>
          <p:cNvSpPr/>
          <p:nvPr/>
        </p:nvSpPr>
        <p:spPr>
          <a:xfrm>
            <a:off x="5512320" y="6248520"/>
            <a:ext cx="119124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Bulk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320" y="11430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elements make up &gt;99% of the solid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6"/>
          <p:cNvSpPr/>
          <p:nvPr/>
        </p:nvSpPr>
        <p:spPr>
          <a:xfrm>
            <a:off x="662940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"/>
          <p:cNvSpPr/>
          <p:nvPr/>
        </p:nvSpPr>
        <p:spPr>
          <a:xfrm>
            <a:off x="76320" y="22096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31240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15238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763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7162920" y="32767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8"/>
          <p:cNvSpPr/>
          <p:nvPr/>
        </p:nvSpPr>
        <p:spPr>
          <a:xfrm>
            <a:off x="1295280" y="1676520"/>
            <a:ext cx="2590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=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=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= 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=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9"/>
          <p:cNvSpPr/>
          <p:nvPr/>
        </p:nvSpPr>
        <p:spPr>
          <a:xfrm>
            <a:off x="3962520" y="187632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=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= 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C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94608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ust is a little more elementally interesting (again, as a result of differentiation), but it is still mainly made of a small number of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6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8"/>
          <p:cNvSpPr/>
          <p:nvPr/>
        </p:nvSpPr>
        <p:spPr>
          <a:xfrm>
            <a:off x="6248520" y="4800600"/>
            <a:ext cx="26668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carb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= phospho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 = potass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= titan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 = mangan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Weight: It’s all in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762120"/>
            <a:ext cx="9144000" cy="20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lectrons weigh virtually nothing, the mass of an atom is concentrated in its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tom can be described by its atomic weight (or mas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sum of the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1"/>
          <p:cNvPicPr/>
          <p:nvPr/>
        </p:nvPicPr>
        <p:blipFill>
          <a:blip r:embed="rId1"/>
          <a:stretch/>
        </p:blipFill>
        <p:spPr>
          <a:xfrm>
            <a:off x="76320" y="4068720"/>
            <a:ext cx="2895480" cy="286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0" y="2803680"/>
            <a:ext cx="34290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weight = 3 + 4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7162920" y="62485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962520" y="3124080"/>
            <a:ext cx="5105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...  although each element has a defined number of prot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is not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the same atomic number but variable numbers of neutrons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2666880" y="1905120"/>
            <a:ext cx="3581640" cy="19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38080" y="4191120"/>
            <a:ext cx="739152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omic # 50) has ten natural isotopes with atomic masses of 112, 114, 115, 116, 117, 118, 119, 120, 122 and 124. How many protons and neutrons do these isotope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419720" y="5562720"/>
            <a:ext cx="99036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e or S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7924680" y="6004080"/>
            <a:ext cx="1219320" cy="85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"/>
          <p:cNvPicPr/>
          <p:nvPr/>
        </p:nvPicPr>
        <p:blipFill>
          <a:blip r:embed="rId2"/>
          <a:stretch/>
        </p:blipFill>
        <p:spPr>
          <a:xfrm>
            <a:off x="0" y="6004080"/>
            <a:ext cx="1219320" cy="853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334120" y="2133720"/>
            <a:ext cx="1295280" cy="4572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57200" y="762120"/>
            <a:ext cx="81532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ity is a nuclear phenomenon: it comes as a result of a particular structure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active atom is consider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 unstable atoms emit radioactivity (usually by ejecting nuclear particles) in order to reach a stable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c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active dec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which we will talk on 6/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all atoms will be radioactive, just a small proportion of isotopes with unstable nucle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isotopes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on-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666880" y="1905120"/>
            <a:ext cx="3581640" cy="21333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le and Radioactiv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09480" y="4191120"/>
            <a:ext cx="8001000" cy="24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 is a radioactive isotope; C-12 and C-13 are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 the proportion of C-12/C-14 and C-13/C-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rease until there is no C-1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ess some process makes new C-14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973600" y="3429000"/>
            <a:ext cx="3093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209680" y="1752480"/>
            <a:ext cx="46483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ff That Makes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7714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one can subdivide atoms into numer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ill be concerned only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, neutrons and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re together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tom, whereas electrons are in motion in or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the central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carry a positive electrical charge, electrons carry a negative charge, and neutrons carry no cha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work to keep nuclei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ity Insid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57200" y="974880"/>
            <a:ext cx="8153280" cy="47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about radioactivity in na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hings in perspective, consider that 0.01% of all potassium is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s an essential element in the human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ody is about 1% K, this means a 7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pound) person contains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’s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on tr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radwar1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radwar1"/>
          <p:cNvPicPr/>
          <p:nvPr/>
        </p:nvPicPr>
        <p:blipFill>
          <a:blip r:embed="rId2"/>
          <a:stretch/>
        </p:blipFill>
        <p:spPr>
          <a:xfrm>
            <a:off x="739152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04920" y="46483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724280" y="762120"/>
            <a:ext cx="266724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962520" y="380988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280" y="685800"/>
            <a:ext cx="8763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ypical consequence of  chemical reactions  is the formation of chemical bonds between atoms and complex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nds form is based on the electronic configuration of the atom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near-full (halogens) and near-empty (alkalis/alkali earths) outer electron shells, as well as transition metals, may form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al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 are where atoms share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minerals are dominantly ionically bonded. However, many minerals have bonds with some co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ionic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52280" y="1752480"/>
            <a:ext cx="3124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satisfy themselves by the give and take of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inerals are held together by primarily ionic 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66760" y="-457200"/>
            <a:ext cx="8572320" cy="71629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alent Bonds: Electron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762120" y="5737320"/>
            <a:ext cx="7543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bon atoms are held together by sharing outer-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3716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3716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38862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64008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4008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4008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8862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38080" y="1295280"/>
            <a:ext cx="7543800" cy="47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nerals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a form of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otable weak kind of bond is call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 der Waals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sentially an ionic b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minerals we will see that these bonds are responsible for the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roperties of some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Reactions: Achieving 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7" descr="dump"/>
          <p:cNvPicPr/>
          <p:nvPr/>
        </p:nvPicPr>
        <p:blipFill>
          <a:blip r:embed="rId1"/>
          <a:stretch/>
        </p:blipFill>
        <p:spPr>
          <a:xfrm>
            <a:off x="0" y="528948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8"/>
          <p:cNvSpPr/>
          <p:nvPr/>
        </p:nvSpPr>
        <p:spPr>
          <a:xfrm>
            <a:off x="5181480" y="5638680"/>
            <a:ext cx="9907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228600" y="762120"/>
            <a:ext cx="87631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take place in order to achieve a more stable state (lower total energy) under given conditions (pressure, temperatu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reactants react to form stable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on’t get confused: we’re not talking about nuclear instability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icate this, the transition from unstable mineral to stable mineral is not necessarily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emical reactions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deal of 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o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0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iner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5" descr="xtl"/>
          <p:cNvPicPr/>
          <p:nvPr/>
        </p:nvPicPr>
        <p:blipFill>
          <a:blip r:embed="rId1"/>
          <a:stretch/>
        </p:blipFill>
        <p:spPr>
          <a:xfrm>
            <a:off x="0" y="4464000"/>
            <a:ext cx="3657600" cy="239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xtl"/>
          <p:cNvPicPr/>
          <p:nvPr/>
        </p:nvPicPr>
        <p:blipFill>
          <a:blip r:embed="rId2"/>
          <a:stretch/>
        </p:blipFill>
        <p:spPr>
          <a:xfrm>
            <a:off x="5486400" y="4427640"/>
            <a:ext cx="3657600" cy="24303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2666880" y="1905120"/>
            <a:ext cx="3353040" cy="53316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362320" y="1143000"/>
            <a:ext cx="52578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chemica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rys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phys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57200" y="838080"/>
            <a:ext cx="82296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phisticated furnaces and presses, we have investigated what chemical compounds (minerals) are stable at given pressures and temper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w achieving pressures of the Earth’s c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y are we not adrift in a sea of m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dump"/>
          <p:cNvPicPr/>
          <p:nvPr/>
        </p:nvPicPr>
        <p:blipFill>
          <a:blip r:embed="rId1"/>
          <a:stretch/>
        </p:blipFill>
        <p:spPr>
          <a:xfrm>
            <a:off x="0" y="5425920"/>
            <a:ext cx="1600200" cy="1432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6248520" y="1295280"/>
            <a:ext cx="1752480" cy="45720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 and Meta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76212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persist in an environment in which they are not chemically stable are said to b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2286000" y="3382920"/>
          <a:ext cx="4330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82920"/>
                    <a:ext cx="4330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10"/>
          <p:cNvSpPr/>
          <p:nvPr/>
        </p:nvSpPr>
        <p:spPr>
          <a:xfrm flipV="1">
            <a:off x="2438280" y="5181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3581280" y="6629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3" descr="EA Fig"/>
          <p:cNvPicPr/>
          <p:nvPr/>
        </p:nvPicPr>
        <p:blipFill>
          <a:blip r:embed="rId3"/>
          <a:srcRect l="0" t="17916" r="0" b="5038"/>
          <a:stretch/>
        </p:blipFill>
        <p:spPr>
          <a:xfrm>
            <a:off x="6629400" y="434340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dump"/>
          <p:cNvPicPr/>
          <p:nvPr/>
        </p:nvPicPr>
        <p:blipFill>
          <a:blip r:embed="rId4"/>
          <a:stretch/>
        </p:blipFill>
        <p:spPr>
          <a:xfrm>
            <a:off x="6629400" y="3124080"/>
            <a:ext cx="1752480" cy="1171800"/>
          </a:xfrm>
          <a:prstGeom prst="rect">
            <a:avLst/>
          </a:prstGeom>
          <a:ln w="0">
            <a:noFill/>
          </a:ln>
        </p:spPr>
      </p:pic>
      <p:sp>
        <p:nvSpPr>
          <p:cNvPr id="407" name="Oval 16"/>
          <p:cNvSpPr/>
          <p:nvPr/>
        </p:nvSpPr>
        <p:spPr>
          <a:xfrm>
            <a:off x="2698920" y="6093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1936800" y="6321240"/>
            <a:ext cx="685800" cy="2286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231120" y="62164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320" y="7884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298520"/>
            <a:ext cx="86104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ages in this presentation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Rakovan, Miami Univ.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th: Portrait of a Pla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st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mmer, McGeary and Carls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G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element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Neu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936720"/>
            <a:ext cx="8686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05520" y="2362320"/>
            <a:ext cx="3809880" cy="41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tic model of a lithium (Li) atom in the ground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3 protons in the nucleu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lectrons in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will get to th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eu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1"/>
          <p:cNvPicPr/>
          <p:nvPr/>
        </p:nvPicPr>
        <p:blipFill>
          <a:blip r:embed="rId1"/>
          <a:stretch/>
        </p:blipFill>
        <p:spPr>
          <a:xfrm>
            <a:off x="1440" y="2184480"/>
            <a:ext cx="4722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5"/>
          <p:cNvSpPr/>
          <p:nvPr/>
        </p:nvSpPr>
        <p:spPr>
          <a:xfrm>
            <a:off x="6629400" y="4191120"/>
            <a:ext cx="18288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5562720" y="3276720"/>
            <a:ext cx="12952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and Nuclear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609480" y="1295280"/>
            <a:ext cx="8001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toms reflect some combination of features related to electrons or to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those related to how atoms connect to one another:  bo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include features like  radio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2" descr="1"/>
          <p:cNvPicPr/>
          <p:nvPr/>
        </p:nvPicPr>
        <p:blipFill>
          <a:blip r:embed="rId1"/>
          <a:stretch/>
        </p:blipFill>
        <p:spPr>
          <a:xfrm>
            <a:off x="7010280" y="4740120"/>
            <a:ext cx="21337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1"/>
          <p:cNvPicPr/>
          <p:nvPr/>
        </p:nvPicPr>
        <p:blipFill>
          <a:blip r:embed="rId2"/>
          <a:stretch/>
        </p:blipFill>
        <p:spPr>
          <a:xfrm>
            <a:off x="0" y="4740120"/>
            <a:ext cx="2133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533520" y="-236520"/>
            <a:ext cx="816768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of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2280" y="2666880"/>
            <a:ext cx="89154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tends to closely follow the number of protons. Atoms with more of each are bigger and he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4120" y="5775480"/>
            <a:ext cx="38098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ranium atom, with 92 protons and ~146 neutrons is gigantic compared to dinky helium (2 +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757080"/>
            <a:ext cx="8305560" cy="11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sms of our solar system, atoms are dominantly empty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15000" y="3289320"/>
            <a:ext cx="304812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xygen atom had a total radius of 100 km, the nucleus would be a ~1 m diameter sphere in the mid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acious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27"/>
          <p:cNvSpPr/>
          <p:nvPr/>
        </p:nvSpPr>
        <p:spPr>
          <a:xfrm>
            <a:off x="533520" y="717480"/>
            <a:ext cx="83055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implistic model, electrons float around the nucleus in orbits that are sometimes called sh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8"/>
          <p:cNvSpPr/>
          <p:nvPr/>
        </p:nvSpPr>
        <p:spPr>
          <a:xfrm>
            <a:off x="5715000" y="2590920"/>
            <a:ext cx="3200400" cy="40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electrons increases, they start to fill orbits farther out from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electrons are lost or gained only from the outermost or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in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"/>
          <p:cNvSpPr/>
          <p:nvPr/>
        </p:nvSpPr>
        <p:spPr>
          <a:xfrm>
            <a:off x="1600200" y="4419720"/>
            <a:ext cx="27432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d Atoms: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6629400" y="441972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6320" y="898560"/>
            <a:ext cx="8915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to their own devices, atoms are electrically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that they have an equal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ourse of most natural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re not gained or lost, but electrons may 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more or fewer electrons than prot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charged. They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loses electrons takes on a positive charge (cation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gains electrons takes on a negative charge (an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ations and anions can also occur: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69960"/>
            <a:ext cx="9144000" cy="27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stinguish one element from another on the basis of the atomic number, which is the numb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3429000"/>
            <a:ext cx="6705720" cy="34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basis for Dmitri Mendeleev’s organiz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Table of th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is a way of organizing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ysical gro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serves to group elements with consist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1"/>
          <p:cNvPicPr/>
          <p:nvPr/>
        </p:nvPicPr>
        <p:blipFill>
          <a:blip r:embed="rId1"/>
          <a:stretch/>
        </p:blipFill>
        <p:spPr>
          <a:xfrm>
            <a:off x="6400800" y="492912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8:06:59Z</dcterms:created>
  <dc:creator>Isotope Geochemistry Lab</dc:creator>
  <dc:description/>
  <dc:language>en-US</dc:language>
  <cp:lastModifiedBy>RomaK</cp:lastModifiedBy>
  <dcterms:modified xsi:type="dcterms:W3CDTF">2015-09-01T16:17:48Z</dcterms:modified>
  <cp:revision>260</cp:revision>
  <dc:subject/>
  <dc:title>atomic structure</dc:title>
</cp:coreProperties>
</file>