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41C-06BD-4957-BF1A-8C9B331FD9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RY HILL Vs DUDLY HIGH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mparison good shops benefit from being close to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Town centres traditionally the most accessibl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Fairly small scale busines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l park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al Shopping cen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66A-ED37-4BAA-816D-7907A9B25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112-E734-4F82-902E-C21D2A3B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09E-207A-4B95-8E85-09476BE0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1F3A-5781-45E3-B980-7E5B2BBF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F37-E6B9-4499-8516-AAE614A0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FC0-CB43-4037-865E-033AA600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B20-501B-406B-ABB7-2079E9C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3BB-A9AD-4A19-A538-2173A5DD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E3B-629F-4235-BAD2-6A978BF6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557-1F9C-45BB-9293-E7456E69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AC66-BCE6-446A-8BCD-15C3930B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642-6F6F-42FA-90D6-8DA7A493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8F7-B64A-415C-A339-6289EE3C7F4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Town%20Centre%20Square%20-%20Low%20Re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solidFill>
            <a:srgbClr val="bbe0e3">
              <a:alpha val="7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nges in the C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133720"/>
            <a:ext cx="5076720" cy="387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Market_1_large"/>
          <p:cNvPicPr/>
          <p:nvPr/>
        </p:nvPicPr>
        <p:blipFill>
          <a:blip r:embed="rId2"/>
          <a:stretch/>
        </p:blipFill>
        <p:spPr>
          <a:xfrm>
            <a:off x="5113440" y="1484280"/>
            <a:ext cx="4030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2852280"/>
            <a:ext cx="8569080" cy="1297080"/>
          </a:xfrm>
          <a:prstGeom prst="rect">
            <a:avLst/>
          </a:prstGeom>
          <a:solidFill>
            <a:srgbClr val="0080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RRY HILL Vs DUDLY HIGH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nefits of out of tow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ment (4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5 million shop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ier to shop – shops are close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elchair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street was in decline any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ter from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advantages of out of t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n all of Dudley High Street trade (loss of 70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ps close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aller businesses can’t move and so dec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all have cars and therefore find it difficult to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shops left in the high street sell cheap and poor quality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191628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17920" y="1773360"/>
            <a:ext cx="38145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in town shopping centres. Eg Queensgate Centre, Peterbo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destrianised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CTV for saf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relax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ing new specialist shop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rmers markets, caf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CBD’s used to be like and why shops located the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out of town shopping centres grew and their proble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ow have town centres fought back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hy have shops traditionally located in town cent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709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1)They had most people living and working there so more potential shoppers – threshold populatio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) Comparison good shops benefit from being close to each 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3) Town centres traditionally the most accessible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4) Fairly small scale business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problems for British town cen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28608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ad page 58 from Waugh and note some of the problems faced by traditional town CBD’s.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22176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Why out of town shopping centres grew and their problem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997000"/>
            <a:ext cx="8229600" cy="31287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908000" y="2924280"/>
            <a:ext cx="51292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ap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space for building and car pa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ter transport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population in the suburb, so it makes sense for shops to be there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ed by planners and had financial b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9999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solidFill>
            <a:srgbClr val="3366ff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tail park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egional Shopping cent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28:45Z</dcterms:created>
  <dc:creator>Ben Bates</dc:creator>
  <dc:description/>
  <dc:language>en-US</dc:language>
  <cp:lastModifiedBy>RomaK</cp:lastModifiedBy>
  <dcterms:modified xsi:type="dcterms:W3CDTF">2015-09-04T09:40:59Z</dcterms:modified>
  <cp:revision>6</cp:revision>
  <dc:subject/>
  <dc:title>Changes in the CBD</dc:title>
</cp:coreProperties>
</file>