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323D-AFC5-4FCA-82C1-180ABD3B3AA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D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olden Gate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olden Gate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let’s get to build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: to build one bridge a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instru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and learn the history and important facts about each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idays will be to tear down the bridge in preparation for starting a new one the next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FU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let’s get to buil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: to build one bridge a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and learn the history and important facts about each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idays will be to tear down the bridge in preparation for starting a new one the nex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FU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rid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idge is a way to get across some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span a canyon, waterway, or ro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rid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idge is a way to get across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span a canyon, waterway, or r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a bridge ne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have a firm found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be stur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last a long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a bridge ne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have a firm foun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be stur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last a lo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sapeake Bay Brid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sapeake Bay Brid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ydney Harbor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ydney Harbor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mes Point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mes Point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wer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wer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rth of Forth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rth of Forth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toria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toria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F444-E6A2-4AC7-82FF-84BD8955F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B8D1-D48D-4D76-BACF-3CA1A3C2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C69872-3A8F-4646-99B9-36B0B836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ABBFBF-254B-4A95-8F01-A65B8576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AF84E5-F823-4470-ACC9-EA2E6998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65A0CA-1F19-4E3C-B5DE-290E5C69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AECBC7-9068-408A-A7A0-E04D5606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95FB65-0386-4569-A461-255C6981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35091B-A2D6-4ACE-9700-DCDD303B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D7A330-BB7D-4B53-842F-48A60077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6339E8-D44B-4480-AB72-A5845ECAD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0B1A62-A94D-4040-9BA0-1579C0A8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D5EE-136B-4205-AD40-6A057AF79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D19A2B-5E55-4FB4-811F-3A20EE5A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DF0F4B-E2D8-46FC-B000-369330C0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6FAF7D-1BE6-4B57-979E-31545629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480D0B-AF84-4284-B38C-ABDBE181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D782AF-8AFF-4F53-A98A-B016144F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F2EEF1-AF96-47F2-85B5-BB9B3292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9D2F05-406D-407C-B41E-EDBE788C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B0F5B1-BB52-4375-AA64-EA7D81A4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7D760A-0DF5-46FE-9F35-06AFE852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2B24C4-B2CF-43A5-9B4A-07B5BFA6A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4447-9A14-4BF1-B304-7C8C58481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521878-ACC0-4435-8D1F-430B23ABF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695AB-A298-4268-93C3-4169F167F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7E773-A32E-4DF8-BE0D-D678B12F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615EA-0A09-48C6-8103-F3B48BAF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11708-9445-4879-81DA-B3B3D500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FC16C-8A02-4800-B50D-E1F805CE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5303D-FE66-4C38-B5BA-EBDEB8BA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8B4A0-AFAE-4FE2-8B65-B3F1D18B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AD769-BC44-415B-BD22-730BB0BE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F7977-EF33-424E-BDB3-2D0B4FB0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51F6-96DC-428E-9DCB-A1AB4BB6A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7518F-303E-483D-8710-BE422A50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FC3B8-5983-4D6B-A2A5-F5E22801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84665-3789-4C68-A88D-1D168F10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A19BD6-EC5C-4B59-B234-1607632E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E6F34A-B426-4966-A17D-F16DCE4B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FC62EC-6F97-4FB8-B422-E50ED1E9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A34100-6031-4292-A360-E10DCCD9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A5D853-F62E-4BC3-96FD-45777BBB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3B9F28-9BBC-479C-9333-BD3DF4B1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EF9818-43D8-45FD-8059-B1AA49CE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30DA-B595-4BA4-9091-9D277C63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6D9772-CB21-4B90-884C-541A5751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98F026-2275-48D5-ADB4-A411992D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4539C1-C7BC-462D-B3AE-3C68514A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C54D6B-2118-419F-BC84-47901BE0D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E023CC-D51B-4EF1-8F1D-110A8934B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72CC-9F05-4F08-BEE8-8F5C423E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DC81-1C7A-42CF-8676-D057687A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8616-9553-48B2-A791-3F8DEF9C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AE4A-F52D-4297-8F03-AAE62FFE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10CA-D1F5-4BA3-AE4A-2D67E7B3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48B2-9707-454A-B5CA-2CCA0A55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AFC6-6387-4ECA-A340-B7BB4AB2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3CF1-FDE7-43B6-B4F3-585C7F08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EB28-18C7-482C-B8F6-939F9B20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1AB6-A4DD-4AD5-9AC7-778AC5E8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B125-C3C6-420E-82AF-AA9078FC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FDBBF-22CE-4ABB-93C4-507594BE1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BCAFD-385B-4EB8-9DD9-1E6BB6B7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72DF9-76A8-4A89-BDB7-F34C2385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3F8BD-5B84-4C30-8DA9-6856BAC3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E04DD-39D5-432E-9336-4F26F70D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0896-5901-421B-AAA1-90A8DBAB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BB6F6-039F-4CEB-B3B0-549FFB56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7FD5F-9C8D-4D49-9A9D-38BD85C3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99F38-0E9F-415F-A594-BC8F6BB4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BCD76-E365-4937-8FC2-D9D5FE53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E65A5-CFD5-4BE0-95FB-9E49B1B1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6F423-00F7-4008-8B5E-80890D4AC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89D71-802D-4D97-BCD5-6DAAB92C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4AF7E-DE3F-42E1-A835-23EF89B3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4E3CF-8BA0-47E9-906C-3911CF51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7C2C0-E165-4DF1-A988-47DF0C59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2B55-208E-44C1-BEBC-126C58C7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928E4-FB68-489A-9550-D3163A36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B4165-B3C1-496D-8D8C-96E01FC1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F3D4C-1DA6-4DF6-AC8B-DEDDC642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B759F-6BA9-4EA2-A404-8BBE45AB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46FCD-21E9-447C-B03E-D6BF37DE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38D4B-0928-49AF-B0E6-422394A3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3193B-61B3-482E-9A2B-C1BE4494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9BF06-711D-42D6-A97A-793F20E81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DED6E-C128-49DB-9140-F74CC0937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5A66A-2FE3-405B-8B44-AB308BA5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C89D-7860-4A81-94C8-9D736C0F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6E7F9-A81D-4432-9341-83AAA414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242F1-78FA-4417-AEDC-B4A1F26D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B5F30-3AEE-4869-9ADF-FA98F2B5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9562D-FC55-42C4-8851-DEE4428C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1A255-26A5-4691-87A4-4C6569E3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6CAC9-AD48-49F9-AEAE-2ECCC206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9345B-4C8C-4067-A0C7-2BB5DFF8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598D4-3430-4EB0-8371-26CE0CBD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5A523-2128-431C-8E82-C07C75EE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10A02-9F4A-4DF7-BF62-67F7B108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9F98-F50D-4E3C-9575-1116D614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34284-7D3C-42DE-915D-C08B15E71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08F7C-304F-4C3B-ACED-5179F014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CA135-ADA6-4B6C-9C3F-F4F4BD21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11F81-D9D8-4DF8-AC81-7E199240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B9823-117C-4C5D-8B40-68D22E36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D9AC8-E91B-4B83-849B-D0B32E2F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580A6-81A2-46B3-8C80-87AC8DF1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4422A-8946-47DA-90B5-BDA3C4B1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6F1B3-44EC-4132-B77A-422560D7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8D432-7ACA-4126-8DFA-8706BD79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F63E-6DEA-4110-9650-A0161F65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5D7AE-D69A-418C-92B5-CE997CFD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364B0-8209-4E21-BC09-8FEEAB3B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BA8E0-143B-4A4B-95B3-B8AA00DF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7F822-0560-4090-A000-461280C0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22619-6010-4494-B4E6-FA63C8D1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56112-5800-4943-A0DF-A9F9FB24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34B53-F24F-4C53-85DD-01524410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22D63-9D79-4E55-B24E-FE26D6CA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0EA1B-EEBF-4BC9-9C4F-832D0072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08810-020C-4DF2-B0A9-9E4A3BF5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140E-FEE9-4363-9780-50286C9C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1E95D-7F7C-4581-AA33-34967591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DC637-E74A-4A42-8BE7-0374150E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73289-91E7-43D5-9620-1C314D7A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2B5D9-ED27-41E4-A4C8-F653705B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B4BE3-F148-42A3-B634-0D32578C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84800-BB7B-40F2-AD7F-EC29F30A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D38D5-0E4B-4586-8E0B-DBD8B58A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D63D9-E113-4587-B5B0-9C5117B5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111EE-4DAD-448E-BEC8-2B238AAA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E3F34-F464-46FA-AA43-AD55A53A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C7AB-4302-4CCE-90AD-3CA52328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D0A4B-434E-468B-AE66-BC0936C3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AD3EA-FF77-4117-A567-7E4DDAAB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893CA-2591-45E9-B84E-4C739109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6E54D-2364-4E98-B455-11C4254A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4B496-B31F-42FA-994B-5C5C8F79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93A53-E193-4360-B45D-76C26AB6F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F43E8-3AA2-4FEB-B9E7-D684339A6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A1B67D-DEC4-47AF-BC66-4D9C702E4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AF0448-AF2B-4452-98A5-D87FEB77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1D3BC0-48C8-4B9E-9ABE-94DD11EB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F6E4-A8EC-4B03-903E-AC52A3B4845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E091-12A1-4CE2-9D2E-AB0D65947ED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68F7-59C5-40A5-AD6F-B1C12FE17B5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9BB9-4112-4B8B-BE50-7E2A7380B90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7D96-13DA-402E-875C-5F38BBB858E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55D3-D5DE-4F33-B6A1-B62E2042890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0965-1E4C-4062-95DC-8FF5EB6759F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9E30-D254-4BA3-8519-BDA20C41AF1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56C7-2C83-4516-92C3-76B2642148D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40DD-02D4-4475-A696-ADAC121FC7F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1E68-B4D9-42DE-A3C6-B95C3F37FFD1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9011-7B25-4BDA-BFAB-8993A428578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BRIDGE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Picture 3" descr="C:\Documents and Settings\carolyn.kinne\Local Settings\Temporary Internet Files\Content.IE5\60TCN93U\MCj04063640000[1].wmf"/>
          <p:cNvPicPr/>
          <p:nvPr/>
        </p:nvPicPr>
        <p:blipFill>
          <a:blip r:embed="rId1"/>
          <a:stretch/>
        </p:blipFill>
        <p:spPr>
          <a:xfrm>
            <a:off x="1676520" y="2801880"/>
            <a:ext cx="57150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olden Gate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6" name="Content Placeholder 3" descr="GoldenGateBridge.jpg"/>
          <p:cNvPicPr/>
          <p:nvPr/>
        </p:nvPicPr>
        <p:blipFill>
          <a:blip r:embed="rId1"/>
          <a:stretch/>
        </p:blipFill>
        <p:spPr>
          <a:xfrm>
            <a:off x="1828800" y="1905120"/>
            <a:ext cx="556272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o let’s get to building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oal: to build one bridge a wee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llow instruc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ad and learn the history and important facts about each bridg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ridays will be to tear down the bridge in preparation for starting a new one the next wee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ve FUN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is a bridg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bridge is a way to get across someth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t can span a canyon, waterway, or roa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8" name="Picture 2" descr="C:\Documents and Settings\carolyn.kinne\Local Settings\Temporary Internet Files\Content.IE5\E2LUDJLQ\MCj02336580000[1].wmf"/>
          <p:cNvPicPr/>
          <p:nvPr/>
        </p:nvPicPr>
        <p:blipFill>
          <a:blip r:embed="rId1"/>
          <a:stretch/>
        </p:blipFill>
        <p:spPr>
          <a:xfrm>
            <a:off x="457200" y="2666880"/>
            <a:ext cx="2819520" cy="22971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" descr="C:\Documents and Settings\carolyn.kinne\Local Settings\Temporary Internet Files\Content.IE5\60TCN93U\MCj00901330000[1].wmf"/>
          <p:cNvPicPr/>
          <p:nvPr/>
        </p:nvPicPr>
        <p:blipFill>
          <a:blip r:embed="rId2"/>
          <a:stretch/>
        </p:blipFill>
        <p:spPr>
          <a:xfrm>
            <a:off x="6553080" y="3352680"/>
            <a:ext cx="2167200" cy="28051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6" descr="C:\Documents and Settings\carolyn.kinne\Local Settings\Temporary Internet Files\Content.IE5\XKKQW3N2\MCj02291570000[1].wmf"/>
          <p:cNvPicPr/>
          <p:nvPr/>
        </p:nvPicPr>
        <p:blipFill>
          <a:blip r:embed="rId3"/>
          <a:stretch/>
        </p:blipFill>
        <p:spPr>
          <a:xfrm>
            <a:off x="3733920" y="3048120"/>
            <a:ext cx="2286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does a bridge need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ood bridge must have a firm found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ood bridge must be sturd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ood bridge must last a long tim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hesapeake Bay Bridge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4" name="Content Placeholder 3" descr="Chesapeake_Bay_Bridge.jpg"/>
          <p:cNvPicPr/>
          <p:nvPr/>
        </p:nvPicPr>
        <p:blipFill>
          <a:blip r:embed="rId1"/>
          <a:stretch/>
        </p:blipFill>
        <p:spPr>
          <a:xfrm>
            <a:off x="2133720" y="1828800"/>
            <a:ext cx="495288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ydney Harbor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6" name="Content Placeholder 3" descr="SydneyHarbourBridge.jpg"/>
          <p:cNvPicPr/>
          <p:nvPr/>
        </p:nvPicPr>
        <p:blipFill>
          <a:blip r:embed="rId1"/>
          <a:stretch/>
        </p:blipFill>
        <p:spPr>
          <a:xfrm>
            <a:off x="1752480" y="2362320"/>
            <a:ext cx="545004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ames Point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8" name="Content Placeholder 3" descr="Dames_point_bridge.jpg"/>
          <p:cNvPicPr/>
          <p:nvPr/>
        </p:nvPicPr>
        <p:blipFill>
          <a:blip r:embed="rId1"/>
          <a:stretch/>
        </p:blipFill>
        <p:spPr>
          <a:xfrm>
            <a:off x="1905120" y="2057400"/>
            <a:ext cx="53496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ower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0" name="Content Placeholder 3" descr="Tower_bridge_London_.jpg"/>
          <p:cNvPicPr/>
          <p:nvPr/>
        </p:nvPicPr>
        <p:blipFill>
          <a:blip r:embed="rId1"/>
          <a:stretch/>
        </p:blipFill>
        <p:spPr>
          <a:xfrm>
            <a:off x="1143000" y="2133720"/>
            <a:ext cx="68436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irth of Forth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2" name="Content Placeholder 3" descr="firth of forth bridge.jpg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storia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4" name="Content Placeholder 3" descr="Astoria-Megler_Bridge.jpg"/>
          <p:cNvPicPr/>
          <p:nvPr/>
        </p:nvPicPr>
        <p:blipFill>
          <a:blip r:embed="rId1"/>
          <a:stretch/>
        </p:blipFill>
        <p:spPr>
          <a:xfrm>
            <a:off x="2209680" y="2133720"/>
            <a:ext cx="48340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21:12:20Z</dcterms:created>
  <dc:creator>Ector County ISD Employee</dc:creator>
  <dc:description/>
  <dc:language>en-US</dc:language>
  <cp:lastModifiedBy>RomaK</cp:lastModifiedBy>
  <dcterms:modified xsi:type="dcterms:W3CDTF">2015-09-04T09:40:54Z</dcterms:modified>
  <cp:revision>13</cp:revision>
  <dc:subject/>
  <dc:title>BRIDGES</dc:title>
</cp:coreProperties>
</file>