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0D96-BBA2-490B-960C-B6490D713A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000-1503-47BD-A7A5-34DD86E0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6E8-6320-47F7-9C6C-B2FD7906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8E75F-8B2A-4A79-8C55-E8152EF9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6ABBD-75AF-4DF7-9CBE-61FD361E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4A8AF-374F-482F-AA86-096584AD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3C2D6-651A-4DBE-81F8-28F833E6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8CCA4-E5A0-4552-AF3C-56EB3416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8270F-0BD2-430D-8108-C9263790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C133D-6A5E-4D34-8366-179CE812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FA774-C74B-465C-B2C0-5D0A536C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6756FC-C316-4B5C-BC88-36865731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06AF9F-BC23-4CA3-92D8-6318FA0F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955-08A0-4432-AA03-1AAB2500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B2446-8613-4898-83A2-37AB0BFF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3FE3C-DB41-4224-B861-2583E172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5C47C-6B52-4371-815B-9385CB4F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BB832-B401-4889-9347-D4A6E0B1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5BA3C-FD9B-44B2-A430-2334691D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CE86B-4F85-471A-AF08-320CC0F6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C0477-BBF1-4ED0-AA21-D6B0FDCF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17046-6701-4630-934F-35BE1899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E9F418-997C-47D3-8256-32A809C5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7E870-076F-4AAE-AEB3-F9E6DD20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318-767A-46C6-89A2-F61D576F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59F5B-593E-41CF-B02E-7642B1BF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82895-3662-411E-B606-35F30B9A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07764-52D9-4DCD-83FA-6B92D902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C3072-4EA4-4B81-BAAA-D125FB6C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8698D-B172-4916-A443-66C0685D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E1BB8-AE4A-4FF7-ADBD-264C58BF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890F5-9C6E-49A0-A0FD-1237D349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1F596-65F6-4841-9EAA-15AFBD87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B3F32-5F5F-4663-B1F8-2E633AC9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2DBE9-0062-40A4-905E-C32794B6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24F1-5D32-4281-8B3E-FA5C3E24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63818-8931-470D-AA5C-7CCC2B6A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00218-F9A6-45FD-9F8E-B4823E0D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81235-9C21-445F-B51F-1D608D8D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F4291-0206-47FA-8F6E-EA7C2AD4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DE90E-8F30-496A-9D2B-F0DE2553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0E5260-80C4-4A75-9E38-0CEF253D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007191-A69D-44CB-969C-DE60F7A7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B470C-0DC4-45FD-98F6-335B8705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EDA9A-CE1E-4E9F-8941-96108717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AF33C-B3B8-4BE6-90C3-3512B3ED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1526-C979-4357-930E-BF4F171D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A4E8C-A189-4AB7-89D9-0EB8176F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D2759-E9FC-421C-9A28-027BF367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8F752-B95F-4A99-8D5D-02E26851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AE08C-9E1E-44D1-8119-B2B6766D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576B6-4C48-491B-9A2C-3CAF3F6F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B2DA-84BB-40AA-A361-9D8E3B5F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8EBC-A51D-4625-AEBB-1DEEB5B3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368C-20EE-4F70-AA96-E77A2CF3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64AD-96B3-46BA-B33E-6309BB3B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78FE-1B2D-4A1F-B74F-23B74656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F62-9BDB-4AFB-A7B2-C850AECF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89C5-4B27-498A-894A-078466E0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4CE7-D493-4434-9421-34922EF8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1FFD-E091-4A48-92D5-7625CCCE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FDD3-0AE3-4383-A18C-320FB9BC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188B-6F06-40A3-91AB-047380DE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2C8B4-B951-457B-A48B-88F200FA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DDF4B-A73F-44E0-B284-D8E7AF6A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A42B2-9264-4FE5-AE67-09724316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AD09C-A7C8-429A-814B-4B9505BC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BE44C-BA3F-47F9-8EB4-7DB51984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207-10F7-418E-96C5-F98A083F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B30B-E335-485F-ACFB-E803D30E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D131A-9410-42D2-B82E-1174D646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5FBE-31F0-42D3-B993-463129BA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9012C-E846-40F5-BA7A-B3AC40E0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1EA30-F2F6-41B0-89B1-6AB75208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61B59-A882-440B-B801-BC4E679D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D393E-59E5-46AA-ABA2-5ED15E9F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8069-6329-4E38-ADD6-7F506B35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07A02-43DC-47CD-9B34-F831BE28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B6D96-567F-4DEF-87A8-CE700C36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B85-BFBC-4B1B-95CE-C1BCA26D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EE423-6B7F-44F9-9411-DDB23E59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8791C-14CC-4177-8545-CB53AE6A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F6857-043D-46D6-A75E-3CB8AC8B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6DF54-0B85-4A17-95F6-4B8001EE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3D6B7-3DA5-4495-917C-00B8F880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6452D-4D1D-45C5-826A-CA3AD15E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349F3-EFEB-421A-A744-A1900F93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ACEE-7E14-4506-86C6-4414C0E5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E95DD-649D-4959-BC50-41439505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4A5EF-3815-403D-9F3C-5F0FF6BE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37C-6482-430B-AA2A-D39D1EA0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2D578-AE2C-475B-945D-43742733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F0B9A-7C4E-44C7-8E1F-58920134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5F446-00AE-4AE8-9D78-6B556D97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91F02-4E35-4F4D-BF4B-7CEAF776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01DA8-AC23-4884-B9E1-2F3B25E3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8475D-DEA7-4C22-AEAE-83724C3E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2418D-ACFF-4794-8B8D-BC95366A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2F227-E124-4497-A211-16AE6632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627B1-BC5F-4349-A92F-A93494E7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B84F4-01F5-4472-8FA0-2BE660F7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91B-99AB-431D-91C3-495024A1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61B6E-50E4-4595-8630-1473132F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267D7-8C52-400A-8B5F-C876E77B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79E4E-9AA0-437E-B3EF-A505F0D3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0E90B-54AB-44E4-9EC1-0B9F9554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C2F78-3C4D-4147-85A9-532A770A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EEB1E-2FD1-4C4D-A094-F05653A9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55FFA-E4F9-48D4-9E84-21379912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65375-5822-42C7-9E84-D59AF8A3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6EDBA-C4A6-4C63-955C-92B41168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FE039-7336-4715-9D6E-B192AD74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2B7-4F12-4DE6-B748-6B3AC5B4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634AB-83AE-40F8-99C5-2F28D2E7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AA6FB-061A-4F1A-B949-71835C86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2FB35-CCD2-4E4B-9E45-F6B661FA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AB8E7-369C-486E-B550-7CBAE164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18786-0DE4-4D17-902C-3DCBF6C5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67216-0406-4AC1-A291-7697F904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81C5A-C746-4050-8F84-22187844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B94D7-82BF-4356-98BF-D643B725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05225-43CD-42DB-802A-9A993C6A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D1FF0-025A-4512-8E5E-5064E4CC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D15-0100-452C-A560-8EE87F3D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8D53E-00A6-4C60-8AC0-8CF58926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2048A-5D9B-45D9-BD8F-54911D0D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C23D2-802D-47DC-8B47-728AEF78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EB42D-09D9-466D-B5E6-AA30204B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692DC-879D-462F-B75B-2697A251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631E3-A27E-4548-9FAC-6E230120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50BF1-A0DF-45D3-B0D3-59CFB27C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0474C-9BF5-4ABE-8B0B-CC860E9E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26431-77A1-44B7-AADA-C9D1B829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5C302-6CC1-40B6-8E7C-AECEEDD8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F6D-08B0-4101-BE5C-983E724C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A3C24-8A56-4E9E-9B5B-66C5D1DF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1868F-E15D-4423-8DC7-73B88593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B8103-F4A0-4265-BCC1-6172E7E2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86BE8-2A51-45F6-80EA-FA5FA52B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C856D-3078-48C5-A7D3-0843CA52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A7A56-336C-49E1-AF74-2ADCC283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7BEE8-B08C-48FF-A1EE-E84CA614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96759-A99A-4639-A259-CB21DE45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A3FCF-D5B6-485C-B220-44DC0BFB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04556-A430-45E4-BC32-C55AE585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F8B2-5D26-421D-9483-5FB3460240C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D2BD-D48C-46DC-A1A3-5EAB9BCD52C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EFEC-3745-4CA6-960B-34527D6F6E6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3462-D058-42DD-BDA8-B86FDAEC522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BC38-797B-4E52-811E-E5027D27ACF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0A24-6355-451D-9A87-4DF6747B5B3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0D54-098B-4D6F-A316-C97ED8CF7E4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5954-614D-4BE3-8654-5A43A17BCAC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78C9-6762-4F99-BF46-5F01BA0B40F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D11D-A1BF-43C4-9FFD-A62F04CFE33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D74F-9269-4C37-9A92-060B0BB62560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4031-D94E-4344-8296-F6B453D9A2F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RIDG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C:\Documents and Settings\carolyn.kinne\Local Settings\Temporary Internet Files\Content.IE5\60TCN93U\MCj04063640000[1].wmf"/>
          <p:cNvPicPr/>
          <p:nvPr/>
        </p:nvPicPr>
        <p:blipFill>
          <a:blip r:embed="rId1"/>
          <a:stretch/>
        </p:blipFill>
        <p:spPr>
          <a:xfrm>
            <a:off x="1676520" y="2801880"/>
            <a:ext cx="5715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lden Gate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6" name="Content Placeholder 3" descr="GoldenGateBridge.jpg"/>
          <p:cNvPicPr/>
          <p:nvPr/>
        </p:nvPicPr>
        <p:blipFill>
          <a:blip r:embed="rId1"/>
          <a:stretch/>
        </p:blipFill>
        <p:spPr>
          <a:xfrm>
            <a:off x="1828800" y="1905120"/>
            <a:ext cx="55627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 let’s get to building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: to build one bridge a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instru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nd learn the history and important facts about each brid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days will be to tear down the bridge in preparation for starting a new one the next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FU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a bridg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bridge is a way to get across someth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can span a canyon, waterway, or r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Documents and Settings\carolyn.kinne\Local Settings\Temporary Internet Files\Content.IE5\E2LUDJLQ\MCj02336580000[1].wmf"/>
          <p:cNvPicPr/>
          <p:nvPr/>
        </p:nvPicPr>
        <p:blipFill>
          <a:blip r:embed="rId1"/>
          <a:stretch/>
        </p:blipFill>
        <p:spPr>
          <a:xfrm>
            <a:off x="457200" y="2666880"/>
            <a:ext cx="2819520" cy="22971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Documents and Settings\carolyn.kinne\Local Settings\Temporary Internet Files\Content.IE5\60TCN93U\MCj00901330000[1].wmf"/>
          <p:cNvPicPr/>
          <p:nvPr/>
        </p:nvPicPr>
        <p:blipFill>
          <a:blip r:embed="rId2"/>
          <a:stretch/>
        </p:blipFill>
        <p:spPr>
          <a:xfrm>
            <a:off x="6553080" y="3352680"/>
            <a:ext cx="2167200" cy="2805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C:\Documents and Settings\carolyn.kinne\Local Settings\Temporary Internet Files\Content.IE5\XKKQW3N2\MCj02291570000[1].wmf"/>
          <p:cNvPicPr/>
          <p:nvPr/>
        </p:nvPicPr>
        <p:blipFill>
          <a:blip r:embed="rId3"/>
          <a:stretch/>
        </p:blipFill>
        <p:spPr>
          <a:xfrm>
            <a:off x="3733920" y="3048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does a bridge need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have a firm found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be stur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last a long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sapeake Bay Bridg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Content Placeholder 3" descr="Chesapeake_Bay_Bridge.jpg"/>
          <p:cNvPicPr/>
          <p:nvPr/>
        </p:nvPicPr>
        <p:blipFill>
          <a:blip r:embed="rId1"/>
          <a:stretch/>
        </p:blipFill>
        <p:spPr>
          <a:xfrm>
            <a:off x="2133720" y="1828800"/>
            <a:ext cx="4952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dney Harbo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Content Placeholder 3" descr="SydneyHarbourBridge.jpg"/>
          <p:cNvPicPr/>
          <p:nvPr/>
        </p:nvPicPr>
        <p:blipFill>
          <a:blip r:embed="rId1"/>
          <a:stretch/>
        </p:blipFill>
        <p:spPr>
          <a:xfrm>
            <a:off x="1752480" y="2362320"/>
            <a:ext cx="545004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ames Point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Dames_point_bridge.jpg"/>
          <p:cNvPicPr/>
          <p:nvPr/>
        </p:nvPicPr>
        <p:blipFill>
          <a:blip r:embed="rId1"/>
          <a:stretch/>
        </p:blipFill>
        <p:spPr>
          <a:xfrm>
            <a:off x="1905120" y="2057400"/>
            <a:ext cx="5349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we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3" descr="Tower_bridge_London_.jpg"/>
          <p:cNvPicPr/>
          <p:nvPr/>
        </p:nvPicPr>
        <p:blipFill>
          <a:blip r:embed="rId1"/>
          <a:stretch/>
        </p:blipFill>
        <p:spPr>
          <a:xfrm>
            <a:off x="1143000" y="2133720"/>
            <a:ext cx="684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th of Forth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3" descr="firth of forth bridge.jpg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toria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Content Placeholder 3" descr="Astoria-Megler_Bridge.jpg"/>
          <p:cNvPicPr/>
          <p:nvPr/>
        </p:nvPicPr>
        <p:blipFill>
          <a:blip r:embed="rId1"/>
          <a:stretch/>
        </p:blipFill>
        <p:spPr>
          <a:xfrm>
            <a:off x="2209680" y="2133720"/>
            <a:ext cx="4834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1:12:20Z</dcterms:created>
  <dc:creator>Ector County ISD Employee</dc:creator>
  <dc:description/>
  <dc:language>en-US</dc:language>
  <cp:lastModifiedBy>RomaK</cp:lastModifiedBy>
  <dcterms:modified xsi:type="dcterms:W3CDTF">2015-09-04T09:40:54Z</dcterms:modified>
  <cp:revision>13</cp:revision>
  <dc:subject/>
  <dc:title>BRIDGES</dc:title>
</cp:coreProperties>
</file>