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A2B3-21DE-4CBB-8671-F32EB79181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ners Ferry Slide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No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ls and hanging tie from railro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6CF4-495B-4AD3-BF47-8260CB29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244B-D69D-432B-B0AB-280CB91E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687-4544-4BE6-87E2-CF4B9D5B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5B5-46BE-47FD-9240-A668475B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CB0-BBF5-4B31-8E69-A0E47E30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643-20D4-4A87-B753-C1687B4F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27E8-BCAF-49CF-AEE7-7F902FBF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E5C9-7D4B-4F76-86C0-BA47653C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646-BB18-4CA8-A8D5-060B1045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FF7-A65C-47B6-B342-BA1795FA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6E22-7498-43E9-AFCE-C397B6D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4D3-1AC3-44C1-A173-65FBF35B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5e76"/>
            </a:gs>
            <a:gs pos="50000">
              <a:srgbClr val="99ccff"/>
            </a:gs>
            <a:gs pos="100000">
              <a:srgbClr val="47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2E30-E71C-4280-9779-260A97A9D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onners Ferry Slide, 19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64767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 mid-October of 1998, a section of hillside north of Bonners Ferry, Idaho, moved in response to gravity, wiping out a portion of HW95, the railway and powerlines. See the damage for yourself in the following photo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PIC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609480" y="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ooking from the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your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ype of mass wasting occurred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and defend your evaluation of this ev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it out and hand it in for sco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sired response is on the last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nners Ferry slide was a major  mudflow (as evidenced in slides 2-8) followed by slump (slides 9-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PIC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057400" y="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erial View of the Slid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I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IC5"/>
          <p:cNvPicPr/>
          <p:nvPr/>
        </p:nvPicPr>
        <p:blipFill>
          <a:blip r:embed="rId1"/>
          <a:stretch/>
        </p:blipFill>
        <p:spPr>
          <a:xfrm>
            <a:off x="-762120" y="0"/>
            <a:ext cx="10515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66688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PIC17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IC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PIC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457200" y="2438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ilroad rails and hanging 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IC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3520" y="23623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ils and hanging tie from railro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PIC21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609480" y="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oking from the Sou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1T17:41:19Z</dcterms:created>
  <dc:creator>Greg Cossette</dc:creator>
  <dc:description/>
  <dc:language>en-US</dc:language>
  <cp:lastModifiedBy>RomaK</cp:lastModifiedBy>
  <dcterms:modified xsi:type="dcterms:W3CDTF">2015-09-04T09:40:48Z</dcterms:modified>
  <cp:revision>11</cp:revision>
  <dc:subject/>
  <dc:title>Bonners Ferry Slide, 1998</dc:title>
</cp:coreProperties>
</file>