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E951-ACF0-4FA9-A191-BAA831FC5C8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ners Ferry Slide, 19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ners Ferry Slide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No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your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 of mass wasting occurred 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 and defend your evaluation of this e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t out and hand it in for sc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sired response is on the la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your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 of mass wasting occurred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and defend your evaluation of this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t out and hand it in for sc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red response is on the las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nners Ferry slide was a major  mudflow (as evidenced in slides 2-8) followed by slump (slides 9-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nners Ferry slide was a major  mudflow (as evidenced in slides 2-8) followed by slump (slides 9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erial View of the Slid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rial View of the Slid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lroad rails and hanging 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 rails and hanging 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ls and hanging tie from railr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s and hanging tie from railr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S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6AD4-1920-44DF-BA63-B83F0838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104-ECBE-428B-A340-F1387BD1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E58F-3868-4AF9-B3E9-B0AD3A5F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12E7-D4A5-4C79-828C-6D1A9FA0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7B58-786F-48B5-93A3-99AEB33B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A082-1D4D-485C-B805-FEA4AF82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AD2C-0FE4-4F34-BDB3-4B6E62A8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A1D-0E3D-4262-8BA8-8D09E783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6DD-EE4B-4C71-ADE6-FB53F8A3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68FF-7D70-4985-A37B-5168E1CC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6231-FB34-42A7-A446-00F16AD2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AF12-2D5B-46BD-B21E-E518A45E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76"/>
            </a:gs>
            <a:gs pos="50000">
              <a:srgbClr val="99ccff"/>
            </a:gs>
            <a:gs pos="100000">
              <a:srgbClr val="47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543F-5846-4C29-A500-34CD0145C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onners Ferry Slide, 19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64767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PIC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609480" y="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ooking from the 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your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ype of mass wasting occurred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and defend your evaluation of this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it out and hand it in for sco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sired response is on the last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onners Ferry slide was a major  mudflow (as evidenced in slides 2-8) followed by slump (slides 9-1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IC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057400" y="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erial View of the Slid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PIC5"/>
          <p:cNvPicPr/>
          <p:nvPr/>
        </p:nvPicPr>
        <p:blipFill>
          <a:blip r:embed="rId1"/>
          <a:stretch/>
        </p:blipFill>
        <p:spPr>
          <a:xfrm>
            <a:off x="-762120" y="0"/>
            <a:ext cx="10515600" cy="7086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66688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ing from the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PIC17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IC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PIC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457200" y="2438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 rails and hanging 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IC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3520" y="2362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ils and hanging tie from railr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PIC21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609480" y="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ing from the 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1T17:41:19Z</dcterms:created>
  <dc:creator>Greg Cossette</dc:creator>
  <dc:description/>
  <dc:language>en-US</dc:language>
  <cp:lastModifiedBy>RomaK</cp:lastModifiedBy>
  <dcterms:modified xsi:type="dcterms:W3CDTF">2015-09-04T09:40:48Z</dcterms:modified>
  <cp:revision>11</cp:revision>
  <dc:subject/>
  <dc:title>Bonners Ferry Slide, 1998</dc:title>
</cp:coreProperties>
</file>