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92A8-726B-4D99-9567-2D8FF2849D2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ners Ferry Slide, 199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id-October of 1998, a section of hillside north of Bonners Ferry, Idaho, moved in response to gravity, wiping out a portion of HW95, the railway and powerlines. See the damage for yourself in the following photo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ners Ferry Slide,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d-October of 1998, a section of hillside north of Bonners Ferry, Idaho, moved in response to gravity, wiping out a portion of HW95, the railway and powerlines. See the damage for yourself in the following photo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from the No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from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your eval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ype of mass wasting occurred 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 and defend your evaluation of this ev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 it out and hand it in for sco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sired response is on the la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your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ype of mass wasting occurred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and defend your evaluation of this ev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t out and hand it in for sco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ired response is on the las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nners Ferry slide was a major  mudflow (as evidenced in slides 2-8) followed by slump (slides 9-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nners Ferry slide was a major  mudflow (as evidenced in slides 2-8) followed by slump (slides 9-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erial View of the Slid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erial View of the Slid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from the E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from the E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lroad rails and hanging 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 rails and hanging t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ls and hanging tie from railro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s and hanging tie from railr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from the Sou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from the S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FF62-3E2A-4149-8986-69DF2972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9F28-5E00-4E2C-AA2E-D65C902E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D824-A257-4306-9335-E01CD48C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6956-4DD4-4ABD-9BDB-D5D78012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0085-CEA1-4C94-8C5F-8D0C0D20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2E68-00B9-4ACB-8339-2492BF87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9C9D-DE30-4BB8-A3E4-2578843E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7D4E-B383-4809-990F-F0107DC4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9BA8-C46B-4F8E-AE20-AA3EF03A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4C46-9A3B-4482-BF48-367DFB43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2846-F448-41BC-9A66-26D8035E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7AE9-C52F-4103-BEFD-EB1EAE0F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76"/>
            </a:gs>
            <a:gs pos="50000">
              <a:srgbClr val="99ccff"/>
            </a:gs>
            <a:gs pos="100000">
              <a:srgbClr val="47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DB07-8A22-4E2F-84AA-D722F2242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onners Ferry Slide, 19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8960" y="1828800"/>
            <a:ext cx="64767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 mid-October of 1998, a section of hillside north of Bonners Ferry, Idaho, moved in response to gravity, wiping out a portion of HW95, the railway and powerlines. See the damage for yourself in the following photo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PIC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609480" y="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ooking from the N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e your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type of mass wasting occurred 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and defend your evaluation of this ev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it out and hand it in for sco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sired response is on the last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Bonners Ferry slide was a major  mudflow (as evidenced in slides 2-8) followed by slump (slides 9-1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PIC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2057400" y="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erial View of the Slid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PIC5"/>
          <p:cNvPicPr/>
          <p:nvPr/>
        </p:nvPicPr>
        <p:blipFill>
          <a:blip r:embed="rId1"/>
          <a:stretch/>
        </p:blipFill>
        <p:spPr>
          <a:xfrm>
            <a:off x="-762120" y="0"/>
            <a:ext cx="10515600" cy="7086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2666880" y="457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oking from the 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PIC17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IC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PIC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457200" y="2438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ilroad rails and hanging 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PIC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533520" y="23623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ils and hanging tie from railr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PIC21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609480" y="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oking from the S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1T17:41:19Z</dcterms:created>
  <dc:creator>Greg Cossette</dc:creator>
  <dc:description/>
  <dc:language>en-US</dc:language>
  <cp:lastModifiedBy>RomaK</cp:lastModifiedBy>
  <dcterms:modified xsi:type="dcterms:W3CDTF">2015-09-04T09:40:48Z</dcterms:modified>
  <cp:revision>11</cp:revision>
  <dc:subject/>
  <dc:title>Bonners Ferry Slide, 1998</dc:title>
</cp:coreProperties>
</file>