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4.png" ContentType="image/png"/>
  <Override PartName="/ppt/media/image3.jpeg" ContentType="image/jpeg"/>
  <Override PartName="/ppt/media/image24.jpeg" ContentType="image/jpeg"/>
  <Override PartName="/ppt/media/image12.jpeg" ContentType="image/jpeg"/>
  <Override PartName="/ppt/media/image6.png" ContentType="image/png"/>
  <Override PartName="/ppt/media/camera.wav" ContentType="audio/x-wav"/>
  <Override PartName="/ppt/media/image21.jpeg" ContentType="image/jpeg"/>
  <Override PartName="/ppt/media/image27.jpeg" ContentType="image/jpeg"/>
  <Override PartName="/ppt/media/image26.jpeg" ContentType="image/jpeg"/>
  <Override PartName="/ppt/media/image25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32128-05BE-45B7-8BC1-E1E8423F74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stralia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ntinent Se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MS Library 2008-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stralia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ntinent Se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% of the conti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at Victo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at Sand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nami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ib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ttle Sand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rt Sto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rar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% of the conti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at Victo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at Sand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nami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ib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ttle Sand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rt Sto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rar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back Roa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utback Roa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ss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sslands are open habitats covered mainly in grass, but also with other plants, wildflowers and a small number of trees and low shrubs. Grasslands contain the most species of plants in Australi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ss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sslands are open habitats covered mainly in grass, but also with other plants, wildflowers and a small number of trees and low shrubs. Grasslands contain the most species of plants in Australi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mpe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empe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sb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dn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other city slides click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stralia P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sb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dn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other city slides click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stralia P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yers Ro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riginal 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yers Ro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boriginal 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tellite 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atellite 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tting to know Austral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tting to know Austral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ngitude / Latitu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ongitude / Latitu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ver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iver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m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im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opical Area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5-91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ke Barrine Walk     Snapping Turt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opical Area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5-91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ke Barrine Walk     Snapping Turt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r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e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re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arr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e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r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e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re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arr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e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0C37A-56FE-4B3C-9F26-B91B61DDC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52480" y="1600200"/>
            <a:ext cx="731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52480" y="3964320"/>
            <a:ext cx="731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37893-8A89-4F22-BDCB-0E08B508E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52480" y="160020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501160" y="160020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52480" y="396432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501160" y="396432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9CD54-D8C8-4D4D-90C8-BAA8CF5F8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52480" y="1600200"/>
            <a:ext cx="235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225680" y="1600200"/>
            <a:ext cx="235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98880" y="1600200"/>
            <a:ext cx="235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52480" y="3964320"/>
            <a:ext cx="235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225680" y="3964320"/>
            <a:ext cx="235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98880" y="3964320"/>
            <a:ext cx="235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49270-8D84-4ED6-8799-96C65B79A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A3F2D-CC8D-49D5-A13A-3507E2694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752480" y="1600200"/>
            <a:ext cx="73152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55C28-146F-4910-8C38-8DE68CED5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752480" y="1600200"/>
            <a:ext cx="7315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FB91A-6191-4705-AE03-49475E416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752480" y="1600200"/>
            <a:ext cx="3569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501160" y="1600200"/>
            <a:ext cx="3569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DB640-44DE-4567-9D4F-C0C89CADB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82B74-7677-4E6C-A47A-6E1063A7C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52480" y="274320"/>
            <a:ext cx="7315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77C91-6745-49C4-AE52-F500E6EF0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752480" y="160020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501160" y="1600200"/>
            <a:ext cx="3569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752480" y="396432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EC876-FC6C-4D82-9363-C0CB69E23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52480" y="1600200"/>
            <a:ext cx="73152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6C894-4737-4B2B-9444-687C0F7C0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752480" y="1600200"/>
            <a:ext cx="3569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501160" y="160020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501160" y="396432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7C85D-C2E0-43CA-B1CE-54390F2E3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752480" y="160020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501160" y="160020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752480" y="3964320"/>
            <a:ext cx="731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D22BD-2AA7-4D4C-8AA3-51EDDC61F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752480" y="1600200"/>
            <a:ext cx="731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752480" y="3964320"/>
            <a:ext cx="731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D3FBC-C443-4897-B45D-8FDACAFC2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752480" y="160020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501160" y="160020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752480" y="396432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501160" y="396432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50CA1-E8A9-47B2-877F-819ECBA7B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752480" y="1600200"/>
            <a:ext cx="235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225680" y="1600200"/>
            <a:ext cx="235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98880" y="1600200"/>
            <a:ext cx="235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752480" y="3964320"/>
            <a:ext cx="235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225680" y="3964320"/>
            <a:ext cx="235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98880" y="3964320"/>
            <a:ext cx="235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0E4CB-E1F4-4984-8E33-A27EDBA5D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52480" y="1600200"/>
            <a:ext cx="7315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E248C-5ED9-4FF6-A719-26C5D498B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52480" y="1600200"/>
            <a:ext cx="3569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501160" y="1600200"/>
            <a:ext cx="3569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D2D84-AA04-43AE-B65A-CFE3B7E85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57C64-8BDC-497C-B1ED-20B7E5E23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52480" y="274320"/>
            <a:ext cx="7315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D0016-5C2C-45D6-9A76-308DF11BF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52480" y="160020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501160" y="1600200"/>
            <a:ext cx="3569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52480" y="396432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8914E-7EB7-4CF3-ADEB-9F222A3AE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52480" y="1600200"/>
            <a:ext cx="3569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501160" y="160020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501160" y="396432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27E6B-2749-4BA0-A220-EB7F7F392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52480" y="160020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501160" y="160020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52480" y="3964320"/>
            <a:ext cx="731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0137F-FECA-431C-B839-1D124583F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52480" y="1600200"/>
            <a:ext cx="7315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54730-24D6-4E5A-89A2-2E9D5A3CDC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752480" y="1600200"/>
            <a:ext cx="7315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127B2-4237-40D8-8967-7D64EB5C17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bom.gov.au/" TargetMode="External"/><Relationship Id="rId2" Type="http://schemas.openxmlformats.org/officeDocument/2006/relationships/image" Target="../media/image7.pn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rainforest-australia.com/index.html" TargetMode="External"/><Relationship Id="rId2" Type="http://schemas.openxmlformats.org/officeDocument/2006/relationships/image" Target="../media/image8.jpeg"/><Relationship Id="rId3" Type="http://schemas.openxmlformats.org/officeDocument/2006/relationships/hyperlink" Target="http://rainforest-australia.com/Waterfalls.htm" TargetMode="External"/><Relationship Id="rId4" Type="http://schemas.openxmlformats.org/officeDocument/2006/relationships/image" Target="../media/image9.jpeg"/><Relationship Id="rId5" Type="http://schemas.openxmlformats.org/officeDocument/2006/relationships/hyperlink" Target="http://rainforest-australia.com/Rainforest_Walks.htm" TargetMode="External"/><Relationship Id="rId6" Type="http://schemas.openxmlformats.org/officeDocument/2006/relationships/image" Target="../media/image10.jpeg"/><Relationship Id="rId7" Type="http://schemas.openxmlformats.org/officeDocument/2006/relationships/hyperlink" Target="http://rainforest-australia.com/rainforest_turtles.htm" TargetMode="External"/><Relationship Id="rId8" Type="http://schemas.openxmlformats.org/officeDocument/2006/relationships/image" Target="../media/image11.jpeg"/><Relationship Id="rId9" Type="http://schemas.openxmlformats.org/officeDocument/2006/relationships/audio" Target="../media/camera.wav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terragalleria.com/pacific/australia/great-barrier-reef/picture.aust2550.html" TargetMode="External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hyperlink" Target="http://www.terragalleria.com/pacific/australia/great-barrier-reef/picture.aust6189.html" TargetMode="External"/><Relationship Id="rId6" Type="http://schemas.openxmlformats.org/officeDocument/2006/relationships/image" Target="../media/image15.jpeg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cc"/>
                </a:solidFill>
                <a:latin typeface="Times New Roman"/>
              </a:rPr>
              <a:t>Australia</a:t>
            </a:r>
            <a:br>
              <a:rPr sz="7200"/>
            </a:br>
            <a:r>
              <a:rPr b="1" lang="en-US" sz="1800" spc="-1" strike="noStrike">
                <a:solidFill>
                  <a:srgbClr val="0000cc"/>
                </a:solidFill>
                <a:latin typeface="Times New Roman"/>
              </a:rPr>
              <a:t>The Continent Se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5105160" y="6019560"/>
            <a:ext cx="380988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VMS Library 2008-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  <p:sndAc>
      <p:stSnd>
        <p:snd r:embed="rId1" name="camera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3300"/>
                </a:solidFill>
                <a:latin typeface="Times New Roman"/>
              </a:rPr>
              <a:t>Deser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752480" y="1600200"/>
            <a:ext cx="7315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18% of the conti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Great Victo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Great Sand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Tanam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Gib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Little Sand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Sturt Sto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Tira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5" descr="20d1202035385-deserts-world-gibson-desert-australia"/>
          <p:cNvPicPr/>
          <p:nvPr/>
        </p:nvPicPr>
        <p:blipFill>
          <a:blip r:embed="rId1"/>
          <a:stretch/>
        </p:blipFill>
        <p:spPr>
          <a:xfrm>
            <a:off x="4648320" y="2590920"/>
            <a:ext cx="3504960" cy="23270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  <p:sndAc>
      <p:stSnd>
        <p:snd r:embed="rId2" name="camera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5" descr="au32"/>
          <p:cNvPicPr/>
          <p:nvPr/>
        </p:nvPicPr>
        <p:blipFill>
          <a:blip r:embed="rId1"/>
          <a:stretch/>
        </p:blipFill>
        <p:spPr>
          <a:xfrm>
            <a:off x="0" y="838080"/>
            <a:ext cx="9144000" cy="601992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6"/>
          <p:cNvSpPr/>
          <p:nvPr/>
        </p:nvSpPr>
        <p:spPr>
          <a:xfrm>
            <a:off x="3276720" y="0"/>
            <a:ext cx="205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back Roa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  <p:sndAc>
      <p:stSnd>
        <p:snd r:embed="rId2" name="camera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8000"/>
                </a:solidFill>
                <a:latin typeface="Times New Roman"/>
              </a:rPr>
              <a:t>Grasslan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752480" y="1600200"/>
            <a:ext cx="7315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Grasslands are open habitats covered mainly in grass, but also with other plants, wildflowers and a small number of trees and low shrubs. Grasslands contain the most species of plants in Australi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5" descr="rough%20fescue%20grassland%20in%20landscape"/>
          <p:cNvPicPr/>
          <p:nvPr/>
        </p:nvPicPr>
        <p:blipFill>
          <a:blip r:embed="rId1"/>
          <a:stretch/>
        </p:blipFill>
        <p:spPr>
          <a:xfrm>
            <a:off x="3429000" y="3429000"/>
            <a:ext cx="3581280" cy="24256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  <p:sndAc>
      <p:stSnd>
        <p:snd r:embed="rId2" name="camera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mp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752480" y="1600200"/>
            <a:ext cx="7315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  <p:sndAc>
      <p:stSnd>
        <p:snd r:embed="rId1" name="camera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6" descr="au13"/>
          <p:cNvPicPr/>
          <p:nvPr/>
        </p:nvPicPr>
        <p:blipFill>
          <a:blip r:embed="rId1"/>
          <a:stretch/>
        </p:blipFill>
        <p:spPr>
          <a:xfrm>
            <a:off x="0" y="0"/>
            <a:ext cx="5181480" cy="39625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8" descr="au02"/>
          <p:cNvPicPr/>
          <p:nvPr/>
        </p:nvPicPr>
        <p:blipFill>
          <a:blip r:embed="rId2"/>
          <a:stretch/>
        </p:blipFill>
        <p:spPr>
          <a:xfrm>
            <a:off x="2895480" y="3276720"/>
            <a:ext cx="6248520" cy="358128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9"/>
          <p:cNvSpPr/>
          <p:nvPr/>
        </p:nvSpPr>
        <p:spPr>
          <a:xfrm>
            <a:off x="5928120" y="95580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isb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0"/>
          <p:cNvSpPr/>
          <p:nvPr/>
        </p:nvSpPr>
        <p:spPr>
          <a:xfrm>
            <a:off x="-90720" y="5146560"/>
            <a:ext cx="14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dn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1"/>
          <p:cNvSpPr/>
          <p:nvPr/>
        </p:nvSpPr>
        <p:spPr>
          <a:xfrm>
            <a:off x="5541840" y="1641600"/>
            <a:ext cx="3372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other city slides clic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stralia P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  <p:sndAc>
      <p:stSnd>
        <p:snd r:embed="rId3" name="camera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5" descr="au46"/>
          <p:cNvPicPr/>
          <p:nvPr/>
        </p:nvPicPr>
        <p:blipFill>
          <a:blip r:embed="rId1"/>
          <a:stretch/>
        </p:blipFill>
        <p:spPr>
          <a:xfrm>
            <a:off x="0" y="1447920"/>
            <a:ext cx="3886200" cy="54100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7" descr="au36"/>
          <p:cNvPicPr/>
          <p:nvPr/>
        </p:nvPicPr>
        <p:blipFill>
          <a:blip r:embed="rId2"/>
          <a:stretch/>
        </p:blipFill>
        <p:spPr>
          <a:xfrm>
            <a:off x="3886200" y="1447920"/>
            <a:ext cx="5257800" cy="541008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8"/>
          <p:cNvSpPr/>
          <p:nvPr/>
        </p:nvSpPr>
        <p:spPr>
          <a:xfrm>
            <a:off x="519120" y="422280"/>
            <a:ext cx="162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yers R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9"/>
          <p:cNvSpPr/>
          <p:nvPr/>
        </p:nvSpPr>
        <p:spPr>
          <a:xfrm>
            <a:off x="5317920" y="345960"/>
            <a:ext cx="198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original 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  <p:sndAc>
      <p:stSnd>
        <p:snd r:embed="rId3" name="camera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Times New Roman"/>
              </a:rPr>
              <a:t>Satellite View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5" descr="satellite-image-of-australia"/>
          <p:cNvPicPr/>
          <p:nvPr/>
        </p:nvPicPr>
        <p:blipFill>
          <a:blip r:embed="rId1"/>
          <a:stretch/>
        </p:blipFill>
        <p:spPr>
          <a:xfrm>
            <a:off x="3429000" y="1447920"/>
            <a:ext cx="4971960" cy="467676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  <p:sndAc>
      <p:stSnd>
        <p:snd r:embed="rId2" name="camera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Times New Roman"/>
              </a:rPr>
              <a:t>Getting to know Australi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752480" y="1600200"/>
            <a:ext cx="7315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" descr="Australia political map"/>
          <p:cNvPicPr/>
          <p:nvPr/>
        </p:nvPicPr>
        <p:blipFill>
          <a:blip r:embed="rId1"/>
          <a:stretch/>
        </p:blipFill>
        <p:spPr>
          <a:xfrm>
            <a:off x="3048120" y="1600200"/>
            <a:ext cx="4506840" cy="48769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  <p:sndAc>
      <p:stSnd>
        <p:snd r:embed="rId2" name="camera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cc"/>
                </a:solidFill>
                <a:latin typeface="Times New Roman"/>
              </a:rPr>
              <a:t>Longitude / Latitud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world image"/>
          <p:cNvPicPr/>
          <p:nvPr/>
        </p:nvPicPr>
        <p:blipFill>
          <a:blip r:embed="rId1"/>
          <a:stretch/>
        </p:blipFill>
        <p:spPr>
          <a:xfrm>
            <a:off x="1905120" y="1447920"/>
            <a:ext cx="6400800" cy="29113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  <p:sndAc>
      <p:stSnd>
        <p:snd r:embed="rId2" name="camera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Times New Roman"/>
              </a:rPr>
              <a:t>Rivers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752480" y="1600200"/>
            <a:ext cx="7315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5" descr="A map of Australia showing major river systems"/>
          <p:cNvPicPr/>
          <p:nvPr/>
        </p:nvPicPr>
        <p:blipFill>
          <a:blip r:embed="rId1"/>
          <a:stretch/>
        </p:blipFill>
        <p:spPr>
          <a:xfrm>
            <a:off x="3124080" y="1752480"/>
            <a:ext cx="4762800" cy="43531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  <p:sndAc>
      <p:stSnd>
        <p:snd r:embed="rId2" name="camera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m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6" descr="Australia Climate Zone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895480" y="1371600"/>
            <a:ext cx="5410440" cy="489096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  <p:sndAc>
      <p:stSnd>
        <p:snd r:embed="rId3" name="camera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ropical Area </a:t>
            </a:r>
            <a:br>
              <a:rPr sz="40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5-9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828800" y="1600200"/>
            <a:ext cx="7315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ke Barrine Walk     Snapping Tur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5" descr="Rainforest Canopy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905120" y="2362320"/>
            <a:ext cx="2209680" cy="14144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" descr="Barron Falls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334120" y="2438280"/>
            <a:ext cx="2133360" cy="14144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9" descr="Lake Barrine Walk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276720" y="4429080"/>
            <a:ext cx="1628640" cy="24289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1" descr="Australian snapping turtle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095880" y="4572000"/>
            <a:ext cx="2743200" cy="17334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  <p:sndAc>
      <p:stSnd>
        <p:snd r:embed="rId9" name="camera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5" descr="Aerial view of a sand bar  near Cairns. The Great Barrier Reef, Queensland, Australia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3352680" cy="22860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7" descr="Aerial view of an island  near Cairns. The Great Barrier Reef, Queensland, Australia"/>
          <p:cNvPicPr/>
          <p:nvPr/>
        </p:nvPicPr>
        <p:blipFill>
          <a:blip r:embed="rId3"/>
          <a:stretch/>
        </p:blipFill>
        <p:spPr>
          <a:xfrm>
            <a:off x="0" y="2286000"/>
            <a:ext cx="6019920" cy="45720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9" descr="Aerial view of a sand bar and reef near Cairns. The Great Barrier Reef, Queensland, Australia"/>
          <p:cNvPicPr/>
          <p:nvPr/>
        </p:nvPicPr>
        <p:blipFill>
          <a:blip r:embed="rId4"/>
          <a:stretch/>
        </p:blipFill>
        <p:spPr>
          <a:xfrm>
            <a:off x="3352680" y="0"/>
            <a:ext cx="3886200" cy="23623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1" descr="Island. The Great Barrier Reef, Queensland, Australia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201080" y="0"/>
            <a:ext cx="1942920" cy="236232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12"/>
          <p:cNvSpPr/>
          <p:nvPr/>
        </p:nvSpPr>
        <p:spPr>
          <a:xfrm>
            <a:off x="6842160" y="3394080"/>
            <a:ext cx="1046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e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rr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  <p:sndAc>
      <p:stSnd>
        <p:snd r:embed="rId7" name="camera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Underwater view of Coral and fish. The Great Barrier Reef, Queensland, Australia"/>
          <p:cNvPicPr/>
          <p:nvPr/>
        </p:nvPicPr>
        <p:blipFill>
          <a:blip r:embed="rId1"/>
          <a:stretch/>
        </p:blipFill>
        <p:spPr>
          <a:xfrm>
            <a:off x="0" y="3276720"/>
            <a:ext cx="3429000" cy="35812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7" descr="Scuba divers and huge potate cod fish. The Great Barrier Reef, Queensland, Australia"/>
          <p:cNvPicPr/>
          <p:nvPr/>
        </p:nvPicPr>
        <p:blipFill>
          <a:blip r:embed="rId2"/>
          <a:stretch/>
        </p:blipFill>
        <p:spPr>
          <a:xfrm>
            <a:off x="3429000" y="3276720"/>
            <a:ext cx="2819520" cy="35812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9" descr="from the scorpian fish family related to the stone fish"/>
          <p:cNvPicPr/>
          <p:nvPr/>
        </p:nvPicPr>
        <p:blipFill>
          <a:blip r:embed="rId3"/>
          <a:stretch/>
        </p:blipFill>
        <p:spPr>
          <a:xfrm>
            <a:off x="6248520" y="3276720"/>
            <a:ext cx="2895480" cy="35812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1" descr="adam"/>
          <p:cNvPicPr/>
          <p:nvPr/>
        </p:nvPicPr>
        <p:blipFill>
          <a:blip r:embed="rId4"/>
          <a:stretch/>
        </p:blipFill>
        <p:spPr>
          <a:xfrm>
            <a:off x="0" y="0"/>
            <a:ext cx="4114800" cy="32767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3" descr="click here to enlarge"/>
          <p:cNvPicPr/>
          <p:nvPr/>
        </p:nvPicPr>
        <p:blipFill>
          <a:blip r:embed="rId5"/>
          <a:stretch/>
        </p:blipFill>
        <p:spPr>
          <a:xfrm>
            <a:off x="5943600" y="0"/>
            <a:ext cx="3200400" cy="327672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14"/>
          <p:cNvSpPr/>
          <p:nvPr/>
        </p:nvSpPr>
        <p:spPr>
          <a:xfrm>
            <a:off x="4403880" y="498600"/>
            <a:ext cx="1046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e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rr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  <p:sndAc>
      <p:stSnd>
        <p:snd r:embed="rId6" name="camera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8T18:35:40Z</dcterms:created>
  <dc:creator>Mr. Clutter</dc:creator>
  <dc:description/>
  <dc:language>en-US</dc:language>
  <cp:lastModifiedBy>RomaK</cp:lastModifiedBy>
  <dcterms:modified xsi:type="dcterms:W3CDTF">2015-09-04T09:40:42Z</dcterms:modified>
  <cp:revision>13</cp:revision>
  <dc:subject/>
  <dc:title>Geography of Australia</dc:title>
</cp:coreProperties>
</file>