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6.png" ContentType="image/png"/>
  <Override PartName="/ppt/media/camera.wav" ContentType="audio/x-wav"/>
  <Override PartName="/ppt/media/image21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D866-A8BA-414B-8777-D55AA52A0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% of the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a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b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an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rt S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r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back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sb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city slides cl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yers 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riginal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ting to know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-91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454-5936-41F1-8411-68588090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2C1-537A-4F67-8CE9-290518F9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EDE-F085-4645-831C-7A3F2752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0D9-D285-4987-8A0F-596611C1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3299-F36A-4A62-A0D1-53E56657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CB6B-447A-47B0-9291-E2B4F0E0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ADFA-719A-41DB-A63B-1874160C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CCD0-F67C-4D19-B9EA-CFE5AD51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5C32-86FD-4D29-A42A-DAC298BC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07E8-5557-4131-9059-185F0A96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0F20-3953-42C6-99F0-9AED2D73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80A-744A-420D-A548-71924A95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7AAE-D319-4FC0-8BDA-326C6A85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DA48-9F6C-4ECB-81E6-AF7CBF87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D349-35AF-4F67-BB1D-B37AA6CC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A78B-4FA5-4AC7-9806-2A33B83B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5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8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5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8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6B69-00C8-4821-82EC-F2036021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782-3264-4B98-BA78-8FCEA768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EF4-4C2B-418F-99D2-241A3995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537-88D2-478D-8DA7-8DFE1360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2BB-F8E2-4BC5-871F-D7D86C8A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12C-5AA4-4680-9953-9F3C198A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11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51F-B9A7-47E2-94F1-9C581C32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11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C17-077F-4730-8A3C-90A8A33E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CCA7-3D63-4F53-9039-A10903B80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2092-C7F4-487B-9D42-1DF13CAA2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m.gov.au/" TargetMode="Externa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ainforest-australia.com/index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ainforest-australia.com/Waterfalls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rainforest-australia.com/Rainforest_Walks.htm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rainforest-australia.com/rainforest_turtles.htm" TargetMode="External"/><Relationship Id="rId8" Type="http://schemas.openxmlformats.org/officeDocument/2006/relationships/image" Target="../media/image11.jpe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erragalleria.com/pacific/australia/great-barrier-reef/picture.aust255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terragalleria.com/pacific/australia/great-barrier-reef/picture.aust6189.html" TargetMode="External"/><Relationship Id="rId6" Type="http://schemas.openxmlformats.org/officeDocument/2006/relationships/image" Target="../media/image15.jpe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Australia</a:t>
            </a:r>
            <a:br>
              <a:rPr sz="7200"/>
            </a:b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The Continent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5160" y="6019560"/>
            <a:ext cx="38098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18% of the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reat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an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Gi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Little San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Sturt St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Ti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0d1202035385-deserts-world-gibson-desert-australia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32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au3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3276720" y="0"/>
            <a:ext cx="20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back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asslands are open habitats covered mainly in grass, but also with other plants, wildflowers and a small number of trees and low shrubs. Grasslands contain the most species of plants in Austra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rough%20fescue%20grassland%20in%20landscape"/>
          <p:cNvPicPr/>
          <p:nvPr/>
        </p:nvPicPr>
        <p:blipFill>
          <a:blip r:embed="rId1"/>
          <a:stretch/>
        </p:blipFill>
        <p:spPr>
          <a:xfrm>
            <a:off x="3429000" y="342900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au13"/>
          <p:cNvPicPr/>
          <p:nvPr/>
        </p:nvPicPr>
        <p:blipFill>
          <a:blip r:embed="rId1"/>
          <a:stretch/>
        </p:blipFill>
        <p:spPr>
          <a:xfrm>
            <a:off x="0" y="0"/>
            <a:ext cx="518148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u02"/>
          <p:cNvPicPr/>
          <p:nvPr/>
        </p:nvPicPr>
        <p:blipFill>
          <a:blip r:embed="rId2"/>
          <a:stretch/>
        </p:blipFill>
        <p:spPr>
          <a:xfrm>
            <a:off x="2895480" y="3276720"/>
            <a:ext cx="6248520" cy="358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5928120" y="955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sb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-90720" y="51465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541840" y="1641600"/>
            <a:ext cx="33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ther city slides c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au46"/>
          <p:cNvPicPr/>
          <p:nvPr/>
        </p:nvPicPr>
        <p:blipFill>
          <a:blip r:embed="rId1"/>
          <a:stretch/>
        </p:blipFill>
        <p:spPr>
          <a:xfrm>
            <a:off x="0" y="1447920"/>
            <a:ext cx="3886200" cy="5410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au36"/>
          <p:cNvPicPr/>
          <p:nvPr/>
        </p:nvPicPr>
        <p:blipFill>
          <a:blip r:embed="rId2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19120" y="422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er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317920" y="34596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iginal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atellite-image-of-australia"/>
          <p:cNvPicPr/>
          <p:nvPr/>
        </p:nvPicPr>
        <p:blipFill>
          <a:blip r:embed="rId1"/>
          <a:stretch/>
        </p:blipFill>
        <p:spPr>
          <a:xfrm>
            <a:off x="3429000" y="1447920"/>
            <a:ext cx="497196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Getting to know Austral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ustralia political map"/>
          <p:cNvPicPr/>
          <p:nvPr/>
        </p:nvPicPr>
        <p:blipFill>
          <a:blip r:embed="rId1"/>
          <a:stretch/>
        </p:blipFill>
        <p:spPr>
          <a:xfrm>
            <a:off x="3048120" y="1600200"/>
            <a:ext cx="450684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Longitude / Lati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world image"/>
          <p:cNvPicPr/>
          <p:nvPr/>
        </p:nvPicPr>
        <p:blipFill>
          <a:blip r:embed="rId1"/>
          <a:stretch/>
        </p:blipFill>
        <p:spPr>
          <a:xfrm>
            <a:off x="1905120" y="1447920"/>
            <a:ext cx="6400800" cy="291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ive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A map of Australia showing major river systems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4353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ustralia Climate Zon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371600"/>
            <a:ext cx="5410440" cy="48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opical Area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-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8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ke Barrine Walk     Snapping Tur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ainforest Can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362320"/>
            <a:ext cx="2209680" cy="141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Barron Fall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2438280"/>
            <a:ext cx="2133360" cy="141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Lake Barrine Wal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4429080"/>
            <a:ext cx="1628640" cy="24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Australian snapping turt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572000"/>
            <a:ext cx="2743200" cy="1733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9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erial view of a sand bar  near Cairns. The Great Barrier Reef, Queensland, Austral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Aerial view of an island  near Cairns. The Great Barrier Reef, Queensland, Australia"/>
          <p:cNvPicPr/>
          <p:nvPr/>
        </p:nvPicPr>
        <p:blipFill>
          <a:blip r:embed="rId3"/>
          <a:stretch/>
        </p:blipFill>
        <p:spPr>
          <a:xfrm>
            <a:off x="0" y="2286000"/>
            <a:ext cx="6019920" cy="45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Aerial view of a sand bar and reef near Cairns. The Great Barrier Reef, Queensland, Australia"/>
          <p:cNvPicPr/>
          <p:nvPr/>
        </p:nvPicPr>
        <p:blipFill>
          <a:blip r:embed="rId4"/>
          <a:stretch/>
        </p:blipFill>
        <p:spPr>
          <a:xfrm>
            <a:off x="3352680" y="0"/>
            <a:ext cx="3886200" cy="2362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sland. The Great Barrier Reef, Queensland, Austral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01080" y="0"/>
            <a:ext cx="194292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6842160" y="339408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7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Underwater view of Coral and fish. The Great Barrier Reef, Queensland, Australia"/>
          <p:cNvPicPr/>
          <p:nvPr/>
        </p:nvPicPr>
        <p:blipFill>
          <a:blip r:embed="rId1"/>
          <a:stretch/>
        </p:blipFill>
        <p:spPr>
          <a:xfrm>
            <a:off x="0" y="327672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Scuba divers and huge potate cod fish. The Great Barrier Reef, Queensland, Australia"/>
          <p:cNvPicPr/>
          <p:nvPr/>
        </p:nvPicPr>
        <p:blipFill>
          <a:blip r:embed="rId2"/>
          <a:stretch/>
        </p:blipFill>
        <p:spPr>
          <a:xfrm>
            <a:off x="3429000" y="3276720"/>
            <a:ext cx="2819520" cy="358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from the scorpian fish family related to the stone fish"/>
          <p:cNvPicPr/>
          <p:nvPr/>
        </p:nvPicPr>
        <p:blipFill>
          <a:blip r:embed="rId3"/>
          <a:stretch/>
        </p:blipFill>
        <p:spPr>
          <a:xfrm>
            <a:off x="6248520" y="327672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dam"/>
          <p:cNvPicPr/>
          <p:nvPr/>
        </p:nvPicPr>
        <p:blipFill>
          <a:blip r:embed="rId4"/>
          <a:stretch/>
        </p:blipFill>
        <p:spPr>
          <a:xfrm>
            <a:off x="0" y="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lick here to enlarge"/>
          <p:cNvPicPr/>
          <p:nvPr/>
        </p:nvPicPr>
        <p:blipFill>
          <a:blip r:embed="rId5"/>
          <a:stretch/>
        </p:blipFill>
        <p:spPr>
          <a:xfrm>
            <a:off x="5943600" y="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403880" y="498600"/>
            <a:ext cx="10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6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35:40Z</dcterms:created>
  <dc:creator>Mr. Clutter</dc:creator>
  <dc:description/>
  <dc:language>en-US</dc:language>
  <cp:lastModifiedBy>RomaK</cp:lastModifiedBy>
  <dcterms:modified xsi:type="dcterms:W3CDTF">2015-09-04T09:40:42Z</dcterms:modified>
  <cp:revision>13</cp:revision>
  <dc:subject/>
  <dc:title>Geography of Australia</dc:title>
</cp:coreProperties>
</file>