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12.jpeg" ContentType="image/jpeg"/>
  <Override PartName="/ppt/media/image6.png" ContentType="image/png"/>
  <Override PartName="/ppt/media/camera.wav" ContentType="audio/x-wav"/>
  <Override PartName="/ppt/media/image21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FC9E-5DC3-4247-828A-0D352B2A4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28A-23EF-439F-9509-05928C5C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0F5-997A-4F51-8A68-6B197613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01E-42A6-456B-A753-AD2808E5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DBC-250C-43A8-BC21-D0C340DF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0D87-B497-4F38-8B9A-C8E59BB3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6173-2B0C-4153-B175-69BA61C2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8C73-EE43-4BA3-9CD9-9350EA43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3A9A-2FC2-43BF-ADE6-3C73C153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C8B3-F56E-4492-8F58-020BD889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B4D2-1C12-4459-98A9-29505EE4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FC57-FA9A-42AA-A314-2F23C078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698-411D-4D0F-8AB7-D240E7E3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BFC4-EEDA-4A90-9F6C-3D742992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1535-35DD-442A-BB30-DAF7C3D4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06FB-9708-4EF2-B17D-FCE05646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1F49-EB9D-4DB1-B0A0-7710A87C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C4B2-8886-463E-B3B5-8F399B5B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B25-BEB2-4DC0-9E9D-A260F87D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527-7D07-461E-AABE-E96DD64F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F55-8042-4345-AAD8-D0355AF5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987-2867-44C5-BE91-8CA74B80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7D5-78ED-4A70-AB84-EB38B2BE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365-F5A6-446A-B906-6611CA7B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56B-1653-4EB1-950D-2816FBD8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ED80-14CA-4AFE-A08F-3A165F936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F184-4D20-4772-AC75-54C261A0D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m.gov.au/" TargetMode="External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ainforest-australia.com/index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ainforest-australia.com/Waterfalls.htm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rainforest-australia.com/Rainforest_Walks.htm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rainforest-australia.com/rainforest_turtles.htm" TargetMode="External"/><Relationship Id="rId8" Type="http://schemas.openxmlformats.org/officeDocument/2006/relationships/image" Target="../media/image11.jpe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rragalleria.com/pacific/australia/great-barrier-reef/picture.aust2550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terragalleria.com/pacific/australia/great-barrier-reef/picture.aust6189.html" TargetMode="External"/><Relationship Id="rId6" Type="http://schemas.openxmlformats.org/officeDocument/2006/relationships/image" Target="../media/image15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Australia</a:t>
            </a:r>
            <a:br>
              <a:rPr sz="7200"/>
            </a:b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The Continent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5160" y="60195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8% of the 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an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i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Little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Sturt S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i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0d1202035385-deserts-world-gibson-desert-australia"/>
          <p:cNvPicPr/>
          <p:nvPr/>
        </p:nvPicPr>
        <p:blipFill>
          <a:blip r:embed="rId1"/>
          <a:stretch/>
        </p:blipFill>
        <p:spPr>
          <a:xfrm>
            <a:off x="4648320" y="2590920"/>
            <a:ext cx="3504960" cy="232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u3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3276720" y="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back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rough%20fescue%20grassland%20in%20landscape"/>
          <p:cNvPicPr/>
          <p:nvPr/>
        </p:nvPicPr>
        <p:blipFill>
          <a:blip r:embed="rId1"/>
          <a:stretch/>
        </p:blipFill>
        <p:spPr>
          <a:xfrm>
            <a:off x="3429000" y="3429000"/>
            <a:ext cx="358128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au13"/>
          <p:cNvPicPr/>
          <p:nvPr/>
        </p:nvPicPr>
        <p:blipFill>
          <a:blip r:embed="rId1"/>
          <a:stretch/>
        </p:blipFill>
        <p:spPr>
          <a:xfrm>
            <a:off x="0" y="0"/>
            <a:ext cx="5181480" cy="3962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u02"/>
          <p:cNvPicPr/>
          <p:nvPr/>
        </p:nvPicPr>
        <p:blipFill>
          <a:blip r:embed="rId2"/>
          <a:stretch/>
        </p:blipFill>
        <p:spPr>
          <a:xfrm>
            <a:off x="2895480" y="3276720"/>
            <a:ext cx="6248520" cy="3581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5928120" y="955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sb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-90720" y="51465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541840" y="1641600"/>
            <a:ext cx="33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ther city slides cli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alia 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au46"/>
          <p:cNvPicPr/>
          <p:nvPr/>
        </p:nvPicPr>
        <p:blipFill>
          <a:blip r:embed="rId1"/>
          <a:stretch/>
        </p:blipFill>
        <p:spPr>
          <a:xfrm>
            <a:off x="0" y="1447920"/>
            <a:ext cx="3886200" cy="5410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u36"/>
          <p:cNvPicPr/>
          <p:nvPr/>
        </p:nvPicPr>
        <p:blipFill>
          <a:blip r:embed="rId2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19120" y="422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yer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17920" y="3459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iginal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atellite-image-of-australia"/>
          <p:cNvPicPr/>
          <p:nvPr/>
        </p:nvPicPr>
        <p:blipFill>
          <a:blip r:embed="rId1"/>
          <a:stretch/>
        </p:blipFill>
        <p:spPr>
          <a:xfrm>
            <a:off x="3429000" y="1447920"/>
            <a:ext cx="4971960" cy="4676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Getting to know Austral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ustralia political map"/>
          <p:cNvPicPr/>
          <p:nvPr/>
        </p:nvPicPr>
        <p:blipFill>
          <a:blip r:embed="rId1"/>
          <a:stretch/>
        </p:blipFill>
        <p:spPr>
          <a:xfrm>
            <a:off x="3048120" y="1600200"/>
            <a:ext cx="450684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Longitude / La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world image"/>
          <p:cNvPicPr/>
          <p:nvPr/>
        </p:nvPicPr>
        <p:blipFill>
          <a:blip r:embed="rId1"/>
          <a:stretch/>
        </p:blipFill>
        <p:spPr>
          <a:xfrm>
            <a:off x="1905120" y="1447920"/>
            <a:ext cx="6400800" cy="291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ive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A map of Australia showing major river systems"/>
          <p:cNvPicPr/>
          <p:nvPr/>
        </p:nvPicPr>
        <p:blipFill>
          <a:blip r:embed="rId1"/>
          <a:stretch/>
        </p:blipFill>
        <p:spPr>
          <a:xfrm>
            <a:off x="3124080" y="1752480"/>
            <a:ext cx="4762800" cy="435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ustralia Climate Zo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371600"/>
            <a:ext cx="5410440" cy="4890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-9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ainforest Can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362320"/>
            <a:ext cx="2209680" cy="141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arron Fal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2438280"/>
            <a:ext cx="2133360" cy="141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Lake Barrine Wal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4429080"/>
            <a:ext cx="1628640" cy="24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Australian snapping turt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572000"/>
            <a:ext cx="27432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9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erial view of a sand bar  near Cairns. The Great Barrier Reef, Queensland, Austral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erial view of an island  near Cairns. The Great Barrier Reef, Queensland, Australia"/>
          <p:cNvPicPr/>
          <p:nvPr/>
        </p:nvPicPr>
        <p:blipFill>
          <a:blip r:embed="rId3"/>
          <a:stretch/>
        </p:blipFill>
        <p:spPr>
          <a:xfrm>
            <a:off x="0" y="2286000"/>
            <a:ext cx="6019920" cy="457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erial view of a sand bar and reef near Cairns. The Great Barrier Reef, Queensland, Australia"/>
          <p:cNvPicPr/>
          <p:nvPr/>
        </p:nvPicPr>
        <p:blipFill>
          <a:blip r:embed="rId4"/>
          <a:stretch/>
        </p:blipFill>
        <p:spPr>
          <a:xfrm>
            <a:off x="3352680" y="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sland. The Great Barrier Reef, Queensland, Austral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01080" y="0"/>
            <a:ext cx="1942920" cy="2362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6842160" y="339408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7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Underwater view of Coral and fish. The Great Barrier Reef, Queensland, Australia"/>
          <p:cNvPicPr/>
          <p:nvPr/>
        </p:nvPicPr>
        <p:blipFill>
          <a:blip r:embed="rId1"/>
          <a:stretch/>
        </p:blipFill>
        <p:spPr>
          <a:xfrm>
            <a:off x="0" y="3276720"/>
            <a:ext cx="3429000" cy="358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cuba divers and huge potate cod fish. The Great Barrier Reef, Queensland, Australia"/>
          <p:cNvPicPr/>
          <p:nvPr/>
        </p:nvPicPr>
        <p:blipFill>
          <a:blip r:embed="rId2"/>
          <a:stretch/>
        </p:blipFill>
        <p:spPr>
          <a:xfrm>
            <a:off x="3429000" y="32767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from the scorpian fish family related to the stone fish"/>
          <p:cNvPicPr/>
          <p:nvPr/>
        </p:nvPicPr>
        <p:blipFill>
          <a:blip r:embed="rId3"/>
          <a:stretch/>
        </p:blipFill>
        <p:spPr>
          <a:xfrm>
            <a:off x="6248520" y="327672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dam"/>
          <p:cNvPicPr/>
          <p:nvPr/>
        </p:nvPicPr>
        <p:blipFill>
          <a:blip r:embed="rId4"/>
          <a:stretch/>
        </p:blipFill>
        <p:spPr>
          <a:xfrm>
            <a:off x="0" y="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lick here to enlarge"/>
          <p:cNvPicPr/>
          <p:nvPr/>
        </p:nvPicPr>
        <p:blipFill>
          <a:blip r:embed="rId5"/>
          <a:stretch/>
        </p:blipFill>
        <p:spPr>
          <a:xfrm>
            <a:off x="5943600" y="0"/>
            <a:ext cx="320040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4403880" y="49860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6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35:40Z</dcterms:created>
  <dc:creator>Mr. Clutter</dc:creator>
  <dc:description/>
  <dc:language>en-US</dc:language>
  <cp:lastModifiedBy>RomaK</cp:lastModifiedBy>
  <dcterms:modified xsi:type="dcterms:W3CDTF">2015-09-04T09:40:42Z</dcterms:modified>
  <cp:revision>13</cp:revision>
  <dc:subject/>
  <dc:title>Geography of Australia</dc:title>
</cp:coreProperties>
</file>