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100D-39BF-447B-8933-6378DD4D7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153-7FD7-43AE-A760-06429B46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6E3-0C49-4EFE-80AE-1E1DC015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8EA-491D-4AEE-9A0C-31400811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3AB-6733-4136-8392-4BD81939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56F-43DF-47DA-BFCF-EF43E9D3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B10-5192-4CBA-9249-90C012B4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2BE-0B9C-46D6-8AE4-24DC13D1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7B8-CC26-4AA2-8464-2B970BA9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1FF-7C50-48BB-AA8D-27B3A29A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C7A-AB24-4BED-92E6-B7117D0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B63-BEA1-462B-9789-9873516A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97D-FC00-4386-B960-7C57319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58DE-FEB8-4692-B902-52D7E1EDB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ftan.com/thermodynamics/AIR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mosphere"/>
          <p:cNvPicPr/>
          <p:nvPr/>
        </p:nvPicPr>
        <p:blipFill>
          <a:blip r:embed="rId1"/>
          <a:stretch/>
        </p:blipFill>
        <p:spPr>
          <a:xfrm>
            <a:off x="1066680" y="596880"/>
            <a:ext cx="7086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tmosphere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7543800" y="1371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atmos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mosphere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16765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tmos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4267080" cy="236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irgraph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RomaK</cp:lastModifiedBy>
  <dcterms:modified xsi:type="dcterms:W3CDTF">2015-09-04T09:40:35Z</dcterms:modified>
  <cp:revision>10</cp:revision>
  <dc:subject/>
  <dc:title>Atmosphere</dc:title>
</cp:coreProperties>
</file>