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03B6-A824-46D5-8DBB-26803D266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0B7-5535-4AD8-9EA6-0703C665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2D0-83D3-4A00-839D-E8A31600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003-EB60-4A8F-A161-0042A8FC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C8F-AB6F-467B-8D00-C73BE3F3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9AD-3C77-43A4-BFD5-4715F31C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1BF-AB2C-4A5F-A9C6-D7966D6E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40C-B2A1-4CB4-A6D2-A1C6FDBC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02B-F169-4778-912B-8FCD8EF7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DF5-1E69-49B0-9BB0-AF7BCF20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FBD-2EB2-4953-B668-1F599591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9D0-D752-4074-9BB8-C8AC09C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FFE-C3C9-4712-87D5-3A700B3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B807-D537-48BC-95F1-BB92BF2A8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aftan.com/thermodynamics/AIR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mosphere"/>
          <p:cNvPicPr/>
          <p:nvPr/>
        </p:nvPicPr>
        <p:blipFill>
          <a:blip r:embed="rId1"/>
          <a:stretch/>
        </p:blipFill>
        <p:spPr>
          <a:xfrm>
            <a:off x="1066680" y="596880"/>
            <a:ext cx="7086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tmosphere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7543800" y="1371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atmos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mosphere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16765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572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atmos"/>
          <p:cNvPicPr/>
          <p:nvPr/>
        </p:nvPicPr>
        <p:blipFill>
          <a:blip r:embed="rId1"/>
          <a:stretch/>
        </p:blipFill>
        <p:spPr>
          <a:xfrm>
            <a:off x="4419720" y="12193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4267080" cy="236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irgraph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RomaK</cp:lastModifiedBy>
  <dcterms:modified xsi:type="dcterms:W3CDTF">2015-09-04T09:40:35Z</dcterms:modified>
  <cp:revision>10</cp:revision>
  <dc:subject/>
  <dc:title>Atmosphere</dc:title>
</cp:coreProperties>
</file>