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C5BE-80CD-4711-BC4C-1576874CC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76B-1C2E-4362-B707-DDAF46F2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139-9EBE-4CB2-B174-4B382F9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DB5-8A04-4BC2-B30A-6C964466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F34-19F3-43E1-B1A7-E6C6BB5D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90D-FEDA-4584-9C4F-ACC22BA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9C6-7AF7-4B45-AF43-33C9C3BD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7C1-A4C2-4475-9FAF-E4A8E8E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9FC-31D5-4BAB-8FA8-CB3F4D21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787-62C6-4135-BE9B-6FBA5224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879-505A-4066-9241-7562B8A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077-F68E-489F-8039-6A47FD2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DBA-DDBC-44A6-BFCF-083A3BD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1723-4D91-4EB1-A8AE-2EDDC63E1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aftan.com/thermodynamics/AIR.GIF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rounding air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mosphere"/>
          <p:cNvPicPr/>
          <p:nvPr/>
        </p:nvPicPr>
        <p:blipFill>
          <a:blip r:embed="rId1"/>
          <a:stretch/>
        </p:blipFill>
        <p:spPr>
          <a:xfrm>
            <a:off x="1066680" y="596880"/>
            <a:ext cx="70866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4 layer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the troposphere, mesosphere, thermosphere, and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tmosphere"/>
          <p:cNvPicPr/>
          <p:nvPr/>
        </p:nvPicPr>
        <p:blipFill>
          <a:blip r:embed="rId1"/>
          <a:stretch/>
        </p:blipFill>
        <p:spPr>
          <a:xfrm>
            <a:off x="4191120" y="13716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7543800" y="13716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layer that is closest to the surfac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0 to 1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atmos"/>
          <p:cNvPicPr/>
          <p:nvPr/>
        </p:nvPicPr>
        <p:blipFill>
          <a:blip r:embed="rId1"/>
          <a:stretch/>
        </p:blipFill>
        <p:spPr>
          <a:xfrm>
            <a:off x="0" y="30492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sits on top of the trop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10 km to around 2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contains the ozone layer, which protects us from harmful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atmosphere"/>
          <p:cNvPicPr/>
          <p:nvPr/>
        </p:nvPicPr>
        <p:blipFill>
          <a:blip r:embed="rId1"/>
          <a:stretch/>
        </p:blipFill>
        <p:spPr>
          <a:xfrm>
            <a:off x="4343400" y="1371600"/>
            <a:ext cx="4800600" cy="358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167652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elevation ranges from 25 to 10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4572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highest layer of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 ranges from 10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most small meteorites burn up and is also the location in the atmosphere that the northern lights occur (aurora bore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atmos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different types of gasses in the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include nitrogen, oxygen, argon, carbon dioxide and other noble g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AI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4267080" cy="236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airgraph"/>
          <p:cNvPicPr/>
          <p:nvPr/>
        </p:nvPicPr>
        <p:blipFill>
          <a:blip r:embed="rId3"/>
          <a:stretch/>
        </p:blipFill>
        <p:spPr>
          <a:xfrm>
            <a:off x="0" y="914400"/>
            <a:ext cx="4648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RomaK</cp:lastModifiedBy>
  <dcterms:modified xsi:type="dcterms:W3CDTF">2015-09-04T09:40:35Z</dcterms:modified>
  <cp:revision>10</cp:revision>
  <dc:subject/>
  <dc:title>Atmosphere</dc:title>
</cp:coreProperties>
</file>