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AB61-BE2A-4C10-9E90-ED93A68F1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C30-FAF2-450D-98F8-B85AED21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DF8-94B1-45D2-B607-0026AD7F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0BA-6E34-4524-B2BE-33BB5AF0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6F8-B8FF-4BF7-A3A7-0552C334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573-3EBB-417E-B467-6F368558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83B-E9DE-4368-9D85-98ECB28D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243-9A06-4C46-8F1B-33E88E19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75E-7B29-4143-9AF4-FD4C7E6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359-FF55-4096-9124-DFDC2A17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DB7-0E4C-4C9F-B466-70282C8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351-4BF6-46C3-8432-B93E730B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D24-549A-4291-8CA7-83682D17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A72E-BEE2-4B40-8C64-76F8FB814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ftan.com/thermodynamics/AIR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mosphere"/>
          <p:cNvPicPr/>
          <p:nvPr/>
        </p:nvPicPr>
        <p:blipFill>
          <a:blip r:embed="rId1"/>
          <a:stretch/>
        </p:blipFill>
        <p:spPr>
          <a:xfrm>
            <a:off x="1066680" y="596880"/>
            <a:ext cx="7086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tmosphere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7543800" y="1371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atmos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mosphere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16765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tmos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4267080" cy="236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irgraph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RomaK</cp:lastModifiedBy>
  <dcterms:modified xsi:type="dcterms:W3CDTF">2015-09-04T09:40:35Z</dcterms:modified>
  <cp:revision>10</cp:revision>
  <dc:subject/>
  <dc:title>Atmosphere</dc:title>
</cp:coreProperties>
</file>