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C1D2-4940-453F-A95F-4881DE10C3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E72-417F-4697-ACF4-70E70552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5F8-61CF-4E73-B1AF-F7675DAA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BB0-8995-4B34-9EFB-DDA56447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E13-6FBD-40EA-B47D-ECEC9A5D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82B-F5F9-4911-8143-1409CCA7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905-BE84-4521-8A3D-D8A3EA1E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FDA-75FF-4BCC-A8F2-EDC11A93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863-E70F-43DA-9512-8709773E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ABA-AB9A-40B3-B0D9-3D4A62F3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ECB-F129-41C9-B706-B74355B5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13E-A4DC-4646-B6D0-4F4BA640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8B1-C51B-425D-8599-65A57A3E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9E10-51CD-4032-9332-E233FC63F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jcmr.org/distils/lab/ozone/lay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aftan.com/thermodynamics/AIR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tmosphere"/>
          <p:cNvPicPr/>
          <p:nvPr/>
        </p:nvPicPr>
        <p:blipFill>
          <a:blip r:embed="rId1"/>
          <a:stretch/>
        </p:blipFill>
        <p:spPr>
          <a:xfrm>
            <a:off x="1066680" y="596880"/>
            <a:ext cx="7086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tmosphere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7543800" y="1371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atmos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tmosphere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16765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lay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4572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atmos"/>
          <p:cNvPicPr/>
          <p:nvPr/>
        </p:nvPicPr>
        <p:blipFill>
          <a:blip r:embed="rId1"/>
          <a:stretch/>
        </p:blipFill>
        <p:spPr>
          <a:xfrm>
            <a:off x="4419720" y="12193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A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4267080" cy="236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irgraph"/>
          <p:cNvPicPr/>
          <p:nvPr/>
        </p:nvPicPr>
        <p:blipFill>
          <a:blip r:embed="rId3"/>
          <a:stretch/>
        </p:blipFill>
        <p:spPr>
          <a:xfrm>
            <a:off x="0" y="914400"/>
            <a:ext cx="464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22:36:14Z</dcterms:created>
  <dc:creator>John Hubbard</dc:creator>
  <dc:description/>
  <dc:language>en-US</dc:language>
  <cp:lastModifiedBy>RomaK</cp:lastModifiedBy>
  <dcterms:modified xsi:type="dcterms:W3CDTF">2015-09-04T09:40:35Z</dcterms:modified>
  <cp:revision>10</cp:revision>
  <dc:subject/>
  <dc:title>Atmosphere</dc:title>
</cp:coreProperties>
</file>