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FFAB-C790-4B0F-849E-0BA8966E6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722-666E-41B4-AFFC-E51FE944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3A8-C831-403C-BA70-CAE1F72A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B36-A52E-42D6-A61D-DCADACC7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2BC-1E02-4D4D-9BC4-69A59293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7E66-FF40-4874-88C3-95033F27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9809-F133-4625-862C-96E8875F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22BA-0BCA-4F62-B95C-E61D7A16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0459-77D0-4447-A134-AE8485A5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5598-588F-45F2-8C19-60C74872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25E5-7849-43FE-87E1-3D390A12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51A8-E02C-4C6D-9F21-5DD707E5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06E-4CB2-456B-830F-F7C7F296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15C4-8F72-422D-B538-874B5CC6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DD4C-665A-49AD-BF49-A037F1F1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0C9F-80E0-49F4-B3DB-686C99C6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754B-905F-4F7B-8EAF-7489F0AE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759B-2895-4474-AA47-A8AE3F02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CC04-3D24-4520-8C91-0333D7F8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0BED-06B3-4951-A412-550F09B2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F27-9EBD-4211-B0D2-F778AC6A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BA4-0F68-42B1-973E-F4B78E1F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802-0F40-4209-84C8-46C6F33A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6AF-6E02-495D-994B-ED25FA81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B11-C98D-4626-9156-F198B73B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7432-2DFA-4C25-89BF-C28C52497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06EB-6A0B-4A88-9BD6-6D900B81C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685800"/>
            <a:ext cx="480060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a</a:t>
            </a:r>
            <a:br>
              <a:rPr sz="4400"/>
            </a:b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he Continent Ser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594324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Magnetic South Po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038840" cy="4038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609480" y="1366920"/>
            <a:ext cx="2895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105520" cy="435924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21" name="Text Box 5"/>
          <p:cNvSpPr/>
          <p:nvPr/>
        </p:nvSpPr>
        <p:spPr>
          <a:xfrm>
            <a:off x="1433160" y="12708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hysical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lant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% of the continent                      is ice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antarctic grass"/>
          <p:cNvPicPr/>
          <p:nvPr/>
        </p:nvPicPr>
        <p:blipFill>
          <a:blip r:embed="rId1"/>
          <a:stretch/>
        </p:blipFill>
        <p:spPr>
          <a:xfrm>
            <a:off x="5486400" y="3886200"/>
            <a:ext cx="1119240" cy="167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native%20antarctic%20foliage"/>
          <p:cNvPicPr/>
          <p:nvPr/>
        </p:nvPicPr>
        <p:blipFill>
          <a:blip r:embed="rId2"/>
          <a:stretch/>
        </p:blipFill>
        <p:spPr>
          <a:xfrm>
            <a:off x="3657600" y="243828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5489280" y="29718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30 m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6616440" y="49896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Artic Hair 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Frullania_pycnantha,I_MVK1"/>
          <p:cNvPicPr/>
          <p:nvPr/>
        </p:nvPicPr>
        <p:blipFill>
          <a:blip r:embed="rId3"/>
          <a:stretch/>
        </p:blipFill>
        <p:spPr>
          <a:xfrm>
            <a:off x="457200" y="3348000"/>
            <a:ext cx="1905120" cy="1262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4"/>
          <p:cNvSpPr/>
          <p:nvPr/>
        </p:nvSpPr>
        <p:spPr>
          <a:xfrm>
            <a:off x="2347200" y="4195800"/>
            <a:ext cx="1722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ne liverw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6" descr="210px-Lichen_squamulose"/>
          <p:cNvPicPr/>
          <p:nvPr/>
        </p:nvPicPr>
        <p:blipFill>
          <a:blip r:embed="rId4"/>
          <a:stretch/>
        </p:blipFill>
        <p:spPr>
          <a:xfrm>
            <a:off x="4267080" y="380880"/>
            <a:ext cx="2000520" cy="1809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7"/>
          <p:cNvSpPr/>
          <p:nvPr/>
        </p:nvSpPr>
        <p:spPr>
          <a:xfrm>
            <a:off x="6539040" y="18651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50 lic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imal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adelie_fact"/>
          <p:cNvPicPr/>
          <p:nvPr/>
        </p:nvPicPr>
        <p:blipFill>
          <a:blip r:embed="rId1"/>
          <a:stretch/>
        </p:blipFill>
        <p:spPr>
          <a:xfrm>
            <a:off x="838080" y="1600200"/>
            <a:ext cx="2362320" cy="1571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990720" y="3276720"/>
            <a:ext cx="288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delie pengu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0 inches tall, 12 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6040" y="319680"/>
            <a:ext cx="2325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Weddell sea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up to 18 ye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Weddell_seal_WEB"/>
          <p:cNvPicPr/>
          <p:nvPr/>
        </p:nvPicPr>
        <p:blipFill>
          <a:blip r:embed="rId2"/>
          <a:stretch/>
        </p:blipFill>
        <p:spPr>
          <a:xfrm>
            <a:off x="4572000" y="990720"/>
            <a:ext cx="2381400" cy="1533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krill_fact"/>
          <p:cNvPicPr/>
          <p:nvPr/>
        </p:nvPicPr>
        <p:blipFill>
          <a:blip r:embed="rId3"/>
          <a:stretch/>
        </p:blipFill>
        <p:spPr>
          <a:xfrm>
            <a:off x="3886200" y="3352680"/>
            <a:ext cx="1895400" cy="1400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2"/>
          <p:cNvSpPr/>
          <p:nvPr/>
        </p:nvSpPr>
        <p:spPr>
          <a:xfrm>
            <a:off x="6327720" y="5836320"/>
            <a:ext cx="194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now Pe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14-2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Snow_petrel_pose2"/>
          <p:cNvPicPr/>
          <p:nvPr/>
        </p:nvPicPr>
        <p:blipFill>
          <a:blip r:embed="rId4"/>
          <a:stretch/>
        </p:blipFill>
        <p:spPr>
          <a:xfrm>
            <a:off x="6477120" y="4495680"/>
            <a:ext cx="2057400" cy="1374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5"/>
          <p:cNvSpPr/>
          <p:nvPr/>
        </p:nvSpPr>
        <p:spPr>
          <a:xfrm>
            <a:off x="3505680" y="4799520"/>
            <a:ext cx="2646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Kr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hey are 1-6” in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7" descr="Killer whale or Orca looking around having broken thin ice for a breathing hole, picture courtesy NOAA"/>
          <p:cNvPicPr/>
          <p:nvPr/>
        </p:nvPicPr>
        <p:blipFill>
          <a:blip r:embed="rId5"/>
          <a:stretch/>
        </p:blipFill>
        <p:spPr>
          <a:xfrm>
            <a:off x="6095880" y="2895480"/>
            <a:ext cx="1752840" cy="1098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8"/>
          <p:cNvSpPr/>
          <p:nvPr/>
        </p:nvSpPr>
        <p:spPr>
          <a:xfrm>
            <a:off x="7848720" y="1905120"/>
            <a:ext cx="167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Hump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i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p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the_end"/>
          <p:cNvPicPr/>
          <p:nvPr/>
        </p:nvPicPr>
        <p:blipFill>
          <a:blip r:embed="rId1"/>
          <a:srcRect l="12877" t="2408" r="0" b="3739"/>
          <a:stretch/>
        </p:blipFill>
        <p:spPr>
          <a:xfrm>
            <a:off x="2743200" y="990720"/>
            <a:ext cx="5029200" cy="414000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Satellite view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satellite-image-of-antarctica"/>
          <p:cNvPicPr/>
          <p:nvPr/>
        </p:nvPicPr>
        <p:blipFill>
          <a:blip r:embed="rId1"/>
          <a:stretch/>
        </p:blipFill>
        <p:spPr>
          <a:xfrm>
            <a:off x="3200400" y="18288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world image"/>
          <p:cNvPicPr/>
          <p:nvPr/>
        </p:nvPicPr>
        <p:blipFill>
          <a:blip r:embed="rId1"/>
          <a:stretch/>
        </p:blipFill>
        <p:spPr>
          <a:xfrm>
            <a:off x="2590920" y="2133720"/>
            <a:ext cx="5819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ne of the biggest icebergs ever (possibly the biggest iceberg ever)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broke free from the Ross ice shelf in Antarctica in 2000. {183 miles long and 23 miles wide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 part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argest land animal in Antarctica is an insect, a wingless midge,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Belgica antarctica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, less than 1.3cm (0.5in) lo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Antarctic Midge"/>
          <p:cNvPicPr/>
          <p:nvPr/>
        </p:nvPicPr>
        <p:blipFill>
          <a:blip r:embed="rId1"/>
          <a:stretch/>
        </p:blipFill>
        <p:spPr>
          <a:xfrm>
            <a:off x="3581280" y="5715000"/>
            <a:ext cx="4572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Territories"/>
          <p:cNvPicPr/>
          <p:nvPr/>
        </p:nvPicPr>
        <p:blipFill>
          <a:blip r:embed="rId1"/>
          <a:stretch/>
        </p:blipFill>
        <p:spPr>
          <a:xfrm>
            <a:off x="3276720" y="1295280"/>
            <a:ext cx="4572000" cy="4542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92560" y="127080"/>
            <a:ext cx="67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Territorial Water Clai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01"/>
          <p:cNvSpPr/>
          <p:nvPr/>
        </p:nvSpPr>
        <p:spPr>
          <a:xfrm>
            <a:off x="6858000" y="228600"/>
            <a:ext cx="20574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Amundsen-Scott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 Maitri Ind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 Novolazarevskaya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 *Marion Island South Afr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 Syowa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 Molodezhnaya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 *Alfred Faure, Iles Crozet Fra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 Mawson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 *Port aux Français, Iles Kerguelen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 Zhongshan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 Progress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 *Martin de Viviès, Ile Amsterdam Franc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 Davis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 Mirny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 Vostok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 Casey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 Dumont d’Urville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 *Macquarie Island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 McMurdo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 Scott Base New Zea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 Rothera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 San Martin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 Vernadsky Ukrain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 Palmer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 Capitan Arturo Prat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 +Presidente Eduardo Frei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 +Escudero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 +Great Wall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 +Bellingshausen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+Artigas Urugua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 +King Sejong Kore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 +Jubany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 +Arctowski Po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 +Comandante Ferraz Brazil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 General Bernardo O’Higgins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 Esperanza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 Marambio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 Orcadas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 *Bird Island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 *King Edward Point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 Belgrano II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 Halley United Kingd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3 *Gough Island South Afr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4 Neumayer German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 SANAE South Afric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6 Troll, Nor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7 Concordia, France/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Stations north of 60°S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84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114800" cy="3514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86"/>
          <p:cNvSpPr/>
          <p:nvPr/>
        </p:nvSpPr>
        <p:spPr>
          <a:xfrm>
            <a:off x="3125520" y="5108400"/>
            <a:ext cx="370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Amundsen-Sco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9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2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581280" cy="23875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USA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343400" y="3657600"/>
            <a:ext cx="4267080" cy="284796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5105520" cy="9493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12" name="Text Box 10"/>
          <p:cNvSpPr/>
          <p:nvPr/>
        </p:nvSpPr>
        <p:spPr>
          <a:xfrm>
            <a:off x="162360" y="381312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mundsen-Scott South 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437600" y="25178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ffff"/>
                </a:solidFill>
                <a:latin typeface="Times New Roman"/>
              </a:rPr>
              <a:t>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7112880" y="59468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Ge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290988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14:26Z</dcterms:created>
  <dc:creator>Mr. Clutter</dc:creator>
  <dc:description/>
  <dc:language>en-US</dc:language>
  <cp:lastModifiedBy>RomaK</cp:lastModifiedBy>
  <dcterms:modified xsi:type="dcterms:W3CDTF">2015-09-04T09:40:11Z</dcterms:modified>
  <cp:revision>26</cp:revision>
  <dc:subject/>
  <dc:title>Antartica the continent</dc:title>
</cp:coreProperties>
</file>