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10.png" ContentType="image/png"/>
  <Override PartName="/ppt/media/image23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95E8-A14B-4C2F-89D9-F2E420534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arctic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ent Seri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S Library 2008-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arctic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ent Seri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South 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tic South 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sical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% of the continent                      is ice f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c Hair gr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liverw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 lich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% of the continent                      is ice f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c Hair gr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liverw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 lich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lie pengu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inches tall, 12 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ddell seals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up to 18 yea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ow Pet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14-2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1-6” in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pb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lie pengu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inches tall, 12 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ddell seals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up to 18 yea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ow Pet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14-2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1-6” in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pb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 vie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ellite vie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stu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tarctica's ice sheets melted, the worlds oceans would rise by 60 to 65 metres (200 - 210ft)  - everywhe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arctica is the best place in the world to find meteorites. Dark meteorites show up against the white expanse of ice and snow and don't get covered by veget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biggest icebergs ever (possibly the biggest iceberg ever) broke free from the Ross ice shelf in Antarctica in 2000. {183 miles long and 23 miles wide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stu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tarctica's ice sheets melted, the worlds oceans would rise by 60 to 65 metres (200 - 210ft)  - everywhe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arctica is the best place in the world to find meteorites. Dark meteorites show up against the white expanse of ice and snow and don't get covered by veget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biggest icebergs ever (possibly the biggest iceberg ever) broke free from the Ross ice shelf in Antarctica in 2000. {183 miles long and 23 miles wide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stuff par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been estimated that during the feeding season in Antarctica, a full grown blue whale eats about 4 million krill per day (krill are small shrimp-like creatures), that's 4 tons - every day for 6 month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st ever temperature recorded was at the Russian Vostok station. It was - 89.6°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rgest land animal in Antarctica is an insect, a wingless midge, Belgica antarctica, less than 1.3cm (0.5in) lo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stuff par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been estimated that during the feeding season in Antarctica, a full grown blue whale eats about 4 million krill per day (krill are small shrimp-like creatures), that's 4 tons - every day for 6 month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st ever temperature recorded was at the Russian Vostok station. It was - 89.6°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rgest land animal in Antarctica is an insect, a wingless midge, Belgica antarctica, less than 1.3cm (0.5in) lo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ritorial Water Clai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rritorial Water Clai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mundsen-Scott United Stat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aitri Ind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Novolazarevskaya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*Marion Island 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yowa Ja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Molodezhnaya Russ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*Alfred Faure, Iles Crozet Fr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Mawson Austral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*Port aux Français, Iles Kerguelen Franc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Zhongshan Ch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 Progress Russ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*Martin de Viviès, Ile Amsterdam Fran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Davis Austral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Mirny Russ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Vostok Russ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Casey Austral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Dumont d’Urville Franc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*Macquarie Island Austral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 McMurdo United Stat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cott Base New Zeal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 Rothera United Kingd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 San Martin Argent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 Vernadsky Ukrain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 Palmer United Stat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Capitan Arturo Prat Chi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 +Presidente Eduardo Frei Chi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 +Escudero Chi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 +Great Wall Ch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 +Bellingshausen Russ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+Artigas Urugua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 +King Sejong Ko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 +Jubany Argent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3 +Arctowski Pol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4 +Comandante Ferraz Brazi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 General Bernardo O’Higgins Chi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Esperanza Argent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7 Marambio Argent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8 Orcadas Argent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9 *Bird Island United Kingd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*King Edward Point United Kingd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1 Belgrano II Argent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 Halley United Kingd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3 *Gough Island South Afri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 Neumayer German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 SANAE South Afric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6 Troll, Nor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7 Concordia, France/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tations north of 60°S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arctic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mundsen-Scot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cMur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l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 Amundsen-Scott United Stat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Maitri Ind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 Novolazarevskaya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*Marion Island 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 Syowa Ja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 Molodezhnaya Russ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 *Alfred Faure, Iles Crozet Fr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 Mawson Austral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 *Port aux Français, Iles Kerguelen Fran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 Zhongshan Ch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 Progress Russ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 *Martin de Viviès, Ile Amsterdam Fra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 Davis Austral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4 Mirny Russ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 Vostok Russ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6 Casey Austral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 Dumont d’Urville Fran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8 *Macquarie Island Austral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9 McMurdo United Stat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 Scott Base New Zealand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 Rothera United Kingdom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2 San Martin Argent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3 Vernadsky Ukrain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4 Palmer United Stat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5 Capitan Arturo Prat Chil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6 +Presidente Eduardo Frei Chil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 +Escudero Chil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8 +Great Wall Ch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 +Bellingshausen Russ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0 +Artigas Uruguay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1 +King Sejong Kore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2 +Jubany Argent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3 +Arctowski Poland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4 +Comandante Ferraz Brazil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5 General Bernardo O’Higgins Chil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6 Esperanza Argent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7 Marambio Argent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8 Orcadas Argent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9 *Bird Island United Kingdom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0 *King Edward Point United Kingdom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1 Belgrano II Argent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2 Halley United Kingd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3 *Gough Island South Afri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4 Neumayer Germany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5 SANAE South Afric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6 Troll, Nor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7 Concordia, France/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Stations north of 60°S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arctic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#1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mundsen-Scot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#19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McMur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#2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Pal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A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undsen-Scott South 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Mur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A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undsen-Scott South 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Mur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A30D-ECD0-4A34-A03A-6B156A937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0725-F1C4-4EBC-AFD1-DA1C1367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0751-86AF-4DF3-8F36-FEA0EA26A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6316-712A-43CF-96C3-7FE59FF4B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1E2B-8E3F-40B0-A5BE-499BC251B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393D-99EF-4B3D-8AFA-5E9D07C6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22B0-F8A1-4C3E-BD09-233DECBB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4E90-D9C1-4BE0-A354-52A55DBF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5C04-846C-4EEE-A5C3-AE3A46D8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05B2-DB4D-4A21-AB07-351FA86B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3337-C90F-4636-8E77-B32CA39E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F204-3197-4493-B3AB-3FEA78DF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E33B-339D-4581-9D50-6AC9D9AF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8F60-5802-4EC7-A3F8-24D0E031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3606-EBD8-4B18-B227-4E2644C1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39653-0A83-431C-AA34-458C53C68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45D7-80F7-463B-93F7-67B945F4F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E37C-0757-4097-A94E-EB0FC7CC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DDBD-C0BE-4A1F-AE69-0B8B7024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CD90-3346-41E9-AEF2-C2937DEA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72E5-E3EB-4CDE-A932-4019E15E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7154-43EE-491D-BDD3-A62BB23D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4820-61EB-49E0-BA29-C3FF2E4E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0281-8568-40F5-9874-859BCB09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4663-BB41-4CD8-96CE-BE47F794A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6C52-4E98-4A52-87C4-2CD089448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685800"/>
            <a:ext cx="4800600" cy="13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Antarctica</a:t>
            </a:r>
            <a:br>
              <a:rPr sz="4400"/>
            </a:b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The Continent Serie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029200" y="5943240"/>
            <a:ext cx="4114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VMS Library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Arial"/>
              </a:rPr>
              <a:t>Magnetic South Po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267080" y="2133720"/>
            <a:ext cx="4038840" cy="4038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609480" y="1366920"/>
            <a:ext cx="2895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5105520" cy="4359240"/>
          </a:xfrm>
          <a:prstGeom prst="rect">
            <a:avLst/>
          </a:prstGeom>
          <a:ln w="9360">
            <a:solidFill>
              <a:srgbClr val="5f0000"/>
            </a:solidFill>
            <a:miter/>
          </a:ln>
        </p:spPr>
      </p:pic>
      <p:sp>
        <p:nvSpPr>
          <p:cNvPr id="121" name="Text Box 5"/>
          <p:cNvSpPr/>
          <p:nvPr/>
        </p:nvSpPr>
        <p:spPr>
          <a:xfrm>
            <a:off x="1433160" y="127080"/>
            <a:ext cx="476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Physical Featu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Plant Lif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3429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2% of the continent                      is ice f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antarctic grass"/>
          <p:cNvPicPr/>
          <p:nvPr/>
        </p:nvPicPr>
        <p:blipFill>
          <a:blip r:embed="rId1"/>
          <a:stretch/>
        </p:blipFill>
        <p:spPr>
          <a:xfrm>
            <a:off x="5486400" y="3886200"/>
            <a:ext cx="1119240" cy="1676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native%20antarctic%20foliage"/>
          <p:cNvPicPr/>
          <p:nvPr/>
        </p:nvPicPr>
        <p:blipFill>
          <a:blip r:embed="rId2"/>
          <a:stretch/>
        </p:blipFill>
        <p:spPr>
          <a:xfrm>
            <a:off x="3657600" y="2438280"/>
            <a:ext cx="1676520" cy="12574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0"/>
          <p:cNvSpPr/>
          <p:nvPr/>
        </p:nvSpPr>
        <p:spPr>
          <a:xfrm>
            <a:off x="5489280" y="297180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30 mo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6616440" y="498960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Artic Hair gr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3" descr="Frullania_pycnantha,I_MVK1"/>
          <p:cNvPicPr/>
          <p:nvPr/>
        </p:nvPicPr>
        <p:blipFill>
          <a:blip r:embed="rId3"/>
          <a:stretch/>
        </p:blipFill>
        <p:spPr>
          <a:xfrm>
            <a:off x="457200" y="3348000"/>
            <a:ext cx="1905120" cy="12621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4"/>
          <p:cNvSpPr/>
          <p:nvPr/>
        </p:nvSpPr>
        <p:spPr>
          <a:xfrm>
            <a:off x="2347200" y="4195800"/>
            <a:ext cx="1722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One liverw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6" descr="210px-Lichen_squamulose"/>
          <p:cNvPicPr/>
          <p:nvPr/>
        </p:nvPicPr>
        <p:blipFill>
          <a:blip r:embed="rId4"/>
          <a:stretch/>
        </p:blipFill>
        <p:spPr>
          <a:xfrm>
            <a:off x="4267080" y="380880"/>
            <a:ext cx="2000520" cy="18097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7"/>
          <p:cNvSpPr/>
          <p:nvPr/>
        </p:nvSpPr>
        <p:spPr>
          <a:xfrm>
            <a:off x="6539040" y="186516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150 lich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Animal Lif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adelie_fact"/>
          <p:cNvPicPr/>
          <p:nvPr/>
        </p:nvPicPr>
        <p:blipFill>
          <a:blip r:embed="rId1"/>
          <a:stretch/>
        </p:blipFill>
        <p:spPr>
          <a:xfrm>
            <a:off x="838080" y="1600200"/>
            <a:ext cx="2362320" cy="15717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990720" y="3276720"/>
            <a:ext cx="2889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delie pengu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20 inches tall, 12 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4496040" y="319680"/>
            <a:ext cx="2325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Weddell seals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Live up to 18 yea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Weddell_seal_WEB"/>
          <p:cNvPicPr/>
          <p:nvPr/>
        </p:nvPicPr>
        <p:blipFill>
          <a:blip r:embed="rId2"/>
          <a:stretch/>
        </p:blipFill>
        <p:spPr>
          <a:xfrm>
            <a:off x="4572000" y="990720"/>
            <a:ext cx="2381400" cy="1533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krill_fact"/>
          <p:cNvPicPr/>
          <p:nvPr/>
        </p:nvPicPr>
        <p:blipFill>
          <a:blip r:embed="rId3"/>
          <a:stretch/>
        </p:blipFill>
        <p:spPr>
          <a:xfrm>
            <a:off x="3886200" y="3352680"/>
            <a:ext cx="1895400" cy="14004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2"/>
          <p:cNvSpPr/>
          <p:nvPr/>
        </p:nvSpPr>
        <p:spPr>
          <a:xfrm>
            <a:off x="6327720" y="5836320"/>
            <a:ext cx="1942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now Petr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Live 14-20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4" descr="Snow_petrel_pose2"/>
          <p:cNvPicPr/>
          <p:nvPr/>
        </p:nvPicPr>
        <p:blipFill>
          <a:blip r:embed="rId4"/>
          <a:stretch/>
        </p:blipFill>
        <p:spPr>
          <a:xfrm>
            <a:off x="6477120" y="4495680"/>
            <a:ext cx="2057400" cy="13748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5"/>
          <p:cNvSpPr/>
          <p:nvPr/>
        </p:nvSpPr>
        <p:spPr>
          <a:xfrm>
            <a:off x="3505680" y="4799520"/>
            <a:ext cx="2646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Kri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They are 1-6” in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7" descr="Killer whale or Orca looking around having broken thin ice for a breathing hole, picture courtesy NOAA"/>
          <p:cNvPicPr/>
          <p:nvPr/>
        </p:nvPicPr>
        <p:blipFill>
          <a:blip r:embed="rId5"/>
          <a:stretch/>
        </p:blipFill>
        <p:spPr>
          <a:xfrm>
            <a:off x="6095880" y="2895480"/>
            <a:ext cx="1752840" cy="1098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18"/>
          <p:cNvSpPr/>
          <p:nvPr/>
        </p:nvSpPr>
        <p:spPr>
          <a:xfrm>
            <a:off x="7848720" y="1905120"/>
            <a:ext cx="1679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F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Humpba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Min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Or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S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Sp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the_end"/>
          <p:cNvPicPr/>
          <p:nvPr/>
        </p:nvPicPr>
        <p:blipFill>
          <a:blip r:embed="rId1"/>
          <a:srcRect l="12877" t="2408" r="0" b="3739"/>
          <a:stretch/>
        </p:blipFill>
        <p:spPr>
          <a:xfrm>
            <a:off x="2743200" y="990720"/>
            <a:ext cx="5029200" cy="4140000"/>
          </a:xfrm>
          <a:prstGeom prst="rect">
            <a:avLst/>
          </a:prstGeom>
          <a:ln w="9360">
            <a:solidFill>
              <a:srgbClr val="5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Satellite view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satellite-image-of-antarctica"/>
          <p:cNvPicPr/>
          <p:nvPr/>
        </p:nvPicPr>
        <p:blipFill>
          <a:blip r:embed="rId1"/>
          <a:stretch/>
        </p:blipFill>
        <p:spPr>
          <a:xfrm>
            <a:off x="3200400" y="182880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Longitude / Latitu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world image"/>
          <p:cNvPicPr/>
          <p:nvPr/>
        </p:nvPicPr>
        <p:blipFill>
          <a:blip r:embed="rId1"/>
          <a:stretch/>
        </p:blipFill>
        <p:spPr>
          <a:xfrm>
            <a:off x="2590920" y="2133720"/>
            <a:ext cx="58197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Interesting stuf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If Antarctica's ice sheets melted, the worlds oceans would rise by 60 to 65 metres (200 - 210ft)  - everywhe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ntarctica is the best place in the world to find meteorites. Dark meteorites show up against the white expanse of ice and snow and don't get covered by veget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One of the biggest icebergs ever (possibly the biggest iceberg ever)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broke free from the Ross ice shelf in Antarctica in 2000. {183 miles long and 23 miles wide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Interesting stuff part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It has been estimated that during the feeding season in Antarctica, a full grown blue whale eats about 4 million krill per day (krill are small shrimp-like creatures), that's 4 tons - every day for 6 months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The lowest ever temperature recorded was at the Russian Vostok station. It was - 89.6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The largest land animal in Antarctica is an insect, a wingless midge, </a:t>
            </a:r>
            <a:r>
              <a:rPr b="1" i="1" lang="en-US" sz="2400" spc="-1" strike="noStrike">
                <a:solidFill>
                  <a:srgbClr val="3333ff"/>
                </a:solidFill>
                <a:latin typeface="Arial"/>
              </a:rPr>
              <a:t>Belgica antarctica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, less than 1.3cm (0.5in) long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9" descr="Antarctic Midge"/>
          <p:cNvPicPr/>
          <p:nvPr/>
        </p:nvPicPr>
        <p:blipFill>
          <a:blip r:embed="rId1"/>
          <a:stretch/>
        </p:blipFill>
        <p:spPr>
          <a:xfrm>
            <a:off x="3581280" y="5715000"/>
            <a:ext cx="457200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Territories"/>
          <p:cNvPicPr/>
          <p:nvPr/>
        </p:nvPicPr>
        <p:blipFill>
          <a:blip r:embed="rId1"/>
          <a:stretch/>
        </p:blipFill>
        <p:spPr>
          <a:xfrm>
            <a:off x="3276720" y="1295280"/>
            <a:ext cx="4572000" cy="45421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592560" y="127080"/>
            <a:ext cx="67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Territorial Water Clai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01"/>
          <p:cNvSpPr/>
          <p:nvPr/>
        </p:nvSpPr>
        <p:spPr>
          <a:xfrm>
            <a:off x="6858000" y="228600"/>
            <a:ext cx="2057400" cy="71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Amundsen-Scott United States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 Maitri Indi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 Novolazarevskaya Russ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 *Marion Island South Afri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 Syowa Jap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 Molodezhnaya Russ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 *Alfred Faure, Iles Crozet Franc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8 Mawson Austral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9 *Port aux Français, Iles Kerguelen Franc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 Zhongshan Ch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1 Progress Russ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 *Martin de Viviès, Ile Amsterdam Franc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3 Davis Austral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4 Mirny Russ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 Vostok Russ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6 Casey Austral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7 Dumont d’Urville Franc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8 *Macquarie Island Austral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9 McMurdo United States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 Scott Base New Zealand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1 Rothera United Kingdo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2 San Martin Argent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3 Vernadsky Ukrain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4 Palmer United States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 Capitan Arturo Prat Chil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6 +Presidente Eduardo Frei Chil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7 +Escudero Chil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8 +Great Wall Ch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9 +Bellingshausen Russ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 +Artigas Uruguay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1 +King Sejong Kore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2 +Jubany Argent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3 +Arctowski Poland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4 +Comandante Ferraz Brazil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5 General Bernardo O’Higgins Chil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6 Esperanza Argent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7 Marambio Argent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8 Orcadas Argent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9 *Bird Island United Kingdo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0 *King Edward Point United Kingdo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1 Belgrano II Argent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2 Halley United Kingdo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3 *Gough Island South Afric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4 Neumayer Germany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5 SANAE South Afric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6 Troll, Norw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7 Concordia, France/Ita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Stations north of 60°S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84" descr=""/>
          <p:cNvPicPr/>
          <p:nvPr/>
        </p:nvPicPr>
        <p:blipFill>
          <a:blip r:embed="rId1"/>
          <a:stretch/>
        </p:blipFill>
        <p:spPr>
          <a:xfrm>
            <a:off x="2438280" y="1371600"/>
            <a:ext cx="4114800" cy="35146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Antarctic Ba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86"/>
          <p:cNvSpPr/>
          <p:nvPr/>
        </p:nvSpPr>
        <p:spPr>
          <a:xfrm>
            <a:off x="3125520" y="5108400"/>
            <a:ext cx="3702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#1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Amundsen-Scot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#19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McMu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#24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Pal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"/>
          <p:cNvPicPr/>
          <p:nvPr/>
        </p:nvPicPr>
        <p:blipFill>
          <a:blip r:embed="rId1"/>
          <a:stretch/>
        </p:blipFill>
        <p:spPr>
          <a:xfrm>
            <a:off x="5029200" y="685800"/>
            <a:ext cx="3581280" cy="2387520"/>
          </a:xfrm>
          <a:prstGeom prst="rect">
            <a:avLst/>
          </a:prstGeom>
          <a:ln w="9360">
            <a:solidFill>
              <a:srgbClr val="5f0000"/>
            </a:solidFill>
            <a:miter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USA Ba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4343400" y="3657600"/>
            <a:ext cx="4267080" cy="2847960"/>
          </a:xfrm>
          <a:prstGeom prst="rect">
            <a:avLst/>
          </a:prstGeom>
          <a:ln w="9360">
            <a:solidFill>
              <a:srgbClr val="5f0000"/>
            </a:solidFill>
            <a:miter/>
          </a:ln>
        </p:spPr>
      </p:pic>
      <p:pic>
        <p:nvPicPr>
          <p:cNvPr id="111" name="Picture 9" descr=""/>
          <p:cNvPicPr/>
          <p:nvPr/>
        </p:nvPicPr>
        <p:blipFill>
          <a:blip r:embed="rId3"/>
          <a:stretch/>
        </p:blipFill>
        <p:spPr>
          <a:xfrm>
            <a:off x="228600" y="2895480"/>
            <a:ext cx="5105520" cy="949320"/>
          </a:xfrm>
          <a:prstGeom prst="rect">
            <a:avLst/>
          </a:prstGeom>
          <a:ln w="9360">
            <a:solidFill>
              <a:srgbClr val="5f0000"/>
            </a:solidFill>
            <a:miter/>
          </a:ln>
        </p:spPr>
      </p:pic>
      <p:sp>
        <p:nvSpPr>
          <p:cNvPr id="112" name="Text Box 10"/>
          <p:cNvSpPr/>
          <p:nvPr/>
        </p:nvSpPr>
        <p:spPr>
          <a:xfrm>
            <a:off x="162360" y="3813120"/>
            <a:ext cx="38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Amundsen-Scott South P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437600" y="251784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ffff"/>
                </a:solidFill>
                <a:latin typeface="Times New Roman"/>
              </a:rPr>
              <a:t>Pal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7112880" y="594684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McMu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Geolog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6096240" cy="2909880"/>
          </a:xfrm>
          <a:prstGeom prst="rect">
            <a:avLst/>
          </a:prstGeom>
          <a:ln w="9360">
            <a:solidFill>
              <a:srgbClr val="5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14:26Z</dcterms:created>
  <dc:creator>Mr. Clutter</dc:creator>
  <dc:description/>
  <dc:language>en-US</dc:language>
  <cp:lastModifiedBy>RomaK</cp:lastModifiedBy>
  <dcterms:modified xsi:type="dcterms:W3CDTF">2015-09-04T09:40:11Z</dcterms:modified>
  <cp:revision>26</cp:revision>
  <dc:subject/>
  <dc:title>Antartica the continent</dc:title>
</cp:coreProperties>
</file>