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87B6-5E5F-4420-8AA7-156CBF915F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ld’s Last Great Wilderness (Antarc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Julian Pa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 Liaison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Antarctic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t RGS 8 Februar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up to three miles (4500 m)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 surface temperature -89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melted, sea level could rise 65 me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 and sea level 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Peninsula is warming and its coastline is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Antarctica is not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warmer world more snow will fall over the Ant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developments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ing the largest lake under the ic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ing a reliable climate record over half a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ing natural “antifreeze” in Antarctic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 free to every UK secondary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ed at A-level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 British Antarctic Survey scientists and an educational ad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by the Foreign and Commonwealth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nd working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y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zone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and freshwater lak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conservation of marin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protection of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on Antarctic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ential resource for school or colle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 Gold Award of Geographical Association in Spring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ture teaching resources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has signed a partnership agreement with the Geographical 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riority is to develop a Work Package at GCSE level on Antarc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 to develop materials for Prim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elcomes feedback on the Schools 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 will develop www.antarctica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a ac.uk                    (British Antarctic Surve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soc.org                                  (The Antarctica Pro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ntarctic.com.au                        (Antarctic Adven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aad.gov.au/goingsouth/tourism/news            (tour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itain and Antarctica briefing docu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s.bbc.co.uk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(search for “Antarctic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est, driest, windiest, highest, and least accessibl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ter population 1000 people, 10,000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,000 tourists visit for a few days in s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 covered for the last 25 m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than 1% of continent is ic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 home of dinosaurs, tree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sect is the “lion” of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uthern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y million seals &amp; 15 million 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fishery of global economic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over-exploitation.  Seals, whales. penguins and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rate fishing due to lack of effective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“a natural reserve devoted to peace and scie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manages the region’s wild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forbid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ty runs indefini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44 countries have to agree to Treaty rev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” fallacies about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Treaty expires in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ng is only banned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under threat from devel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orking in the Antarctic have polluted the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still has to be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 fall over backwards when planes fly overhea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truths from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tarctic is the most rigorously protected region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ection is legally b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’s footprint on Antarctica is practically in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truction of the ozon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impact of the 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a is part of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 system involves the whol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rctic studies are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can be no weak link in understanding the Ear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ct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cities, towns and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genous population share the region with new sett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ctic land is under the jurisdiction of a sovereig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scientists regularly work in the 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C0C-DCE9-44CE-BBAD-79618A00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657-FD4D-42E3-AB29-E3D244AC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7E56-01E2-49AE-8FB0-FBA95191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CE3-676E-445E-91F1-BC424D4C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BB5-01DC-473E-ADFB-A3F50C6E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C06-396F-474F-B63F-C5F29D96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385-A144-4E13-ADDB-ADD3FB31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BD2-580E-4422-A994-63A4E37B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FE4-1A47-4F62-A204-34814BA8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63F-FA9D-4BEC-9196-2828D4DB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5D0-7D5D-40E5-9A7C-E3BC4A2E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492-420B-4BD1-8E06-8A2FCC07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A661-9A59-4332-B82C-DC0D848C7D1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as colour"/>
          <p:cNvPicPr/>
          <p:nvPr/>
        </p:nvPicPr>
        <p:blipFill>
          <a:blip r:embed="rId2"/>
          <a:stretch/>
        </p:blipFill>
        <p:spPr>
          <a:xfrm>
            <a:off x="7924680" y="6095880"/>
            <a:ext cx="213372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he World’s Last Great Wilderness (Antarctic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r Julian Pa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chools Liaison Offi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ritish Antarctic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alk at RGS 8 February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ice shee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up to three miles (4500 m)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 surface temperature -89 degrees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ough ice for each person in the world to have a block 180 m by 180 m by 180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melted, sea level could rise 65 met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f all the glaciers doubled their speed of flow it would take 12,000 years for the ice to float into the Southern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ice and sea level ri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 small change in the size of the Antarctic ice sheet would be serious for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ne small part of Antarctica is above freezing in the summer - the Antarctic Peninsul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Peninsula is warming and its coastline is ch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ps of Antarctica need updating regularly because of the changes to the coast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disintegration of ice shelves from the Antarctic Peninsula has had no effect on sea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ost of Antarctica is not war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 a warmer world more snow will fall over the Antar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hanced Antarctic snowfall is possibly the only natural way that sea level rise can be slow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developments i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ring the largest lake under the ice she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btaining a reliable climate record over half a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loiting natural “antifreeze” in Antarctic 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udying the effects of increased UV-radiation and “global warming” on Antarctic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elebrating the centenaries of the historic expeditions of Scott, Shackleton and B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een sections :  each with worksheet and tasks and resources for multiple photocopy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achers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nt free to every UK secondary sch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ed at A-level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itten by British Antarctic Survey scientists and an educational advi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by the Foreign and Commonwealth Off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nature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scovery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iving and working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ience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Treaty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logy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ntarctic 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Antarctic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93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zone ho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o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rrestrial and freshwater lak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rine eco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anagement and conservation of marine spec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nvironmental protection of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urism in Antarc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eedback on Antarctic Schools Pack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essential resource for school or colleg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cked with a variety of up-to-date and relevant information that can be used flexibly in the classroo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i” poll voted it one of the best four resources available for study of environmenta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eived Gold Award of Geographical Association in Spring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Future teaching resources on Antarctic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has signed a partnership agreement with the Geographical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priority is to develop a Work Package at GCSE level on Antar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pose to develop materials for Primary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elcomes feedback on the Schools P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 will develop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www.antarctica.ac.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Resources on the we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913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a ac.uk                    (British Antarctic Surve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soc.org                                  (The Antarctica Proje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ntarctic.com.au                        (Antarctic Adven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ww.aad.gov.au/goingsouth/tourism/news            (touris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ttp://files.fco.gov.uk/info/briefs/antarctic.pdf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Britain and Antarctica briefing docu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ws.bbc.co.uk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(search for “Antarctic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contin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dest, driest, windiest, highest, and least accessibl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inter population 1000 people, 10,000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0,000 tourists visit for a few days in 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ce covered for the last 25 million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ss than 1% of continent is ice 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ce the home of dinosaurs, trees and pl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 insect is the “lion” of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Southern Ocea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fty million seals &amp; 15 million pengu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gional fishery of global econom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story of over-exploitation.  Seals, whales. penguins and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shery for krill and fish regulated by science-backed international body under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rate fishing due to lack of effective pol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line of albatross due to mortality on long lines of tuna fishermen in sub-Tr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ntarctic Trea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“a natural reserve devoted to peace and scie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manages the region’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forbidde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Treaty runs indefini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ty-four countries have acceded to the Antarctic Treaty (80% of the world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44 countries have to agree to Treaty rev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Green” fallacies about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Treaty expires in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ng is only banned for 50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is under threat from develo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ople working in the Antarctic have polluted the conti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a still has to be sa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guins fall over backwards when planes fly overhea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Home truths from the Antarctic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ntarctic is the most rigorously protected region of the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tection is legally b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nspection teams monitor compliance with the Antarctic Trea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’s footprint on Antarctica is practically invi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“pollution” enters the region through the atmosphere than is generated there (DDT, CFC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 discove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estruction of the ozone 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400,000 year demonstration of the link between greenhouse gases and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global impact of the Industri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reduction of the height of the ionosphere consistent with “global warming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kes beneath the Antarctic ice sheet believed to contain life forms possibly millions of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ntarctica is part of the worl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arth system involves the whole Ear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tarctic studie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can be no weak link in understanding the Ear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mate feedbacks involving ice, snow, sea ice and ocean currents provide the greatest challenges in predicting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The Arctic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tains cities, towns and univers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digenous population share the region with new sett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Arctic land is under the jurisdiction of a sovereign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K scientists regularly work in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far more science activity in the Arctic compared to the Ant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3:56:23Z</dcterms:created>
  <dc:creator>Paren</dc:creator>
  <dc:description/>
  <dc:language>en-US</dc:language>
  <cp:lastModifiedBy>RomaK</cp:lastModifiedBy>
  <dcterms:modified xsi:type="dcterms:W3CDTF">2015-09-04T09:40:01Z</dcterms:modified>
  <cp:revision>24</cp:revision>
  <dc:subject/>
  <dc:title>The truth about the Antarctic Treaty</dc:title>
</cp:coreProperties>
</file>