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FB31-FFC6-4894-981C-5079879E3A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ld’s Last Great Wilderness (Antarctic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 Julian Par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ools Liaison Offic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tish Antarctic Surv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lk at RGS 8 February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ld’s Last Great Wilderness (Antarct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Julian Pa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 Liaison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Antarctic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t RGS 8 February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ice she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ce up to three miles (4500 m) thi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est surface temperature -89 degrees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ll melted, sea level could rise 65 met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ic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up to three miles (4500 m)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est surface temperature -89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melted, sea level could rise 65 me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ice and sea level 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Peninsula is warming and its coastline is chang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Antarctica is not warm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warmer world more snow will fall over the Antarct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ice and sea level 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Peninsula is warming and its coastline is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Antarctica is not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warmer world more snow will fall over the Antarct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ture developments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oring the largest lake under the ice she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aining a reliable climate record over half a million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oiting natural “antifreeze” in Antarctic organ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developments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ing the largest lake under the ic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ing a reliable climate record over half a m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ing natural “antifreeze” in Antarctic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achers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nt free to every UK secondary sch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imed at A-level stand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ritten by British Antarctic Survey scientists and an educational advi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by the Foreign and Commonwealth Off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 free to every UK secondary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ed at A-level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 British Antarctic Survey scientists and an educational ad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by the Foreign and Commonwealth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nature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scovery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iving and working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cience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Antarctic Treaty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ology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tarctic 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Antarctic clim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ozone h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o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errestrial and freshwater lake eco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rine eco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nagement and conservation of marine spe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vironmental protection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ourism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e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nd working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y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zone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and freshwater lake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and conservation of marin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protection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ism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edback on 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ssential resource for school or college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ived Gold Award of Geographical Association in Spr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on 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ssential resource for school or colle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d Gold Award of Geographical Association in Spring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ture teaching resources o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has signed a partnership agreement with the Geographical Assoc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st priority is to develop a Work Package at GCSE level o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ose to develop materials for Primary Sch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welcomes feedback on the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will develop www.antarctica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teaching resources o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has signed a partnership agreement with the Geographical 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riority is to develop a Work Package at GCSE level o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 to develop materials for Primary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welcomes feedback on the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will develop www.antarctica.ac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sources on the 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ntarctica ac.uk                    (British Antarctic Surve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soc.org                                  (The Antarctica Projec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ntarctic.com.au                        (Antarctic Adventu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ad.gov.au/goingsouth/tourism/news            (touris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(Britain and Antarctica briefing docum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ews.bbc.co.uk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  (search for “Antarctic”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urces 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ntarctica ac.uk                    (British Antarctic Surve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soc.org                                  (The Antarctica Proj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ntarctic.com.au                        (Antarctic Adven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ad.gov.au/goingsouth/tourism/news            (tour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itain and Antarctica briefing docu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.bbc.co.uk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(search for “Antarctic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est, driest, windiest, highest, and least accessible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nter population 1000 people, 10,000 in sum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,000 tourists visit for a few days in sum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ce covered for the last 25 million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 than 1% of continent is ice f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the home of dinosaurs, trees and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insect is the “lion” of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est, driest, windiest, highest, and least accessible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ter population 1000 people, 10,000 in s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,000 tourists visit for a few days in s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covered for the last 25 m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1% of continent is ice 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 home of dinosaurs, trees an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sect is the “lion” of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uthern 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y million seals &amp; 15 million pengu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gional fishery of global economic val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y of over-exploitation.  Seals, whales. penguins and f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irate fishing due to lack of effective pol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uthern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y million seals &amp; 15 million 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fishery of global economic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over-exploitation.  Seals, whales. penguins and 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rate fishing due to lack of effective pol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“a natural reserve devoted to peace and science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 manages the region’s wild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ing is forbidde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eaty runs indefinit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44 countries have to agree to Treaty rev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“a natural reserve devoted to peace and scie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manages the region’s wild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ng is forbidde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aty runs indefini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44 countries have to agree to Treaty revi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” fallacies about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 expires in 50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ing is only banned for 50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under threat from develop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ople working in the Antarctic have polluted the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still has to be sa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nguins fall over backwards when planes fly overhea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” fallacies about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expires in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ng is only banned for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under threat from devel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orking in the Antarctic have polluted the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still has to be sa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 fall over backwards when planes fly overhea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me truths from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is the most rigorously protected region of the 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rotection is legally back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’s footprint on Antarctica is practically in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truths from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is the most rigorously protected region of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ection is legally b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’s footprint on Antarctica is practically in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discove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estruction of the ozone 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lobal impact of the Industrial R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discov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truction of the ozon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impact of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part of the 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arth system involves the whole Ear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studies are ess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can be no weak link in understanding the Earth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part of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 system involves the whol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tudies are ess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can be no weak link in understanding the Earth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rct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ains cities, towns and univers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genous population share the region with new sett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Arctic land is under the jurisdiction of a sovereign s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K scientists regularly work in the 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ct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cities, towns and univer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genous population share the region with new sett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ctic land is under the jurisdiction of a sovereig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scientists regularly work in the 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F20-4B77-4189-A84B-B24EFD87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B937-4C15-42E5-9620-E753194F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B96-C4F3-4803-B80F-546328B5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D21-8D29-4508-B74B-CC6D1BF9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FF43-4436-4644-B064-CA6BB7FE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B54C-13CF-433C-A3E1-23CAC819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0DB-9B6B-4BEF-AD59-196031EE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43E-2381-458E-BC2F-D82265D4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7A39-B700-472D-AEBA-FC6DED92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F0B-F111-4D3C-BE4C-9CF9B671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B5C9-3845-4CFB-9BF3-6892D3FB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8A5-E5E6-4B6D-91FB-2B5A3DAC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E402-A792-4417-9E05-F0EA538832D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bas colour"/>
          <p:cNvPicPr/>
          <p:nvPr/>
        </p:nvPicPr>
        <p:blipFill>
          <a:blip r:embed="rId2"/>
          <a:stretch/>
        </p:blipFill>
        <p:spPr>
          <a:xfrm>
            <a:off x="7924680" y="6095880"/>
            <a:ext cx="213372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he World’s Last Great Wilderness (Antarctic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r Julian Pa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chools Liaison Offic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itish Antarctic Surv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alk at RGS 8 February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ice shee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ce up to three miles (4500 m) th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dest surface temperature -89 degrees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ll melted, sea level could rise 65 met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ice and sea level ri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Peninsula is warming and its coastline is chan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293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st of Antarctica is not war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 a warmer world more snow will fall over the Antarct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uture developments in Antarc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ring the largest lake under the ice she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taining a reliable climate record over half a million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iting natural “antifreeze” in Antarctic organi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achers n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nt free to every UK secondary sch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ed at A-level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ritten by British Antarctic Survey scientists and an educational advi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by the Foreign and Commonwealth Off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nature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iscovery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iving and working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ience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Treaty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ology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ntarctic 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clim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293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ozone ho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o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rrestrial and freshwater lake eco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rine eco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nagement and conservation of marine spe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vironmental protection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urism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eedback on 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essential resource for school or colleg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eived Gold Award of Geographical Association in Spring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uture teaching resources on Antarc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has signed a partnership agreement with the Geographical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priority is to develop a Work Package at GCSE level on Antar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pose to develop materials for Primary Sch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welcomes feedback on the Schools P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will develop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www.antarctica.ac.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Resources on the we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913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ntarctica ac.uk                    (British Antarctic Surve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soc.org                                  (The Antarctica Projec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ntarctic.com.au                        (Antarctic Adventu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ad.gov.au/goingsouth/tourism/news            (touris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Britain and Antarctica briefing docu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ws.bbc.co.uk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(search for “Antarctic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contin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dest, driest, windiest, highest, and least accessible conti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inter population 1000 people, 10,000 in 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0,000 tourists visit for a few days in 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ce covered for the last 25 million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ss than 1% of continent is ice f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ce the home of dinosaurs, trees and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insect is the “lion” of the Ant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Southern Ocea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fty million seals &amp; 15 million pengu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gional fishery of global economic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istory of over-exploitation.  Seals, whales. penguins and f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rate fishing due to lack of effective poli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Trea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is “a natural reserve devoted to peace and scienc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Treaty manages the region’s 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ng is forbidden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Treaty runs indefini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44 countries have to agree to Treaty revi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Green” fallacies about the Antarc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Treaty expires in 5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ng is only banned for 5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is under threat from develop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ople working in the Antarctic have polluted the conti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still has to be sa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nguins fall over backwards when planes fly overhea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Home truths from the Antarc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is the most rigorously protected region of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tection is legally b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n’s footprint on Antarctica is practically invi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discover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estruction of the ozone 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global impact of the Industrial R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a is part of the worl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Earth system involves the whole Ea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 studies are ess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can be no weak link in understanding the Earth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rctic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ains cities, towns and univers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digenous population share the region with new sett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Arctic land is under the jurisdiction of a sovereign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K scientists regularly work in the 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13:56:23Z</dcterms:created>
  <dc:creator>Paren</dc:creator>
  <dc:description/>
  <dc:language>en-US</dc:language>
  <cp:lastModifiedBy>RomaK</cp:lastModifiedBy>
  <dcterms:modified xsi:type="dcterms:W3CDTF">2015-09-04T09:40:01Z</dcterms:modified>
  <cp:revision>24</cp:revision>
  <dc:subject/>
  <dc:title>The truth about the Antarctic Treaty</dc:title>
</cp:coreProperties>
</file>