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84EC-4AAA-4455-8513-DE34E16733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.bbc.co.uk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9A9-9563-41C9-9D47-EA35CD0B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000-3B7C-405C-8090-EC054117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715F-0E9C-4DF9-8066-6DDD131A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ED1-1237-4403-BCEB-462021DC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784-D3CE-4BDC-A8A7-28BF9591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CD4-40FE-4DF6-9F6B-4C84707E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08C-A6DE-43BF-B588-FA41E8AE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6BC-4A72-4B25-97D9-BDD96E48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566-D302-443F-9066-F6E745BE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777-F8A0-479D-9EAE-A9753C39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417-E185-4FAC-84E7-9C0EA821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B98-1A18-40C8-9FF4-AE0BFDA9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5B43-D076-42B2-A758-42440EF0C5F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bas colour"/>
          <p:cNvPicPr/>
          <p:nvPr/>
        </p:nvPicPr>
        <p:blipFill>
          <a:blip r:embed="rId2"/>
          <a:stretch/>
        </p:blipFill>
        <p:spPr>
          <a:xfrm>
            <a:off x="7924680" y="6095880"/>
            <a:ext cx="213372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World’s Last Great Wilderness (Antarctic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ice she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ice and sea level ri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developments i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eedback on 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teaching resources o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ill develop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www.antarctica.ac.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Resources on the we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913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contin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Southern Ocea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Trea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Green” fallacies about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Home truths from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discover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a is part of the worl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rctic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3:56:23Z</dcterms:created>
  <dc:creator>Paren</dc:creator>
  <dc:description/>
  <dc:language>en-US</dc:language>
  <cp:lastModifiedBy>RomaK</cp:lastModifiedBy>
  <dcterms:modified xsi:type="dcterms:W3CDTF">2015-09-04T09:40:01Z</dcterms:modified>
  <cp:revision>24</cp:revision>
  <dc:subject/>
  <dc:title>The truth about the Antarctic Treaty</dc:title>
</cp:coreProperties>
</file>