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34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10.png" ContentType="image/png"/>
  <Override PartName="/ppt/media/image1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601D-13B2-469F-9571-1D51E5AE6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y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rican Plat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frican Plat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0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0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smic Activity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ismic Activity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Tropical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Tropical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Trad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n Trad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Africa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of our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Africa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of our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getation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getation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rican Savannah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illion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frican Savannah: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 million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Rain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rainfall of up to 17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composition (very hu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37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of the land surface of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Rain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rainfall of up to 17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composition (very hu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37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of the land surface of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on the Equa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on the Equa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a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argest continent  11,700,000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of the world’s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times the size of the U.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6 0 0    M I L 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argest continent  11,700,000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of the world’s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times the size of the U.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6 0 0    M I L 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ghty Nile Rive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Longest River in the Worl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ghty Nile Rive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Longest River in the Worl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go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12%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72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 of the count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Zaire is in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go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12%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72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 of the count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Zaire is in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ger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7.5% of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10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0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ger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7.5% of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10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0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electric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electric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giraffe"/>
          <p:cNvPicPr/>
          <p:nvPr/>
        </p:nvPicPr>
        <p:blipFill>
          <a:blip r:embed="rId1"/>
          <a:srcRect l="0" t="0" r="0" b="3282"/>
          <a:stretch/>
        </p:blipFill>
        <p:spPr>
          <a:xfrm>
            <a:off x="3505320" y="1066680"/>
            <a:ext cx="3276360" cy="4496040"/>
          </a:xfrm>
          <a:prstGeom prst="rect">
            <a:avLst/>
          </a:prstGeom>
          <a:ln w="0">
            <a:noFill/>
          </a:ln>
          <a:effectLst>
            <a:outerShdw dist="52300" dir="17036436" blurRad="0" rotWithShape="0">
              <a:srgbClr val="808080"/>
            </a:outerShdw>
          </a:effectLst>
        </p:spPr>
      </p:pic>
      <p:pic>
        <p:nvPicPr>
          <p:cNvPr id="44" name="Picture 7" descr="lioncubs"/>
          <p:cNvPicPr/>
          <p:nvPr/>
        </p:nvPicPr>
        <p:blipFill>
          <a:blip r:embed="rId2"/>
          <a:stretch/>
        </p:blipFill>
        <p:spPr>
          <a:xfrm>
            <a:off x="324000" y="152280"/>
            <a:ext cx="3333600" cy="237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ion"/>
          <p:cNvPicPr/>
          <p:nvPr/>
        </p:nvPicPr>
        <p:blipFill>
          <a:blip r:embed="rId3">
            <a:lum bright="-12000"/>
          </a:blip>
          <a:srcRect l="4387" t="0" r="0" b="0"/>
          <a:stretch/>
        </p:blipFill>
        <p:spPr>
          <a:xfrm>
            <a:off x="7088040" y="3657600"/>
            <a:ext cx="1827360" cy="27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lephants"/>
          <p:cNvPicPr/>
          <p:nvPr/>
        </p:nvPicPr>
        <p:blipFill>
          <a:blip r:embed="rId4"/>
          <a:stretch/>
        </p:blipFill>
        <p:spPr>
          <a:xfrm>
            <a:off x="457200" y="24382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zebra"/>
          <p:cNvPicPr/>
          <p:nvPr/>
        </p:nvPicPr>
        <p:blipFill>
          <a:blip r:embed="rId5"/>
          <a:stretch/>
        </p:blipFill>
        <p:spPr>
          <a:xfrm>
            <a:off x="1552680" y="4495680"/>
            <a:ext cx="1571400" cy="1714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baboon2"/>
          <p:cNvPicPr/>
          <p:nvPr/>
        </p:nvPicPr>
        <p:blipFill>
          <a:blip r:embed="rId6"/>
          <a:stretch/>
        </p:blipFill>
        <p:spPr>
          <a:xfrm>
            <a:off x="6095880" y="380880"/>
            <a:ext cx="2820960" cy="303876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2895480" y="762120"/>
            <a:ext cx="38102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Geograph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of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Africa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76520" y="5700600"/>
            <a:ext cx="624816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Mr. C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VMS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15228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African Pla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ap-Africa-Elevat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81080" y="990720"/>
            <a:ext cx="5227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380880" y="1521000"/>
            <a:ext cx="2438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s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181480" y="1752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114800" y="2057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 rot="20568000">
            <a:off x="5943600" y="548604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 rot="4180200">
            <a:off x="5050800" y="500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5181480" y="1219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295280" y="1522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Sahar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Sahara2"/>
          <p:cNvPicPr/>
          <p:nvPr/>
        </p:nvPicPr>
        <p:blipFill>
          <a:blip r:embed="rId1"/>
          <a:stretch/>
        </p:blipFill>
        <p:spPr>
          <a:xfrm>
            <a:off x="380880" y="4495680"/>
            <a:ext cx="3124440" cy="201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dsertmap"/>
          <p:cNvPicPr/>
          <p:nvPr/>
        </p:nvPicPr>
        <p:blipFill>
          <a:blip r:embed="rId2"/>
          <a:stretch/>
        </p:blipFill>
        <p:spPr>
          <a:xfrm>
            <a:off x="1600200" y="990720"/>
            <a:ext cx="6076800" cy="353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Sahara9"/>
          <p:cNvPicPr/>
          <p:nvPr/>
        </p:nvPicPr>
        <p:blipFill>
          <a:blip r:embed="rId3"/>
          <a:stretch/>
        </p:blipFill>
        <p:spPr>
          <a:xfrm>
            <a:off x="4876920" y="4273560"/>
            <a:ext cx="39988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219320" y="3808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Des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Sahara Desertificat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05120" y="1981080"/>
            <a:ext cx="525780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Sah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ahel land"/>
          <p:cNvPicPr/>
          <p:nvPr/>
        </p:nvPicPr>
        <p:blipFill>
          <a:blip r:embed="rId1"/>
          <a:stretch/>
        </p:blipFill>
        <p:spPr>
          <a:xfrm>
            <a:off x="4648320" y="3124080"/>
            <a:ext cx="4190760" cy="3381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ap-Africa-Sahel"/>
          <p:cNvPicPr/>
          <p:nvPr/>
        </p:nvPicPr>
        <p:blipFill>
          <a:blip r:embed="rId2"/>
          <a:stretch/>
        </p:blipFill>
        <p:spPr>
          <a:xfrm>
            <a:off x="762120" y="1219320"/>
            <a:ext cx="360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80880" y="1521000"/>
            <a:ext cx="243864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Vall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Pl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 rot="16869600">
            <a:off x="6683760" y="309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429000" y="1522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Great Rift Va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Great Rift Valley-1"/>
          <p:cNvPicPr/>
          <p:nvPr/>
        </p:nvPicPr>
        <p:blipFill>
          <a:blip r:embed="rId1">
            <a:lum contrast="12000"/>
          </a:blip>
          <a:srcRect l="0" t="3395" r="2204" b="6033"/>
          <a:stretch/>
        </p:blipFill>
        <p:spPr>
          <a:xfrm>
            <a:off x="3886200" y="4343400"/>
            <a:ext cx="464832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map-Africa-Great Rift Valley"/>
          <p:cNvPicPr/>
          <p:nvPr/>
        </p:nvPicPr>
        <p:blipFill>
          <a:blip r:embed="rId2"/>
          <a:stretch/>
        </p:blipFill>
        <p:spPr>
          <a:xfrm>
            <a:off x="520560" y="457200"/>
            <a:ext cx="2679840" cy="6172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Great Rift Valley-3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648320" y="1065240"/>
            <a:ext cx="3047760" cy="2363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886200" y="3657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3,0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838080" y="3049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Seismic Activity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map-Africa-Seismic Hazard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057400" y="1143000"/>
            <a:ext cx="479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80880" y="1521000"/>
            <a:ext cx="2438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Africa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The</a:t>
            </a: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“Tropical”</a:t>
            </a: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Contin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124080" y="1447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ncer 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200400" y="5410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4572000" y="1676520"/>
            <a:ext cx="41148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4800600" y="5592600"/>
            <a:ext cx="38862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971800" y="3459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quator 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4267080" y="3581280"/>
            <a:ext cx="43434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n Trade Wi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map-Africa-Linking WInd-Precipitation-Vegetation"/>
          <p:cNvPicPr/>
          <p:nvPr/>
        </p:nvPicPr>
        <p:blipFill>
          <a:blip r:embed="rId1"/>
          <a:stretch/>
        </p:blipFill>
        <p:spPr>
          <a:xfrm>
            <a:off x="762120" y="1447920"/>
            <a:ext cx="78246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8"/>
          <p:cNvSpPr/>
          <p:nvPr/>
        </p:nvSpPr>
        <p:spPr>
          <a:xfrm>
            <a:off x="2057400" y="1522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 Satellite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0" descr="map-Africa-Satellite view"/>
          <p:cNvPicPr/>
          <p:nvPr/>
        </p:nvPicPr>
        <p:blipFill>
          <a:blip r:embed="rId1">
            <a:lum contrast="6000"/>
          </a:blip>
          <a:srcRect l="0" t="0" r="0" b="14457"/>
          <a:stretch/>
        </p:blipFill>
        <p:spPr>
          <a:xfrm>
            <a:off x="1752480" y="1066680"/>
            <a:ext cx="5715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295280" y="380880"/>
            <a:ext cx="6782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West Africa: 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Home of our Hurric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African hurricanes"/>
          <p:cNvPicPr/>
          <p:nvPr/>
        </p:nvPicPr>
        <p:blipFill>
          <a:blip r:embed="rId1"/>
          <a:stretch/>
        </p:blipFill>
        <p:spPr>
          <a:xfrm>
            <a:off x="1523880" y="1905120"/>
            <a:ext cx="6172200" cy="4690800"/>
          </a:xfrm>
          <a:prstGeom prst="rect">
            <a:avLst/>
          </a:prstGeom>
          <a:ln w="0">
            <a:noFill/>
          </a:ln>
        </p:spPr>
      </p:pic>
      <p:sp>
        <p:nvSpPr>
          <p:cNvPr id="140" name="Oval 5"/>
          <p:cNvSpPr/>
          <p:nvPr/>
        </p:nvSpPr>
        <p:spPr>
          <a:xfrm>
            <a:off x="1219320" y="4038480"/>
            <a:ext cx="4572000" cy="259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Vegetation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map-Africa-vegetation zones"/>
          <p:cNvPicPr/>
          <p:nvPr/>
        </p:nvPicPr>
        <p:blipFill>
          <a:blip r:embed="rId1"/>
          <a:stretch/>
        </p:blipFill>
        <p:spPr>
          <a:xfrm>
            <a:off x="2689200" y="1143000"/>
            <a:ext cx="4092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savannah"/>
          <p:cNvPicPr/>
          <p:nvPr/>
        </p:nvPicPr>
        <p:blipFill>
          <a:blip r:embed="rId1"/>
          <a:stretch/>
        </p:blipFill>
        <p:spPr>
          <a:xfrm>
            <a:off x="762120" y="1962000"/>
            <a:ext cx="4952880" cy="2381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"/>
          <p:cNvSpPr/>
          <p:nvPr/>
        </p:nvSpPr>
        <p:spPr>
          <a:xfrm>
            <a:off x="1295280" y="380880"/>
            <a:ext cx="6782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African Savannah:</a:t>
            </a:r>
            <a:br>
              <a:rPr sz="4400"/>
            </a:br>
            <a:r>
              <a:rPr b="1" lang="en-US" sz="3200" spc="-1" strike="noStrike">
                <a:solidFill>
                  <a:srgbClr val="ccff99"/>
                </a:solidFill>
                <a:latin typeface="Comic Sans MS"/>
              </a:rPr>
              <a:t>13 million sq. 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savannah-1"/>
          <p:cNvPicPr/>
          <p:nvPr/>
        </p:nvPicPr>
        <p:blipFill>
          <a:blip r:embed="rId2"/>
          <a:srcRect l="0" t="0" r="0" b="5200"/>
          <a:stretch/>
        </p:blipFill>
        <p:spPr>
          <a:xfrm>
            <a:off x="3809880" y="3914640"/>
            <a:ext cx="49626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n Rain 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African rain forest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7200" y="1066680"/>
            <a:ext cx="36860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4" descr="map-African rain forest"/>
          <p:cNvPicPr/>
          <p:nvPr/>
        </p:nvPicPr>
        <p:blipFill>
          <a:blip r:embed="rId2"/>
          <a:stretch/>
        </p:blipFill>
        <p:spPr>
          <a:xfrm>
            <a:off x="5029200" y="1066680"/>
            <a:ext cx="336384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gremlin-twins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04920" y="4495680"/>
            <a:ext cx="2819160" cy="1862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3200400" y="4572000"/>
            <a:ext cx="6172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Annual rainfall of up to 17 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Rapid decomposition (very humi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37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15% of the land surface of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irdfly"/>
          <p:cNvPicPr/>
          <p:nvPr/>
        </p:nvPicPr>
        <p:blipFill>
          <a:blip r:embed="rId4"/>
          <a:stretch/>
        </p:blipFill>
        <p:spPr>
          <a:xfrm>
            <a:off x="304920" y="3666960"/>
            <a:ext cx="4114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1295280" y="38088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Mt. Kilimanjaro:</a:t>
            </a:r>
            <a:br>
              <a:rPr sz="4400"/>
            </a:b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Snow on the Equator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Kilimanjaro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371600" y="2019240"/>
            <a:ext cx="6553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255840" y="228600"/>
            <a:ext cx="5583240" cy="6553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28600" y="1447920"/>
            <a:ext cx="2819520" cy="45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Comp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Top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705720" y="2209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l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 rot="19643400">
            <a:off x="5639040" y="35348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2485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 rot="1362000">
            <a:off x="419076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ger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86728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rang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64008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impopo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486400" y="609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80988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73152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7848720" y="4038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Indian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 rot="2805000">
            <a:off x="6932520" y="1905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09588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6324480" y="3230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50292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579132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 rot="4012200">
            <a:off x="7671960" y="3024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8077320" y="6477120"/>
            <a:ext cx="380880" cy="1522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 rot="19927200">
            <a:off x="5943960" y="5866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 rot="3720600">
            <a:off x="6833880" y="4319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7010280" y="3429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7315200" y="3733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5257800" y="1905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4267080" y="2209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/>
          <p:cNvSpPr/>
          <p:nvPr/>
        </p:nvSpPr>
        <p:spPr>
          <a:xfrm rot="20568000">
            <a:off x="6019920" y="51811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/>
          <p:cNvSpPr/>
          <p:nvPr/>
        </p:nvSpPr>
        <p:spPr>
          <a:xfrm rot="4180200">
            <a:off x="5157000" y="500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/>
          <p:cNvSpPr/>
          <p:nvPr/>
        </p:nvSpPr>
        <p:spPr>
          <a:xfrm>
            <a:off x="5410080" y="1295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 rot="16869600">
            <a:off x="6805800" y="287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7"/>
          <p:cNvSpPr/>
          <p:nvPr/>
        </p:nvSpPr>
        <p:spPr>
          <a:xfrm rot="19927200">
            <a:off x="3734280" y="68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8"/>
          <p:cNvSpPr/>
          <p:nvPr/>
        </p:nvSpPr>
        <p:spPr>
          <a:xfrm>
            <a:off x="3124080" y="1447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ncer 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9"/>
          <p:cNvSpPr/>
          <p:nvPr/>
        </p:nvSpPr>
        <p:spPr>
          <a:xfrm>
            <a:off x="3200400" y="5410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0"/>
          <p:cNvSpPr/>
          <p:nvPr/>
        </p:nvSpPr>
        <p:spPr>
          <a:xfrm>
            <a:off x="4572000" y="1676520"/>
            <a:ext cx="41148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1"/>
          <p:cNvSpPr/>
          <p:nvPr/>
        </p:nvSpPr>
        <p:spPr>
          <a:xfrm>
            <a:off x="4800600" y="5592600"/>
            <a:ext cx="38862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2"/>
          <p:cNvSpPr/>
          <p:nvPr/>
        </p:nvSpPr>
        <p:spPr>
          <a:xfrm>
            <a:off x="2971800" y="3459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quator 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3"/>
          <p:cNvSpPr/>
          <p:nvPr/>
        </p:nvSpPr>
        <p:spPr>
          <a:xfrm>
            <a:off x="4267080" y="3581280"/>
            <a:ext cx="43434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295280" y="1522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Natur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map-Africa-Natural Resources"/>
          <p:cNvPicPr/>
          <p:nvPr/>
        </p:nvPicPr>
        <p:blipFill>
          <a:blip r:embed="rId1"/>
          <a:stretch/>
        </p:blipFill>
        <p:spPr>
          <a:xfrm>
            <a:off x="2354400" y="990720"/>
            <a:ext cx="4732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map-Africa in size relationship to other countries"/>
          <p:cNvPicPr/>
          <p:nvPr/>
        </p:nvPicPr>
        <p:blipFill>
          <a:blip r:embed="rId1"/>
          <a:stretch/>
        </p:blipFill>
        <p:spPr>
          <a:xfrm>
            <a:off x="3276720" y="1676520"/>
            <a:ext cx="2624040" cy="289548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  <p:sp>
        <p:nvSpPr>
          <p:cNvPr id="54" name="Text Box 6"/>
          <p:cNvSpPr/>
          <p:nvPr/>
        </p:nvSpPr>
        <p:spPr>
          <a:xfrm>
            <a:off x="2057400" y="2890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’s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838080" y="502920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Second largest continent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11,700,000 sq. 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10% of the world’s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 ½ times the size of the U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438280" y="1600200"/>
            <a:ext cx="4572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666880" y="45720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V="1">
            <a:off x="2666880" y="129492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505320" y="114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6 0 0    M I L 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5715000" y="1295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3124080" y="1295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27240" y="228600"/>
            <a:ext cx="5583240" cy="6553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304920" y="1596960"/>
            <a:ext cx="243828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Bo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477120" y="2209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l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 rot="19643400">
            <a:off x="5486760" y="3458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0199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 rot="1362000">
            <a:off x="396216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ger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63868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rang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1722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impopo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5257800" y="5634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58128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70866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746748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 rot="2805000">
            <a:off x="6703920" y="1905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40080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095880" y="3276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8006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556272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 rot="4012200">
            <a:off x="7443360" y="3024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7848720" y="6477120"/>
            <a:ext cx="380880" cy="15228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19320" y="380880"/>
            <a:ext cx="6781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Mighty Nile River: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“Longest River in the Worl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The Mighty Nile"/>
          <p:cNvPicPr/>
          <p:nvPr/>
        </p:nvPicPr>
        <p:blipFill>
          <a:blip r:embed="rId1"/>
          <a:srcRect l="0" t="8033" r="0" b="0"/>
          <a:stretch/>
        </p:blipFill>
        <p:spPr>
          <a:xfrm>
            <a:off x="1905120" y="1905120"/>
            <a:ext cx="5443560" cy="43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Rectangle 7"/>
          <p:cNvSpPr/>
          <p:nvPr/>
        </p:nvSpPr>
        <p:spPr>
          <a:xfrm>
            <a:off x="6019920" y="3124080"/>
            <a:ext cx="99036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 flipH="1" flipV="1">
            <a:off x="3276360" y="2819520"/>
            <a:ext cx="533160" cy="228600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37160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Congo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ap-Congo River Basin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80880" y="1523880"/>
            <a:ext cx="4800600" cy="4618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410080" y="2057400"/>
            <a:ext cx="35816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12% of the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Extends over 9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,720 mil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99% of the country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of Zaire is in the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ngo River bas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37160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Niger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09680" y="5105520"/>
            <a:ext cx="5181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7.5% of the 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Extends over 10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,600 mil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ap-Niger River Basin"/>
          <p:cNvPicPr/>
          <p:nvPr/>
        </p:nvPicPr>
        <p:blipFill>
          <a:blip r:embed="rId1"/>
          <a:stretch/>
        </p:blipFill>
        <p:spPr>
          <a:xfrm>
            <a:off x="1828800" y="1447920"/>
            <a:ext cx="5715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600200" y="3049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Hydroelectric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ap-Africa-Major African Dams"/>
          <p:cNvPicPr/>
          <p:nvPr/>
        </p:nvPicPr>
        <p:blipFill>
          <a:blip r:embed="rId1"/>
          <a:stretch/>
        </p:blipFill>
        <p:spPr>
          <a:xfrm>
            <a:off x="1162080" y="1306440"/>
            <a:ext cx="69912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 rot="19018800">
            <a:off x="6020640" y="5714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 rot="2868600">
            <a:off x="6651360" y="4091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934320" y="3352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16292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1521000"/>
            <a:ext cx="2438640" cy="28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ea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 rot="19927200">
            <a:off x="3734280" y="68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5:46:07Z</dcterms:created>
  <dc:creator>supojer; Mr. Clutter</dc:creator>
  <dc:description/>
  <dc:language>en-US</dc:language>
  <cp:lastModifiedBy>RomaK</cp:lastModifiedBy>
  <dcterms:modified xsi:type="dcterms:W3CDTF">2015-09-04T09:39:50Z</dcterms:modified>
  <cp:revision>83</cp:revision>
  <dc:subject/>
  <dc:title>Geography of Africa</dc:title>
</cp:coreProperties>
</file>