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8F3F-B2D4-45AA-9F09-0D73DA79E3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5F7-41B6-4FE8-8C5E-D09A2A02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009-EE2A-4B5E-9DF4-857D5585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1B0-A902-4A27-AA28-6ABAA1FC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626-0546-4FCB-A2AC-64A10F3F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BD7F-9B0C-4E1C-BE8B-BF2D8452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0809-46AE-4CA6-8693-C0227525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2077-C2F9-4914-B748-CB7735D7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6D77-0609-4AC8-888E-BDB21179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0BEE-4EF2-4394-80E6-1F216989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ECAA-411A-4EAA-A4FE-6217C2EA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F77E-6756-4E7B-BDC5-529344D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A8A-BB03-41EB-BB0B-4E6A8E6F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C75A-712C-424F-9F6B-0A25E3F4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DA3C-E8B8-4F5D-9756-D4261EE8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B883-041A-4596-B9A0-8D34DE05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56E0-4B22-46BC-BEFB-634A7190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D54D-BFB4-4C5D-BEE1-F9B6BFF8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C76-31B8-4400-A95C-1B8F693A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779-B758-4A6E-ACD1-A69FB997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C31-2C01-4334-9C00-C8819352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22C-DA29-47BF-A96D-CBF186CD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6BB-908B-4B97-90F7-201B45D6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2A1-2BBC-4D45-8AC9-065BFC3D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95D-1F1F-425D-A84F-7FAD37C4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3686-EAB2-41DC-9622-F1C7E25304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13F-C18C-42F4-AB30-E9266F3F302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mockingbird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200px-Killmockingbird217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5" descr="Copy_of_Mockingbird2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5" descr="growing7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harper_lee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7" descr="SCOTTS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FDR%20fireside%20chat%20March%201933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5" descr="acoffee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DLange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oldcotton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7" descr="owen3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hitler4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9" descr="SEGREGATION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Picture 6" descr="MrsDubose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This PowerPoint was created by Mrs. Ward especially for the 4</a:t>
            </a:r>
            <a:r>
              <a:rPr b="1" lang="en-US" sz="4800" spc="-1" strike="noStrike" baseline="30000">
                <a:solidFill>
                  <a:srgbClr val="ccecff"/>
                </a:solidFill>
                <a:latin typeface="Annie BTN"/>
              </a:rPr>
              <a:t>th</a:t>
            </a: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 Hour English I students at Warner High School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I hope you enjoy the book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12" descr="Mkgbrd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mockingbird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badham213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4764scout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060501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9"/>
          <p:cNvSpPr/>
          <p:nvPr/>
        </p:nvSpPr>
        <p:spPr>
          <a:xfrm>
            <a:off x="838080" y="1752480"/>
            <a:ext cx="44197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CalandScout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RomaK</cp:lastModifiedBy>
  <dcterms:modified xsi:type="dcterms:W3CDTF">2015-09-04T10:40:07Z</dcterms:modified>
  <cp:revision>31</cp:revision>
  <dc:subject/>
  <dc:title>To Kill a Mockingbird</dc:title>
</cp:coreProperties>
</file>