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0DBA-E4B2-4BE0-A189-F3A456983D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206-44CC-44D2-9E40-FEA3BB6C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0A4-89A6-4696-8C9C-BFE6826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D4C-27AE-47AC-8D30-15A3ACBB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8E8-0B56-4E08-A819-BEA08797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4438-62DB-474A-9514-7504C714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D521-81DE-45E4-BF88-199C9434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0E5B-63ED-4A2C-B812-C54737AD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9D6C-BFE3-4916-9658-0846472A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E987-DAF8-46EF-8DA2-52CFCB1E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3224-608E-4C02-BF11-C977171D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EC05-0820-4DEB-B954-1AA1C372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4F8-135B-4181-B7ED-44A68632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31B2-C5F8-4E39-8185-33A63252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4019-8FDB-46B7-B4E0-1C07D18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E2EF-00BC-4416-873F-15A50023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9AB2-C6EF-4158-96DF-F2E5CC61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98E0-BB0C-4FAB-8EFB-5D8BE0DD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D17-718F-41AE-9786-C1CEEEF4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4C6-70D4-4837-B90E-A7E604E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406-8A2E-449E-B8D9-35DD8F34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BC5-0BED-4B50-A78D-A45A425E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91C-1710-44C9-B303-890AAC21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2C0-A1A0-465E-A7AC-93869038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49E-2D03-4CA4-9D17-CF216A5C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8909-9DF7-448B-B1C9-77EC738908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DB0D-C27F-4A65-B235-7C9308F72CA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RomaK</cp:lastModifiedBy>
  <dcterms:modified xsi:type="dcterms:W3CDTF">2015-09-04T10:40:07Z</dcterms:modified>
  <cp:revision>31</cp:revision>
  <dc:subject/>
  <dc:title>To Kill a Mockingbird</dc:title>
</cp:coreProperties>
</file>