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whoosh.wav" ContentType="audio/x-wav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6628-A466-4BEA-91F4-BF6DC061BB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’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’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ill 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about the author, E.B.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book “Trumpet of the Swan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bout the Trumpeter Swan such as size, nesting habits,what they eat, and where we can fin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ill Le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about the author, E.B.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book “Trumpet of the Swan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bout the Trumpeter Swan such as size, nesting habits,what they eat, and where we can fin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awarded the 1970 Laura Ingalls Wilder Medal for his children’s books, Stuart Little and Charlotte’s We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a farm in Maine, where he found the inspiration for his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n October 1,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B.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awarded the 1970 Laura Ingalls Wilder Medal for his children’s books, Stuart Little and Charlotte’s We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a farm in Maine, where he found the inspiration for his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n October 1,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st Famous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art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otte’s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st Famous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art Li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otte’s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y stories true, you ask? No, they are imaginary tales, containing fantastic characters and events. I In real life, a swan doesn’t blow a trumpet. But real life is only one kind of life – there is also the life of the imagination. And although my stories are imaginary, I like to think that there is some truth in them, too – truth about the way people and animals feel and think and act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 of the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y stories true, you ask? No, they are imaginary tales, containing fantastic characters and events. I In real life, a swan doesn’t blow a trumpet. But real life is only one kind of life – there is also the life of the imagination. And although my stories are imaginary, I like to think that there is some truth in them, too – truth about the way people and animals feel and think and act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s are the rarest swan in the world. They used to be abundant in North America but by the early 1900s, they were nearly extin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restoration program began in the 1930s and trumpeter swans have responded well. They are still considered vulnerable in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s are the rarest swan in the world. They used to be abundant in North America but by the early 1900s, they were nearly extin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restoration program began in the 1930s and trumpeter swans have responded well. They are still considered vulnerable in Can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ing Ha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 Swan nesting territories range from 6 to 150 acres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-building begins in mid-April and may take up to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ygnets hatch in June, they weigh about 7 ounces. After a day or two, they take to the water to feed on insects and other aquatic in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ing Ha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mpeter Swan nesting territories range from 6 to 150 acres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t-building begins in mid-April and may take up to two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ygnets hatch in June, they weigh about 7 ounces. After a day or two, they take to the water to feed on insects and other aquatic in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e Find Trumpeter Sw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e Find Trumpeter Sw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D16-336B-48BA-9FAC-0D36D671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9B0-C532-4F84-A123-D84324F2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20F-A0BE-4C0C-A24E-3CA76A73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ACC-6B91-4006-B377-B1253CA0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606-B1A5-4DBE-BCFA-A47B230C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CA2-FC73-4FBC-9F49-AF2422B7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5C00-D4E9-40A7-AB13-C1BE197B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929-692B-4EBC-B8B6-A7EDB95A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B9E-770E-4D75-9A87-5EA26255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E9E-C56F-4F94-8301-5A21DB7C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BBB-E4DD-483B-A3DD-991A08F9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F3FA-D4D9-42E6-BD84-7432DCCA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61B2-A79B-4D86-8668-AD4412BCF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85840" y="1219320"/>
            <a:ext cx="2971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E.B.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in this power point is credited to: http://www.trumpeterswansociety.org/id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harperchildrens.com/authorintro/index.asp?authorid=104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Let’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Read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We Will Lea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 little about the author, E.B.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bout the book “Trumpet of the Swa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formation about the Trumpeter Swan such as size, nesting habits,what they eat, and where we can fin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.B.Wh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as awarded the 1970 Laura Ingalls Wilder Medal for his children’s books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Stuart Lit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harlotte’s Web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ved on a farm in Maine, where he found the inspiration for his boo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Died on October 1, 198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E"/>
          <p:cNvPicPr/>
          <p:nvPr/>
        </p:nvPicPr>
        <p:blipFill>
          <a:blip r:embed="rId1"/>
          <a:stretch/>
        </p:blipFill>
        <p:spPr>
          <a:xfrm>
            <a:off x="5216400" y="2133720"/>
            <a:ext cx="31244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Three Most Famous Boo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tuart Lit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Charlotte’s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 of the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re my stories true, you ask? No, they are imaginary tales, containing fantastic characters and events. I In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life, a swan doesn’t blow a trumpet. Bu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life is only one kind of life – there is also the life of the imagination. And although my stories are imaginary, I like to think that there is some truth in them, too – truth about the way people and animals feel and think and ac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Trumpet of Swan"/>
          <p:cNvPicPr/>
          <p:nvPr/>
        </p:nvPicPr>
        <p:blipFill>
          <a:blip r:embed="rId1"/>
          <a:stretch/>
        </p:blipFill>
        <p:spPr>
          <a:xfrm>
            <a:off x="5689440" y="213372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The Trumpeter Sw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Trumpeter Swan is the largest waterfowl species native to North America. Most Trumpeters weigh 21-30 pounds, although large males may exceed 35 pounds. The male is called a cob; the female is called a pen. With a wingspan over 7 feet, these snow-white birds are truly spectacular. Standing on the ground, an adult Trumpeter stands about 4 feet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trumpeter_swan_03"/>
          <p:cNvPicPr/>
          <p:nvPr/>
        </p:nvPicPr>
        <p:blipFill>
          <a:blip r:embed="rId2"/>
          <a:stretch/>
        </p:blipFill>
        <p:spPr>
          <a:xfrm>
            <a:off x="228600" y="228600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mpeters are the rarest swan in the world. They used to be abundant in North America but by the early 1900s, they were nearly extin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national restoration program began in the 1930s and trumpeter swans have responded well. They are still considered vulnerable in Can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trumpeterswansociety.org/id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swan"/>
          <p:cNvPicPr/>
          <p:nvPr/>
        </p:nvPicPr>
        <p:blipFill>
          <a:blip r:embed="rId2"/>
          <a:stretch/>
        </p:blipFill>
        <p:spPr>
          <a:xfrm>
            <a:off x="5257800" y="1447920"/>
            <a:ext cx="3135240" cy="2438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25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0"/>
          <p:cNvGrpSpPr/>
          <p:nvPr/>
        </p:nvGrpSpPr>
        <p:grpSpPr>
          <a:xfrm>
            <a:off x="0" y="2584440"/>
            <a:ext cx="482760" cy="351000"/>
            <a:chOff x="0" y="2584440"/>
            <a:chExt cx="482760" cy="351000"/>
          </a:xfrm>
        </p:grpSpPr>
        <p:sp>
          <p:nvSpPr>
            <p:cNvPr id="67" name="Rectangle 7"/>
            <p:cNvSpPr/>
            <p:nvPr/>
          </p:nvSpPr>
          <p:spPr>
            <a:xfrm>
              <a:off x="0" y="2584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0" y="2584440"/>
              <a:ext cx="4827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11"/>
          <p:cNvSpPr/>
          <p:nvPr/>
        </p:nvSpPr>
        <p:spPr>
          <a:xfrm>
            <a:off x="0" y="29354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36050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Nesting Ha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rumpeter Swan nesting territories range from 6 to 150 acres in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est-building begins in mid-April and may take up to two wee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When the cygnets hatch in June, they weigh about 7 ounces. After a day or two, they take to the water to feed on insects and other aquatic invertebr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swanchicks"/>
          <p:cNvPicPr/>
          <p:nvPr/>
        </p:nvPicPr>
        <p:blipFill>
          <a:blip r:embed="rId2"/>
          <a:stretch/>
        </p:blipFill>
        <p:spPr>
          <a:xfrm>
            <a:off x="5105520" y="1447920"/>
            <a:ext cx="3782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50000">
              <a:srgbClr val="b2b2b2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Where We Find Trumpeter Sw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population map"/>
          <p:cNvPicPr/>
          <p:nvPr/>
        </p:nvPicPr>
        <p:blipFill>
          <a:blip r:embed="rId1"/>
          <a:stretch/>
        </p:blipFill>
        <p:spPr>
          <a:xfrm>
            <a:off x="1676520" y="1828800"/>
            <a:ext cx="614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1:42:25Z</dcterms:created>
  <dc:creator>.</dc:creator>
  <dc:description/>
  <dc:language>en-US</dc:language>
  <cp:lastModifiedBy>RomaK</cp:lastModifiedBy>
  <dcterms:modified xsi:type="dcterms:W3CDTF">2015-09-04T10:39:58Z</dcterms:modified>
  <cp:revision>12</cp:revision>
  <dc:subject/>
  <dc:title>The Trumpet of the Swans </dc:title>
</cp:coreProperties>
</file>