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BC55-97DC-41D6-95A6-D404480137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B19-F6EB-4C01-A090-B54CE3DC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830-30B4-4A59-9A73-4A4BB439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B27-CCE8-4418-9FC2-E9ADB623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129-7B88-4268-93F0-25961A54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52F-398C-4E31-BF4A-C5BFBAD1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3E8-DBDB-4297-ACCB-456E14B7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67C-B882-43C8-9ADF-E8B9E032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1A2-7835-4E06-B04F-E197C2EA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F91-B4C6-42CA-9E0C-D60533A9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612-1F5B-49DB-936B-6364173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6AE-C772-4437-A24D-63D84589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C2D4-48EE-4B04-9E8F-07B6A395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8A16-C69D-44F2-BE72-63B3A29942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jai.net/swanson/theraven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Describe the feelings that come to mind after reading these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5720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e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953600" y="31957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429280" y="5834160"/>
            <a:ext cx="159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lackadder ITC"/>
              </a:rPr>
              <a:t>G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734520" y="4255920"/>
            <a:ext cx="12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rinda"/>
              </a:rPr>
              <a:t>L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585600" y="205740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Eras Demi ITC"/>
              </a:rPr>
              <a:t>S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73120" y="25322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Medium Cond"/>
              </a:rPr>
              <a:t>Dar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56272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ngravers MT"/>
              </a:rPr>
              <a:t>Melancho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139920" y="38973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09480" y="4876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Modern"/>
              </a:rPr>
              <a:t>St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061880" y="4802040"/>
            <a:ext cx="14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St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80880" y="838080"/>
            <a:ext cx="853452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2666880"/>
            <a:ext cx="723888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ojai.net/swanson/theraven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923560" y="533520"/>
            <a:ext cx="3252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Blackadder ITC"/>
              </a:rPr>
              <a:t>The Rave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y</a:t>
            </a: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dgar Allan P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raven"/>
          <p:cNvPicPr/>
          <p:nvPr/>
        </p:nvPicPr>
        <p:blipFill>
          <a:blip r:embed="rId2"/>
          <a:stretch/>
        </p:blipFill>
        <p:spPr>
          <a:xfrm>
            <a:off x="3352680" y="3733920"/>
            <a:ext cx="2686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2"/>
          <p:cNvGrpSpPr/>
          <p:nvPr/>
        </p:nvGrpSpPr>
        <p:grpSpPr>
          <a:xfrm>
            <a:off x="533520" y="457200"/>
            <a:ext cx="8001000" cy="5715000"/>
            <a:chOff x="533520" y="457200"/>
            <a:chExt cx="8001000" cy="5715000"/>
          </a:xfrm>
        </p:grpSpPr>
        <p:sp>
          <p:nvSpPr>
            <p:cNvPr id="66" name="Rectangle 5"/>
            <p:cNvSpPr/>
            <p:nvPr/>
          </p:nvSpPr>
          <p:spPr>
            <a:xfrm>
              <a:off x="533520" y="457200"/>
              <a:ext cx="8001000" cy="571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3657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533520" y="1066680"/>
              <a:ext cx="80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609480" y="53352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3733920" y="533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echniqu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943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6019920" y="533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295280" y="380880"/>
            <a:ext cx="649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85800" y="228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ravenII"/>
          <p:cNvPicPr/>
          <p:nvPr/>
        </p:nvPicPr>
        <p:blipFill>
          <a:blip r:embed="rId1"/>
          <a:stretch/>
        </p:blipFill>
        <p:spPr>
          <a:xfrm>
            <a:off x="3581280" y="1371600"/>
            <a:ext cx="1833840" cy="2452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304920" y="4343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Why not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duck"/>
          <p:cNvPicPr/>
          <p:nvPr/>
        </p:nvPicPr>
        <p:blipFill>
          <a:blip r:embed="rId2"/>
          <a:stretch/>
        </p:blipFill>
        <p:spPr>
          <a:xfrm>
            <a:off x="609480" y="51814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arrot"/>
          <p:cNvPicPr/>
          <p:nvPr/>
        </p:nvPicPr>
        <p:blipFill>
          <a:blip r:embed="rId3"/>
          <a:stretch/>
        </p:blipFill>
        <p:spPr>
          <a:xfrm>
            <a:off x="2362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ove"/>
          <p:cNvPicPr/>
          <p:nvPr/>
        </p:nvPicPr>
        <p:blipFill>
          <a:blip r:embed="rId4"/>
          <a:stretch/>
        </p:blipFill>
        <p:spPr>
          <a:xfrm>
            <a:off x="4114800" y="51814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nguin"/>
          <p:cNvPicPr/>
          <p:nvPr/>
        </p:nvPicPr>
        <p:blipFill>
          <a:blip r:embed="rId5"/>
          <a:stretch/>
        </p:blipFill>
        <p:spPr>
          <a:xfrm>
            <a:off x="5791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anary"/>
          <p:cNvPicPr/>
          <p:nvPr/>
        </p:nvPicPr>
        <p:blipFill>
          <a:blip r:embed="rId6"/>
          <a:stretch/>
        </p:blipFill>
        <p:spPr>
          <a:xfrm>
            <a:off x="7467480" y="5181480"/>
            <a:ext cx="121932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2514600" y="2590920"/>
            <a:ext cx="3962520" cy="18288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hat might we assoc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ith rav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ravenII"/>
          <p:cNvPicPr/>
          <p:nvPr/>
        </p:nvPicPr>
        <p:blipFill>
          <a:blip r:embed="rId1"/>
          <a:stretch/>
        </p:blipFill>
        <p:spPr>
          <a:xfrm>
            <a:off x="228600" y="228600"/>
            <a:ext cx="12081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96280" y="304920"/>
            <a:ext cx="772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3505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6:33:15Z</dcterms:created>
  <dc:creator>anna</dc:creator>
  <dc:description>The Raven</dc:description>
  <cp:keywords>The Raven</cp:keywords>
  <dc:language>en-US</dc:language>
  <cp:lastModifiedBy>RomaK</cp:lastModifiedBy>
  <dcterms:modified xsi:type="dcterms:W3CDTF">2015-09-04T10:39:49Z</dcterms:modified>
  <cp:revision>9</cp:revision>
  <dc:subject>The Raven</dc:subject>
  <dc:title>The Raven</dc:title>
</cp:coreProperties>
</file>