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07BB-C212-48D4-94EF-A7BD7695B9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 and symbolism in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’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the feelings that come to mind after reading these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e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ancho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ill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http://www.ojai.net/swanson/theraven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The Rav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by Edgar Allan Po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...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ight we associ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rave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B5E-23DE-4B12-BCC0-BBE58879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1BA-0742-41D9-BFF4-816D4180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E71-2599-45EC-BD46-16C53780E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D21-1F1E-4D17-A024-92CD861A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08D-D414-4D15-B130-26DBDF56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622F-E1FE-4E27-A3CC-7ADE05DA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D50-1C7A-4A66-AB1C-039488AC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E28-E312-4EE2-8CAE-B885DBA3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0F1-BA70-4F4A-8B3D-7E1F85DB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BCE-DF94-4468-AC5E-C1836A2D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1CA-AAD1-48CD-93D0-57314C5D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D851-F674-4A2A-8ED9-98226787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C4E7-7F09-4B17-820C-EC2C22C8CB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jai.net/swanson/theraven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0" y="5335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Atmosphere and symbolism in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000099"/>
                </a:solidFill>
                <a:latin typeface="Times New Roman"/>
              </a:rPr>
              <a:t>poetr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14400" y="2819520"/>
            <a:ext cx="792468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00"/>
                </a:solidFill>
                <a:uFillTx/>
                <a:latin typeface="Times New Roman"/>
              </a:rPr>
              <a:t>LO’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the end of this lesson students will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what atmosphere and symbolism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apply this knowledge by analysing a po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2286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Describe the feelings that come to mind after reading these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953600" y="3195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B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429280" y="5834160"/>
            <a:ext cx="159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lackadder ITC"/>
              </a:rPr>
              <a:t>Gh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734520" y="4255920"/>
            <a:ext cx="12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rinda"/>
              </a:rPr>
              <a:t>L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585600" y="2057400"/>
            <a:ext cx="15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Eras Demi ITC"/>
              </a:rPr>
              <a:t>S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873120" y="253224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Medium Cond"/>
              </a:rPr>
              <a:t>Dar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5562720" y="5943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Engravers MT"/>
              </a:rPr>
              <a:t>Melancho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139920" y="389736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Gr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609480" y="48769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Modern"/>
              </a:rPr>
              <a:t>Still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061880" y="4802040"/>
            <a:ext cx="147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aramond"/>
              </a:rPr>
              <a:t>Ste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80880" y="838080"/>
            <a:ext cx="853452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ll of these words are from a very famous poem. Make some guesses about the setting and atmosphere of the poem such a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day is i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time of yea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is the author feel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he alone or with other people?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2666880"/>
            <a:ext cx="723888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ojai.net/swanson/theraven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2923560" y="533520"/>
            <a:ext cx="3252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000000"/>
                </a:solidFill>
                <a:latin typeface="Blackadder ITC"/>
              </a:rPr>
              <a:t>The Raven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y</a:t>
            </a: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dgar Allan Po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raven"/>
          <p:cNvPicPr/>
          <p:nvPr/>
        </p:nvPicPr>
        <p:blipFill>
          <a:blip r:embed="rId2"/>
          <a:stretch/>
        </p:blipFill>
        <p:spPr>
          <a:xfrm>
            <a:off x="3352680" y="3733920"/>
            <a:ext cx="26863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2"/>
          <p:cNvGrpSpPr/>
          <p:nvPr/>
        </p:nvGrpSpPr>
        <p:grpSpPr>
          <a:xfrm>
            <a:off x="533520" y="457200"/>
            <a:ext cx="8001000" cy="5715000"/>
            <a:chOff x="533520" y="457200"/>
            <a:chExt cx="8001000" cy="5715000"/>
          </a:xfrm>
        </p:grpSpPr>
        <p:sp>
          <p:nvSpPr>
            <p:cNvPr id="66" name="Rectangle 5"/>
            <p:cNvSpPr/>
            <p:nvPr/>
          </p:nvSpPr>
          <p:spPr>
            <a:xfrm>
              <a:off x="533520" y="457200"/>
              <a:ext cx="8001000" cy="571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6"/>
            <p:cNvSpPr/>
            <p:nvPr/>
          </p:nvSpPr>
          <p:spPr>
            <a:xfrm>
              <a:off x="3657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7"/>
            <p:cNvSpPr/>
            <p:nvPr/>
          </p:nvSpPr>
          <p:spPr>
            <a:xfrm>
              <a:off x="533520" y="1066680"/>
              <a:ext cx="800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"/>
            <p:cNvSpPr/>
            <p:nvPr/>
          </p:nvSpPr>
          <p:spPr>
            <a:xfrm>
              <a:off x="609480" y="533520"/>
              <a:ext cx="381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in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9"/>
            <p:cNvSpPr/>
            <p:nvPr/>
          </p:nvSpPr>
          <p:spPr>
            <a:xfrm>
              <a:off x="3733920" y="5335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echniqu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0"/>
            <p:cNvSpPr/>
            <p:nvPr/>
          </p:nvSpPr>
          <p:spPr>
            <a:xfrm>
              <a:off x="5943600" y="457200"/>
              <a:ext cx="0" cy="571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11"/>
            <p:cNvSpPr/>
            <p:nvPr/>
          </p:nvSpPr>
          <p:spPr>
            <a:xfrm>
              <a:off x="6019920" y="5335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ffect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95280" y="380880"/>
            <a:ext cx="649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might have happened to the character before the events of the poem hap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68580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does Edgar Allan Poe use a raven instead of another bird as the major symbol of this po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ravenII"/>
          <p:cNvPicPr/>
          <p:nvPr/>
        </p:nvPicPr>
        <p:blipFill>
          <a:blip r:embed="rId1"/>
          <a:stretch/>
        </p:blipFill>
        <p:spPr>
          <a:xfrm>
            <a:off x="3581280" y="1371600"/>
            <a:ext cx="1833840" cy="2452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304920" y="434340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Why not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duck"/>
          <p:cNvPicPr/>
          <p:nvPr/>
        </p:nvPicPr>
        <p:blipFill>
          <a:blip r:embed="rId2"/>
          <a:stretch/>
        </p:blipFill>
        <p:spPr>
          <a:xfrm>
            <a:off x="609480" y="518148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parrot"/>
          <p:cNvPicPr/>
          <p:nvPr/>
        </p:nvPicPr>
        <p:blipFill>
          <a:blip r:embed="rId3"/>
          <a:stretch/>
        </p:blipFill>
        <p:spPr>
          <a:xfrm>
            <a:off x="2362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ove"/>
          <p:cNvPicPr/>
          <p:nvPr/>
        </p:nvPicPr>
        <p:blipFill>
          <a:blip r:embed="rId4"/>
          <a:stretch/>
        </p:blipFill>
        <p:spPr>
          <a:xfrm>
            <a:off x="4114800" y="5181480"/>
            <a:ext cx="1447920" cy="1086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nguin"/>
          <p:cNvPicPr/>
          <p:nvPr/>
        </p:nvPicPr>
        <p:blipFill>
          <a:blip r:embed="rId5"/>
          <a:stretch/>
        </p:blipFill>
        <p:spPr>
          <a:xfrm>
            <a:off x="5791320" y="5181480"/>
            <a:ext cx="1428480" cy="1076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canary"/>
          <p:cNvPicPr/>
          <p:nvPr/>
        </p:nvPicPr>
        <p:blipFill>
          <a:blip r:embed="rId6"/>
          <a:stretch/>
        </p:blipFill>
        <p:spPr>
          <a:xfrm>
            <a:off x="7467480" y="5181480"/>
            <a:ext cx="12193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2514600" y="2590920"/>
            <a:ext cx="3962520" cy="1828800"/>
          </a:xfrm>
          <a:prstGeom prst="ellipse">
            <a:avLst/>
          </a:prstGeom>
          <a:noFill/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hat might we associ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with rave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3" descr="ravenII"/>
          <p:cNvPicPr/>
          <p:nvPr/>
        </p:nvPicPr>
        <p:blipFill>
          <a:blip r:embed="rId1"/>
          <a:stretch/>
        </p:blipFill>
        <p:spPr>
          <a:xfrm>
            <a:off x="228600" y="228600"/>
            <a:ext cx="12081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96280" y="304920"/>
            <a:ext cx="7725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could say that Edgar Allan Poe sets the scene and cre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atmosphere by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28600" y="3505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he uses the raven to symbolis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6:33:15Z</dcterms:created>
  <dc:creator>anna</dc:creator>
  <dc:description>The Raven</dc:description>
  <cp:keywords>The Raven</cp:keywords>
  <dc:language>en-US</dc:language>
  <cp:lastModifiedBy>RomaK</cp:lastModifiedBy>
  <dcterms:modified xsi:type="dcterms:W3CDTF">2015-09-04T10:39:49Z</dcterms:modified>
  <cp:revision>9</cp:revision>
  <dc:subject>The Raven</dc:subject>
  <dc:title>The Raven</dc:title>
</cp:coreProperties>
</file>