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4FA5-4A15-4E8F-A7EF-B066187D45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and symbolism in po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’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and symbolism in po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’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and symbolism in po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’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and symbolism in po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’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feelings that come to mind after reading these wor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e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ancho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feelings that come to mind after reading these wor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e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ancho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of these words are from a very famous poem. Make some guesses about the setting and atmosphere of the poem such a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ime of day is it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ime of year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e author feeling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he alone or with other people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of these words are from a very famous poem. Make some guesses about the setting and atmosphere of the poem such a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ime of day is it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ime of year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e author feeling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he alone or with other people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http://www.ojai.net/swanson/theraven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The Rav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by Edgar Allan P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http://www.ojai.net/swanson/theraven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The Rav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by Edgar Allan P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ight have happened to the character before the events of the poem hap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ight have happened to the character before the events of the poem hap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Edgar Allan Poe use a raven instead of another bird as the major symbol of this po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ot...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Edgar Allan Poe use a raven instead of another bird as the major symbol of this po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ot...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ight we associ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rave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ight we associ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rave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uld say that Edgar Allan Poe sets the scene and cre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mosphere by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he uses the raven to symbolis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uld say that Edgar Allan Poe sets the scene and cre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mosphere by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he uses the raven to symbolis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5384-00F9-41AE-876D-7D3C344CD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2A70-EA91-455D-962A-28E62EF2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157E-5F79-4E67-BF6E-1AC1C3735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E4EE-2F22-441E-B34B-A1A81FA2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0F0F-B7BE-41FF-978B-0DB1E89B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C348-D6A9-43A8-925C-50A3E429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2C42-4FD3-4F10-8689-4E689B0D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D159-B5A5-4DC0-B844-BB12ABB6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14F2-6053-4EBE-8638-8D6D1BF7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3BAB-AE5B-4902-8E21-3670D87F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0E55-BCE2-4130-ADF4-0EBFB0E9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1587-4C40-4C58-968F-1C59857B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D1AC-E5E7-45B6-802E-8EE242AA77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ojai.net/swanson/theraven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0" y="5335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Times New Roman"/>
              </a:rPr>
              <a:t>Atmosphere and symbolism in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400" spc="-1" strike="noStrike">
                <a:solidFill>
                  <a:srgbClr val="000099"/>
                </a:solidFill>
                <a:latin typeface="Times New Roman"/>
              </a:rPr>
              <a:t>poet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914400" y="2819520"/>
            <a:ext cx="79246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00"/>
                </a:solidFill>
                <a:uFillTx/>
                <a:latin typeface="Times New Roman"/>
              </a:rPr>
              <a:t>LO’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0" y="5335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Times New Roman"/>
              </a:rPr>
              <a:t>Atmosphere and symbolism in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400" spc="-1" strike="noStrike">
                <a:solidFill>
                  <a:srgbClr val="000099"/>
                </a:solidFill>
                <a:latin typeface="Times New Roman"/>
              </a:rPr>
              <a:t>poet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14400" y="2819520"/>
            <a:ext cx="79246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00"/>
                </a:solidFill>
                <a:uFillTx/>
                <a:latin typeface="Times New Roman"/>
              </a:rPr>
              <a:t>LO’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304920" y="2286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Describe the feelings that come to mind after reading these word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57200" y="28954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e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953600" y="319572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Ble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429280" y="5834160"/>
            <a:ext cx="159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lackadder ITC"/>
              </a:rPr>
              <a:t>Gh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734520" y="4255920"/>
            <a:ext cx="128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rinda"/>
              </a:rPr>
              <a:t>L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585600" y="2057400"/>
            <a:ext cx="155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Eras Demi ITC"/>
              </a:rPr>
              <a:t>Sor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6873120" y="2532240"/>
            <a:ext cx="196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Medium Cond"/>
              </a:rPr>
              <a:t>Dark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5562720" y="59436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ngravers MT"/>
              </a:rPr>
              <a:t>Melancho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3139920" y="389736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Gr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609480" y="487692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Modern"/>
              </a:rPr>
              <a:t>Still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4061880" y="4802040"/>
            <a:ext cx="147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aramond"/>
              </a:rPr>
              <a:t>Ster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380880" y="838080"/>
            <a:ext cx="853452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ll of these words are from a very famous poem. Make some guesses about the setting and atmosphere of the poem such as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time of day is it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time of year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 is the author feeling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he alone or with other people?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990720" y="2666880"/>
            <a:ext cx="7238880" cy="581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ojai.net/swanson/theraven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2923560" y="533520"/>
            <a:ext cx="32529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000000"/>
                </a:solidFill>
                <a:latin typeface="Blackadder ITC"/>
              </a:rPr>
              <a:t>The Raven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by</a:t>
            </a: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Edgar Allan P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raven"/>
          <p:cNvPicPr/>
          <p:nvPr/>
        </p:nvPicPr>
        <p:blipFill>
          <a:blip r:embed="rId2"/>
          <a:stretch/>
        </p:blipFill>
        <p:spPr>
          <a:xfrm>
            <a:off x="3352680" y="3733920"/>
            <a:ext cx="268632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12"/>
          <p:cNvGrpSpPr/>
          <p:nvPr/>
        </p:nvGrpSpPr>
        <p:grpSpPr>
          <a:xfrm>
            <a:off x="533520" y="457200"/>
            <a:ext cx="8001000" cy="5715000"/>
            <a:chOff x="533520" y="457200"/>
            <a:chExt cx="8001000" cy="5715000"/>
          </a:xfrm>
        </p:grpSpPr>
        <p:sp>
          <p:nvSpPr>
            <p:cNvPr id="66" name="Rectangle 5"/>
            <p:cNvSpPr/>
            <p:nvPr/>
          </p:nvSpPr>
          <p:spPr>
            <a:xfrm>
              <a:off x="533520" y="457200"/>
              <a:ext cx="8001000" cy="571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6"/>
            <p:cNvSpPr/>
            <p:nvPr/>
          </p:nvSpPr>
          <p:spPr>
            <a:xfrm>
              <a:off x="3657600" y="457200"/>
              <a:ext cx="0" cy="571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7"/>
            <p:cNvSpPr/>
            <p:nvPr/>
          </p:nvSpPr>
          <p:spPr>
            <a:xfrm>
              <a:off x="533520" y="1066680"/>
              <a:ext cx="800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8"/>
            <p:cNvSpPr/>
            <p:nvPr/>
          </p:nvSpPr>
          <p:spPr>
            <a:xfrm>
              <a:off x="609480" y="533520"/>
              <a:ext cx="381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in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9"/>
            <p:cNvSpPr/>
            <p:nvPr/>
          </p:nvSpPr>
          <p:spPr>
            <a:xfrm>
              <a:off x="3733920" y="5335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echniqu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10"/>
            <p:cNvSpPr/>
            <p:nvPr/>
          </p:nvSpPr>
          <p:spPr>
            <a:xfrm>
              <a:off x="5943600" y="457200"/>
              <a:ext cx="0" cy="571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11"/>
            <p:cNvSpPr/>
            <p:nvPr/>
          </p:nvSpPr>
          <p:spPr>
            <a:xfrm>
              <a:off x="6019920" y="5335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ffec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1295280" y="380880"/>
            <a:ext cx="649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might have happened to the character before the events of the poem happ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685800" y="2286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y does Edgar Allan Poe use a raven instead of another bird as the major symbol of this po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3" descr="ravenII"/>
          <p:cNvPicPr/>
          <p:nvPr/>
        </p:nvPicPr>
        <p:blipFill>
          <a:blip r:embed="rId1"/>
          <a:stretch/>
        </p:blipFill>
        <p:spPr>
          <a:xfrm>
            <a:off x="3581280" y="1371600"/>
            <a:ext cx="1833840" cy="2452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6" name="Text Box 4"/>
          <p:cNvSpPr/>
          <p:nvPr/>
        </p:nvSpPr>
        <p:spPr>
          <a:xfrm>
            <a:off x="304920" y="434340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Why not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duck"/>
          <p:cNvPicPr/>
          <p:nvPr/>
        </p:nvPicPr>
        <p:blipFill>
          <a:blip r:embed="rId2"/>
          <a:stretch/>
        </p:blipFill>
        <p:spPr>
          <a:xfrm>
            <a:off x="609480" y="518148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parrot"/>
          <p:cNvPicPr/>
          <p:nvPr/>
        </p:nvPicPr>
        <p:blipFill>
          <a:blip r:embed="rId3"/>
          <a:stretch/>
        </p:blipFill>
        <p:spPr>
          <a:xfrm>
            <a:off x="2362320" y="5181480"/>
            <a:ext cx="1428480" cy="1076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dove"/>
          <p:cNvPicPr/>
          <p:nvPr/>
        </p:nvPicPr>
        <p:blipFill>
          <a:blip r:embed="rId4"/>
          <a:stretch/>
        </p:blipFill>
        <p:spPr>
          <a:xfrm>
            <a:off x="4114800" y="5181480"/>
            <a:ext cx="1447920" cy="1086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penguin"/>
          <p:cNvPicPr/>
          <p:nvPr/>
        </p:nvPicPr>
        <p:blipFill>
          <a:blip r:embed="rId5"/>
          <a:stretch/>
        </p:blipFill>
        <p:spPr>
          <a:xfrm>
            <a:off x="5791320" y="5181480"/>
            <a:ext cx="1428480" cy="1076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canary"/>
          <p:cNvPicPr/>
          <p:nvPr/>
        </p:nvPicPr>
        <p:blipFill>
          <a:blip r:embed="rId6"/>
          <a:stretch/>
        </p:blipFill>
        <p:spPr>
          <a:xfrm>
            <a:off x="7467480" y="5181480"/>
            <a:ext cx="1219320" cy="10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Oval 2"/>
          <p:cNvSpPr/>
          <p:nvPr/>
        </p:nvSpPr>
        <p:spPr>
          <a:xfrm>
            <a:off x="2514600" y="2590920"/>
            <a:ext cx="3962520" cy="1828800"/>
          </a:xfrm>
          <a:prstGeom prst="ellipse">
            <a:avLst/>
          </a:prstGeom>
          <a:noFill/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What might we associ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with rave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" descr="ravenII"/>
          <p:cNvPicPr/>
          <p:nvPr/>
        </p:nvPicPr>
        <p:blipFill>
          <a:blip r:embed="rId1"/>
          <a:stretch/>
        </p:blipFill>
        <p:spPr>
          <a:xfrm>
            <a:off x="228600" y="228600"/>
            <a:ext cx="120816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96280" y="304920"/>
            <a:ext cx="7725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could say that Edgar Allan Poe sets the scene and cre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atmosphere by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228600" y="3505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so he uses the raven to symbolis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16:33:15Z</dcterms:created>
  <dc:creator>anna</dc:creator>
  <dc:description>The Raven</dc:description>
  <cp:keywords>The Raven</cp:keywords>
  <dc:language>en-US</dc:language>
  <cp:lastModifiedBy>RomaK</cp:lastModifiedBy>
  <dcterms:modified xsi:type="dcterms:W3CDTF">2015-09-04T10:39:49Z</dcterms:modified>
  <cp:revision>9</cp:revision>
  <dc:subject>The Raven</dc:subject>
  <dc:title>The Raven</dc:title>
</cp:coreProperties>
</file>