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4E68-FE79-4C1B-B0AA-1F232D83B6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deal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Ideal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overnment is communistic sty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rs choose their own suc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in power until their successor is tra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rol all committees that rule l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knows every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would be the same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s are released after the third offe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government is communistic sty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rs choose their own success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in power until their successor is tra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rol all committees that rule l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knows every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would be the same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s are released after the third offen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amilies will have one son and one d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are responsible to train their children to live in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amilies will have one son and one daugh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are responsible to train their children to live in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rrang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uses look exactly the same, with identical yards, furnitur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mily has their own home, but it is owned by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are assigned to living quar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Arrang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ouses look exactly the same, with identical yards, furnitur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mily has their own home, but it is owned by the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are assigned to living quar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/Car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s are assigned careers by a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art training at age 12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jobs are equal, but do create minor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nsation comes in the form of food and ho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at age 12, all peopl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/Car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s are assigned careers by a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start training at age 12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jobs are equal, but do create minor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nsation comes in the form of food and hou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ing at age 12, all peopl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re separated by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re separated by 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disciplined with a wand as soon as they can w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disciplined with a wand as soon as they can w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has a bike that they use to get from place to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one has a bike that they use to get from place to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ap of the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C601-BC63-4E60-83C4-F56BA83DB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7F9A-5A3D-48F1-A3D8-366041F1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8EC-85CD-4E9E-95EC-30C98D05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D9D1-9112-4FE3-89F6-ADF2291A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56D-2D11-4C0C-AF95-FFA6259E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F7E-4F4F-4581-A5C2-17944B0B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F46D-E638-4833-8231-07EEDE71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C65-68A7-464C-A144-6580C763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A38B-153F-44B1-B5B2-DBDACB2F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4A25-D400-412D-AEBC-4362EE32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DAB6-405D-42B6-BA8E-C8F7E921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2B21-5C5F-43F5-AF33-CD2289F9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4F65-7B82-482B-BEAA-BB8BF422E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The Ideal Soci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bd04912_"/>
          <p:cNvPicPr/>
          <p:nvPr/>
        </p:nvPicPr>
        <p:blipFill>
          <a:blip r:embed="rId1"/>
          <a:stretch/>
        </p:blipFill>
        <p:spPr>
          <a:xfrm>
            <a:off x="3048120" y="2286000"/>
            <a:ext cx="2773080" cy="3463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is government is communistic sty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ulers choose their own success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are in power until their successor is tra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ey control all committees that rule l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veryone knows every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ll people would be the same stat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riminals are released after the third offen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d05015_"/>
          <p:cNvPicPr/>
          <p:nvPr/>
        </p:nvPicPr>
        <p:blipFill>
          <a:blip r:embed="rId1"/>
          <a:stretch/>
        </p:blipFill>
        <p:spPr>
          <a:xfrm>
            <a:off x="1371600" y="457200"/>
            <a:ext cx="1384200" cy="1523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Times New Roman"/>
              </a:rPr>
              <a:t>Family Li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Spouses are assigned by a committee after people apply for one and are observed to determine the best cho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All families will have one son and one daugh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Parents are responsible to train their children to live in the socie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When children move out on their own, parents go live in with other ‘childless adults’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pe02622_"/>
          <p:cNvPicPr/>
          <p:nvPr/>
        </p:nvPicPr>
        <p:blipFill>
          <a:blip r:embed="rId1"/>
          <a:stretch/>
        </p:blipFill>
        <p:spPr>
          <a:xfrm>
            <a:off x="6095880" y="380880"/>
            <a:ext cx="1898640" cy="154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Living Arrang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All houses look exactly the same, with identical yards, furniture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Each family has their own home, but it is owned by the soci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amilies are assigned to living quar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</a:rPr>
              <a:t>Families stay in one home until the children move out, then they all move to various pl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bl00381_"/>
          <p:cNvPicPr/>
          <p:nvPr/>
        </p:nvPicPr>
        <p:blipFill>
          <a:blip r:embed="rId1"/>
          <a:stretch/>
        </p:blipFill>
        <p:spPr>
          <a:xfrm>
            <a:off x="3048120" y="0"/>
            <a:ext cx="2361960" cy="1320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9900"/>
                </a:solidFill>
                <a:latin typeface="Times New Roman"/>
              </a:rPr>
              <a:t>Jobs/Care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dults are assigned careers by a committ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They start training at age 12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All jobs are equal, but do create minor stat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Compensation comes in the form of food and hou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Times New Roman"/>
              </a:rPr>
              <a:t>Starting at age 12, all people w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pe02002_"/>
          <p:cNvPicPr/>
          <p:nvPr/>
        </p:nvPicPr>
        <p:blipFill>
          <a:blip r:embed="rId1"/>
          <a:stretch/>
        </p:blipFill>
        <p:spPr>
          <a:xfrm>
            <a:off x="1066680" y="304920"/>
            <a:ext cx="1825920" cy="1828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bs00508_"/>
          <p:cNvPicPr/>
          <p:nvPr/>
        </p:nvPicPr>
        <p:blipFill>
          <a:blip r:embed="rId2"/>
          <a:stretch/>
        </p:blipFill>
        <p:spPr>
          <a:xfrm>
            <a:off x="6477120" y="304920"/>
            <a:ext cx="1574640" cy="1662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Sch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hildren are separated by 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School takes up most of the day, followed by recreation or volunteer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Children begin school at age three, and continue until 12 when they begin training for their job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Times New Roman"/>
              </a:rPr>
              <a:t>Discipline is enforced by a disciplining wand, used to swat a child on the back of the kne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pe03254_"/>
          <p:cNvPicPr/>
          <p:nvPr/>
        </p:nvPicPr>
        <p:blipFill>
          <a:blip r:embed="rId1"/>
          <a:stretch/>
        </p:blipFill>
        <p:spPr>
          <a:xfrm>
            <a:off x="6019920" y="76212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0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imes New Roman"/>
              </a:rPr>
              <a:t>Todd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oddlers begin life by staying in the nurturing center until they are assigned fami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During the work day, they stay in day care centers where they learn the rules, how to talk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cc"/>
                </a:solidFill>
                <a:latin typeface="Times New Roman"/>
              </a:rPr>
              <a:t>They are disciplined with a wand as soon as they can w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pe02043_"/>
          <p:cNvPicPr/>
          <p:nvPr/>
        </p:nvPicPr>
        <p:blipFill>
          <a:blip r:embed="rId1"/>
          <a:stretch/>
        </p:blipFill>
        <p:spPr>
          <a:xfrm>
            <a:off x="380880" y="533520"/>
            <a:ext cx="1200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99"/>
                </a:solidFill>
                <a:latin typeface="Times New Roman"/>
              </a:rPr>
              <a:t>Transpor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Everyone has a bike that they use to get from place to pl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They receive their bike at age 9.  Before that they either walk or ride on the back of their parents’ bi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bd07304_"/>
          <p:cNvPicPr/>
          <p:nvPr/>
        </p:nvPicPr>
        <p:blipFill>
          <a:blip r:embed="rId1"/>
          <a:stretch/>
        </p:blipFill>
        <p:spPr>
          <a:xfrm>
            <a:off x="5486400" y="4572000"/>
            <a:ext cx="1822320" cy="18129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The-Giver-Map"/>
          <p:cNvPicPr/>
          <p:nvPr/>
        </p:nvPicPr>
        <p:blipFill>
          <a:blip r:embed="rId1"/>
          <a:stretch/>
        </p:blipFill>
        <p:spPr>
          <a:xfrm>
            <a:off x="533520" y="1752480"/>
            <a:ext cx="8305560" cy="38084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981080" y="68580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A map of the soci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7:03:22Z</dcterms:created>
  <dc:creator>khicks</dc:creator>
  <dc:description>The Ideal Society</dc:description>
  <cp:keywords>The Ideal Society</cp:keywords>
  <dc:language>en-US</dc:language>
  <cp:lastModifiedBy>RomaK</cp:lastModifiedBy>
  <dcterms:modified xsi:type="dcterms:W3CDTF">2015-09-04T10:39:29Z</dcterms:modified>
  <cp:revision>19</cp:revision>
  <dc:subject>The Ideal Society</dc:subject>
  <dc:title>The Ideal Society</dc:title>
</cp:coreProperties>
</file>