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3CDA-F250-43EA-BDDA-8CA5CAF32A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624-2CFF-42CE-9C54-815E5531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4AC-E427-4B12-856F-DC36FAA5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ED5-4240-4FA6-821C-B0A1EF69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CFA-B463-40D5-B6D5-DDE542C6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66C-EDE0-49FA-942B-44CCCC3C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016-15B0-4371-A23B-8FCC40E6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33B-F94F-46F3-84A0-482D37A3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46E-9E71-48F4-8B8A-44E13A09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DF1-3BCF-4D17-AB35-34B0FD55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9AC-1E8E-4F93-8A06-49BB4FF4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059-ADCF-435E-9C0A-3CF2A2F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E23-47C1-4009-AE0E-87AAE98A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7B2A-109C-4E2E-AD52-764DF61D0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he Ideal Soc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4912_"/>
          <p:cNvPicPr/>
          <p:nvPr/>
        </p:nvPicPr>
        <p:blipFill>
          <a:blip r:embed="rId1"/>
          <a:stretch/>
        </p:blipFill>
        <p:spPr>
          <a:xfrm>
            <a:off x="3048120" y="2286000"/>
            <a:ext cx="277308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s government is communistic sty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ulers choose their own suc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are in power until their successor is tr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control all committees that rule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veryone knows every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people would be the same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iminals are released after the third off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d05015_"/>
          <p:cNvPicPr/>
          <p:nvPr/>
        </p:nvPicPr>
        <p:blipFill>
          <a:blip r:embed="rId1"/>
          <a:stretch/>
        </p:blipFill>
        <p:spPr>
          <a:xfrm>
            <a:off x="1371600" y="457200"/>
            <a:ext cx="13842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Family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ll families will have one son and one daugh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Parents are responsible to train their children to live in the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pe02622_"/>
          <p:cNvPicPr/>
          <p:nvPr/>
        </p:nvPicPr>
        <p:blipFill>
          <a:blip r:embed="rId1"/>
          <a:stretch/>
        </p:blipFill>
        <p:spPr>
          <a:xfrm>
            <a:off x="6095880" y="380880"/>
            <a:ext cx="1898640" cy="154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Living Arran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ll houses look exactly the same, with identical yards, furnitur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ach family has their own home, but it is owned by the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are assigned to living quar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bl00381_"/>
          <p:cNvPicPr/>
          <p:nvPr/>
        </p:nvPicPr>
        <p:blipFill>
          <a:blip r:embed="rId1"/>
          <a:stretch/>
        </p:blipFill>
        <p:spPr>
          <a:xfrm>
            <a:off x="3048120" y="0"/>
            <a:ext cx="2361960" cy="132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Times New Roman"/>
              </a:rPr>
              <a:t>Jobs/Car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dults are assigned careers by a committ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start training at age 1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l jobs are equal, but do create minor sta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mpensation comes in the form of food and hou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tarting at age 12, all people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pe02002_"/>
          <p:cNvPicPr/>
          <p:nvPr/>
        </p:nvPicPr>
        <p:blipFill>
          <a:blip r:embed="rId1"/>
          <a:stretch/>
        </p:blipFill>
        <p:spPr>
          <a:xfrm>
            <a:off x="1066680" y="30492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s00508_"/>
          <p:cNvPicPr/>
          <p:nvPr/>
        </p:nvPicPr>
        <p:blipFill>
          <a:blip r:embed="rId2"/>
          <a:stretch/>
        </p:blipFill>
        <p:spPr>
          <a:xfrm>
            <a:off x="6477120" y="30492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are separated b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pe03254_"/>
          <p:cNvPicPr/>
          <p:nvPr/>
        </p:nvPicPr>
        <p:blipFill>
          <a:blip r:embed="rId1"/>
          <a:stretch/>
        </p:blipFill>
        <p:spPr>
          <a:xfrm>
            <a:off x="6019920" y="76212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Todd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y are disciplined with a wand as soon as they can w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pe02043_"/>
          <p:cNvPicPr/>
          <p:nvPr/>
        </p:nvPicPr>
        <p:blipFill>
          <a:blip r:embed="rId1"/>
          <a:stretch/>
        </p:blipFill>
        <p:spPr>
          <a:xfrm>
            <a:off x="380880" y="533520"/>
            <a:ext cx="1200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Everyone has a bike that they use to get from place to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bd07304_"/>
          <p:cNvPicPr/>
          <p:nvPr/>
        </p:nvPicPr>
        <p:blipFill>
          <a:blip r:embed="rId1"/>
          <a:stretch/>
        </p:blipFill>
        <p:spPr>
          <a:xfrm>
            <a:off x="5486400" y="45720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he-Giver-Map"/>
          <p:cNvPicPr/>
          <p:nvPr/>
        </p:nvPicPr>
        <p:blipFill>
          <a:blip r:embed="rId1"/>
          <a:stretch/>
        </p:blipFill>
        <p:spPr>
          <a:xfrm>
            <a:off x="533520" y="1752480"/>
            <a:ext cx="8305560" cy="3808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81080" y="6858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A map of th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7:03:22Z</dcterms:created>
  <dc:creator>khicks</dc:creator>
  <dc:description>The Ideal Society</dc:description>
  <cp:keywords>The Ideal Society</cp:keywords>
  <dc:language>en-US</dc:language>
  <cp:lastModifiedBy>RomaK</cp:lastModifiedBy>
  <dcterms:modified xsi:type="dcterms:W3CDTF">2015-09-04T10:39:29Z</dcterms:modified>
  <cp:revision>19</cp:revision>
  <dc:subject>The Ideal Society</dc:subject>
  <dc:title>The Ideal Society</dc:title>
</cp:coreProperties>
</file>