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6F1E-A1A0-4A10-B71D-FE4501BDF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t>
            </a:r>
            <a:br>
              <a:rPr sz="1200"/>
            </a:br>
            <a:r>
              <a:rPr b="0" lang="en-US" sz="1200" spc="-1" strike="noStrike">
                <a:solidFill>
                  <a:srgbClr val="ffffff"/>
                </a:solidFill>
                <a:latin typeface="Arial"/>
              </a:rPr>
              <a:t>Cruc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 . When History and Literature Coll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br>
              <a:rPr sz="1200"/>
            </a:br>
            <a:r>
              <a:rPr b="0" lang="en-US" sz="1200" spc="-1" strike="noStrike">
                <a:solidFill>
                  <a:srgbClr val="000000"/>
                </a:solidFill>
                <a:latin typeface="Arial"/>
              </a:rPr>
              <a:t>Cr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When History and Literature Col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ons accused of being communists were often denied employment in both the public and private se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ilm industry alone, over 300 actors, writers, and directors were denied work in the 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writer, Arthur Miller, was one of those alleged to have been “blackl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accused of being communists were often denied employment in both the public and privat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m industry alone, over 300 actors, writers, and directors were denied work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writer, Arthur Miller, was one of those alleged to have been “black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blic was finally made aware of how McCarthy was ruining the reputations of many individuals through false accus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ward R. Mu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was finally made aware of how McCarthy was ruining the reputations of many individuals through false accus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R. Mu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15-2005</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Playwright and Wri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53 he wrote The Crucible, which uses the Salem witchcraft trials of 1692 to attack the anti-communist “witch hunts” of the 195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publication of the The Crucible, Miller himself was investigated for possible associations with the communist pa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d to give information regarding his colleagues and was found guilty of contempt of court.  His sentence was later overtur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5-20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Playwright and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he wrote The Crucible, which uses the Salem witchcraft trials of 1692 to attack the anti-communist “witch hunts” of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blication of the The Crucible, Miller himself was investigated for possible associations with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give information regarding his colleagues and was found guilty of contempt of court.  His sentence was later over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phaned niece of 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was once the mistress of John Proctor but was turned out when his wife discovered the affai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cannot let go of her obsession with Procto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the leader of the gir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phaned niece of 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once the mistress of John Proctor but was turned out when his wife discovered the aff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not let go of her obsession with Pr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the leader of the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band to Elizabe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d an affair with Abigail when she was employed in his househol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knows that the girls are pretending but cannot tell what he knows without revealing having been alone with Abigail. Wh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uses her influence to convict his wife, he tries to tell the truth and finds himself condemn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s to admit to witchcraft or to consider Abigail as anything more than a li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hang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 to Eliza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an affair with Abigail when she was employed in his house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ows that the girls are pretending but cannot tell what he knows without revealing having been alone with Abigail.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uses her influence to convict his wife, he tries to tell the truth and finds himself condem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s to admit to witchcraft or to consider Abigail as anything more than a li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izabeth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fe of 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discovered an affair going on between her husband and Abigail Williams and turned Abigail out of her 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bigail's main target but is saved from hanging because of her pregnanc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feels responsible for driving her husband to infide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fe of 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scovered an affair going on between her husband and Abigail Williams and turned Abigail out of he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bigail's main target but is saved from hanging because of her pregn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feels responsible for driving her husband to infide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ub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ant to the Parris househ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 native of Barbado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nlisted by Ruth Putnam and Abigail to cast spells and create char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bigail turns on her to save herself from punishment, Tituba confesses to all and saves hersel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ant to the Parris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 native of Barb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nlisted by Ruth Putnam and Abigail to cast spells and create cha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igail turns on her to save herself from punishment, Tituba confesses to all and saves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tor of the church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father of Betty and the uncle of Abigail Willia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s that he is being persecuted and that the townspeople do not respect his position as a man of G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or of the church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father of Betty and the uncle of Abigail Willi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he is being persecuted and that the townspeople do not respect his position as a man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uty Governor Danf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eems to feel particularly strongly that the girls are hon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sensitive to the presence of the devil and reacts explosively to whatever evidence is prese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uty Governor Dan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ems to feel particularly strongly that the girls are hon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sensitive to the presence of the devil and reacts explosively to whatever evidence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y Parris- Daughter of the Reverend, cousin to Abigail Williams.  She is a weak girl who goes along with her cousin as soon as she is threate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sanna Walcott-One of the girls.  She is initially sent between Parris and Dr. Griggs to determine the cause of Betty's ailment. She is easily guided by Abiga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cy Lewis- Servant to the Putnam household.  She is a merciless girl who seems to delight in the girls' activi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y Parris- Daughter of the Reverend, cousin to Abigail Williams.  She is a weak girl who goes along with her cousin as soon as she is threa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a Walcott-One of the girls.  She is initially sent between Parris and Dr. Griggs to determine the cause of Betty's ailment. She is easily guided by Abi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Lewis- Servant to the Putnam household.  She is a merciless girl who seems to delight in the girl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rucible is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cible i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Drama Basic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rama Basic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Basics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 Basic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is probably the most difficult form of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is not finished in the same way that a poem or novel is because after it is written, it still needs to be brought to life on a st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primarily engages the enthusiasm of directors, actors, and technicians through the 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ywright makes the audience concerned for a character by focusing on a conflict that involves something important to the charac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tagonist of a play is the major character who usually drives the action forw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osition gives the audience background in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of the plays that are produced in the United States today are produced with the hope that they will make mon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is probably the most difficult form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is not finished in the same way that a poem or novel is because after it is written, it still needs to be brought to life on a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primarily engages the enthusiasm of directors, actors, and technicians through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wright makes the audience concerned for a character by focusing on a conflict that involves something important to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agonist of a play is the major character who usually drives the actio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tion gives the audience backgrou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lays that are produced in the United States today are produced with the hope that they will mak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ywrights must usually find an agent who submits a play to producers who are likely to consider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ducer .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ances money to finance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ets with agents who represent the playwri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with a playwright on changes to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ater is a collaborative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irector and actors “take away” a play from its auth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hearsals are both pleasant and t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rs seldom take risks on pl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sands of plays are copyrighted each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udience can contribute to a good perform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must usually find an agent who submits a play to producers who are likely to consid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money to finance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with agents who represent the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ith a playwright on changes to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s a collaborative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or and actors “take away” a play from its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s are both pleasant and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seldom take risks on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plays are copyright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 can contribute to a goo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 faith that originated in England during the early 160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s believed in predest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split from the Church of England in 16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emigrated to the American colon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radical beliefs flourished in the new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aith that originated in England during the early 16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s believed in pre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lit from the Church of England in 16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migrated to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radical beliefs flourished in the new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Puritans, the residents of Salem Village believed in witches and in witchcraf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lieved that witchcraft was “entering into a compact with the devil in exchange for certain powers to do ev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onsidered witchcraft both a sin and a crime; it was a very serious accusation, which was carefully and thoroughly investig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l Puritans, the residents of Salem Village believed in witches and in witchc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lieved that witchcraft was “entering into a compact with the devil in exchange for certain powers to do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nsidered witchcraft both a sin and a crime; it was a very serious accusation, which was carefully and thoroughly investi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tchcraft hysteria began in Salem, Massachusetts, in early 169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Samuel Parris’s daughter and Abigail Williams started having fits of convulsion, screaming, and hallu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octor examined the girls and concluded that the only explanation for these bizarre  behaviors was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tchcraft hysteria began in Salem, Massachusetts, in early 16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Samuel Parris’s daughter and Abigail Williams started having fits of convulsion, screaming, and hallu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ctor examined the girls and concluded that the only explanation for these bizarre  behaviors was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ecently published book of the time detailed the symptoms of witchcraft; the girls’ fits were much like those described in the boo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Puritans of Salem were quick to believe the doctor’s diagn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ly published book of the time detailed the symptoms of witchcraft; the girls’ fits were much like those describ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uritans of Salem were quick to believe the doctor’s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 pointed fingers at Tituba (the Parris’ slave), Sarah Good, and Sarah Osborn, which sparked a witch hu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 pointed fingers at Tituba (the Parris’ slave), Sarah Good, and Sarah Osborn, which sparked a witch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next eight months of terror, more than 150 people were imprisoned for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time court was dismissed, 27 people had been convicted, 19 hanged, and 1 pressed to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steria that snowballed in Salem reveals how deep the belief in the supernatural ran in colonial Americ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ext eight months of terror, more than 150 people were imprisoned for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time court was dismissed, 27 people had been convicted, 19 hanged, and 1 press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steria that snowballed in Salem reveals how deep the belief in the supernatural ran in colonial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 is the term used to describe a period of intense suspicion in the United States during the early 195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began when Senator Joseph McCarthy, a U.S. senator from Wisconsin, claimed that communists had infiltrated the Department of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ecial House Committee on Un-American Activities was formed to investigate alleg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is period, people from all walks of life became the subjects of aggressive “witch hunts” often based on inconclusive, questionable evi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 is the term used to describe a period of intense suspicion in the United States during the early 195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gan when Senator Joseph McCarthy, a U.S. senator from Wisconsin, claimed that communists had infiltrated the Department of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House Committee on Un-American Activities was formed to investigate alleg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people from all walks of life became the subjects of aggressive “witch hunts” often based on inconclusive, questionabl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83F4A-DA2D-428D-A9A2-61FA4EDE3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07249-1A74-4BD0-87E0-B509F77F5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6ECE6-0AFC-4453-BD2C-B3E35287B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50DB8-018B-428C-B6DA-954DACC1E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F596A-78FA-4A53-9E7C-D73F23690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3D105-50A0-4608-8E56-279DCE83C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8F3C4-FC55-4550-9B5B-E37FF1CFD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4E681-43D2-4D8F-9D0C-B798E2068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F56BA-6A1D-4026-B1EF-59BE9E5D5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64316-2BE9-4C5B-9A4F-5428653B4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681CF-23EC-4840-B179-6B816D85E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A0107-C50A-45E6-ADFC-FE1708CC0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18301-BD58-4B46-8160-9C78DEC4D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5897F-9648-49B5-94CE-45A26694A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F481F-486D-47AC-AADF-E59970D78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84EE3-0872-4FBD-A2F5-99DDD3FF9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B26DE-21C0-4B6D-A340-803DEA712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3ECED-B1A7-4AA5-9BEE-AC601EB56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6A554-8E26-4347-82C1-FB23F9DD8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54597-6E1E-4FBF-A242-9811F0C94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70ECF-DEB5-485C-833F-E48846DCE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5D42A-109C-496D-9014-9E724D7B4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5BE8-0797-4020-8B71-7FD563C76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6F483-74B5-44C5-A2FE-7EC86B35C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E4A4-8820-4D19-9CB4-C49919B746A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00DF-71E4-4F31-9AA3-51B413A2D2A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blacklisted.”</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witch hunts”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take away”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entering into a compact with the devil in exchange for certain powers to do evil.”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witch hunts”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maK</cp:lastModifiedBy>
  <dcterms:modified xsi:type="dcterms:W3CDTF">2015-09-04T10:39:15Z</dcterms:modified>
  <cp:revision>49</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