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Kid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3123-3179-4A3A-B652-846F1E2AF874}" type="slidenum">
              <a:rPr b="0" lang="en-GB" sz="1200" spc="-1" strike="noStrike">
                <a:solidFill>
                  <a:srgbClr val="000000"/>
                </a:solidFill>
                <a:latin typeface="Kid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723-6ABE-4FA3-B4AA-C84050B1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8F1-0A54-4C28-8EC0-C2C067C3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897-C686-4B42-BB4D-E64B37F3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44B-C1CF-4742-8D78-E1420B75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2FC3-427D-4B0A-80AD-6AE5B143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7923-156E-4FFE-9CF7-56A7BB61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45BF-E693-45ED-9B8A-73A27B09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637D-3113-4523-9AFF-38727B73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573F-DADD-469C-A6F2-BBFDB43E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AC79-8F2F-42ED-A623-5013D235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9845-B146-4840-B76D-01B55AC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DDB-22FB-4BFA-87E6-4BD4CE6F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CA89-A2DF-4B6F-B651-09621CF6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2749-D5AF-4EA9-96DA-A071078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C551-D41E-4CD1-AA68-4787C750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EB43-5461-40BE-98EF-4EE31563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DE05-F507-4BFC-8A52-8A6F42EF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D47-73BD-42E5-8ADE-A3EEF3AB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0E5-B795-4732-8C9C-C33CB6E8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60E-A306-40CF-B593-33DFB67C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C68-EDBF-4C60-A668-5BDE6047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68D-0E4C-44EE-BFD1-9C31E480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FDC-0B69-4073-9B5B-A662FFAB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46E-2B37-416F-A37E-89086A88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729A-A533-486C-8B80-C9E5DB192704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326C-F3DF-41C4-97C9-7E874BBC3D54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-24843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br>
              <a:rPr sz="8800"/>
            </a:br>
            <a:br>
              <a:rPr sz="8800"/>
            </a:br>
            <a:endParaRPr b="0" i="1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600200" y="20574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torybook"/>
              </a:rPr>
              <a:t>William Shakespea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Act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ng was not considered a respectable profession by the English Purit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women’s parts were  played by bo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men did not enter the theater until much l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et would have been played by a bo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e know about Shakespeare comes from church documents and legal rec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ocuments that we have are baptismal registration, marriage license, and records of real estate trans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Famil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the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eight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April 23, 156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in Stratf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dad was a shoemaker and sometimes served as a justice of the pe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died April 23, 161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’s Lif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was an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594, he was a charter member of the theatrical company called Lord Chamberlains Men, which later become The Kings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gs Men were supported by King J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eo and Juliet was among the early plays of Shakespe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lay was written between 1594 and 159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1612 Shakespeare had written thirty-seven (37) pl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ther Play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us Caes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ng 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dsummers Night’s D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nry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eath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espeare died April 23, 1616 (52 years later on his birth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is buried under the old stone floor of Holy Trinity Church in Strat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is carved on his tombst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riend, for Jesus sake forb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g the dust enclose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ssed be the man that spares these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ursed be he that moves my b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s Theat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Burbage built the first permanent theater in En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ng companies played where they could find a sp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this would be in the courtyards of in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built the GLOBE Th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ater continue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play Henry V Shakespeare calls his theater the Wooden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lings – people who stood around the stage for the price of a pe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4:55:36Z</dcterms:created>
  <dc:creator>Jefferson County Schools Jeff</dc:creator>
  <dc:description/>
  <dc:language>en-US</dc:language>
  <cp:lastModifiedBy>RomaK</cp:lastModifiedBy>
  <dcterms:modified xsi:type="dcterms:W3CDTF">2015-09-04T10:39:08Z</dcterms:modified>
  <cp:revision>25</cp:revision>
  <dc:subject/>
  <dc:title>shakespeares life</dc:title>
</cp:coreProperties>
</file>