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320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Kid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F307-528C-45CE-80EE-95CEDF80467A}" type="slidenum">
              <a:rPr b="0" lang="en-GB" sz="1200" spc="-1" strike="noStrike">
                <a:solidFill>
                  <a:srgbClr val="000000"/>
                </a:solidFill>
                <a:latin typeface="Kid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William Shakespe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William Shakespear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was not considered a respectable profession by the English Purit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ll women’s parts were  played by bo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omen did not enter the theater until much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uliet would have been played by a bo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was not considered a respectable profession by the English Puritan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ll women’s parts were  played by boy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omen did not enter the theater until much later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uliet would have been played by a boy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Life an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hat we know about Shakespeare comes from church documents and legal rec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ome documents that we have are baptismal registration, marriage license, and records of real estate trans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Life and Time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hat we know about Shakespeare comes from church documents and legal records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ome documents that we have are baptismal registration, marriage license, and records of real estate transactions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the 3rd of eight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April 23, 156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in Strat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dad was a shoemaker and sometimes served as a justice of the pe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the 3rd of eight children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April 23, 1564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in Stratford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dad was a shoemaker and sometimes served as a justice of the peac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an 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594, he was a charter member of the theatrical company called Lord Chamberlains Men, which later become The King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Kings Men were supported by King J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Lif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an acto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594, he was a charter member of the theatrical company called Lord Chamberlains Men, which later become The Kings Men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Kings Men were supported by King Jame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 was among the early plays of Shakespe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is play was written between 1594 and 159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612 Shakespeare had written thirty-seven (37) pl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 was among the early plays of Shakespear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is play was written between 1594 and 1596 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612 Shakespeare had written thirty-seven (37) plays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r P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am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King 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idsummers Night’s D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enry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r Play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amlet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llo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King Lea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idsummers Night’s Dream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enry V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 (52 years later on his birthd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He is buried under the old stone floor of Holy Trinity Church in Stratf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following is carved on his tombst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ood friend, for Jesus sake forb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o dig the dust enclos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lessed be the man that spares these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nd cursed be he that moves my bon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 (52 years later on his birthday)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He is buried under the old stone floor of Holy Trinity Church in Stratford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following is carved on his tombstone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ood friend, for Jesus sake forbea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o dig the dust enclosed here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lessed be the man that spares these stone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nd cursed be he that moves my bones”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s Th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ames Burbage built the first permanent theater in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companies played where they could find a sp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Usually this would be in the courtyards of in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built the GLOBE Th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s Theate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ames Burbage built the first permanent theater in England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companies played where they could find a spot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Usually this would be in the courtyards of inn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built the GLOBE Theate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ater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In his play Henry V Shakespeare calls his theater the Wooden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roundlings – people who stood around the stage for the price of a pen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ater continued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In his play Henry V Shakespeare calls his theater the Wooden O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roundlings – people who stood around the stage for the price of a penny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D9C6-F8A6-4240-9D51-8BE815CC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DC1-FFE2-4358-8412-C43D28EB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82E-75A2-4863-8E28-77FE8432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39A-E590-4FBC-B2AD-1C9EB1F0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9B4A-5556-4B01-801F-29E93399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CBBA-99AB-49ED-ACAB-E42A45D3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5EF6-E334-4AB8-8B8E-EBE851D9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C767-03E5-4298-A3BA-0F3654E0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7B89-6695-4AD5-B550-21B66E19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4821-B6B5-4518-9081-E58E242B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471E-4889-4564-946A-90C507B2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B012-B802-4DEA-AF5C-18E49BE9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C3B6-D4FE-4FC4-B30D-8A6536EA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AD31-7BE3-4B45-8A6C-FA4A1171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4DED-4AFA-4C6C-8272-DBD496C0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F77B-DD78-4911-AEE9-86761AC0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0992-06F6-4C1D-8C78-2C4E6808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D9E-2EDD-41AE-9090-4DD5A1ED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D211-630F-4547-A253-86861B8C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590-4F25-4A3F-A96A-1A0C47CF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EB0-A904-46C6-AB0C-954C1F72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B71-0B4D-4229-9923-2C7F831A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F1E-9526-4F97-91C3-37F01E43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14D2-68A8-4C99-A537-6351058B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29A3-FD4F-4A7C-9846-5F207983B28B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E0CD-D27F-4A93-8806-D86450DDFA1B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-248436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br>
              <a:rPr sz="8800"/>
            </a:br>
            <a:br>
              <a:rPr sz="8800"/>
            </a:br>
            <a:endParaRPr b="0" i="1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600200" y="20574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Storybook"/>
              </a:rPr>
              <a:t>William Shakespea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Acting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ng was not considered a respectable profession by the English Purit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women’s parts were  played by bo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men did not enter the theater until much l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iet would have been played by a bo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Life and Tim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we know about Shakespeare comes from church documents and legal rec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documents that we have are baptismal registration, marriage license, and records of real estate transa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Famil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was the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eight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was born April 23, 1564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was born in Stratf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’s dad was a shoemaker and sometimes served as a justice of the pe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died April 23, 1616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hakespeare’s Lif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kespeare was an 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1594, he was a charter member of the theatrical company called Lord Chamberlains Men, which later become The Kings 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ings Men were supported by King J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meo and Juliet was among the early plays of Shakespe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play was written between 1594 and 1596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y 1612 Shakespeare had written thirty-seven (37) pl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ther Play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ius Caes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ml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thel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ing 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dsummers Night’s Dr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nry 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Death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kespeare died April 23, 1616 (52 years later on his birthd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is buried under the old stone floor of Holy Trinity Church in Stratf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is carved on his tombst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riend, for Jesus sake forb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ig the dust enclosed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ssed be the man that spares these 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ursed be he that moves my b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hakespeares Theat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Burbage built the first permanent theater in Eng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ng companies played where they could find a sp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this would be in the courtyards of in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kespeare built the GLOBE Th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ater continued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his play Henry V Shakespeare calls his theater the Wooden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lings – people who stood around the stage for the price of a pe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4:55:36Z</dcterms:created>
  <dc:creator>Jefferson County Schools Jeff</dc:creator>
  <dc:description/>
  <dc:language>en-US</dc:language>
  <cp:lastModifiedBy>RomaK</cp:lastModifiedBy>
  <dcterms:modified xsi:type="dcterms:W3CDTF">2015-09-04T10:39:08Z</dcterms:modified>
  <cp:revision>25</cp:revision>
  <dc:subject/>
  <dc:title>shakespeares life</dc:title>
</cp:coreProperties>
</file>