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7.jpeg" ContentType="image/jpeg"/>
  <Override PartName="/ppt/media/GLASS.WAV" ContentType="audio/x-wav"/>
  <Override PartName="/ppt/media/image12.png" ContentType="image/png"/>
  <Override PartName="/ppt/media/CAMERA.WAV" ContentType="audio/x-wav"/>
  <Override PartName="/ppt/media/DRUMROLL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LASER.WAV" ContentType="audio/x-wav"/>
  <Override PartName="/ppt/media/image14.wmf" ContentType="image/x-wmf"/>
  <Override PartName="/ppt/media/image6.jpeg" ContentType="image/jpeg"/>
  <Override PartName="/ppt/media/TYPE.WAV" ContentType="audio/x-wav"/>
  <Override PartName="/ppt/media/image4.png" ContentType="image/png"/>
  <Override PartName="/ppt/media/CHIMES.WAV" ContentType="audio/x-wav"/>
  <Override PartName="/ppt/media/CLAP.WAV" ContentType="audio/x-wav"/>
  <Override PartName="/ppt/media/GUNSHOT.WAV" ContentType="audio/x-wav"/>
  <Override PartName="/ppt/media/image13.jpeg" ContentType="image/jpeg"/>
  <Override PartName="/ppt/media/image3.wmf" ContentType="image/x-wmf"/>
  <Override PartName="/ppt/media/image11.jpeg" ContentType="image/jpeg"/>
  <Override PartName="/ppt/media/APPLAUSE.WAV" ContentType="audio/x-wav"/>
  <Override PartName="/ppt/media/image9.png" ContentType="image/png"/>
  <Override PartName="/ppt/media/WHOOSH.WAV" ContentType="audio/x-wav"/>
  <Override PartName="/ppt/media/PROJCTOR.WAV" ContentType="audio/x-wav"/>
  <Override PartName="/ppt/media/EXPLODE.WAV" ContentType="audio/x-wav"/>
  <Override PartName="/ppt/media/RICOCHET.WAV" ContentType="audio/x-wav"/>
  <Override PartName="/ppt/media/image2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6A4D-DA15-43DF-8854-7E96CF8DA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Michele Douglas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Graves County High School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Introduction to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 and Juliet 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Presented November 2002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Dougl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s County High Schoo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November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Heavens”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as seen by the groundling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ven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een by the groundl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Objections to Theaters</a:t>
            </a:r>
            <a:br>
              <a:rPr sz="1200"/>
            </a:b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arge assemblies of peopl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pread disease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Guilt by association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aters were often located outside the city walls to avoid censor by London’s Lord Mayor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ons to Theate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ssemblies of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dis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lt by 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aters were often located outside the city walls to avoid censor by London’s Lord May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 and Juliet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Written in 1599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Celebrates the passion of youthful lov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Dates back to 400 AD in a Greek Romanc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Feud--a prolonged conflict between families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feud is so old that the cause has been forgotten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in 15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ebrates the passion of youthful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s back to 400 AD in a Greek Ro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ud--a prolonged conflict between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ud is so old that the cause has been forgot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Balcony Scen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, Romeo,            Wherefore art thou  Romeo?”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emember:    Wherefore means “Why”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cony Sc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, Romeo,            Wherefore art thou  Romeo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  Wherefore means “Wh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tar Crossed Lover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 and Juliet is a tragedy. 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In a tragedy many of the main characters die. 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Crossed Lo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is a traged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tragedy many of the main characters di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William Shakeapeare’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ife and Time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Shakeapeare’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an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Hall’s Croft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hakespeare was born  in 1564 in Stratford-on-Avon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on of John &amp; Mary Arden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imilar to the home young Shakespeare may have grown up in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l’s Cr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 was born  in 1564 in Stratford-on-Av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 of John &amp; Mary 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the home young Shakespeare may have grown up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William Shakespear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Grammar School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1583 Married  Anne Hathaway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usanna, Hamnet, Judith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even Dark Year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mmar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83 Married  Anne Hath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na, Hamnet, Jud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 Dark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ondon in 1600’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Conditions in London were not pleasant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Homes of the poor were small and dirty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ewage ran in open ditches in the street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Overcrowding and unemployment were major problems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don in 1600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in London were not pleas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s of the poor were small and di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wage ran in open ditches in the str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crowding and unemployment were major probl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ondon Bridg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Heads of traitors were displayed on pikes on the city’s main bridge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don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s of traitors were displayed on pikes on the city’s main brid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New Globe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w Glo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Glob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ocated on the south bank of the Thame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most famous London Playhous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Owned by the Burbage family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Flew a flag to announce a performanc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Acting companies used boys to play female roles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hakespeare was a member of Lord Chamberlain’s Company.  Later called the King’s Men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on the south bank of the Th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famous London Play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ned by the Burbage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w a flag to announce a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g companies used boys to play female ro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 was a member of Lord Chamberlain’s Company.  Later called the King’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wealthy’s view of the stag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lthy’s view of the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055-E227-4B78-8044-692D0FF2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4A1-0B3C-414B-9FDB-FD6BA99C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15D-B909-4CA8-BDE8-12EF865E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15D1-BC5A-4532-8BC1-7D643437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6786-677B-45EF-AD56-B746B8E2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3EF9-CDE2-4868-82B0-AC70D409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5DB7-40EB-463D-BB20-45CAFF3B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9C2B-CEDA-4CE7-88D8-10169172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D25D-4BAD-4EE9-B925-14AA3379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CC46-8BE1-4DAF-B5C2-850C05CA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5A6C-8396-4D4A-9E53-25B61AD3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C99B-803D-4A75-9F6E-E6C7B2A3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E2D9-0032-4D46-8D73-7842C594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5344-04EC-40A4-A7F4-1787E0D7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B829-37D2-488D-B5BE-0611966A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0C5D-5714-4228-8928-13E20C5D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AFEF-9827-49E0-BC9B-CC514198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740-D70B-4898-9759-1FAE7E6B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D986-FD57-44FA-8060-F6F1476F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3A9-3EDE-4D06-98EB-580A59FE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60D-14E6-45C5-9AA2-D8EEA290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A8A-078B-43C2-95FE-9BAB80DD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EDF-39E3-4838-91FB-1AACDFA3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489-1B77-4F37-A171-824CF401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05F3-57F9-4007-9EA4-D0C73E96C65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944A-BD09-4EA5-B14D-202B9FAEA98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LAP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EXPLOD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ichele Douglas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aves County High School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troduction to</a:t>
            </a:r>
            <a:br>
              <a:rPr sz="4400"/>
            </a:b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resented November 200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67652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The Heavens”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s seen by the groundl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7" name="Picture 5" descr="scfrns"/>
          <p:cNvPicPr/>
          <p:nvPr/>
        </p:nvPicPr>
        <p:blipFill>
          <a:blip r:embed="rId1"/>
          <a:stretch/>
        </p:blipFill>
        <p:spPr>
          <a:xfrm>
            <a:off x="1143000" y="380880"/>
            <a:ext cx="73152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bjections to Theaters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arge assemblies of peop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read dise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uilt by associ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aters were often located outside the city walls to avoid censor by London’s Lord Mayo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   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ten in 1599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elebrates the passion of youthful lo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ates back to 400 AD in a Greek Ro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eud--a prolonged conflict between famili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feud is so old that the cause has been forgotten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Balcony Sce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omeo, Romeo,            Wherefore art thou  Romeo?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member:    Wherefore means “Why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4" name="Picture 9" descr="Dicksee"/>
          <p:cNvPicPr/>
          <p:nvPr/>
        </p:nvPicPr>
        <p:blipFill>
          <a:blip r:embed="rId1"/>
          <a:stretch/>
        </p:blipFill>
        <p:spPr>
          <a:xfrm>
            <a:off x="4503600" y="1295280"/>
            <a:ext cx="3757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ar Crossed Lov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Romeo and Juliet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a tragedy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 a tragedy many of the main characters die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-1768320" y="552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8" name="Picture 6" descr="Leighton"/>
          <p:cNvPicPr/>
          <p:nvPr/>
        </p:nvPicPr>
        <p:blipFill>
          <a:blip r:embed="rId1"/>
          <a:stretch/>
        </p:blipFill>
        <p:spPr>
          <a:xfrm>
            <a:off x="3962520" y="1676520"/>
            <a:ext cx="4221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ahoma"/>
              </a:rPr>
              <a:t>The End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41" name="Object 4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apeare’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fe and Tim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19814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all’s Crof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86040" y="1599840"/>
            <a:ext cx="3352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hakespeare was born  in 1564 in Stratford-on-Av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n of John &amp; Mary Ard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imilar to the home young Shakespeare may have grown up i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4" name="Picture 5" descr="croft"/>
          <p:cNvPicPr/>
          <p:nvPr/>
        </p:nvPicPr>
        <p:blipFill>
          <a:blip r:embed="rId1"/>
          <a:stretch/>
        </p:blipFill>
        <p:spPr>
          <a:xfrm>
            <a:off x="762120" y="2536920"/>
            <a:ext cx="472428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spea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Schoo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583 Married  Anne Hathawa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sanna, Hamnet, Judit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 Dark Ye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7" name="Picture 6" descr="shake2"/>
          <p:cNvPicPr/>
          <p:nvPr/>
        </p:nvPicPr>
        <p:blipFill>
          <a:blip r:embed="rId1"/>
          <a:stretch/>
        </p:blipFill>
        <p:spPr>
          <a:xfrm>
            <a:off x="4867200" y="1905120"/>
            <a:ext cx="3419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in 1600’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ditions in London were not pleasant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omes of the poor were small and dirt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wage ran in open ditches in the stree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vercrowding and unemployment were major problems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0" name="Picture 5" descr="VisscherLondonBridgesm"/>
          <p:cNvPicPr/>
          <p:nvPr/>
        </p:nvPicPr>
        <p:blipFill>
          <a:blip r:embed="rId1"/>
          <a:stretch/>
        </p:blipFill>
        <p:spPr>
          <a:xfrm>
            <a:off x="1039680" y="1752480"/>
            <a:ext cx="3684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Brid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2819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eads of traitors were displayed on pikes on the city’s main bridge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4" name="Picture 6" descr="londonbridgemed"/>
          <p:cNvPicPr/>
          <p:nvPr/>
        </p:nvPicPr>
        <p:blipFill>
          <a:blip r:embed="rId1"/>
          <a:stretch/>
        </p:blipFill>
        <p:spPr>
          <a:xfrm>
            <a:off x="2819520" y="1828800"/>
            <a:ext cx="5943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he New Globe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0400" y="4114800"/>
            <a:ext cx="5562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051840" y="-34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8" name="Picture 6" descr="Globe99sm"/>
          <p:cNvPicPr/>
          <p:nvPr/>
        </p:nvPicPr>
        <p:blipFill>
          <a:blip r:embed="rId1"/>
          <a:stretch/>
        </p:blipFill>
        <p:spPr>
          <a:xfrm>
            <a:off x="6248520" y="5715000"/>
            <a:ext cx="228600" cy="17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newglobe"/>
          <p:cNvPicPr/>
          <p:nvPr/>
        </p:nvPicPr>
        <p:blipFill>
          <a:blip r:embed="rId2"/>
          <a:stretch/>
        </p:blipFill>
        <p:spPr>
          <a:xfrm>
            <a:off x="1981080" y="2057400"/>
            <a:ext cx="57913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Glob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ocated on the south bank of the Tham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most famous London Playhou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wned by the Burbage fami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lew a flag to announce a perfor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cting companies used boys to play female roles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hakespeare was a member of Lord Chamberlain’s Company.  Later called the King’s M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wealthy’s view of the sta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4" name="Picture 5" descr="audi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20:23:48Z</dcterms:created>
  <dc:creator>GCHS</dc:creator>
  <dc:description/>
  <dc:language>en-US</dc:language>
  <cp:lastModifiedBy>RomaK</cp:lastModifiedBy>
  <dcterms:modified xsi:type="dcterms:W3CDTF">2015-09-04T10:38:35Z</dcterms:modified>
  <cp:revision>39</cp:revision>
  <dc:subject/>
  <dc:title>romeo and juliet</dc:title>
</cp:coreProperties>
</file>