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GLASS.WAV" ContentType="audio/x-wav"/>
  <Override PartName="/ppt/media/image12.png" ContentType="image/png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LASER.WAV" ContentType="audio/x-wav"/>
  <Override PartName="/ppt/media/image14.wmf" ContentType="image/x-wmf"/>
  <Override PartName="/ppt/media/image6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13.jpeg" ContentType="image/jpeg"/>
  <Override PartName="/ppt/media/image3.wmf" ContentType="image/x-wmf"/>
  <Override PartName="/ppt/media/image11.jpeg" ContentType="image/jpeg"/>
  <Override PartName="/ppt/media/APPLAUSE.WAV" ContentType="audio/x-wav"/>
  <Override PartName="/ppt/media/image9.png" ContentType="image/png"/>
  <Override PartName="/ppt/media/WHOOSH.WAV" ContentType="audio/x-wav"/>
  <Override PartName="/ppt/media/PROJCTOR.WAV" ContentType="audio/x-wav"/>
  <Override PartName="/ppt/media/EXPLODE.WAV" ContentType="audio/x-wav"/>
  <Override PartName="/ppt/media/RICOCHET.WAV" ContentType="audio/x-wav"/>
  <Override PartName="/ppt/media/image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F896-ADCB-4027-A952-132AA3BA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resented November 2002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Heavens”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s seen by the groundling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ven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een by the groundl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arge assemblies of peopl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pread diseas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uilt by associati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ssemblies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lt by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ritten in 1599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elebrates the passion of youthful lov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Dates back to 400 AD in a Greek Ro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eud--a prolonged conflict between families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feud is so old that the cause has been forgotten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in 15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es the passion of youthful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s back to 400 AD in a Greek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ud--a prolonged conflict between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 is so old that the cause has been forgot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Balcony Scen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, Romeo,            Wherefore art thou  Romeo?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emember:    Wherefore means “Why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cony Sc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, Romeo,            Wherefore art thou  Rome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  Wherefore means “W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tar Crossed Love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is a tragedy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 a tragedy many of the main characters die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Crossed L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is a traged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tragedy many of the main characters di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ife and Ti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all’s Croft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born  in 1564 in Stratford-on-Av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on of John &amp; Mary Arde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imilar to the home young Shakespeare may have grown up i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l’s Cr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born  in 1564 in Stratford-on-A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of John &amp; Mary 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he home young Shakespeare may have grown up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spear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mmar School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1583 Married  Anne Hathawa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usanna, Hamnet, Judith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ven Dark Yea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3 Married  Anne Hath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na, Hamnet, Jud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 Dark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in 1600’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onditions in London were not pleasant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omes of the poor were small and dirt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wage ran in open ditches in the street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vercrowding and unemployment were major problem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in 16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London were not pleas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s of the poor were small and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age ran in open ditches in the str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crowding and unemployment were major probl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Brid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New Globe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w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Glob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cated on the south bank of the Tha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most famous London Playhous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wned by the Burbage famil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lew a flag to announce a perfor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cting companies used boys to play female role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the south bank of the 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famous London Play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ned by the Burbag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w a flag to announce a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g companies used boys to play female ro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wealthy’s view of the sta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lthy’s view of the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7B4-BC70-405A-B203-E454C491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230-98CE-4B64-8EF7-7B750252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C4F-9615-4F7E-8704-FACB01F8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A27-BC85-4B83-902A-C51F042B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234E-D135-44DF-8DB2-1A89FFD8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6DE3-0674-4A73-BBBA-2FB3A672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C62A-C27F-44B1-B1D2-C2C1EDBF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E77-D532-48D5-944E-85603576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43F5-46F3-4D8E-8E24-6CA29BA0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5331-D790-47D2-8C8C-3D10F1E3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39C4-AB29-4513-B0F0-2D5B2B12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695-E6FE-43C7-84CF-789AEEC8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89BD-D21C-49F9-BF0A-08CF90D0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BCE0-649B-41E0-BBEE-CEBB92F6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293A-E401-44BA-A8AE-D3C299E2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5FB4-DCF7-493F-93A6-634CBB44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F737-9409-497B-9C11-7B15DF42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518-B124-4C9C-9AB3-A1CC5961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71A-8E9D-40AC-9C2B-D2EDAC03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090-DE10-4E7D-A6D3-D81AA420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467-1FFF-4614-B520-3360D6F4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C54-2175-4C19-BB47-244CD264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AB6-DCD0-4F72-B7C7-985079B2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27C-FAC0-4EC0-AC74-DC10B291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F75C-310D-4595-A924-643E15E0DF9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EA95-7F22-4127-80AB-C29A8D15B63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chele Douglas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ves County High School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resented November 200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7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8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1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5" descr="VisscherLondonBridgesm"/>
          <p:cNvPicPr/>
          <p:nvPr/>
        </p:nvPicPr>
        <p:blipFill>
          <a:blip r:embed="rId1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8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RomaK</cp:lastModifiedBy>
  <dcterms:modified xsi:type="dcterms:W3CDTF">2015-09-04T10:38:35Z</dcterms:modified>
  <cp:revision>39</cp:revision>
  <dc:subject/>
  <dc:title>romeo and juliet</dc:title>
</cp:coreProperties>
</file>