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GLASS.WAV" ContentType="audio/x-wav"/>
  <Override PartName="/ppt/media/image12.png" ContentType="image/png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LASER.WAV" ContentType="audio/x-wav"/>
  <Override PartName="/ppt/media/image14.wmf" ContentType="image/x-wmf"/>
  <Override PartName="/ppt/media/image6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13.jpeg" ContentType="image/jpeg"/>
  <Override PartName="/ppt/media/image3.wmf" ContentType="image/x-wmf"/>
  <Override PartName="/ppt/media/image11.jpeg" ContentType="image/jpeg"/>
  <Override PartName="/ppt/media/APPLAUSE.WAV" ContentType="audio/x-wav"/>
  <Override PartName="/ppt/media/image9.png" ContentType="image/png"/>
  <Override PartName="/ppt/media/WHOOSH.WAV" ContentType="audio/x-wav"/>
  <Override PartName="/ppt/media/PROJCTOR.WAV" ContentType="audio/x-wav"/>
  <Override PartName="/ppt/media/EXPLODE.WAV" ContentType="audio/x-wav"/>
  <Override PartName="/ppt/media/RICOCHET.WAV" ContentType="audio/x-wav"/>
  <Override PartName="/ppt/media/image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185-D8CC-4214-A5B8-33A6F4240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sented November 2002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Heavens”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s seen by the groundling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ven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een by the ground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arge assemblies of peopl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pread diseas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uilt by associati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ssemblies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lt by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ritten in 1599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elebrates the passion of youthful lov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ates back to 400 AD in a Greek Ro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eud--a prolonged conflict between families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feud is so old that the cause has been forgotten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15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es the passion of youthful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s back to 400 AD in a Greek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ud--a prolonged conflict between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 is so old that the cause has been forgot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Balcony Scen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, Romeo,            Wherefore art thou  Romeo?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emember:    Wherefore means “Why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cony Sc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, Romeo,            Wherefore art thou  Rome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  Wherefore means “W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r Crossed Love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is a tragedy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 a tragedy many of the main characters die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Crossed L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is a traged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tragedy many of the main characters di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ife and Ti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all’s Croft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born  in 1564 in Stratford-on-Av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on of John &amp; Mary Arde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imilar to the home young Shakespeare may have grown up i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l’s 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born  in 1564 in Stratford-on-A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of John &amp; Mary 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home young Shakespeare may have grown up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spear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mmar School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1583 Married  Anne Hathawa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usanna, Hamnet, Judith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ven Dark Yea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 Married  Anne Hath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na, Hamnet, Jud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 Dark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in 1600’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onditions in London were not pleasant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omes of the poor were small and dirt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wage ran in open ditches in the street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vercrowding and unemployment were major problem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in 16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London were not pleas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s of the poor were small and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age ran in open ditches in the str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crowding and unemployment were major probl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Brid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New Globe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Glob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cated on the south bank of the Tha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most famous London Playhous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wned by the Burbage famil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lew a flag to announce a perfor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cting companies used boys to play female role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south bank of the 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famous London Play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ed by the Burbag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w a flag to announce a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companies used boys to play female ro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wealthy’s view of the sta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lthy’s view of the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CAF-07DC-4427-B065-62F0CC6A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FD3-1014-4BC4-B371-F47D8521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66A-595D-4C1C-97A0-68A561BC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AAE-FA47-4A99-950C-8FE477CC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BD9A-319B-4B9F-8C1F-2DFB4B76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A9EF-0D09-4EE5-9A7F-7004F38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D19A-0253-46FE-855F-8FA46B82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3235-0E24-4985-960B-63E47E87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568F-BBE5-4FD1-A24A-23314DD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5BE9-684A-4DC9-B34F-133FDD1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DCD-AE58-477A-A78F-581B624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F3E-ED5D-45D6-9324-29ED580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3FF-98A3-41B8-920F-292A4D0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5276-8386-4232-8DCA-F87E591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4EA4-F7E3-470C-85FA-6258CFDC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4870-9329-48BD-92B6-3C66804F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61B0-225B-475D-9537-7FB97FC4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3AC-E74E-4CCE-9904-6F19AF0B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7BB-1478-4F74-96E0-3FA61E5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EFA-ECFA-4157-B613-DFD7B2FF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C03-ADA1-4866-9F5C-83A9EEB9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A04-4380-4811-B632-F8E57F3B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C14-26B9-4EAF-94E1-3BEDB6A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F4E-F1DA-4707-A2AC-AEFEDD05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883-F35C-4375-80FE-6DB0F35E6D8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798-1543-43BA-851C-A124AF1B0ED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chele Douglas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ves County High School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esented November 200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8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1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5" descr="VisscherLondonBridgesm"/>
          <p:cNvPicPr/>
          <p:nvPr/>
        </p:nvPicPr>
        <p:blipFill>
          <a:blip r:embed="rId1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RomaK</cp:lastModifiedBy>
  <dcterms:modified xsi:type="dcterms:W3CDTF">2015-09-04T10:38:35Z</dcterms:modified>
  <cp:revision>39</cp:revision>
  <dc:subject/>
  <dc:title>romeo and juliet</dc:title>
</cp:coreProperties>
</file>