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12B6-FD1D-4ADA-81A2-EA3AD49FD0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Star-crossed Roma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-crossed Ro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Brief Introduc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 was written by Shakespeare in 1594 or 1595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 was an experimental stage piece, featuring several radical departures from long-standing conventions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ef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was written by Shakespeare in 1594 or 159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was an experimental stage piece, featuring several radical departures from long-standing conven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Montague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ord and Lady Montague – Romeo’s par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Montagu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althasar and Abram – servants to the Montague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ercutio – Friend of Romeo and relative of the Pri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ta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and Lady Montague – Romeo’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Mont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thasar and Abram – servants to the Monta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tio – Friend of Romeo and relative of the Pr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he Capul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Lord and Lady Capulet – Juliets par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Juliet Capul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Nurse – Juliets attendan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ybalt – cousin to Juli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ampson and Gregory – servants to the Capul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apu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rd and Lady Capulet – Juliet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liet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 – Juliets at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balt – cousin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son and Gregory – servants to the Capu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Very Brief Plot Summ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(a Montague) and Juliet ( A Capulet) meet and fall in lo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Brief Plo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(a Montague) and Juliet ( A Capulet) meet and fall in l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iar Laurence conspires with Romeo to arrange a secret marriag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y the end of Act II, Romeo and Juliet are marri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urence conspires with Romeo to arrange a secret marri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Act II, Romeo and Juliet ar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rince spares Romeo’s life, but banishes him from Verona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’s father announces that she shall wed Paris in 3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e spares Romeo’s life, but banishes him from Vero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’s father announces that she shall wed Paris in 3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V --  Juliet threatens to commit suicide rather than marry Par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iar Laurence convinces her to fake her death in order to be with Romeo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V --  Juliet threatens to commit suicide rather than marry Par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urence convinces her to fake her death in order to be with Rom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V – Romeo receives word that Juliet is dea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is is also at the tomb.  He and Romeo fight, and Paris is kill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V – Romeo receives word that Juliet is d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is is also at the tomb.  He and Romeo fight, and Paris is ki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5902-D878-4E5A-8256-DA993BD0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1FE-CC6C-4E09-A39C-FB86DF4E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9883-82A4-4153-BA95-B5EACF26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9A7-7218-4C52-A77C-CBA55FDD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4480-EA78-4E6E-8080-2EBA4AF7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885E-3CBD-47B5-B2B6-AF100780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0E7D-4546-47A7-8AD4-F6CCC2AD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D5C9-B658-41EC-8AA6-B7C8B4E8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01CC-D5BB-4AE0-A82C-66F58ECA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F8EA-A127-442A-837C-3FD4BEC2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DEE6-D60A-46B5-9125-13FAE9EC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8881-BC53-451D-8BFA-DDF6B024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D53D-DBD2-47FF-A371-1C79A16D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9934-E939-47CA-BD30-A379821D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82CB-618F-412A-B3DD-FDE42F20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E3EE-F822-42CB-858E-E457C5C1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7B7F-2A9E-4994-ABE1-BF3FAF8B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A1D2-FFD6-40F6-A736-3C2AF1F4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A5E-E344-4382-BBE3-D6DA1E16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35E-E078-41FD-B7C8-BDA9BE9F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588-23BF-429A-AF8B-3BA72BE8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AE2-643A-4095-9672-C5B10B4D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045-C5E4-422F-A68D-450B808D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BF8-DEC8-4813-BD62-2AD27B71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10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F3BF-ABF1-4AE3-960A-C6AC40A6158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2897-899B-4714-A8C8-7C3E88480DB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omeo and Julie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Star-crossed Rom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Brief Introduc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was written by Shakespeare in 1594 or 1595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was an experimental stage piece, featuring several radical departures from long-standing convention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609480"/>
            <a:ext cx="861048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The Montague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Lord and Lady Montague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– Romeo’s parent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Romeo Montagu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Balthasar and Abram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– servants to the Montague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ercutio – Friend of Romeo and relative of the Princ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Capul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Lord and Lady Capulet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Juliets parent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Juliet Capule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Nurse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Juliets attendan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Tybalt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cousin to Julie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Sampson and Gregory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servants to the Capulet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Very Brief Plot Summa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omeo (a Montague) and Juliet ( A Capulet) meet and fall in lo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iar Laurence conspires with Romeo to arrange a secret marriag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y the end of Act II, Romeo and Juliet are marri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Prince spares Romeo’s life, but banishes him from Verona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’s father announces that she shall wed Paris in 3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V --  Juliet threatens to commit suicide rather than marry Pari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iar Laurence convinces her to fake her death in order to be with Rome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V – Romeo receives word that Juliet is de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aris is also at the tomb.  He and Romeo fight, and Paris is kill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16:33:37Z</dcterms:created>
  <dc:creator>BCC/Microsoft Campus Agreement #2218996</dc:creator>
  <dc:description/>
  <dc:language>en-US</dc:language>
  <cp:lastModifiedBy>RomaK</cp:lastModifiedBy>
  <dcterms:modified xsi:type="dcterms:W3CDTF">2015-09-04T10:38:22Z</dcterms:modified>
  <cp:revision>8</cp:revision>
  <dc:subject/>
  <dc:title>Romeo and Juliet</dc:title>
</cp:coreProperties>
</file>