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60F1-2F6F-407A-8CC3-3E77798E23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147-7B6A-4395-BE2A-E92A6E2D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C55-065C-433D-A569-2FEC4EDF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875-B00E-45F1-B76F-389B884F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AFA-F45E-4589-8AFE-E13D8589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36BE-451F-4745-A864-9386F698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7539-E131-4841-8829-A1E385EB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AF71-2D15-42D2-840C-EAFC4DA0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FF3B-65B4-4729-8404-8ADB4144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89C4-AD60-4647-A105-462F28F4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4416-E525-4BD8-AFBD-46A7D9A2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5F21-993F-4072-AE42-47E91DAA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DEE-B5F6-4D6C-9955-676475FE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E076-F369-4E1C-AFF0-1D1A8F74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A4F8-0476-49A5-BB99-82F394C6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2AE2-4FE5-4E08-ADC1-2D68D6B9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4CC5-A37C-468D-88EF-2CC81CC6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D38B-301C-45CE-AFF2-FFBB39BC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03B-2256-41FA-8581-DF382CB3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C54-829E-4177-BDC1-2F93680D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565-CDC7-4C39-8F98-08BBFC61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52A-E8CF-4CB4-BCDB-C0EFBD05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229-F8E7-4814-9EC0-C4EE101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8E7-1843-4444-BED8-B8BC0A64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2E9-736C-43BB-95BE-4E76C8FA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4FFA-B099-49F6-9CB4-5C756F6102A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8A06-B236-4088-9748-F053DB9E243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meo and Julie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Brief Introdu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written by Shakespeare in 1594 or 1595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an experimental stage piece, featuring several radical departures from long-standing convention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609480"/>
            <a:ext cx="861048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Lord and Lady Montague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Romeo’s paren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Balthasar and Abram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servants to the Montagu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apul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Lord and Lady Capule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paren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Nurse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attendan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ybal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cousin to Juli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Sampson and Gregory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servants to the Capule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Very Brief Plot Summ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6:33:37Z</dcterms:created>
  <dc:creator>BCC/Microsoft Campus Agreement #2218996</dc:creator>
  <dc:description/>
  <dc:language>en-US</dc:language>
  <cp:lastModifiedBy>RomaK</cp:lastModifiedBy>
  <dcterms:modified xsi:type="dcterms:W3CDTF">2015-09-04T10:38:22Z</dcterms:modified>
  <cp:revision>8</cp:revision>
  <dc:subject/>
  <dc:title>Romeo and Juliet</dc:title>
</cp:coreProperties>
</file>