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7C3B-6FFF-4949-B23A-97E61F2AA3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3A3-54E3-4468-8FF7-F3439F48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255-520B-4390-B674-5DE4EDCB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393-C71B-4E8D-B53E-1932DB1C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54F-0DEC-492B-BC15-EE84C360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F931-850B-4ED7-9D98-E67C6C4B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05EC-D6A1-4D24-9A48-42CC1788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748A-68BB-4962-894A-34F6D896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882D-05A0-4CBB-BF55-C2F4C52D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DEDA-B45A-437C-B51D-FD1CE2B9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BE02-CDB6-49A9-B3F2-4B8EC359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E11E-10A3-49C7-8065-65D38E07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316-35D5-43C0-B4D9-B824D884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6248-8079-4BDF-8840-48D085AC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03C3-A5C7-4A74-96E7-E499B5A6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D3CA-D7A4-481C-9736-996B7667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BF25-9F95-4553-A6F7-42908F92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2282-EB1B-4901-B683-4BA73787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883-6EDB-495B-AA15-2B4CA055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3BB-9925-4B6F-A092-75E9F84E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074-8484-4E71-865E-65DFDD4D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284-F120-4EF0-A24F-BBAF09E6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5DA-5939-4BB3-A31F-3DB5A7F6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53C-DFAE-4CCC-88CC-1738EB0F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BF5-17C5-4BAB-9B8B-20F2A97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A8D3-B819-4334-888A-E59FB1A42E8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B089-2A9B-472F-8B2B-3BFF32298F5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meo and Julie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Brief Introdu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written by Shakespeare in 1594 or 1595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an experimental stage piece, featuring several radical departures from long-standing convention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609480"/>
            <a:ext cx="861048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Lord and Lady Montague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Romeo’s paren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Balthasar and Abram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servants to the Montagu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apul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Lord and Lady Capule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paren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Nurse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attendan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ybal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cousin to Juli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Sampson and Gregory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servants to the Capule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Very Brief Plot Summ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6:33:37Z</dcterms:created>
  <dc:creator>BCC/Microsoft Campus Agreement #2218996</dc:creator>
  <dc:description/>
  <dc:language>en-US</dc:language>
  <cp:lastModifiedBy>RomaK</cp:lastModifiedBy>
  <dcterms:modified xsi:type="dcterms:W3CDTF">2015-09-04T10:38:22Z</dcterms:modified>
  <cp:revision>8</cp:revision>
  <dc:subject/>
  <dc:title>Romeo and Juliet</dc:title>
</cp:coreProperties>
</file>