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E83E-5954-4173-BD7C-F4341EDD1D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660-EAE8-4090-8D66-A75BF53F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4EB-E29D-4CD4-89EB-2B357F91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0D8-A8F8-4EDF-B635-FC9748C3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8F2-E830-442F-A3AC-54AB809F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D1E5-D357-42B2-9CBB-D7C706A3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60A3-71D7-4D21-8989-72B8CAC3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2B43-E334-45C4-A571-012F01D1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68D7-C77E-426B-87F6-ED13EA19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1E7E-D526-4623-9AA3-A9C26D29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0FCD-D697-4E3F-A98A-219E5E9D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41D0-15F9-44CE-AF1F-A65C89B0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4D9-BCE9-4937-A0EA-4CC8B60E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7AE4-AFBC-447C-BD8D-5968A684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FA23-CE39-4DAA-9964-FE655361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1FDE-E887-48EA-91BA-1835B492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B79C-B958-4572-A768-74F338F4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43D3-6F8D-4C8A-8196-78580634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C52-DFAF-48ED-9A64-3759BC4F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359-5726-43BC-A023-E0F99621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53D-8FA0-4DCD-B986-76340211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295-062B-4AC2-A28C-4237869F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760-C58E-4D13-91D9-4CBABAFB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A70-49B3-4DEE-90E0-E065CF1E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264-2DCB-4B93-9DB1-38906A8D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10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64F8-B415-47A3-A2F2-0DAADD50C41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90F5-AA2D-4981-BAC2-C28CDD705C0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omeo and Julie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Brief Introduc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written by Shakespeare in 1594 or 1595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an experimental stage piece, featuring several radical departures from long-standing convention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609480"/>
            <a:ext cx="861048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Lord and Lady Montague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Romeo’s parent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Balthasar and Abram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servants to the Montagu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apul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Lord and Lady Capule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paren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Nurse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attendan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Tybal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cousin to Juli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Sampson and Gregory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servants to the Capule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Very Brief Plot Summ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6:33:37Z</dcterms:created>
  <dc:creator>BCC/Microsoft Campus Agreement #2218996</dc:creator>
  <dc:description/>
  <dc:language>en-US</dc:language>
  <cp:lastModifiedBy>RomaK</cp:lastModifiedBy>
  <dcterms:modified xsi:type="dcterms:W3CDTF">2015-09-04T10:38:22Z</dcterms:modified>
  <cp:revision>8</cp:revision>
  <dc:subject/>
  <dc:title>Romeo and Juliet</dc:title>
</cp:coreProperties>
</file>