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073B-675F-457F-8A66-F98747CB22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E69-F0D0-417D-BF95-732B6A50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916-6B2C-4685-B6A0-D2A06809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CAB-A770-4A21-82C7-41223659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363-30A5-4AB8-BD61-EBB117E8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F398-EA3C-4B8D-A87F-90B086EB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44AA-3232-49DA-95BF-D0C381AF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2E4B-E627-4463-B83B-ED7D50C8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626C-C170-42B1-B5F4-BA590121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00C0-0E09-4F02-BCA6-4DC7DC96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22FA-68A6-4EC3-AE44-96593DEE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064C-18AA-4E70-8275-5F0FDAE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C0D-450C-4F4C-A461-D31B82A7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3311-A5DB-4793-A7CF-5FF5E33A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0AC1-1A08-496C-9230-A2057ECF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81A3-CBDF-4345-BF3D-ABEAA5E6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0771-07D7-4939-A98B-A9313A91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FB07-3DBB-4DB9-AD04-F066F443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348-D80F-4846-BF9F-0D302C60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700-02D0-47B8-AD31-458C682B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DE5-E2EE-4F4B-B28F-E927333A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DB2-8CD0-4C59-9E36-D4959267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665-D6DE-40FE-B7C8-8582874B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57F-4E36-4B72-8AA0-986349A1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CE6-DFFC-4288-8CA6-D338C611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74A8-BABF-44BA-986E-25A7682B2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26ED-31A4-4FA4-8A66-7074EE08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8288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228600"/>
            <a:ext cx="731520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know what the symbols mean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0"/>
            <a:ext cx="7467480" cy="70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2nd – Find th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0"/>
            <a:ext cx="815328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ll you need to do is put the two togeth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//U //U //U = spondaic t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w see if you can guess the following……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Use your notes.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You know I’ll try to trick you!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4:05:32Z</dcterms:created>
  <dc:creator>Airline High School</dc:creator>
  <dc:description/>
  <dc:language>en-US</dc:language>
  <cp:lastModifiedBy>RomaK</cp:lastModifiedBy>
  <dcterms:modified xsi:type="dcterms:W3CDTF">2015-09-04T10:38:14Z</dcterms:modified>
  <cp:revision>13</cp:revision>
  <dc:subject/>
  <dc:title>rhyme and meter</dc:title>
</cp:coreProperties>
</file>