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5252-C8E9-48F0-843F-B5634ECCFC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8DD-7152-44FA-992F-1524B791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39D-411A-49E4-B230-3D73E917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E30-40F5-4645-9DF4-12A61658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8FE-3942-41CF-B9EA-0DEAEF8C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A9FA-83C3-42A4-95F7-E6125617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70AA-1213-41FD-A999-D33E35E3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1126-334C-49AD-8DFD-18F8BD8A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3A54-708F-4DE0-86CB-F47CC4A3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24C0-8693-471F-B2DA-21B19FCE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294E-7C38-42A6-B4CF-84E54647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1235-D0CD-4653-BA1E-6A8B74C1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2D1-9BD1-4373-8E57-F6430F5D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59F2-1C59-40D7-A852-CE07811B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8F65-03D2-40B4-8AF5-33971B5E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6476-DAF6-4F5B-95A8-B49CCF7E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FCBB-BFB5-489B-BEF5-94C2EC2E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A4C3-FC3A-4C64-B89F-72A99FA7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93E-1416-478F-AB74-91B3ECD7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3136-C4BB-4E26-9F24-627F087E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1B8-C76C-4D14-A7A0-1F52898E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3352-D8D5-45AE-8CC3-4049C241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FF3-80EF-4EB1-9DA0-14DD6BB1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01A-9682-41BF-BE4A-EF505A94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F2C-1B12-4714-BBA2-1580216E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181B-2CCC-4298-800D-CA29947D7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AFD6-1CBF-439E-976B-3C352A39C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18288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371600" y="228600"/>
            <a:ext cx="7315200" cy="57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you must know what the symbols mean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0"/>
            <a:ext cx="7467480" cy="70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2nd – Find the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90720" y="0"/>
            <a:ext cx="8153280" cy="66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ll you need to do is put the two togethe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//U //U //U = spondaic t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ow see if you can guess the following…….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Use your notes. </a:t>
            </a: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You know I’ll try to trick you!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4:05:32Z</dcterms:created>
  <dc:creator>Airline High School</dc:creator>
  <dc:description/>
  <dc:language>en-US</dc:language>
  <cp:lastModifiedBy>RomaK</cp:lastModifiedBy>
  <dcterms:modified xsi:type="dcterms:W3CDTF">2015-09-04T10:38:14Z</dcterms:modified>
  <cp:revision>13</cp:revision>
  <dc:subject/>
  <dc:title>rhyme and meter</dc:title>
</cp:coreProperties>
</file>