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740-50DF-4425-A34A-5ABF3078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le Wothersp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le Wothersp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9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dee (spond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oot composed of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       ‘       ‘        ‘      ‘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real, cool.  We left scho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ondee (spond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foot composed of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‘       ‘       ‘        ‘      ‘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, real, cool.  We left schoo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r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unstressed followed by a 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*      *   ‘       *    *     *  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ir/return,/up the/high strand,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yrrh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unstressed followed by a 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*      *   ‘       *    *     *  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ir/return,/up the/high strand,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–  comes from the Greek term fo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–  comes from the Greek term for meas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written in a regular pattern of stressed and un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 “To this I witness call the fool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e for goodness, who have lived for crim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s are repeated again and again in the same broad rhythmical patterns, creating a rhythmical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:  “To this I witness call the fool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die for goodness, who have lived for crim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measurable, patterned, conventional unit of poetic 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-technical meaning – connected to how we 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and rhythm of steps equal to pattern and rhythm of p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etry has Fe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measurable, patterned, conventional unit of poetic rhy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n-technical meaning – connected to how we wa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ttern and rhythm of steps equal to pattern and rhythm of po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hythm of music connected to movement of body and rhythmical pattern of mov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ns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stem of using symbols to represent stressed and unstressed patterns in a poem in order to be able to “read” the po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the broad wave pattern, but doesn’t define the individual wave or patte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mb(ic) – unstressed syllable followed by a stressed sy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‘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c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    ‘        *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k down on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ds of patter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amb(ic) – unstressed syllable followed by a stressed syll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‘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y a cro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    ‘        *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ok down on 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chee(trocha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ed followed by unstres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‘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‘   *   ‘      *       ‘    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upon a midnight dre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chee(trocha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ssed followed by unstress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‘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‘   *   ‘      *       ‘     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upon a midnight dre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est (anapesti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wo unstressed syllables followed by a stressed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 *     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lf/ on the fol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est (anapestic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two unstressed syllables followed by a stressed 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     *     *         ‘        *     *   The Assyr/ ian came down/ like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  *     ‘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lf/ on the fold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ty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essed followed by two unst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‘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*    ‘   *  *     ‘     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ckory, dickory, d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cty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tressed followed by two unst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‘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 *    ‘   *  *     ‘      *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ckory, dickory, d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B2E-4E7E-474B-8079-735A531F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8FF-D2AA-4F35-AEF2-E7B6A45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D98-90A0-4F97-865B-4F5DD4C5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5DF-E9AA-4A2F-B61A-E90EE5FF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BA16-2F53-44A7-AA53-6FD64C57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7B3-B66F-4448-A187-A02AAE1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779C-6504-4DC2-96F1-F53BC80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D7B-7B62-44CD-B76E-E14F273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B548-9170-488D-87DD-13B43D85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5E7F-3638-48CC-A540-7B9653A5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591E-5A32-4016-80FE-B647153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A24-474F-4F76-9952-A0F6705D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44A-5687-45A3-913A-63ED9B1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89EF-F0C1-4859-8943-A0EF8458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A08F-87D0-4130-9D13-9E330E3E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7FEE-01F2-4C2A-8705-2E46E940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95CF-5D4F-4D34-9CEC-449FE802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500-5CBA-4C40-B191-E0C5974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8AB-2B0D-4B9C-A2B0-4EFE7819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0C4-8133-4F03-A677-5E9AA76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E90-C9B6-4961-B3BF-9C21365D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FC6-2CBA-4F70-9303-1FD0AA95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BDB-29E0-4F17-8AA5-4ECDDEF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DAD-AAAA-40A8-936D-913418B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4C4-919D-4EFE-B834-C546C30F0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0E33-71BB-4122-AB99-92AE01408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Poetry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le Wothersp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try 9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565440" y="236232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Spondee (sponda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is a foot composed of 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‘       ‘       ‘        ‘      ‘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We, real, cool.  We left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S Sans Serif"/>
                <a:ea typeface="Times New Roman"/>
              </a:rPr>
              <a:t>Pyrrhic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three unstressed followed by a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*   *      *   ‘       *    *     *  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At their/return,/up the/high strand,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ter –  comes from the Greek term for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etry written in a regular pattern of stressed and unstressed syll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ecognition and naming of broad wave patterns in lines of verse (like waves on the shore or the wave patterns of sounds in phys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ter continu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a succession of lines or sentences that have the same metrical pattern, but is not necessarily exactly rhythmically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nes are repeated again and again in the same broad rhythmical patterns, creating a rhythmical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:  “To this I witness call the fools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die for goodness, who have lived for crim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Poetry has Feet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chnical meaning – has one stressed syllable and one or more unstressed syllables or has one unstressed syllable and one or more stressed syll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measurable, patterned, conventional unit of poetic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non-technical meaning – connected to how we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tern and rhythm of steps equal to pattern and rhythm of po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hythm of music connected to movement of body and rhythmical pattern of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cansion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of using symbols to represent stressed and unstressed patterns in a poem in order to be able to “read” the po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ives the broad wave pattern, but doesn’t define the individual wave or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comic"/>
                <a:ea typeface="Times New Roman"/>
              </a:rPr>
              <a:t>Kinds of pattern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mb(ic) – unstressed syllable followed by a stressed syl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‘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way a cr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    ‘        *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hook down on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75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Trochee(trochaic)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essed followed by unstres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‘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‘   *   ‘      *       ‘    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ce upon a midnight dre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Anapest (anapestic)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nstressed syllables followed by a stresse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     *     *         ‘        *     *   The Assyr/ ian came down/ lik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  *     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olf/ on the fol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Dactyl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e stressed followed by two un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‘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*  *    ‘   *  *     ‘      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Hickory, dickory, 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38:00Z</dcterms:modified>
  <cp:revision>5</cp:revision>
  <dc:subject/>
  <dc:title>Poetry meter</dc:title>
</cp:coreProperties>
</file>