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9777-E9D3-49D9-AE56-416F5A924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329-E181-4749-9F63-46FA52AF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E19-6A76-4D6B-BE14-1778AB98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F92-D962-403D-BA8F-6354C47F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F47-677C-403C-9C52-357DF489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A3A7-358F-486F-811A-EE7A361E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130B-7864-4D47-9758-0B6219B3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F012-087E-4EDF-A8DF-004D3274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27AD-39DA-4CD5-B1E7-FDA1E881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B0D5-4BA6-44DE-82C6-8F603834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6D78-18C7-4EFA-B4FC-052696CC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06E2-AAFE-4007-942C-D5F3A4B5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EA0-B6FC-4F73-A7C3-CE61E072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431F-F0BD-4083-B762-C2508C00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5955-8884-4E03-968D-12F683EF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B9E6-CE3D-45A0-94A4-7769338D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5422-1FBC-48BF-95F5-45828711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E2C9-F2CC-477E-9464-672ACA85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C45-A741-4060-A826-E7EC67D2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FFE-5A2F-4B71-ADFF-CF54225A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C6F-0952-491B-8127-921815DE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858-425B-4E74-B482-98358B45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2F0-3B3A-4B7F-ABF2-1F79B094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5FC-65F6-48C1-8F80-66C45C52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A6E-A185-4E6F-9ADD-61F649C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8375-A289-45F9-930E-DEC2C0069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2653-A669-4425-87F5-0D1508278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8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RomaK</cp:lastModifiedBy>
  <dcterms:modified xsi:type="dcterms:W3CDTF">2015-09-04T10:37:44Z</dcterms:modified>
  <cp:revision>12</cp:revision>
  <dc:subject/>
  <dc:title>Poetry</dc:title>
</cp:coreProperties>
</file>