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DF53-E070-4D0F-A12D-DDC630FF77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ythm &amp; Rh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more spirited language makes humorous situations even more humor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rcupine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Ogden Nas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hound a porcupine nudg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’t be blamed for harboring grudg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know one hound that laughed all wi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a porcupine that sat on a splint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hythm &amp; R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ing more spirited language makes humorous situations even more humor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rcup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Ogden N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y hound a porcupine n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’t be blamed for harboring grud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know one hound that laughed all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a porcupine that sat on a spli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away the rhythm and rhyme, the humor vanish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hound that touches a porcup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blamed for holding a grud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one hound that laughed all winter lo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 porcupine that sat on a piece of w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away the rhythm and rhyme, the humor vanis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hound that touches a porcup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blamed for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know one hound that laughed all winte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 porcupine that sat on a piece of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2-189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En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lice’s Adventures in Wonder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Through the Looking Gla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life was quiet and uneventful, but in works like Father William, he found escape from his serious work into a delightfully zany, topsy-turvy world that still amuses children old and you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 Carrol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2-18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in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lice’s Adventures in Wond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Through the Looking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life was quiet and uneventful, but in works like Father William, he found escape from his serious work into a delightfully zany, topsy-turvy world that still amuses children old and you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William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0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poem, a young man questions his father about some rather unusual behavi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asked someone what they were doing and received an explanation that made very little sense at 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William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poem, a young man questions his father about some rather unusual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asked someone what they were doing and received an explanation that made very little sense at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merick is a poem of five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, second, and fifth lines have three rhythmic beats and rhyme with one an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and fourth lines have two beats and rhyme with one ano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ways light-hearted, humorous poe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merick is a poem of fiv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, second, and fifth lines have three rhythmic beats and rhyme with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and fourth lines have two beats and rhyme with one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lways light-hearted, humorous po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with no hai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ave everyone quite a sca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ot some Rogain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out a man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w he resembles a bea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with no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ave everyone quite a sc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got some Roga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out a ma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w he resembles a b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 About a Be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hat my room had a floor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care so much for a do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walking a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ouching the grou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etting to be quite a bor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rick About a B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hat my room had a floo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care so much for a d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is walking a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ouching the 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etting to be quite a b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Limeric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very small mou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d in a very small house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cean’s spr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ed it awa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at was left was her blous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Limer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very small m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d in a very small hous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cean’s sp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ed it awa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at was left was her blous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create a limerick similar to this one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Beij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is life he hoped to be K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put on a crown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quickly fell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mall silly man from Beijing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create a limerick similar to this 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Beij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is life he hoped to be 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put on a crow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quickly fell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small silly man from Beij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blanks and create your own Limerick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_____ from 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she/he hoped ___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he/he ____________________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________________________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_________ from ___________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blanks and create your own Limer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_____ from 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she/he hoped 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he/he ____________________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________________________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_________ from 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tera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initial consonant s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us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erence to a well-known person, place, event, literary work, or work of a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ad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ng-like poem that tells a sto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Ver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unrhymed, ten-syllable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te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initial consonant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u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erence to a well-known person, place, event, literary work, or work of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a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ng-like poem that tells a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written in unrhymed, ten-syllable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Smith’s Limerick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Jap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he hoped for a t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lay on the beac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te a ripe peac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ame from a Georgia va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Smith’s Limeri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once was a man from Jap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while he hoped for a 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e lay on the bea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te a ripe pea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ame from a Georgia v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em with a shape that suggests its subje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ative Languag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hat is not meant to be taken literal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er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not written in a regular rhythmical pattern or 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ku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ree-lined Japanese ver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em with a shape that suggests its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ative Langu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that is not meant to be taken liter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er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try not written in a regular rhythmical pattern or 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k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hree-lined Japanese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or phrase that appeals to one or more of the five sen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ric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musical verse that expresses the observations and feelings of a single speak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or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in which something is described as though it were something el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ord or phrase that appeals to one or more of the five s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ric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musical verse that expresses the observations and feelings of a single 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in which something is described as though it were something 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created in the reader by a literary wor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Po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told in ver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matopoeia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words that imitate s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ifica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figurative language in which a non-human subject is given human characteris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created in the reader by a literar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ve Po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ory told in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omatopoe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words that imitate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if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figurative language in which a non-human subject is given huma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i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ly repeated line or group of lines in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, more than once, of any element of langu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sounds at the end of wor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 Schem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pattern of rhyming words in a po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ly repeated line or group of lines in a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, more than once, of any element of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tition of sounds at the end of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 Sche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gular pattern of rhyming words in a po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of beats or stresses in spoken or written langu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that uses like or as to make a direct comparison between two unlike id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za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mal division of lines in a poem considered as a 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ove is like a red ro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of beats or stresses in spoken or written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gure of speech that uses like or as to make a direct comparison between two unlike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z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mal division of lines in a poem considered as a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ove is like a red r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or &amp; Poet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umor &amp; Po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in poetry can arise from a number of sourc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pri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together of unrelated thing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unny poems have two things in comm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in poetry can arise from a number of 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gg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together of unrelated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funny poems have two things in comm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13B6-3378-4386-B88E-1EA20483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845-1827-4EB2-8076-3BC38FAA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2D45-74BB-4ADD-BA98-1B73E406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ACC9-4971-4F52-A8BD-79F4B3FA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27A9-64BE-4525-980F-AE1FA74E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4596-C058-4998-A916-020A83F6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A0D4-DD76-4DA3-82D3-13FDF600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0CA7-82FF-4B2B-8078-3F05ADD7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408C-A4A0-4483-AB91-7008C002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86B6-1050-4540-A83C-1A51B888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BE48-A147-4D2B-87DE-7A646689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4BDF-87B1-4B3A-86BE-323F1B1F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4471-295A-4A41-8EC6-4668979B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BC7A-BA4D-4612-8033-A9D11EE8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F669-BE95-4BD9-9C03-08A8AACE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0195-5466-4999-B365-1510828C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F953-BCEA-45A6-8AB2-6754DD69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BCA-E70C-4068-9DE2-4BA30802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D909-891E-46C9-B453-B04F922A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EB4-FA1E-4244-9C07-8B225888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3D5E-B50F-4B22-BAFA-096878D7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0C6-0B72-476E-937B-8B1C10FA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B1B-4E23-44C3-B04C-7CF56B6A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AEA-FA53-4952-AD27-7A254A15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4A86-8FD8-46F7-BEFF-3DCCC2E63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4EE3-3D3A-4596-BDA2-A68DE5D2F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hythm &amp; Rhy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more spirited language makes humorous situations even more humor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43000" y="2057040"/>
            <a:ext cx="693432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e Porcupine”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y Ogden Nash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hound a porcupine nud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’t be blamed for harboring grud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know one hound that laughed all w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a porcupine that sat on a splin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76680" y="1522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take away the rhythm and rhyme, the humor vanish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hound that touches a porcup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’t be blamed for holding a grud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know one hound that laughed all winter lo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a porcupine that sat on a piece of w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wis Carroll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32-189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rn in Eng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lice’s Adventures in Wonder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rough the Looking G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 life was quiet and uneventful, but in works lik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ather Willi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he found escape from his serious work into a delightfully zany, topsy-turvy world that still amuses children old and you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her William”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ge 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is poem, a young man questions his father about some rather unusual behavi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you ever asked someone what they were doing and received an explanation that made very little sense at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imerick is a poem of five l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, second, and fifth lines have three rhythmic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hird and fourth lines have two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are always light-hearted, humorous poe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08660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with no hai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ave everyone quite a sc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ot some Rogai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w out a ma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now he resembles a bear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j0336472"/>
          <p:cNvPicPr/>
          <p:nvPr/>
        </p:nvPicPr>
        <p:blipFill>
          <a:blip r:embed="rId1"/>
          <a:stretch/>
        </p:blipFill>
        <p:spPr>
          <a:xfrm>
            <a:off x="6553080" y="46483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 About a B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55308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sh that my room had a floor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don’t care so much for a do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this walking a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touching the g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getting to be quite a b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Picture 4" descr="j0304465"/>
          <p:cNvPicPr/>
          <p:nvPr/>
        </p:nvPicPr>
        <p:blipFill>
          <a:blip r:embed="rId1"/>
          <a:stretch/>
        </p:blipFill>
        <p:spPr>
          <a:xfrm rot="21444600">
            <a:off x="990720" y="4419720"/>
            <a:ext cx="758880" cy="915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j0304465"/>
          <p:cNvPicPr/>
          <p:nvPr/>
        </p:nvPicPr>
        <p:blipFill>
          <a:blip r:embed="rId2"/>
          <a:stretch/>
        </p:blipFill>
        <p:spPr>
          <a:xfrm>
            <a:off x="6324480" y="4419720"/>
            <a:ext cx="758880" cy="91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Limeri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010280" cy="28954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very small mo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lived in a very small hous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cean’s spr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hed it away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at was left was her blous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j0344852"/>
          <p:cNvPicPr/>
          <p:nvPr/>
        </p:nvPicPr>
        <p:blipFill>
          <a:blip r:embed="rId1"/>
          <a:stretch/>
        </p:blipFill>
        <p:spPr>
          <a:xfrm>
            <a:off x="533520" y="533520"/>
            <a:ext cx="1652400" cy="138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ill create a limerick similar to this on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1240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his life he hoped to be 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put on a cr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quickly fell dow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small silly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022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ll in the blanks and create your own Limeric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327672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_____ from 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she/he hoped 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she/he 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____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_________ from _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iter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initial consonant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u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ference to a well-known person, place, event, literary work, or work of 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all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ong-like poem that tells a s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lan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written in unrhymed, ten-syllable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rs. Smith’s Limeric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2004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Jap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he hoped for a t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lay on the b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ate a ripe p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me from a Georgia v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em with a shape that suggests its subj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igu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ing that is not meant to be taken litera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not written in a regular rhythmical pattern or me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Haik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hree-lined Japanese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304920"/>
            <a:ext cx="76964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ord or phrase that appeals to one or more of the five sen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yr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ly musical verse that expresses the observations and feelings of a single spea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etaph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gure of speech in which something is described as though it were something el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4678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oo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eeling created in the reader by a literary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tory told in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nomatopoe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 of words that imitate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ersonific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ype of figurative language in which a non-human subject is given human characteris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6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fra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ly repeated line or group of line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peti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, more than once, of any element of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sounds at the end of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c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 pattern of rhyming word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71629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th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tern of beats or stresses in spoken or written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us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make a direct comparison between two unlike ide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ormal division of lines in a poem considered as a un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4038480"/>
            <a:ext cx="4038840" cy="474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My love is like a red rose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4" descr="j0288858"/>
          <p:cNvPicPr/>
          <p:nvPr/>
        </p:nvPicPr>
        <p:blipFill>
          <a:blip r:embed="rId1"/>
          <a:stretch/>
        </p:blipFill>
        <p:spPr>
          <a:xfrm>
            <a:off x="5715000" y="3657600"/>
            <a:ext cx="1600200" cy="1309680"/>
          </a:xfrm>
          <a:prstGeom prst="rect">
            <a:avLst/>
          </a:prstGeom>
          <a:ln w="0">
            <a:noFill/>
          </a:ln>
        </p:spPr>
      </p:pic>
      <p:sp>
        <p:nvSpPr>
          <p:cNvPr id="168" name="Line 7"/>
          <p:cNvSpPr/>
          <p:nvPr/>
        </p:nvSpPr>
        <p:spPr>
          <a:xfrm>
            <a:off x="5105520" y="4343400"/>
            <a:ext cx="609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&amp;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um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in poetry can arise from a number of sourc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rpri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xagge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ringing together of unrelated thing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funny poems have two things in comm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th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j0078722"/>
          <p:cNvPicPr/>
          <p:nvPr/>
        </p:nvPicPr>
        <p:blipFill>
          <a:blip r:embed="rId1"/>
          <a:stretch/>
        </p:blipFill>
        <p:spPr>
          <a:xfrm>
            <a:off x="5791320" y="1600200"/>
            <a:ext cx="29160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21:46:37Z</dcterms:created>
  <dc:creator>Jessica Smith</dc:creator>
  <dc:description/>
  <dc:language>en-US</dc:language>
  <cp:lastModifiedBy>RomaK</cp:lastModifiedBy>
  <dcterms:modified xsi:type="dcterms:W3CDTF">2015-09-04T10:37:44Z</dcterms:modified>
  <cp:revision>12</cp:revision>
  <dc:subject/>
  <dc:title>Poetry</dc:title>
</cp:coreProperties>
</file>