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ED96-ADDA-4130-A146-9553BD3284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try 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s for itself and for something beyond itself as well. (The bald eagle symbolizes the United Stat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is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s for itself and for something beyond itself as well. (The bald eagle symbolizes the United State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bolism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petition of the same consonant sounds in a line of poetry. (seven silver swans swam”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ter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petition of the same consonant sounds in a line of poetry. (seven silver swans swam”)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iter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milarity of ending sounds existing in lines of poetry. Internal: rhyme within the line of poetry. End: rhyme at the end of a line of po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m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imilarity of ending sounds existing in lines of poetry. Internal: rhyme within the line of poetry. End: rhyme at the end of a line of poe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ym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petition of identical or similar vowel sounds, especially in stressed syll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nan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petition of identical or similar vowel sounds, especially in stressed syll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onanc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ing human characteristics to a lifeless object. (“This poetry gets bored of being alone, it wants to go outdoors to chew on the winds.” “Living Poetry” by Hugo Margen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ing human characteristics to a lifeless object. (“This poetry gets bored of being alone, it wants to go outdoors to chew on the winds.” “Living Poetry” by Hugo Margen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ific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phor that is developed over several lines of writing or throughout the poe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ded 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phor that is developed over several lines of writing or throughout the poem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ded 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of speech that expresses the comparison of two objects using like or as (as snug as a bug in a ru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using like or as (as snug as a bug in a ru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il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otation: attitudes and feelings associated with a word. (thrifty vs. sting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tation:  the dictionary definition of a word (literal mean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otation/Denot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otation: attitudes and feelings associated with a word. (thrifty vs. sting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notation:  the dictionary definition of a word (literal mean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otation/Denot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of speech that expresses the comparison of two objects without using like or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without using like or 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of poetry that contains five iambs. “But soft! What light through yonder window brea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mbic Pentame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of poetry that contains five iambs. “But soft! What light through yonder window brea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oem that displays the thoughts and feelings of the poe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ric Poetr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oem that displays the thoughts and feelings of the poet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ric Poetr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terms that appears to contradict one another. “jumbo shrimp; stupid genius; small crow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mo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terms that appears to contradict one another. “jumbo shrimp; stupid genius; small crow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mo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egies that authors use to use literary devices such as metaphors, simile, repetition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ative Languag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your own exa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egies that authors use to use literary devices such as metaphors, simile, repetition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your own exam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aditional poem that tells a historic story or a popular belief; often deals with heroes, the supernatural, or ancestor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raditional poem that tells a historic story or a popular belief; often deals with heroes, the supernatural, or ancestors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yt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tterned flow of sou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th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atterned flow of soun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ythm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ptive term used to characterize a person or a 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th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ve term used to characterize a person or a 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the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or group of words which appeal to one or more of the senses: sight, taste, touch, hearing, and smell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r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or group of words which appeal to one or more of the senses: sight, taste, touch, hearing, and smell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r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words to suggest the comparison such as love “bursts into bloom.” It does not directly state the compari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ed 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words to suggest the comparison such as love “bursts into bloom.” It does not directly state the comparison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ied 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ory poem that often celebrates a hero or legend (Odysseus or Her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poem that often celebrates a hero or legend (Odysseus or Hercu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are pronounced to imitate their sounds (buzz, fizz, click, zoom, chirp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omatopoei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s that are pronounced to imitate their sounds (buzz, fizz, click, zoom, chirp)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omatopoeia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F7C-7CB6-4771-85D4-ECEFA1FE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2FC5-6FE1-4354-9D43-4C9CFE56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F8DA-5BC8-4A81-B571-489A457A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57F-8515-4381-AFB8-E294D537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A3B1-D414-4DF9-835B-4056BDDF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9A16-1DC5-47D4-9690-6402BEE5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0D17-2FE8-44A5-8682-5B0569C2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F864-D201-4191-B4EA-11CE2F77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1A5D-1BBC-4C56-ADBD-18CBB8CD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C959-0772-4D12-B1AC-D830B0ED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A97F-6F19-463D-A46B-6F7AF5D3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0D2-9E36-45AF-BA79-C5AF65AC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93BE-62C9-4806-B60F-09927770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E735-DC4A-43AC-8710-AE503DF6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04FD-3D07-4FED-9281-C76713B3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3A73-A7EC-4031-BD2C-F7E1B297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1597-B769-4C4A-A874-6BB2BB89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77E06-061B-43B3-8CF3-EFF367EF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72ED0-B239-4A05-97D0-358B70CE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2EA4-E2DC-4A83-A359-F8D4A135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A88DD-9CD9-4A5F-9919-3FAD16E4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863D7-3D62-4C09-8CB1-E2ADCDA4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0A4-448D-484F-B668-9701CE68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8C7C3-C4F8-4B87-B580-9764B895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B0D9-DC5D-4458-8732-8FA4050D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D8466-2B4C-4B0A-B6A1-CF38CB21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67D6-24B7-44EA-A0DF-FDB08599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3D10-1DAC-4EFA-8A21-16EBC338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19A53-D87D-4534-9D48-6AC2B271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E942C-83BE-4B1C-90B8-684ED025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58CF0-826C-4EBB-9566-9C1D6C6F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62EE3-8030-4032-BDFF-4AB44688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2C601-D39C-431B-B145-3DAB1E42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410-85F7-4D44-BEEB-B828FAA4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EEA8F-F96D-4032-A87F-DC053C64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EA70A-7FD1-4F06-9D40-600679B0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4F502-19A3-4FE1-8EB3-38085438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CEC92-B887-46EE-A1CD-CC01347E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F9222-DD0B-432A-B432-170243C8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BAC4B-13D8-4F32-86C0-77E1FF00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02072-699B-40C8-8480-FF0DE888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69FD6-1044-43E2-BF01-29E10EC7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B8D9D-AA02-44CD-AE8D-7015F7E3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48BEB-C1E7-4A42-BE57-63BB952E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CF6-1876-42DD-8235-5F63AE5E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2419E-43A4-4D4D-AD48-5391C29E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099CB-3E53-4073-B0B1-3DB5F590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AE167-CCE0-4252-90D4-EBD7035B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EC31D-605E-4C17-802B-F4066085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9DD8F-E9C1-4653-92AB-D05368F0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32DF0-50D0-4F6D-853C-661D7F5C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A5572-AEF8-487B-AD30-05A709FA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864C9-9B8E-4500-B6E4-64EFD982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D1561-1443-449F-AADC-775648A8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D1D9C-732D-461B-AEE4-4EC3B17F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276-939C-49D6-8CAC-47638CDC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B28E2-A6B6-4AC2-BAC0-74D70A5F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D1A8D-20D1-4FDF-8378-51829324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0442C-7898-448A-8BDE-C676045D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E3F2B-E4C5-4DE8-B0E1-2F2E5749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5E38C-5102-4072-8A12-BDFECCB3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807BB-3176-4806-A459-55A28DF8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E5518-C7E4-40A8-8857-06189DF4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686D4-4B20-4B13-BA8E-BCCDA5E6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0090B-0B38-4248-979D-D5BE8DF9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2B856-9A86-46EE-A04D-0CB5B6DE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B88-04BA-4DF1-B5AD-026B4BAE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A288D-2271-4380-BA53-34C1B704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B2D9C-A2C1-4D1E-8A36-F5B189C2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FAF8D-4313-47F5-85F3-947364EE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D2F-6F17-455A-8098-F0334346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354-98E3-49FE-919A-760D1A59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9745-069C-46F0-86CD-AE58949D0FF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6FC5-1C84-4231-8959-80B4EBE3536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7F9F-F5DC-43D7-8A3E-A6596F4FEC3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4A64-66DA-4A44-A647-00A8DB82F7A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5437-03D3-429D-A3C0-16D35296279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4A90-AA5C-42AB-B36F-21F5F06A727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689040" y="2425680"/>
            <a:ext cx="74372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tands for itself and for something beyond itself as well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 bald eagle symbolizes the United State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Symbolism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-3517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repetition of the same consonant sounds in a line of poetry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ven silver swans swam”)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lliterati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8080" y="23619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imilarity of ending sounds existing in lines of poetry. Internal: rhyme within the line of poetry. End: rhyme at the end of a line of poetr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Rhym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8080" y="25146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repetition of identical or similar vowel sounds, especially in stressed syllabl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ssonanc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viding human characteristics to a lifeless objec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 (“This poetry gets bored of being alone, it wants to go outdoors to chew on the winds.” “Living Poetry” by Hugo Margen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ersonificati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taphor that is developed over several lines of writing or throughout the poem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80880" y="7621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xtended Metaphor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8080" y="22860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8640" indent="-336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using like or as (as snug as a bug in a rug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68640" indent="-336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Simil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8080" y="25142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notation: attitudes and feelings associated with a word. (thrifty vs. sting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otation:  the dictionary definition of a word (literal mean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219320" y="7621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notation/Denotation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8080" y="251424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</a:t>
            </a: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without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using like or 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Metaphor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33160" y="18288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line of poetry that contains five iambs. “But soft! What light through yonder window break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609480" y="76212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br>
              <a:rPr sz="18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0880" y="20570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small poem that displays the thoughts and feelings of the poet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Lyric Poetry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990720" y="19807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mbination of terms that appears to contradict one another. “jumbo shrimp; stupid genius; small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owd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Oxymor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85800" y="25146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ategies that authors use to use literary devices such as metaphors, simile, repetition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04920" y="76212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br>
              <a:rPr sz="1800"/>
            </a:b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28600" y="4648320"/>
            <a:ext cx="7543800" cy="1295280"/>
          </a:xfrm>
          <a:prstGeom prst="ellips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 your own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7617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 traditional poem that tells a historic story or a popular belief; often deals with heroes, the supernatural, or ancestors </a:t>
            </a:r>
            <a:br>
              <a:rPr sz="28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52480" y="5335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Myth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patterned flow of sound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Rhythm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761760" y="23619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scriptive term used to characterize a person or a th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Epithet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8080" y="1980720"/>
            <a:ext cx="7467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35160" indent="-306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d or group of words which appeal to one or more of the senses: sight, taste, touch, hearing, and smell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Imagery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words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gg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omparison such as love “bursts into bloom.” It does no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rect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te the comparison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38080" y="762120"/>
            <a:ext cx="7620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Implied Metaphor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story poem that often celebrates a hero or lege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dysseus or Her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Epic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808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ds that are pronounced to imitate their sounds (buzz, fizz, click, zoom, chirp)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Onomatopoeia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3:43:08Z</dcterms:created>
  <dc:creator>Tiffany Hope</dc:creator>
  <dc:description/>
  <dc:language>en-US</dc:language>
  <cp:lastModifiedBy>RomaK</cp:lastModifiedBy>
  <dcterms:modified xsi:type="dcterms:W3CDTF">2015-09-04T10:37:33Z</dcterms:modified>
  <cp:revision>20</cp:revision>
  <dc:subject/>
  <dc:title>Slide 1</dc:title>
</cp:coreProperties>
</file>