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98B7-71F0-4DEE-BB13-A451747137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etry 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s for itself and for something beyond itself as well. (The bald eagle symbolizes the United State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bolis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s for itself and for something beyond itself as well. (The bald eagle symbolizes the United States.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bolism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petition of the same consonant sounds in a line of poetry. (seven silver swans swam”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iter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petition of the same consonant sounds in a line of poetry. (seven silver swans swam”)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iter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milarity of ending sounds existing in lines of poetry. Internal: rhyme within the line of poetry. End: rhyme at the end of a line of poet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m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imilarity of ending sounds existing in lines of poetry. Internal: rhyme within the line of poetry. End: rhyme at the end of a line of poe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ym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petition of identical or similar vowel sounds, especially in stressed syll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nanc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petition of identical or similar vowel sounds, especially in stressed syllab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sonanc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ing human characteristics to a lifeless object. (“This poetry gets bored of being alone, it wants to go outdoors to chew on the winds.” “Living Poetry” by Hugo Margen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sonific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ing human characteristics to a lifeless object. (“This poetry gets bored of being alone, it wants to go outdoors to chew on the winds.” “Living Poetry” by Hugo Margen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ific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phor that is developed over several lines of writing or throughout the poem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nded 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phor that is developed over several lines of writing or throughout the poem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ended 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of speech that expresses the comparison of two objects using like or as (as snug as a bug in a ru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using like or as (as snug as a bug in a ru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il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otation: attitudes and feelings associated with a word. (thrifty vs. sting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tation:  the dictionary definition of a word (literal mean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notation/Denot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otation: attitudes and feelings associated with a word. (thrifty vs. sting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notation:  the dictionary definition of a word (literal mean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notation/Denotati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of speech that expresses the comparison of two objects without using like or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without using like or 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of poetry that contains five iambs. “But soft! What light through yonder window brea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mbic Pentame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of poetry that contains five iambs. “But soft! What light through yonder window brea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oem that displays the thoughts and feelings of the poe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yric Poetr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oem that displays the thoughts and feelings of the poet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yric Poetr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bination of terms that appears to contradict one another. “jumbo shrimp; stupid genius; small crow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mo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ombination of terms that appears to contradict one another. “jumbo shrimp; stupid genius; small crow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mo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tegies that authors use to use literary devices such as metaphors, simile, repetition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ative Languag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your own exam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tegies that authors use to use literary devices such as metaphors, simile, repetition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ce your own exam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aditional poem that tells a historic story or a popular belief; often deals with heroes, the supernatural, or ancestor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raditional poem that tells a historic story or a popular belief; often deals with heroes, the supernatural, or ancestors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yth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tterned flow of soun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hythm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atterned flow of sound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ythm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ptive term used to characterize a person or a 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the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ve term used to characterize a person or a 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the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 or group of words which appeal to one or more of the senses: sight, taste, touch, hearing, and smell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r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or group of words which appeal to one or more of the senses: sight, taste, touch, hearing, and smell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r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words to suggest the comparison such as love “bursts into bloom.” It does not directly state the compari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ed Metaph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words to suggest the comparison such as love “bursts into bloom.” It does not directly state the comparison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ied Metaphor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ory poem that often celebrates a hero or legend (Odysseus or Hercu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ory poem that often celebrates a hero or legend (Odysseus or Hercul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c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are pronounced to imitate their sounds (buzz, fizz, click, zoom, chirp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omatopoeia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s that are pronounced to imitate their sounds (buzz, fizz, click, zoom, chirp)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omatopoeia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377-B218-4A36-B07D-ECEC4976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5D4B-5073-4254-A048-6C77C26B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2033-8885-4A20-841C-27B9BA30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5331-1B1E-4225-BAD2-D798852C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7D53D-7B54-4741-82A6-0983A338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ED47-2741-4D69-8900-6DCD6619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B617-5F32-4347-B1D7-F5931D0A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4140-47FF-4D32-A999-94D45D37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0E76-8668-4EC2-A70A-0DC60190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9250-4D1F-44E2-8D76-9381C0CB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C452-8AA7-4CA5-8550-EEC357C1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29E5-1BC2-47B8-9B01-82CAA182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7454-53A8-4B30-AEE8-10CC183D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67DC-FD9A-4BBF-9DB9-9676724E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74EA-E107-44EA-8385-C19F5E67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A6F0-BA2F-431C-9330-230FE6AD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9EE1-9C50-44C2-8E6B-92DEBF19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A73D8-DF96-4084-A5F4-D812617E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4D9AE-10A5-4669-B7FD-A3CE7EE5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E6353-CCB9-430A-8DE7-41847F00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14F82-15F5-4A5B-ABCA-6DA13FA7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C4F56-6B38-4946-B839-121BCE48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8427-1A8B-4048-B5B7-32EE981B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DFE1-E71F-4BB9-AC98-7A1F9D06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DAAF1-1D3F-4A0F-AB4B-83E06DB4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09286-44EF-48D5-85FC-230B6724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E312E-4494-4978-8709-3C26101D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5A01C-D2FE-479A-BAD0-E936DB8F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29195-101C-4414-ADF5-439EFFDF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B164B-C90C-4C4A-9B94-62864370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F44A4-C989-44C9-A368-10016AA0D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42BB-38FF-4E65-977A-158248D5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7F113-E998-453A-8C33-AD932E50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136-9F36-4E6E-A0F3-51EE6F87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71678-B1EB-4CC6-A3F9-A8B137BE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6018-BA28-4660-BBF7-634FE474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33F39-DD4B-4DD4-862E-99965AE0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CF63F-E3E0-4D3B-B910-765C1FD4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13D26-24FC-448D-8A8B-F291E9DC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9996F-2D98-4967-8771-56864331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DB922-7B29-4F49-A5F3-D0FAA64E1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7C1D4-CE70-4CBC-A03F-B51929D6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78386-6BCF-422F-9DAA-36D733175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BB51D-B936-4907-A8AB-601B4C2B1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5B9-E7A9-4F4D-9DEE-7EC52B06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BB51B-33AC-47EC-8BB8-BC161514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19AF4-4779-4DD6-B52B-64A4CA22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71AE1-9B89-45C6-8D91-7A334469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24B6A-3423-4DD8-874E-D2D8DEB3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E3EB4-3BDA-448F-890E-6C5885A7D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10DD3-FEA9-49A5-8662-94EC8E1E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DB9E3-CD32-46A7-BB9A-A6ABFB0D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A83D34-6A6C-4B2B-8C22-34B16F84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E36AE-EB22-4A13-8DFD-BA5E8551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083BF-2A04-4C72-B193-61C19676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7F4-AB7E-47ED-805A-B995082E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95C9B-420A-4784-B6F6-56516EC2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A4F73-2849-4972-8A34-080C01C7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74DC4-1451-46DB-B19B-931A7B51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89331-55F1-48B6-BDF4-9675E11A5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56FB7-4CCE-41E8-8423-6A40BE03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0B539-8B2A-44DA-A399-4C498E89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65414-ED74-4CA5-AB30-6CA9C0D0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D33AF-05FB-4225-956D-4A47ABDC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0A447-3CA3-4121-A9A9-2B198B34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C8221-6D73-4C8C-A151-FCC9B928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788-7710-4183-8A10-283B2084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52866-1A70-4098-834C-2E6FFB94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C2E3E-BF66-4B3A-B657-542E5DE0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8A64A4-1111-4D8B-B13B-BCBD0033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BE31-EC4E-406E-9B12-D25B8C0F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275-BF1D-41E1-BF83-A224FBEE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F01B-E41B-4DA2-AFD5-B1237B09373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2844-2329-46E4-898E-5A2DC0EE539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C5A2-0E6A-463A-9326-353F79D040E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4F38-FA44-4661-95EE-BF7773512E3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EC9E-B70B-490D-BA42-77983EF6C58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3363-BECA-4B29-93C7-BA29799C2EF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689040" y="2425680"/>
            <a:ext cx="743724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tands for itself and for something beyond itself as well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The bald eagle symbolizes the United States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Symbolism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85200" indent="-3517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e repetition of the same consonant sounds in a line of poetry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even silver swans swam”)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lliterati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838080" y="23619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imilarity of ending sounds existing in lines of poetry. Internal: rhyme within the line of poetry. End: rhyme at the end of a line of poetr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Rhym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8080" y="251460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he repetition of identical or similar vowel sounds, especially in stressed syllabl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Assonanc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viding human characteristics to a lifeless object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. (“This poetry gets bored of being alone, it wants to go outdoors to chew on the winds.” “Living Poetry” by Hugo Margen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Personificati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38080" y="1905120"/>
            <a:ext cx="7467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81240" indent="-34812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etaphor that is developed over several lines of writing or throughout the poem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380880" y="76212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Extended Metaphor</a:t>
            </a: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838080" y="22860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8640" indent="-33660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using like or as (as snug as a bug in a rug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68640" indent="-336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Simile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838080" y="251424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notation: attitudes and feelings associated with a word. (thrifty vs. sting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notation:  the dictionary definition of a word (literal mean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0400" indent="-3747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219320" y="7621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notation/Denotation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838080" y="2514240"/>
            <a:ext cx="7467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igure of speech that expresses the comparison of two objects </a:t>
            </a:r>
            <a:r>
              <a:rPr b="1" lang="en-US" sz="5000" spc="-1" strike="noStrike" u="sng">
                <a:solidFill>
                  <a:srgbClr val="ffffff"/>
                </a:solidFill>
                <a:uFillTx/>
                <a:latin typeface="Arial"/>
              </a:rPr>
              <a:t>without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 using like or a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Metaphor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533160" y="1828800"/>
            <a:ext cx="7467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line of poetry that contains five iambs. “But soft! What light through yonder window break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609480" y="762120"/>
            <a:ext cx="792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Iambic Pentameter</a:t>
            </a:r>
            <a:br>
              <a:rPr sz="18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0880" y="205704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small poem that displays the thoughts and feelings of the poet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Lyric Poetry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990720" y="19807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76920" indent="-34416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mbination of terms that appears to contradict one another. “jumbo shrimp; stupid genius; small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owd</a:t>
            </a:r>
            <a:r>
              <a:rPr b="0" lang="en-US" sz="5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Oxymoron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685800" y="25146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ategies that authors use to use literary devices such as metaphors, simile, repetition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04920" y="76212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Arial"/>
              </a:rPr>
              <a:t>Figurative Language</a:t>
            </a:r>
            <a:br>
              <a:rPr sz="1800"/>
            </a:b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4"/>
          <p:cNvSpPr/>
          <p:nvPr/>
        </p:nvSpPr>
        <p:spPr>
          <a:xfrm>
            <a:off x="228600" y="4648320"/>
            <a:ext cx="7543800" cy="1295280"/>
          </a:xfrm>
          <a:prstGeom prst="ellipse">
            <a:avLst/>
          </a:prstGeom>
          <a:solidFill>
            <a:srgbClr val="6ea0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ce your own examp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761760" y="213372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0400" indent="-37476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 traditional poem that tells a historic story or a popular belief; often deals with heroes, the supernatural, or ancestors </a:t>
            </a:r>
            <a:br>
              <a:rPr sz="28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52480" y="5335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Myth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patterned flow of sound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Rhythm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761760" y="236196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escriptive term used to characterize a person or a th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Epithet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38080" y="1980720"/>
            <a:ext cx="7467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35160" indent="-30600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d or group of words which appeal to one or more of the senses: sight, taste, touch, hearing, and smell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Imagery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words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ugge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comparison such as love “bursts into bloom.” It does no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rect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tate the comparison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38080" y="762120"/>
            <a:ext cx="7620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Implied Metaphor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38080" y="2514240"/>
            <a:ext cx="7467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 story poem that often celebrates a hero or legen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Odysseus or Hercu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752480" y="762120"/>
            <a:ext cx="5867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Epic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38080" y="1828800"/>
            <a:ext cx="746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ords that are pronounced to imitate their sounds (buzz, fizz, click, zoom, chirp).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371600" y="762120"/>
            <a:ext cx="647712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500" spc="-1" strike="noStrike">
                <a:solidFill>
                  <a:srgbClr val="ffffff"/>
                </a:solidFill>
                <a:latin typeface="Arial"/>
              </a:rPr>
              <a:t>Onomatopoeia</a:t>
            </a:r>
            <a:br>
              <a:rPr sz="1800"/>
            </a:br>
            <a:endParaRPr b="0" lang="en-US" sz="7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03:43:08Z</dcterms:created>
  <dc:creator>Tiffany Hope</dc:creator>
  <dc:description/>
  <dc:language>en-US</dc:language>
  <cp:lastModifiedBy>RomaK</cp:lastModifiedBy>
  <dcterms:modified xsi:type="dcterms:W3CDTF">2015-09-04T10:37:33Z</dcterms:modified>
  <cp:revision>20</cp:revision>
  <dc:subject/>
  <dc:title>Slide 1</dc:title>
</cp:coreProperties>
</file>