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A6F1-3110-4EBC-AD48-F63D637795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try 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your own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ptive term used to characterize a person or a 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202-2803-4ACB-8565-CDBB8CA3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DC8-4F7B-457A-8A2E-32B7D3D6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D80-47E4-4C4B-82D7-2A37A8BD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580-6A1F-4E12-8346-3A821352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5C24-D6D4-4C29-9413-488BDD3C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F149-20E1-451B-951A-1E8C7516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4F78-6AF9-477A-8DDF-21DE4904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B047-1342-46C4-A3D0-15FBB80E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CF4C-9455-4961-943A-F56D922A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74D6-88D5-4257-B07A-588B500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F918-7F17-45D5-A335-B2F40E4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1E9-AA33-434A-B56D-8288E751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928B-CA52-480F-96B7-30BF651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5F92-FF24-40CD-93BF-5BF7E91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A025-8D92-49E5-AC2B-51FFCBDC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104A-E72A-4EA3-A637-02DDB9FC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3592-FB5D-4A54-A160-FC893A43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80B3-8819-47DC-8922-216E0F53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1F90-1227-4B95-AD35-C3D289EE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A201-F21C-47B0-BFCA-671ADCB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EB2B-F9CF-4BBF-A2E4-5B76469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8F59-81D9-46BC-914A-FE363D85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254-F42E-4363-8EAB-EDE9E743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3386-B44C-4B29-B849-3F45351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6B8B-1DFD-4634-BCFF-73229782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C75C-7BF9-4642-841A-E6F00F8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67B8-696C-4A54-BF9D-1232B65B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D38B-7E7F-4AD7-B78D-4938E120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2ABD4-5966-406E-8B03-8EA7B8AB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7BB0-A1A8-4D0C-AE65-BDD74BEB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B6FC4-F952-411D-BAB8-E5D0EA24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7401C-567A-45DA-8B93-8EE02B68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63D82-C8A9-487D-9100-09400834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325-8745-4063-9D7D-AA8F981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9DA6-F8BF-4C2A-ACE9-245D6300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CEDB4-6E30-446C-BC1F-85C8A9E9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0EDD-FCDC-4188-8E87-B239CEA3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EA7B6-E55B-417D-84B7-9D9184A4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8CD0-733E-4223-832E-586D38CD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462A-8884-4318-9CD1-425DDFB8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A22C-F633-4F26-B770-8F6C4393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E0AC7-E191-48FB-A120-253B99B8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E3625-C2CC-455A-A89A-87F98036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217D9-4E5C-4FE0-95A6-83601C75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C4E-4590-403F-A140-B078FE1C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1472-8ACE-419E-8ACC-653CE639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22BC-5893-4FF1-BE10-C26DF454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4370-FD2D-4F73-828B-6712968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2E48-E8EB-4BDC-BD29-0C09E82A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502F2-5E55-4F9E-9479-69835A2B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84325-921E-4E4E-93BE-8CC77CC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B545-BA48-4F62-9516-2ED12759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8649-E98D-4F1A-A213-E3C11D1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A3B65-1DBF-49B0-A0B9-6CD6AAD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B5216-023A-46B4-91D7-3AAFA00C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577-42EB-4DA8-99BC-79E9DDE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2526C-8062-4AA5-ABA2-89BDDD1D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21F2C-DF70-4BA7-A04D-71481439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16DE7-638C-41C7-A191-2AEA0ED7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98E75-8A84-47CD-8D1A-F913E42C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BAA3-1D9F-4E3E-A0F1-7D82B427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00FB6-7DD0-40F8-B8D3-12576ED4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4F569-8110-4A8E-9DB3-F3195CF8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8726-0A03-49C4-90CC-E894A278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AFFB8-0FB8-4BD3-99B5-BF4D15B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54490-0126-4FAE-ABE0-F2C5B115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229-234B-4A7C-8CA9-3E9744F3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909FA-D427-49D4-8F6F-3D7F3E80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A2399-21C9-4A69-91A7-46CD0BCD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DCE7C-ED6C-4E2D-93B3-4653B1DC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929-AFFE-4911-8F6D-294464E7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691-A699-4462-A3FB-4590BCBF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E5AA-379E-4B9F-BB46-15AB9C3DC59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9453-7E36-422C-BCB8-B9BD66B900E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7BFC-EBCF-4BA3-8AB0-CE60C13EE38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8EDF-D822-4645-A9F2-EC5B92ACA42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6F61-061A-4258-908D-8CC01B3A414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1E35-2EB4-4A82-A8D0-20F8014CB82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89040" y="2425680"/>
            <a:ext cx="7437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bald eagle symbolizes the United Stat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ven silver swans swam”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8080" y="23619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25146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viding human characteristics to a lifeless obj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(“This poetry gets bored of being alone, it wants to go outdoors to chew on the winds.” “Living Poetry” by Hugo Margen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088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8080" y="22860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36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2514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5142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using like or 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16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09480" y="76212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8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0880" y="20570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19807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owd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5800" y="2514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04920" y="762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800"/>
            </a:b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28600" y="4648320"/>
            <a:ext cx="7543800" cy="129528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17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28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52480" y="5335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61760" y="23619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198072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35160" indent="-306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word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g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mparison such as love “bursts into bloom.” It does no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 the comparis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38080" y="762120"/>
            <a:ext cx="7620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tory poem that often celebrates a hero or lege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dysseus or Her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3:43:08Z</dcterms:created>
  <dc:creator>Tiffany Hope</dc:creator>
  <dc:description/>
  <dc:language>en-US</dc:language>
  <cp:lastModifiedBy>RomaK</cp:lastModifiedBy>
  <dcterms:modified xsi:type="dcterms:W3CDTF">2015-09-04T10:37:33Z</dcterms:modified>
  <cp:revision>20</cp:revision>
  <dc:subject/>
  <dc:title>Slide 1</dc:title>
</cp:coreProperties>
</file>