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9CB2-30BB-4048-AB42-CB1956A09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834-4B7E-4B07-A0D6-D944BDA8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A0D-3019-4A3D-A7CD-683BA667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401-C4B0-4032-AD4C-02504290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98C-1126-4E77-9BCE-9FFE6592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8C27-2DD5-4FC2-B0D4-AC773726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4151-D409-4CBB-814F-F125470E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2893-FCF0-4AF2-BAAB-C20FD01F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569A-13DB-45BC-BCB6-05959D5D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1193-1E85-4CC8-A1BE-6020DA42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053C-3726-443D-9691-E701CFF4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0859-59D2-4DA9-B636-1633C0CB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5EE-9C65-4115-BA66-CF2E11A7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3995-CE8A-4926-A619-A59AC34A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5190-C533-4ABE-8B7A-6612AAF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6FE9-4866-4CE1-B345-427F8E24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160E-1F3F-4453-AA59-17377D55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B1ED-CFBC-4BDC-A7B8-4E1C1A29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72B-38CA-4B84-99D3-CB4BE144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F09-7079-4FE2-B0D1-972B3515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0FC-FDD0-44DE-A398-FCD4A66F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AD8-A052-41AF-8A0D-A20DAAD1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B42-538B-4537-B280-1817B0B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546-36B5-41A9-AEDB-C30B3256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7A3-A3C5-4A1B-B092-D0A57F88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B70E-1C74-405A-A74C-77C5F339D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D52F-5A95-4CF9-8330-93C678FEE73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IC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I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Mr. Wallock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desert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WIND3063.WAV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ar_theft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OLI3063.WAV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 absent person or inanimate object is directly spoken to as though they were present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utus: “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Ceasa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, now be still.  I killed not thee with half so good a will.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58" name="Picture 5" descr="dagger1"/>
          <p:cNvPicPr/>
          <p:nvPr/>
        </p:nvPicPr>
        <p:blipFill>
          <a:blip r:embed="rId3"/>
          <a:stretch/>
        </p:blipFill>
        <p:spPr>
          <a:xfrm>
            <a:off x="1920960" y="2895480"/>
            <a:ext cx="2136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9"/>
          <p:cNvSpPr/>
          <p:nvPr/>
        </p:nvSpPr>
        <p:spPr>
          <a:xfrm>
            <a:off x="198108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810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BEETHOVEN'S FIFTH SYMPHONY.WAV" descr=""/>
          <p:cNvPicPr/>
          <p:nvPr/>
        </p:nvPicPr>
        <p:blipFill>
          <a:blip r:embed="rId4"/>
          <a:stretch/>
        </p:blipFill>
        <p:spPr>
          <a:xfrm>
            <a:off x="43434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6" descr="hands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1" name="Picture 5" descr="beowul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76" name="Picture 5" descr="leaves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Picture 5" descr="Guillotine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2" name="Picture 5" descr="idiot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93" name="DUDE3079.WAV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9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680" y="3504960"/>
            <a:ext cx="7010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A series of events that present and resolve a conflict. The story being told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990720"/>
            <a:ext cx="3886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The plot of “The Most Dangerous Game” is that Rainsford is being hunted by General Zaroff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438280" y="45720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8" name="Picture 5" descr="dangerouss"/>
          <p:cNvPicPr/>
          <p:nvPr/>
        </p:nvPicPr>
        <p:blipFill>
          <a:blip r:embed="rId1"/>
          <a:stretch/>
        </p:blipFill>
        <p:spPr>
          <a:xfrm>
            <a:off x="5859360" y="2666880"/>
            <a:ext cx="26593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goliath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The vantage point from which an author presents the action in a work.</a:t>
            </a: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1st person-tale related by a character in the story.  “I or me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3rd person-story told by someone not participating in the plot.  “he, she, they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he repetition of  identical sounds at the ends of lines of poetry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7" name="Picture 5" descr="eagle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ime (both the time of day and period in history) and place in which the action of a literary work takes place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tiger2"/>
          <p:cNvPicPr/>
          <p:nvPr/>
        </p:nvPicPr>
        <p:blipFill>
          <a:blip r:embed="rId1"/>
          <a:stretch/>
        </p:blipFill>
        <p:spPr>
          <a:xfrm>
            <a:off x="838080" y="2879640"/>
            <a:ext cx="4267440" cy="2987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0" y="2590560"/>
            <a:ext cx="3581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iger! Tiger! burning bright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In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forests of the night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LION3110.WAV" descr=""/>
          <p:cNvPicPr/>
          <p:nvPr/>
        </p:nvPicPr>
        <p:blipFill>
          <a:blip r:embed="rId4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8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HORS3110.WAV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orsegallop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8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WIND3110.WAV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8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783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8" name="Picture 5" descr="eagle-eating-binladen001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39" name="GOOD3110.WAV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6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44" name="Picture 5" descr="Silence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45" name="SHHH3125.WAV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23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1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52" name="OSCI3125.WAV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butterfly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Picture 5" descr="peir11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58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5" descr="9-01_Mockingbird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Comparing two very dissimilar things.  Usually involves cleverness and ingenuit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Our love is like parallel lines”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9" name="Picture 5" descr="lines5"/>
          <p:cNvPicPr/>
          <p:nvPr/>
        </p:nvPicPr>
        <p:blipFill>
          <a:blip r:embed="rId1"/>
          <a:stretch/>
        </p:blipFill>
        <p:spPr>
          <a:xfrm>
            <a:off x="4995720" y="3200400"/>
            <a:ext cx="3386160" cy="3124080"/>
          </a:xfrm>
          <a:prstGeom prst="rect">
            <a:avLst/>
          </a:prstGeom>
          <a:ln w="0">
            <a:noFill/>
          </a:ln>
        </p:spPr>
      </p:pic>
      <p:sp>
        <p:nvSpPr>
          <p:cNvPr id="270" name="Comment 6"/>
          <p:cNvSpPr/>
          <p:nvPr/>
        </p:nvSpPr>
        <p:spPr>
          <a:xfrm>
            <a:off x="20520" y="15840"/>
            <a:ext cx="2457720" cy="8625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a simil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term naming an object is substituted for another word with which it is closely associated with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1143000" y="533520"/>
            <a:ext cx="7162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Only through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swea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of your brow can you achieve success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1143000" y="53352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Picture 6" descr="lance"/>
          <p:cNvPicPr/>
          <p:nvPr/>
        </p:nvPicPr>
        <p:blipFill>
          <a:blip r:embed="rId1"/>
          <a:stretch/>
        </p:blipFill>
        <p:spPr>
          <a:xfrm>
            <a:off x="5334120" y="2819520"/>
            <a:ext cx="2971800" cy="3606840"/>
          </a:xfrm>
          <a:prstGeom prst="rect">
            <a:avLst/>
          </a:prstGeom>
          <a:ln w="0">
            <a:noFill/>
          </a:ln>
        </p:spPr>
      </p:pic>
      <p:sp>
        <p:nvSpPr>
          <p:cNvPr id="276" name="Comment 8"/>
          <p:cNvSpPr/>
          <p:nvPr/>
        </p:nvSpPr>
        <p:spPr>
          <a:xfrm>
            <a:off x="26640" y="15840"/>
            <a:ext cx="2829240" cy="70776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eat” stands for hard work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friends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angryface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RomaK</cp:lastModifiedBy>
  <dcterms:modified xsi:type="dcterms:W3CDTF">2015-09-04T10:37:17Z</dcterms:modified>
  <cp:revision>45</cp:revision>
  <dc:subject/>
  <dc:title>POETIC TERMS</dc:title>
</cp:coreProperties>
</file>