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drumroll.wav" ContentType="audio/x-wav"/>
  <Override PartName="/ppt/media/image15.png" ContentType="image/png"/>
  <Override PartName="/ppt/media/image24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FBA4-DFE3-4150-AD3E-E35E193FE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ETIC TERM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glish III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r. Wallo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IC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Wal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great exaggeration to emphasize strong feeling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exaggeration to emphasize strong fe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will love you until all the seas go d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love you until all the seas go d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uman characteristics are given to non-human animals, objects, or idea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characteristics are given to non-human animals, objects, or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y stereo walked out of my ca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stereo walked out of my c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 absent person or inanimate object is directly spoken to as though they were prese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bsent person or inanimate object is directly spoken to as though they were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rutus: “Ceasar, now be still.  I killed not thee with half so good a will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tus: “Ceasar, now be still.  I killed not thee with half so good a wil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part stands for the whole or vice versa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stands for the whole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hands that created the work of art were masterfu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nds that created the work of art were master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ints given to the reader of what is to com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 given to the reader of what is to 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stalwart hero was doomed to suffer the destined end of his days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lwart hero was doomed to suffer the destined end of his day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reference to a historical figure, place, or eve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erence to a historical figure, place, or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use of concrete details that appeal to the five sense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concrete details that appeal to the five s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ld, wet leaves floating on moss-colored wat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, wet leaves floating on moss-colore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contrast between what is said and what is meant.  Also, when things turn out different than what is expected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 between what is said and what is meant.  Also, when things turn out different than what is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reacherous instrument is in thy hand, unbated and envenomed.  The foul practice has turned itself on me.”  Laert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acherous instrument is in thy hand, unbated and envenomed.  The foul practice has turned itself on me.”  Lae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overall atmosphere or prevailing emotional feeling of a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erall atmosphere or prevailing emotional feeling of a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t was the best of times, it was the worst of times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the best of times, it was the worst of tim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eemingly self-contradictory statement that still is tru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emingly self-contradictory statement that still is tr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ore we learn, the less we know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we learn, the less we kn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eries of events that present and resolve a conflict. The story being told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es of events that present and resolve a conflict. The story being t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plot of “The Most Dangerous Game” is that Rainsford is being hunted by General Zaroff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ot of “The Most Dangerous Game” is that Rainsford is being hunted by General Zar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eams competed in a David and Goliath struggl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ams competed in a David and Goliath strug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vantage point from which an author presents the action in a work. 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ntage point from which an author presents the action in a wor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st person-tale related by a character in the story.  “I or m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rd person-story told by someone not participating in the plot.  “he, she, they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person-tale related by a character in the story.  “I or 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person-story told by someone not participating in the plot.  “he, she, the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 identical sounds at the ends of lines of poet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 identical sounds at the ends of lines of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 clasps the crag with crooked hand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lose to the sun in lonely land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m “The Eagl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lasps the crag with crooked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 sun in lonely lan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“The Eag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identical sounds within a line of poet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identical sounds within a line of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three shall flee across the sea to Italy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ld infinity in the palm of your han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d eternity in an hour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hree shall flee across the sea to Ital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infinity in the palm of your h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ternity in an hou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lant rhyme or half rhyme occurs when the vowel sounds are not quite identica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nt rhyme or half rhyme occurs when the vowel sounds are not quite 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d on that cheek and o’er that brow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mind at peace with all below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n that cheek and o’er that bro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nd at peace with all belo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ime (both the time of day and period in history) and place in which the action of a literary work takes plac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(both the time of day and period in history) and place in which the action of a literary work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ger! Tiger! burning brigh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 the forests of the night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ger! Tiger! burning b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rests of the n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broad comparison between two basically different things that have some points in comm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 comparison between two basically different things that have some points in 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ating of a sound, word, phrase, or more in a given literary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ating of a sound, word, phrase, or more in a given liter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sprang to the stirrup, and Jarvis, and he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galloped, Derrick galloped, we galloped all thre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prang to the stirrup, and Jarvis, and h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galloped, Derrick galloped, we galloped all thre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consonant sounds at the beginnings of wor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consonant sounds at the beginnings of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wiftly, swiftly flew the ship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ftly, swiftly flew the ship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similar vowel sounds followed by different consona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similar vowel sounds followed by different conson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. . .that hoard, and sleep, and feed, and know not me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that hoard, and sleep, and feed, and know not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consonant sounds that are preceded by different vowel sou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consonant sounds that are preceded by different vowel s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erever we g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lence will fall like dew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ver we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ence will fall like dew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use of words whose sounds suggest the sounds made by objects or activitie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words whose sounds suggest the sounds made by objects or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lind eyes could blaze like meteor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ther examples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uzz, hum, kis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ind eyes could blaze like meteo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zz, hum, ki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pirations toward space are not new.  Consider the worm that becomes a butterfl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irations toward space are not new.  Consider the worm that becomes a butterf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omething concrete, such as an object, action, character, or scene that stands for something abstract such as a concept or an idea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concrete, such as an object, action, character, or scene that stands for something abstract such as a concept or a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 not go gentle into that good nigh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ge, Rage against the dying of the light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oth phrases are symbols th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and for death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go gentle into that good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e, Rage against the dying of the l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hrases are symbol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 for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ain idea or underlying meaning of a literary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in idea or underlying meaning of a liter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n’t judge a man until you’ve walked a mile in his shoe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judge a man until you’ve walked a mile in his sho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aring two very dissimilar things.  Usually involves cleverness and ingenuit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ing two very dissimilar things.  Usually involves cleverness and ingenu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love is like parallel line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is also a simil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ove is like parallel lin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lso a sim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term naming an object is substituted for another word with which it is closely associated with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rm naming an object is substituted for another word with which it is closely associat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ly through the sweat of your brow can you achieve succes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weat” stands for hard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rough the sweat of your brow can you achieve succ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eat” stands for hard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pair of rhymed verse lines that contain a complete though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rhymed verse lines that contain a complete tho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ut if the while I think on thee, dear friend,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 losses are restor’d and sorrows end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the while I think on thee, dear frien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osses are restor’d and sorrows en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direct comparison between two basically different things.  A simile is introduced by the words “like” or “as”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rect comparison between two basically different things.  A simile is introduced by the words “like” or “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y love is like a red, red ros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love is like a red, red r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 implied comparison between two basically different things.  Is not introduced with the words “like” or “as”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lied comparison between two basically different things.  Is not introduced with the words “like” or “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is eyes were daggers that cut right through m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eyes were daggers that cut right through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9A1-0917-4B37-A30B-EA04542F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2C9-EF4E-4802-97CF-3D219C18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7F7E-1C88-4FF1-939E-FFCCA237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1C0-436D-4912-BFDB-57FBE62A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3E1D-0522-4C47-80FC-85516C4F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FF72-7DC7-4BC5-9681-EF39BD8E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537E-0EB5-422E-B683-CD42C41E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0BC4-8305-42E0-B5FE-09D26D59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BAA1-D637-4495-AAB3-0EC06C20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E0F0-0C14-4779-8C05-F70582E9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6590-6C95-4389-AC5B-8C04E5FA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FF19-69EC-4B4D-814B-1EC896F7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C88A-FDF9-4433-9801-5DFED6A1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D09C-719F-41D4-8353-A0984BD7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9080-819D-461E-B1ED-9465D47B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1218-88CB-4ACB-8D1A-05494202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3083-E37C-4FB8-9F1B-38699704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AED-69A3-49DC-8BE3-F612DF41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640-97B5-4ADD-8EF4-3F046E78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3303-5A0F-4E64-9159-768FE054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80D1-057B-42C7-854E-6A074478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04E-ADB4-4E8F-9774-60B290FE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E8F-A817-4CFB-81FD-C9C5FE2F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9E7-1C88-45A4-B7C5-3CF40AB6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C4C0-AF67-41AE-BCDC-673A07BD2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323E-4DCD-4A56-B874-967F1B6BE7A8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Tahoma"/>
              </a:rPr>
              <a:t>POETIC TERM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English III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Mr. Wallock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FOREBODING 2.WAV" descr=""/>
          <p:cNvPicPr/>
          <p:nvPr/>
        </p:nvPicPr>
        <p:blipFill>
          <a:blip r:embed="rId1"/>
          <a:stretch/>
        </p:blipFill>
        <p:spPr>
          <a:xfrm>
            <a:off x="4876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great exaggeration to emphasize strong feeling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791320" y="3124080"/>
            <a:ext cx="2286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I will love you until all the seas go dry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5" descr="desert"/>
          <p:cNvPicPr/>
          <p:nvPr/>
        </p:nvPicPr>
        <p:blipFill>
          <a:blip r:embed="rId1"/>
          <a:stretch/>
        </p:blipFill>
        <p:spPr>
          <a:xfrm>
            <a:off x="1066680" y="3440160"/>
            <a:ext cx="4191120" cy="280836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</p:pic>
      <p:pic>
        <p:nvPicPr>
          <p:cNvPr id="147" name="WIND3063.WAV" descr=""/>
          <p:cNvPicPr/>
          <p:nvPr/>
        </p:nvPicPr>
        <p:blipFill>
          <a:blip r:embed="rId2"/>
          <a:stretch/>
        </p:blipFill>
        <p:spPr>
          <a:xfrm>
            <a:off x="44956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Human characteristics are given to non-human animals, objects, or idea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971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My stereo walked out of my car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2" name="Picture 5" descr="car_theft"/>
          <p:cNvPicPr/>
          <p:nvPr/>
        </p:nvPicPr>
        <p:blipFill>
          <a:blip r:embed="rId1"/>
          <a:stretch/>
        </p:blipFill>
        <p:spPr>
          <a:xfrm>
            <a:off x="5257800" y="2666880"/>
            <a:ext cx="2928960" cy="3867120"/>
          </a:xfrm>
          <a:prstGeom prst="rect">
            <a:avLst/>
          </a:prstGeom>
          <a:ln w="0">
            <a:noFill/>
          </a:ln>
        </p:spPr>
      </p:pic>
      <p:pic>
        <p:nvPicPr>
          <p:cNvPr id="153" name="POLI3063.WAV" descr=""/>
          <p:cNvPicPr/>
          <p:nvPr/>
        </p:nvPicPr>
        <p:blipFill>
          <a:blip r:embed="rId2"/>
          <a:stretch/>
        </p:blipFill>
        <p:spPr>
          <a:xfrm>
            <a:off x="48006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n absent person or inanimate object is directly spoken to as though they were present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752480" y="914400"/>
            <a:ext cx="56390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POSTROP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3276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rutus: “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Ceasar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, now be still.  I killed not thee with half so good a will.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1752480" y="914400"/>
            <a:ext cx="56390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POSTROP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58" name="Picture 5" descr="dagger1"/>
          <p:cNvPicPr/>
          <p:nvPr/>
        </p:nvPicPr>
        <p:blipFill>
          <a:blip r:embed="rId3"/>
          <a:stretch/>
        </p:blipFill>
        <p:spPr>
          <a:xfrm>
            <a:off x="1920960" y="2895480"/>
            <a:ext cx="21366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Line 9"/>
          <p:cNvSpPr/>
          <p:nvPr/>
        </p:nvSpPr>
        <p:spPr>
          <a:xfrm>
            <a:off x="1981080" y="2895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1981080" y="28954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1" name="BEETHOVEN'S FIFTH SYMPHONY.WAV" descr=""/>
          <p:cNvPicPr/>
          <p:nvPr/>
        </p:nvPicPr>
        <p:blipFill>
          <a:blip r:embed="rId4"/>
          <a:stretch/>
        </p:blipFill>
        <p:spPr>
          <a:xfrm>
            <a:off x="43434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entr" presetID="7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66680" y="396216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Tahoma"/>
              </a:rPr>
              <a:t>A part stands for the whole or vice versa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The </a:t>
            </a:r>
            <a:r>
              <a:rPr b="0" lang="en-US" sz="4000" spc="-1" strike="noStrike" u="sng">
                <a:solidFill>
                  <a:srgbClr val="9933ff"/>
                </a:solidFill>
                <a:uFillTx/>
                <a:latin typeface="Tahoma"/>
              </a:rPr>
              <a:t>hands</a:t>
            </a: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 that created the work of art were masterful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6" descr="hands"/>
          <p:cNvPicPr/>
          <p:nvPr/>
        </p:nvPicPr>
        <p:blipFill>
          <a:blip r:embed="rId1"/>
          <a:stretch/>
        </p:blipFill>
        <p:spPr>
          <a:xfrm>
            <a:off x="4800600" y="2913120"/>
            <a:ext cx="3857760" cy="3487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Hints given to the reader of what is to com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talwart hero was doomed to suffer the destined end of his day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1" name="Picture 5" descr="beowulf"/>
          <p:cNvPicPr/>
          <p:nvPr/>
        </p:nvPicPr>
        <p:blipFill>
          <a:blip r:embed="rId1"/>
          <a:stretch/>
        </p:blipFill>
        <p:spPr>
          <a:xfrm>
            <a:off x="4800600" y="3352680"/>
            <a:ext cx="380988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A reference to a historical figure, place, or event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2133720" y="1295280"/>
            <a:ext cx="4876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837720" y="3429000"/>
            <a:ext cx="7696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The use of concrete details that appeal to the five senses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105520" y="3504960"/>
            <a:ext cx="3504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Cold, wet leaves floating on moss-colored water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76" name="Picture 5" descr="leaves"/>
          <p:cNvPicPr/>
          <p:nvPr/>
        </p:nvPicPr>
        <p:blipFill>
          <a:blip r:embed="rId3"/>
          <a:stretch/>
        </p:blipFill>
        <p:spPr>
          <a:xfrm>
            <a:off x="914400" y="304812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77" name="POND CREATURES 1.WAV" descr=""/>
          <p:cNvPicPr/>
          <p:nvPr/>
        </p:nvPicPr>
        <p:blipFill>
          <a:blip r:embed="rId4"/>
          <a:stretch/>
        </p:blipFill>
        <p:spPr>
          <a:xfrm>
            <a:off x="48006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contrast between what is said and what is meant.  Also, when things turn out different than what is expected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828800" y="533520"/>
            <a:ext cx="57913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66688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he treacherous instrument is in thy hand, unbated and envenomed.  The foul practice has turned itself on me.”  Laert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828800" y="533520"/>
            <a:ext cx="5791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2" name="bard4.avi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9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Tahoma"/>
              </a:rPr>
              <a:t>The overall atmosphere or prevailing emotional feeling of a work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1981080" y="762120"/>
            <a:ext cx="5334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It was the best of times, it was the worst of time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1981080" y="457200"/>
            <a:ext cx="5334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7" name="Picture 5" descr="Guillotine"/>
          <p:cNvPicPr/>
          <p:nvPr/>
        </p:nvPicPr>
        <p:blipFill>
          <a:blip r:embed="rId1"/>
          <a:stretch/>
        </p:blipFill>
        <p:spPr>
          <a:xfrm>
            <a:off x="4724280" y="3200400"/>
            <a:ext cx="4038840" cy="3086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A seemingly self-contradictory statement that still is true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486400" y="3048120"/>
            <a:ext cx="2819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The more we learn, the less we know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92" name="Picture 5" descr="idiot"/>
          <p:cNvPicPr/>
          <p:nvPr/>
        </p:nvPicPr>
        <p:blipFill>
          <a:blip r:embed="rId3"/>
          <a:stretch/>
        </p:blipFill>
        <p:spPr>
          <a:xfrm>
            <a:off x="1295280" y="3048120"/>
            <a:ext cx="2743200" cy="3276360"/>
          </a:xfrm>
          <a:prstGeom prst="rect">
            <a:avLst/>
          </a:prstGeom>
          <a:ln w="0">
            <a:noFill/>
          </a:ln>
        </p:spPr>
      </p:pic>
      <p:pic>
        <p:nvPicPr>
          <p:cNvPr id="193" name="DUDE3079.WAV" descr=""/>
          <p:cNvPicPr/>
          <p:nvPr/>
        </p:nvPicPr>
        <p:blipFill>
          <a:blip r:embed="rId4"/>
          <a:stretch/>
        </p:blipFill>
        <p:spPr>
          <a:xfrm>
            <a:off x="41148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799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066680" y="3504960"/>
            <a:ext cx="70106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Tahoma"/>
              </a:rPr>
              <a:t>A series of events that present and resolve a conflict. The story being told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2438280" y="990720"/>
            <a:ext cx="38862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LO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09120" y="3276720"/>
            <a:ext cx="48769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The plot of “The Most Dangerous Game” is that Rainsford is being hunted by General Zaroff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7" name="WordArt 4"/>
          <p:cNvSpPr txBox="1"/>
          <p:nvPr/>
        </p:nvSpPr>
        <p:spPr>
          <a:xfrm>
            <a:off x="2438280" y="457200"/>
            <a:ext cx="3886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LO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8" name="Picture 5" descr="dangerouss"/>
          <p:cNvPicPr/>
          <p:nvPr/>
        </p:nvPicPr>
        <p:blipFill>
          <a:blip r:embed="rId1"/>
          <a:stretch/>
        </p:blipFill>
        <p:spPr>
          <a:xfrm>
            <a:off x="5859360" y="2666880"/>
            <a:ext cx="265932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42670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The teams competed in a David and Goliath struggle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2133720" y="762120"/>
            <a:ext cx="4876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23" name="Picture 6" descr="goliath"/>
          <p:cNvPicPr/>
          <p:nvPr/>
        </p:nvPicPr>
        <p:blipFill>
          <a:blip r:embed="rId3"/>
          <a:stretch/>
        </p:blipFill>
        <p:spPr>
          <a:xfrm>
            <a:off x="5257800" y="2514600"/>
            <a:ext cx="2768760" cy="3733920"/>
          </a:xfrm>
          <a:prstGeom prst="rect">
            <a:avLst/>
          </a:prstGeom>
          <a:ln w="0">
            <a:noFill/>
          </a:ln>
        </p:spPr>
      </p:pic>
      <p:pic>
        <p:nvPicPr>
          <p:cNvPr id="124" name="TAPS PLAYED ON A BUGLE.WAV" descr=""/>
          <p:cNvPicPr/>
          <p:nvPr/>
        </p:nvPicPr>
        <p:blipFill>
          <a:blip r:embed="rId4"/>
          <a:stretch/>
        </p:blipFill>
        <p:spPr>
          <a:xfrm>
            <a:off x="44197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The vantage point from which an author presents the action in a work.</a:t>
            </a: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752480" y="762120"/>
            <a:ext cx="6248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OINT OF VIEW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3160" y="30477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1st person-tale related by a character in the story.  “I or me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3rd person-story told by someone not participating in the plot.  “he, she, they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1752480" y="762120"/>
            <a:ext cx="6248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OINT OF VIEW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The repetition of  identical sounds at the ends of lines of poetry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1219320" y="914400"/>
            <a:ext cx="6933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ND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4400" y="2666880"/>
            <a:ext cx="4191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e clasps the crag with crooked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hand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Close to the sun in lonely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lands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from “The Eagle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219320" y="533520"/>
            <a:ext cx="69339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ND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07" name="Picture 5" descr="eagle"/>
          <p:cNvPicPr/>
          <p:nvPr/>
        </p:nvPicPr>
        <p:blipFill>
          <a:blip r:embed="rId1"/>
          <a:stretch/>
        </p:blipFill>
        <p:spPr>
          <a:xfrm>
            <a:off x="5334120" y="2514600"/>
            <a:ext cx="311148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repetition of identical sounds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withi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 line of poetry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thr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shall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fl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across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sea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to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tal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ol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nfi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the palm of your han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n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eter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an hour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A slant rhyme or half rhyme occurs when the vowel sounds are not quite identical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nd on that cheek and o’er that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r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 mind at peace with all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el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time (both the time of day and period in history) and place in which the action of a literary work takes place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1600200" y="8380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TT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tiger2"/>
          <p:cNvPicPr/>
          <p:nvPr/>
        </p:nvPicPr>
        <p:blipFill>
          <a:blip r:embed="rId1"/>
          <a:stretch/>
        </p:blipFill>
        <p:spPr>
          <a:xfrm>
            <a:off x="838080" y="2879640"/>
            <a:ext cx="4267440" cy="2987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029200" y="2590560"/>
            <a:ext cx="3581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Tiger! Tiger! burning bright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In the </a:t>
            </a:r>
            <a:r>
              <a:rPr b="0" lang="en-US" sz="4400" spc="-1" strike="noStrike" u="sng">
                <a:solidFill>
                  <a:srgbClr val="f8f8f8"/>
                </a:solidFill>
                <a:uFillTx/>
                <a:latin typeface="Tahoma"/>
              </a:rPr>
              <a:t>forests of the night”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1600200" y="8380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T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LION3110.WAV" descr=""/>
          <p:cNvPicPr/>
          <p:nvPr/>
        </p:nvPicPr>
        <p:blipFill>
          <a:blip r:embed="rId4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2807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240" y="350532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A broad comparison between two basically different things that have some points in comm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37720" y="32004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repeating of a sound, word, phrase, or more in a given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3" name="WordArt 4"/>
          <p:cNvSpPr txBox="1"/>
          <p:nvPr/>
        </p:nvSpPr>
        <p:spPr>
          <a:xfrm>
            <a:off x="1981080" y="6094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HORS3110.WAV" descr=""/>
          <p:cNvPicPr/>
          <p:nvPr/>
        </p:nvPicPr>
        <p:blipFill>
          <a:blip r:embed="rId1"/>
          <a:stretch/>
        </p:blipFill>
        <p:spPr>
          <a:xfrm>
            <a:off x="44197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horsegallop"/>
          <p:cNvPicPr/>
          <p:nvPr/>
        </p:nvPicPr>
        <p:blipFill>
          <a:blip r:embed="rId2"/>
          <a:stretch/>
        </p:blipFill>
        <p:spPr>
          <a:xfrm>
            <a:off x="2971800" y="3886200"/>
            <a:ext cx="3657600" cy="25225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sprang to the stirrup, and Jarvis, and he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Derrick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we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 all three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1981080" y="3808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804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The repetition of consonant sounds at the beginnings of word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ship"/>
          <p:cNvPicPr/>
          <p:nvPr/>
        </p:nvPicPr>
        <p:blipFill>
          <a:blip r:embed="rId1"/>
          <a:stretch/>
        </p:blipFill>
        <p:spPr>
          <a:xfrm>
            <a:off x="4495680" y="3002040"/>
            <a:ext cx="4267440" cy="27892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560" y="2819520"/>
            <a:ext cx="4190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,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 flew the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hip”</a:t>
            </a:r>
            <a:endParaRPr b="0" lang="en-US" sz="6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33" name="WIND3110.WAV" descr=""/>
          <p:cNvPicPr/>
          <p:nvPr/>
        </p:nvPicPr>
        <p:blipFill>
          <a:blip r:embed="rId2"/>
          <a:stretch/>
        </p:blipFill>
        <p:spPr>
          <a:xfrm>
            <a:off x="3200400" y="723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783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783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066680" y="3429000"/>
            <a:ext cx="7010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Tahoma"/>
              </a:rPr>
              <a:t>The repetition of similar vowel sounds followed by different consonant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3581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. . .that hoard, and sl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p, and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, and know not me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8" name="Picture 5" descr="eagle-eating-binladen001"/>
          <p:cNvPicPr/>
          <p:nvPr/>
        </p:nvPicPr>
        <p:blipFill>
          <a:blip r:embed="rId1"/>
          <a:stretch/>
        </p:blipFill>
        <p:spPr>
          <a:xfrm>
            <a:off x="4495680" y="3048120"/>
            <a:ext cx="4343400" cy="3276360"/>
          </a:xfrm>
          <a:prstGeom prst="rect">
            <a:avLst/>
          </a:prstGeom>
          <a:ln w="0">
            <a:noFill/>
          </a:ln>
        </p:spPr>
      </p:pic>
      <p:pic>
        <p:nvPicPr>
          <p:cNvPr id="239" name="GOOD3110.WAV" descr=""/>
          <p:cNvPicPr/>
          <p:nvPr/>
        </p:nvPicPr>
        <p:blipFill>
          <a:blip r:embed="rId2"/>
          <a:stretch/>
        </p:blipFill>
        <p:spPr>
          <a:xfrm>
            <a:off x="41911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662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The repetition of consonant sounds that are preceded by different vowel sou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181120" y="3124080"/>
            <a:ext cx="3124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Wherever we go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Silence w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i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a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like dew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3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244" name="Picture 5" descr="Silence"/>
          <p:cNvPicPr/>
          <p:nvPr/>
        </p:nvPicPr>
        <p:blipFill>
          <a:blip r:embed="rId3"/>
          <a:stretch/>
        </p:blipFill>
        <p:spPr>
          <a:xfrm>
            <a:off x="1601640" y="2895480"/>
            <a:ext cx="2791080" cy="3505320"/>
          </a:xfrm>
          <a:prstGeom prst="rect">
            <a:avLst/>
          </a:prstGeom>
          <a:ln w="0">
            <a:noFill/>
          </a:ln>
        </p:spPr>
      </p:pic>
      <p:pic>
        <p:nvPicPr>
          <p:cNvPr id="245" name="SHHH3125.WAV" descr=""/>
          <p:cNvPicPr/>
          <p:nvPr/>
        </p:nvPicPr>
        <p:blipFill>
          <a:blip r:embed="rId4"/>
          <a:stretch/>
        </p:blipFill>
        <p:spPr>
          <a:xfrm>
            <a:off x="3733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1238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The use of words whose sounds suggest the sounds made by objects or activitie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7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3047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Blind eyes could </a:t>
            </a:r>
            <a:r>
              <a:rPr b="0" lang="en-US" sz="4800" spc="-1" strike="noStrike" u="sng">
                <a:solidFill>
                  <a:srgbClr val="ff3300"/>
                </a:solidFill>
                <a:uFillTx/>
                <a:latin typeface="Tahoma"/>
              </a:rPr>
              <a:t>blaze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 like meteors”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Comment 5"/>
          <p:cNvSpPr/>
          <p:nvPr/>
        </p:nvSpPr>
        <p:spPr>
          <a:xfrm>
            <a:off x="25920" y="15840"/>
            <a:ext cx="1767240" cy="707760"/>
          </a:xfrm>
          <a:prstGeom prst="rect">
            <a:avLst/>
          </a:prstGeom>
          <a:solidFill>
            <a:srgbClr val="0099cc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examples: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zz, hum, kis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1" name="Picture 6" descr="meteors"/>
          <p:cNvPicPr/>
          <p:nvPr/>
        </p:nvPicPr>
        <p:blipFill>
          <a:blip r:embed="rId1"/>
          <a:stretch/>
        </p:blipFill>
        <p:spPr>
          <a:xfrm>
            <a:off x="4191120" y="2971800"/>
            <a:ext cx="4190760" cy="3314880"/>
          </a:xfrm>
          <a:prstGeom prst="rect">
            <a:avLst/>
          </a:prstGeom>
          <a:ln w="0">
            <a:noFill/>
          </a:ln>
        </p:spPr>
      </p:pic>
      <p:pic>
        <p:nvPicPr>
          <p:cNvPr id="252" name="OSCI3125.WAV" descr=""/>
          <p:cNvPicPr/>
          <p:nvPr/>
        </p:nvPicPr>
        <p:blipFill>
          <a:blip r:embed="rId2"/>
          <a:stretch/>
        </p:blipFill>
        <p:spPr>
          <a:xfrm>
            <a:off x="38862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1500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14040" y="2971440"/>
            <a:ext cx="3429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ahoma"/>
              </a:rPr>
              <a:t>Aspirations toward space are not new.  Consider the worm that becomes a butterfly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9" name="Picture 8" descr="butterfly"/>
          <p:cNvPicPr/>
          <p:nvPr/>
        </p:nvPicPr>
        <p:blipFill>
          <a:blip r:embed="rId1"/>
          <a:srcRect l="1695" t="5169" r="5157" b="4313"/>
          <a:stretch/>
        </p:blipFill>
        <p:spPr>
          <a:xfrm>
            <a:off x="5176800" y="2743200"/>
            <a:ext cx="3160800" cy="3581280"/>
          </a:xfrm>
          <a:prstGeom prst="rect">
            <a:avLst/>
          </a:prstGeom>
          <a:ln w="0">
            <a:noFill/>
          </a:ln>
        </p:spPr>
      </p:pic>
      <p:pic>
        <p:nvPicPr>
          <p:cNvPr id="130" name="SNAKE CHARMER DANCE.WAV" descr=""/>
          <p:cNvPicPr/>
          <p:nvPr/>
        </p:nvPicPr>
        <p:blipFill>
          <a:blip r:embed="rId2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Something concrete, such as an object, action, character, or scene that stands for something abstract such as a concept or an idea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o not go gentle into that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good nigh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age, Rage against the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dying of the light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Picture 5" descr="peir11"/>
          <p:cNvPicPr/>
          <p:nvPr/>
        </p:nvPicPr>
        <p:blipFill>
          <a:blip r:embed="rId3"/>
          <a:stretch/>
        </p:blipFill>
        <p:spPr>
          <a:xfrm>
            <a:off x="1600200" y="4275000"/>
            <a:ext cx="6095880" cy="2116440"/>
          </a:xfrm>
          <a:prstGeom prst="rect">
            <a:avLst/>
          </a:prstGeom>
          <a:ln w="0">
            <a:noFill/>
          </a:ln>
        </p:spPr>
      </p:pic>
      <p:sp>
        <p:nvSpPr>
          <p:cNvPr id="258" name="Comment 6"/>
          <p:cNvSpPr/>
          <p:nvPr/>
        </p:nvSpPr>
        <p:spPr>
          <a:xfrm>
            <a:off x="23760" y="15840"/>
            <a:ext cx="2923920" cy="70776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phrases are symbols tha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 for death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main idea or underlying meaning of a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0" name="WordArt 4"/>
          <p:cNvSpPr txBox="1"/>
          <p:nvPr/>
        </p:nvSpPr>
        <p:spPr>
          <a:xfrm>
            <a:off x="2286000" y="91440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5333760" y="2666880"/>
            <a:ext cx="3352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on’t judge a man until you’ve walked a mile in his shoe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2" name="WordArt 4"/>
          <p:cNvSpPr txBox="1"/>
          <p:nvPr/>
        </p:nvSpPr>
        <p:spPr>
          <a:xfrm>
            <a:off x="2209680" y="53352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3" name="Picture 5" descr="9-01_Mockingbird"/>
          <p:cNvPicPr/>
          <p:nvPr/>
        </p:nvPicPr>
        <p:blipFill>
          <a:blip r:embed="rId1"/>
          <a:stretch/>
        </p:blipFill>
        <p:spPr>
          <a:xfrm>
            <a:off x="685800" y="2712960"/>
            <a:ext cx="4724280" cy="3730680"/>
          </a:xfrm>
          <a:prstGeom prst="rect">
            <a:avLst/>
          </a:prstGeom>
          <a:ln w="0">
            <a:noFill/>
          </a:ln>
        </p:spPr>
      </p:pic>
      <p:pic>
        <p:nvPicPr>
          <p:cNvPr id="264" name="MYSTERIOUS 3.WAV" descr=""/>
          <p:cNvPicPr/>
          <p:nvPr/>
        </p:nvPicPr>
        <p:blipFill>
          <a:blip r:embed="rId2"/>
          <a:stretch/>
        </p:blipFill>
        <p:spPr>
          <a:xfrm>
            <a:off x="4876920" y="7238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09120" y="33523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Comparing two very dissimilar things.  Usually involves cleverness and ingenuity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676520" y="60948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CE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761760" y="3200400"/>
            <a:ext cx="3886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Our love is like parallel lines”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8" name="WordArt 4"/>
          <p:cNvSpPr txBox="1"/>
          <p:nvPr/>
        </p:nvSpPr>
        <p:spPr>
          <a:xfrm>
            <a:off x="1676520" y="60948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CE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69" name="Picture 5" descr="lines5"/>
          <p:cNvPicPr/>
          <p:nvPr/>
        </p:nvPicPr>
        <p:blipFill>
          <a:blip r:embed="rId1"/>
          <a:stretch/>
        </p:blipFill>
        <p:spPr>
          <a:xfrm>
            <a:off x="4995720" y="3200400"/>
            <a:ext cx="3386160" cy="3124080"/>
          </a:xfrm>
          <a:prstGeom prst="rect">
            <a:avLst/>
          </a:prstGeom>
          <a:ln w="0">
            <a:noFill/>
          </a:ln>
        </p:spPr>
      </p:pic>
      <p:sp>
        <p:nvSpPr>
          <p:cNvPr id="270" name="Comment 6"/>
          <p:cNvSpPr/>
          <p:nvPr/>
        </p:nvSpPr>
        <p:spPr>
          <a:xfrm>
            <a:off x="20520" y="15840"/>
            <a:ext cx="2457720" cy="862560"/>
          </a:xfrm>
          <a:prstGeom prst="rect">
            <a:avLst/>
          </a:prstGeom>
          <a:solidFill>
            <a:srgbClr val="0099cc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lso a simile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62120" y="3505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A term naming an object is substituted for another word with which it is closely associated with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2" name="WordArt 4"/>
          <p:cNvSpPr txBox="1"/>
          <p:nvPr/>
        </p:nvSpPr>
        <p:spPr>
          <a:xfrm>
            <a:off x="1143000" y="533520"/>
            <a:ext cx="71629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ETONYM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3520" y="3352320"/>
            <a:ext cx="4572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Only through the </a:t>
            </a:r>
            <a:r>
              <a:rPr b="0" lang="en-US" sz="4400" spc="-1" strike="noStrike" u="sng">
                <a:solidFill>
                  <a:srgbClr val="f8f8f8"/>
                </a:solidFill>
                <a:uFillTx/>
                <a:latin typeface="Tahoma"/>
              </a:rPr>
              <a:t>sweat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of your brow can you achieve success”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4" name="WordArt 4"/>
          <p:cNvSpPr txBox="1"/>
          <p:nvPr/>
        </p:nvSpPr>
        <p:spPr>
          <a:xfrm>
            <a:off x="1143000" y="533520"/>
            <a:ext cx="7162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ETONYM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75" name="Picture 6" descr="lance"/>
          <p:cNvPicPr/>
          <p:nvPr/>
        </p:nvPicPr>
        <p:blipFill>
          <a:blip r:embed="rId1"/>
          <a:stretch/>
        </p:blipFill>
        <p:spPr>
          <a:xfrm>
            <a:off x="5334120" y="2819520"/>
            <a:ext cx="2971800" cy="3606840"/>
          </a:xfrm>
          <a:prstGeom prst="rect">
            <a:avLst/>
          </a:prstGeom>
          <a:ln w="0">
            <a:noFill/>
          </a:ln>
        </p:spPr>
      </p:pic>
      <p:sp>
        <p:nvSpPr>
          <p:cNvPr id="276" name="Comment 8"/>
          <p:cNvSpPr/>
          <p:nvPr/>
        </p:nvSpPr>
        <p:spPr>
          <a:xfrm>
            <a:off x="26640" y="15840"/>
            <a:ext cx="2829240" cy="707760"/>
          </a:xfrm>
          <a:prstGeom prst="rect">
            <a:avLst/>
          </a:prstGeom>
          <a:solidFill>
            <a:srgbClr val="ffcc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eat” stands for hard work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 pair of rhymed verse lines that contain a complete thought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8" name="WordArt 4"/>
          <p:cNvSpPr txBox="1"/>
          <p:nvPr/>
        </p:nvSpPr>
        <p:spPr>
          <a:xfrm>
            <a:off x="762120" y="762120"/>
            <a:ext cx="6705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HEROIC 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895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t if the while I think on thee, dea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fri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ll losses are restor’d and sorrow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0" name="WordArt 4"/>
          <p:cNvSpPr txBox="1"/>
          <p:nvPr/>
        </p:nvSpPr>
        <p:spPr>
          <a:xfrm>
            <a:off x="762120" y="762120"/>
            <a:ext cx="67053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HEROIC 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1" name="Picture 5" descr="friends"/>
          <p:cNvPicPr/>
          <p:nvPr/>
        </p:nvPicPr>
        <p:blipFill>
          <a:blip r:embed="rId1"/>
          <a:stretch/>
        </p:blipFill>
        <p:spPr>
          <a:xfrm>
            <a:off x="2209680" y="4038480"/>
            <a:ext cx="480060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Tahoma"/>
              </a:rPr>
              <a:t>A direct comparison between two basically different things.  A simile is introduced by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895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My love is like a red, red ros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5" name="Object 6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2716200" cy="379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An implied comparison between two basically different things.  Is not introduced with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274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is eyes were daggers that cut right through me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40" name="Picture 5" descr="angryface"/>
          <p:cNvPicPr/>
          <p:nvPr/>
        </p:nvPicPr>
        <p:blipFill>
          <a:blip r:embed="rId3"/>
          <a:stretch/>
        </p:blipFill>
        <p:spPr>
          <a:xfrm>
            <a:off x="5334120" y="2819520"/>
            <a:ext cx="2377800" cy="3581280"/>
          </a:xfrm>
          <a:prstGeom prst="rect">
            <a:avLst/>
          </a:prstGeom>
          <a:ln w="0">
            <a:noFill/>
          </a:ln>
        </p:spPr>
      </p:pic>
      <p:pic>
        <p:nvPicPr>
          <p:cNvPr id="141" name="BACH - PHANTOM OF THE OPERA.WAV" descr=""/>
          <p:cNvPicPr/>
          <p:nvPr/>
        </p:nvPicPr>
        <p:blipFill>
          <a:blip r:embed="rId4"/>
          <a:stretch/>
        </p:blipFill>
        <p:spPr>
          <a:xfrm>
            <a:off x="45720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1:54:09Z</dcterms:created>
  <dc:creator>NNTC</dc:creator>
  <dc:description/>
  <dc:language>en-US</dc:language>
  <cp:lastModifiedBy>RomaK</cp:lastModifiedBy>
  <dcterms:modified xsi:type="dcterms:W3CDTF">2015-09-04T10:37:17Z</dcterms:modified>
  <cp:revision>45</cp:revision>
  <dc:subject/>
  <dc:title>POETIC TERMS</dc:title>
</cp:coreProperties>
</file>