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5CC88-858D-4FFC-BD85-F8E11E50FB5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 Mice and Men </a:t>
            </a:r>
            <a:br>
              <a:rPr sz="1200"/>
            </a:br>
            <a:r>
              <a:rPr b="0" lang="en-US" sz="1200" spc="-1" strike="noStrike">
                <a:solidFill>
                  <a:srgbClr val="ffffff"/>
                </a:solidFill>
                <a:latin typeface="Arial"/>
              </a:rPr>
              <a:t>Themes: Viole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Mice and Men </a:t>
            </a:r>
            <a:br>
              <a:rPr sz="1200"/>
            </a:br>
            <a:r>
              <a:rPr b="0" lang="en-US" sz="1200" spc="-1" strike="noStrike">
                <a:solidFill>
                  <a:srgbClr val="000000"/>
                </a:solidFill>
                <a:latin typeface="Arial"/>
              </a:rPr>
              <a:t>Themes: Viol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novel has many examples of a kind of needless violence. For example, Candy relates how the boss gave them whisky and allowed a fight to take place in the bunkhous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novel has many examples of a kind of needless violence. For example, Candy relates how the boss gave them whisky and allowed a fight to take place in the bunkho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rle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rley is the most obviously violent character. Whenever he appears there is a feeling of ten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rley is described as pugnacious when we first meet him, and causes George to rema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hat the hell's he got on his should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dy explains that Curley often picks on big guys ( a sure sign of trouble for Lennie). We are prepared for Curley's later anger, which culminates at the end in his wish to '... shoot him in the gu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 is the most obviously violent character. Whenever he appears there is a feeling of ten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 is described as pugnacious when we first meet him, and causes George to rem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the hell's he got on his shoul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dy explains that Curley often picks on big guys ( a sure sign of trouble for Lennie). We are prepared for Curley's later anger, which culminates at the end in his wish to '... shoot him in the g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ls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lson is another character associated with violence. He is unconcerned about killing Candy's dog (and in fact callously cleans the gun in Candy's prese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goes to watch the fun when Curley thinks Slim may be with his wife, and later goads Curley more, threatening to '... kick your head off.'</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er he is very keen to get his gun to join in the hunt for Lenni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last words in the book belong to Carlson, and it is little surprise that they reveal his complete inability to understand George's feelings about the death of Lenni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l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lson is another character associated with violence. He is unconcerned about killing Candy's dog (and in fact callously cleans the gun in Candy's pres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goes to watch the fun when Curley thinks Slim may be with his wife, and later goads Curley more, threatening to '... kick your head o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he is very keen to get his gun to join in the hunt for Lenni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st words in the book belong to Carlson, and it is little surprise that they reveal his complete inability to understand George's feelings about the death of Lenn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nni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ared to the other characters, Lennie reveals an unintentional violence. He does not even think to fight back when Curley attacks him, but when he does, it is with immense and uncontrollable forc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has so little control over his own strength that he accidentally kills his puppy, and then minutes later snuffs out the life of Curley's wif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n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d to the other characters, Lennie reveals an unintentional violence. He does not even think to fight back when Curley attacks him, but when he does, it is with immense and uncontrollable for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s so little control over his own strength that he accidentally kills his puppy, and then minutes later snuffs out the life of Curley's w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nnie’s actions on these occasions are compared to those of an animal, powerful but thoughtless. Ironically, Curley's wife is attracted to him because of the violence he had shown in crushing her husband's ha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threat of violence to be used against Lennie that causes George to take the final step of killing his frie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nie’s actions on these occasions are compared to those of an animal, powerful but thoughtless. Ironically, Curley's wife is attracted to him because of the violence he had shown in crushing her husband's h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threat of violence to be used against Lennie that causes George to take the final step of killing his fri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einbeck shows the world of nature to be a beautiful and peaceful one, but threatened by the actions of m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eginning of the novel sets this pattern, as the creatures at the pool are disturbed by George and Lennie's approac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anch and its buildings, being created by men, are in contrast with the natural world. Notice that the bunkhouse, for example, is quite bare and sta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n more unnatural is that Candy and Crooks are both deformed or unnatural in appear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rasted to these two characters is Lennie, who almost seems a part of the natural world as he is described in animal ter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fact, one of Lennie's dreams is to go and live by himself in a cave. Maybe this would be the only way in which the natural world of Lennie would not come into conflict with the world of m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inbeck shows the world of nature to be a beautiful and peaceful one, but threatened by the actions of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ginning of the novel sets this pattern, as the creatures at the pool are disturbed by George and Lennie's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nch and its buildings, being created by men, are in contrast with the natural world. Notice that the bunkhouse, for example, is quite bare and st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more unnatural is that Candy and Crooks are both deformed or unnatural in appea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sted to these two characters is Lennie, who almost seems a part of the natural world as he is described in animal te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one of Lennie's dreams is to go and live by himself in a cave. Maybe this would be the only way in which the natural world of Lennie would not come into conflict with the world of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A42979-34CC-487F-92C9-C77402A191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925F8C-D387-462D-BA0B-4B1E2FBFBE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51680E-93CA-45A6-933B-D673772345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19E2C5-B974-4A96-A5F9-8355FF665F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3F58A9C-AC26-41C0-A0B0-B8DC1D6A51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25B21A1-4607-466A-B47C-16DD06E249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F630353-18C1-4415-B7C8-17AE39CC1E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D6C1DE3-17BA-4E47-A6C2-55B433CDBE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DB62EE7-2514-410B-8DAB-1242C4DA3B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89ED3C5-E73E-4048-9876-11E61273A1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1792FC9-2428-413D-9503-208DE84A3F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74BB10-1DD0-4337-9ACA-928205EAD7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C6D03C8-60A3-4898-90D4-9F9DC5E7AA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8322645-D943-4D7B-9485-FED90D7A54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3366551-389C-4AA1-830E-2BF53521A6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29B219B-F4DA-49B9-A5AC-A10002C91F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56958EE-B023-403E-AE4E-568CBDA979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4AB00-52EA-4DAC-B693-B83C1CA87B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FA06DB-E1FA-4F25-B446-1AFBDDE15D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6D9323-F208-41EE-BE5A-2EB4D6783D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6F9302-C45E-439A-BDE2-C9FBCDDB03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AE538-EFDD-46E1-817E-15A0EA4E8A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A4D73-E718-4347-9BA7-6C56C1249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351FE-5DBE-40F3-A61B-275A83D086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E5173-D06B-48E7-829E-5B26C7F9307F}"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8FD88-76DB-46A3-A7C6-1D27DFC024DD}"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44792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e3e3ff"/>
                </a:solidFill>
                <a:latin typeface="Arial"/>
              </a:rPr>
              <a:t>Of Mice and Men </a:t>
            </a:r>
            <a:br>
              <a:rPr sz="5400"/>
            </a:br>
            <a:r>
              <a:rPr b="0" lang="en-GB" sz="5400" spc="-1" strike="noStrike">
                <a:solidFill>
                  <a:srgbClr val="e3e3ff"/>
                </a:solidFill>
                <a:latin typeface="Arial"/>
              </a:rPr>
              <a:t>Themes: Violence</a:t>
            </a:r>
            <a:endParaRPr b="0" lang="en-US" sz="5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The novel has many examples of a kind of needless violence. For example, Candy relates how the boss gave them whisky and allowed a fight to take place in the bunkhous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Curley</a:t>
            </a:r>
            <a:endParaRPr b="0" lang="en-US" sz="4400" spc="-1" strike="noStrike">
              <a:solidFill>
                <a:srgbClr val="e3e3ff"/>
              </a:solidFill>
              <a:latin typeface="Arial"/>
            </a:endParaRPr>
          </a:p>
        </p:txBody>
      </p:sp>
      <p:sp>
        <p:nvSpPr>
          <p:cNvPr id="132" name="PlaceHolder 2"/>
          <p:cNvSpPr>
            <a:spLocks noGrp="1"/>
          </p:cNvSpPr>
          <p:nvPr>
            <p:ph/>
          </p:nvPr>
        </p:nvSpPr>
        <p:spPr>
          <a:xfrm>
            <a:off x="457200" y="1143000"/>
            <a:ext cx="8229600" cy="4952880"/>
          </a:xfrm>
          <a:prstGeom prst="rect">
            <a:avLst/>
          </a:prstGeom>
          <a:noFill/>
          <a:ln w="0">
            <a:noFill/>
          </a:ln>
        </p:spPr>
        <p:txBody>
          <a:bodyPr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urley is the most obviously violent character. Whenever he appears there is a feeling of tension.</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urley is described as pugnacious when we first meet him, and causes George to remark</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what the hell's he got on his shoulde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andy explains that Curley often picks on big guys ( a sure sign of trouble for Lennie). We are prepared for Curley's later anger, which culminates at the end in his wish to '... shoot him in the gu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Carlson</a:t>
            </a:r>
            <a:endParaRPr b="0" lang="en-US" sz="4400" spc="-1" strike="noStrike">
              <a:solidFill>
                <a:srgbClr val="e3e3ff"/>
              </a:solidFill>
              <a:latin typeface="Arial"/>
            </a:endParaRPr>
          </a:p>
        </p:txBody>
      </p:sp>
      <p:sp>
        <p:nvSpPr>
          <p:cNvPr id="134" name="PlaceHolder 2"/>
          <p:cNvSpPr>
            <a:spLocks noGrp="1"/>
          </p:cNvSpPr>
          <p:nvPr>
            <p:ph/>
          </p:nvPr>
        </p:nvSpPr>
        <p:spPr>
          <a:xfrm>
            <a:off x="457200" y="1295280"/>
            <a:ext cx="8229600" cy="5105520"/>
          </a:xfrm>
          <a:prstGeom prst="rect">
            <a:avLst/>
          </a:prstGeom>
          <a:noFill/>
          <a:ln w="0">
            <a:noFill/>
          </a:ln>
        </p:spPr>
        <p:txBody>
          <a:bodyPr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arlson is another character associated with violence. He is unconcerned about killing Candy's dog (and in fact callously cleans the gun in Candy's presenc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e goes to watch the fun when Curley thinks Slim may be with his wife, and later goads Curley more, threatening to '... kick your head off.'</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ater he is very keen to get his gun to join in the hunt for Lennie.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last words in the book belong to Carlson, and it is little surprise that they reveal his complete inability to understand George's feelings about the death of Lenni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Lennie</a:t>
            </a:r>
            <a:endParaRPr b="0" lang="en-US" sz="4400" spc="-1" strike="noStrike">
              <a:solidFill>
                <a:srgbClr val="e3e3ff"/>
              </a:solidFill>
              <a:latin typeface="Arial"/>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mpared to the other characters, Lennie reveals an unintentional violence. He does not even think to fight back when Curley attacks him, but when he does, it is with immense and uncontrollable force.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e has so little control over his own strength that he accidentally kills his puppy, and then minutes later snuffs out the life of Curley's wif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457200" y="456840"/>
            <a:ext cx="8229600" cy="5638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ennie’s actions on these occasions are compared to those of an animal, powerful but thoughtless. Ironically, Curley's wife is attracted to him because of the violence he had shown in crushing her husband's han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t is the threat of violence to be used against Lennie that causes George to take the final step of killing his frien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3e3ff"/>
                </a:solidFill>
                <a:latin typeface="Arial"/>
              </a:rPr>
              <a:t>Nature</a:t>
            </a:r>
            <a:endParaRPr b="0" lang="en-US" sz="3200" spc="-1" strike="noStrike">
              <a:solidFill>
                <a:srgbClr val="e3e3ff"/>
              </a:solidFill>
              <a:latin typeface="Arial"/>
            </a:endParaRPr>
          </a:p>
        </p:txBody>
      </p:sp>
      <p:sp>
        <p:nvSpPr>
          <p:cNvPr id="1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einbeck shows the world of nature to be a beautiful and peaceful one, but threatened by the actions of men.</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ginning of the novel sets this pattern, as the creatures at the pool are disturbed by George and Lennie's approach.</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ranch and its buildings, being created by men, are in contrast with the natural world. Notice that the bunkhouse, for example, is quite bare and stark.</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more unnatural is that Candy and Crooks are both deformed or unnatural in appearance.</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trasted to these two characters is Lennie, who almost seems a part of the natural world as he is described in animal term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fact, one of Lennie's dreams is to go and live by himself in a cave. Maybe this would be the only way in which the natural world of Lennie would not come into conflict with the world of men.</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4T10:15:43Z</dcterms:created>
  <dc:creator>svanvlo</dc:creator>
  <dc:description/>
  <dc:language>en-US</dc:language>
  <cp:lastModifiedBy>RomaK</cp:lastModifiedBy>
  <dcterms:modified xsi:type="dcterms:W3CDTF">2015-09-04T10:36:52Z</dcterms:modified>
  <cp:revision>7</cp:revision>
  <dc:subject/>
  <dc:title>Of Mice and Men  Themes: Violence</dc:title>
</cp:coreProperties>
</file>