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9A2C-94FA-4246-8925-73115AEBBC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Mice and Men </a:t>
            </a:r>
            <a:br>
              <a:rPr sz="1200"/>
            </a:br>
            <a:r>
              <a:rPr b="0" lang="en-US" sz="1200" spc="-1" strike="noStrike">
                <a:solidFill>
                  <a:srgbClr val="ffffff"/>
                </a:solidFill>
                <a:latin typeface="Arial"/>
              </a:rPr>
              <a:t>Themes: Viol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Mice and Men </a:t>
            </a:r>
            <a:br>
              <a:rPr sz="1200"/>
            </a:br>
            <a:r>
              <a:rPr b="0" lang="en-US" sz="1200" spc="-1" strike="noStrike">
                <a:solidFill>
                  <a:srgbClr val="000000"/>
                </a:solidFill>
                <a:latin typeface="Arial"/>
              </a:rPr>
              <a:t>Themes: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the most obviously violent character. Whenever he appears there is a feeling of ten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described as pugnacious when we first meet him, and causes George to rem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the hell's he got on his should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the most obviously violent character. Whenever he appears there is a feeling of 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described as pugnacious when we first meet him, and causes George to re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he hell's he got on his sh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 is another character associated with violence. He is unconcerned about killing Candy's dog (and in fact callously cleans the gun in Candy's pres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goes to watch the fun when Curley thinks Slim may be with his wife, and later goads Curley more, threatening to '... kick your head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he is very keen to get his gun to join in the hunt for Lenni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 is another character associated with violence. He is unconcerned about killing Candy's dog (and in fact callously cleans the gun in Candy's pres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goes to watch the fun when Curley thinks Slim may be with his wife, and later goads Curley more, threatening to '... kick your head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he is very keen to get his gun to join in the hunt for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so little control over his own strength that he accidentally kills his puppy, and then minutes later snuffs out the life of Curley's wi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so little control over his own strength that he accidentally kills his puppy, and then minutes later snuffs out the life of 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threat of violence to be used against Lennie that causes George to take the final step of killing his fri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threat of violence to be used against Lennie that causes George to take the final step of killing his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inbeck shows the world of nature to be a beautiful and peaceful one, but threatened by the actions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eginning of the novel sets this pattern, as the creatures at the pool are disturbed by George and Lennie's appro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anch and its buildings, being created by men, are in contrast with the natural world. Notice that the bunkhouse, for example, is quite bare and st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more unnatural is that Candy and Crooks are both deformed or unnatural in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asted to these two characters is Lennie, who almost seems a part of the natural world as he is described in animal te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eck shows the world of nature to be a beautiful and peaceful one, but threatened by the actions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 of the novel sets this pattern, as the creatures at the pool are disturbed by George and Lennie'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ch and its buildings, being created by men, are in contrast with the natural world. Notice that the bunkhouse, for example, is quite bare and st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more unnatural is that Candy and Crooks are both deformed or unnatural in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ed to these two characters is Lennie, who almost seems a part of the natural world as he is described in animal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93AEA-790A-41CE-BA19-41235A5EE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414AE-290C-4369-A86C-66C1D50B2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4C371-EB86-4335-927B-E9208B3F2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C3EEB-AD56-44A7-920D-6E3F9ADD0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DFEF498-C374-4E42-AF07-3A8BD7962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AE03EF3-9BEB-4BB6-92BB-E496F7F7D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09041DE-EA4A-4B5A-B164-1566DBCDC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3453FCA-3C27-40D7-9204-F7DB6BB4E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786FC9-883B-4225-9A05-7A0A72EEB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D3B284C-8924-47EE-AF5F-61A192DE3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F87E65-BCC4-4971-B1D1-5407A0189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75265-909C-49E5-8281-46779BC0D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6D304E3-614C-4831-AD6E-3B948DD77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87F3A7-AF7F-4429-A936-D267BFD6D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2DBF8FC-FCDB-47B0-AC3A-1371BAC51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5CA73B3-142E-4E5B-A798-232C2021B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DA90E64-BF44-435D-BA69-DE7707218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8FDFE-F163-4440-8C93-669B98726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0FA61-4A43-4FA8-9A28-37E4BD9AC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F01C8-578E-4A52-8A31-C7F92A860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7DDC0-7A06-4CB1-BF5A-C6018812B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F9CC8-A633-4149-B7A3-D7D3899AF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20F3E-69C7-4DB6-99D4-693A00239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0C304-A7AC-4041-B92B-F7B4E50D7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A9D1-CA5B-4940-B022-2B40D9150A7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67D0-A167-4292-9682-AFD1B61B104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Of Mice and Men </a:t>
            </a:r>
            <a:br>
              <a:rPr sz="5400"/>
            </a:br>
            <a:r>
              <a:rPr b="0" lang="en-GB" sz="5400" spc="-1" strike="noStrike">
                <a:solidFill>
                  <a:srgbClr val="e3e3ff"/>
                </a:solidFill>
                <a:latin typeface="Arial"/>
              </a:rPr>
              <a:t>Themes: Violence</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urley</a:t>
            </a:r>
            <a:endParaRPr b="0" lang="en-US" sz="4400" spc="-1" strike="noStrike">
              <a:solidFill>
                <a:srgbClr val="e3e3ff"/>
              </a:solidFill>
              <a:latin typeface="Arial"/>
            </a:endParaRPr>
          </a:p>
        </p:txBody>
      </p:sp>
      <p:sp>
        <p:nvSpPr>
          <p:cNvPr id="13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the most obviously violent character. Whenever he appears there is a feeling of ten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described as pugnacious when we first meet him, and causes George to remark</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what the hell's he got on his should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arlson</a:t>
            </a:r>
            <a:endParaRPr b="0" lang="en-US" sz="4400" spc="-1" strike="noStrike">
              <a:solidFill>
                <a:srgbClr val="e3e3ff"/>
              </a:solidFill>
              <a:latin typeface="Arial"/>
            </a:endParaRPr>
          </a:p>
        </p:txBody>
      </p:sp>
      <p:sp>
        <p:nvSpPr>
          <p:cNvPr id="134" name="PlaceHolder 2"/>
          <p:cNvSpPr>
            <a:spLocks noGrp="1"/>
          </p:cNvSpPr>
          <p:nvPr>
            <p:ph/>
          </p:nvPr>
        </p:nvSpPr>
        <p:spPr>
          <a:xfrm>
            <a:off x="457200" y="1295280"/>
            <a:ext cx="8229600" cy="510552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rlson is another character associated with violence. He is unconcerned about killing Candy's dog (and in fact callously cleans the gun in Candy's presen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goes to watch the fun when Curley thinks Slim may be with his wife, and later goads Curley more, threatening to '... kick your head off.'</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ter he is very keen to get his gun to join in the hunt for Lenni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Lennie</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 has so little control over his own strength that he accidentally kills his puppy, and then minutes later snuffs out the life of Curley's wif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the threat of violence to be used against Lennie that causes George to take the final step of killing his frie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3e3ff"/>
                </a:solidFill>
                <a:latin typeface="Arial"/>
              </a:rPr>
              <a:t>Nature</a:t>
            </a:r>
            <a:endParaRPr b="0" lang="en-US" sz="32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einbeck shows the world of nature to be a beautiful and peaceful one, but threatened by the actions of me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ginning of the novel sets this pattern, as the creatures at the pool are disturbed by George and Lennie's approach.</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ranch and its buildings, being created by men, are in contrast with the natural world. Notice that the bunkhouse, for example, is quite bare and stark.</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more unnatural is that Candy and Crooks are both deformed or unnatural in appearanc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trasted to these two characters is Lennie, who almost seems a part of the natural world as he is described in animal term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0:15:43Z</dcterms:created>
  <dc:creator>svanvlo</dc:creator>
  <dc:description/>
  <dc:language>en-US</dc:language>
  <cp:lastModifiedBy>RomaK</cp:lastModifiedBy>
  <dcterms:modified xsi:type="dcterms:W3CDTF">2015-09-04T10:36:52Z</dcterms:modified>
  <cp:revision>7</cp:revision>
  <dc:subject/>
  <dc:title>Of Mice and Men  Themes: Violence</dc:title>
</cp:coreProperties>
</file>