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75D7-C3C5-4F1D-8271-67C3038739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Mice and Men </a:t>
            </a:r>
            <a:br>
              <a:rPr sz="1200"/>
            </a:br>
            <a:r>
              <a:rPr b="0" lang="en-US" sz="1200" spc="-1" strike="noStrike">
                <a:solidFill>
                  <a:srgbClr val="ffffff"/>
                </a:solidFill>
                <a:latin typeface="Arial"/>
              </a:rPr>
              <a:t>Themes: Viol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ice and Men </a:t>
            </a:r>
            <a:br>
              <a:rPr sz="1200"/>
            </a:br>
            <a:r>
              <a:rPr b="0" lang="en-US" sz="1200" spc="-1" strike="noStrike">
                <a:solidFill>
                  <a:srgbClr val="000000"/>
                </a:solidFill>
                <a:latin typeface="Arial"/>
              </a:rPr>
              <a:t>Themes: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the most obviously violent character. Whenever he appears there is a feeling of ten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described as pugnacious when we first meet him, and causes George to rem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the hell's he got on his shoul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the most obviously violent character. Whenever he appears there is a feeling of 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described as pugnacious when we first meet him, and causes George to re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hell's he got on his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 is another character associated with violence. He is unconcerned about killing Candy's dog (and in fact callously cleans the gun in Candy's pres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goes to watch the fun when Curley thinks Slim may be with his wife, and later goads Curley more, threatening to '... kick your head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he is very keen to get his gun to join in the hunt for Lenni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is another character associated with violence. He is unconcerned about killing Candy's dog (and in fact callously cleans the gun in Candy's pres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goes to watch the fun when Curley thinks Slim may be with his wife, and later goads Curley more, threatening to '... kick your hea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he is very keen to get his gun to join in the hunt for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so little control over his own strength that he accidentally kills his puppy, and then minutes later snuffs out the life of Curley's wi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so little control over his own strength that he accidentally kills his puppy, and then minutes later snuffs out the life of 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threat of violence to be used against Lennie that causes George to take the final step of killing his fri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threat of violence to be used against Lennie that causes George to take the final step of killing his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inbeck shows the world of nature to be a beautiful and peaceful one, but threatened by the actions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ginning of the novel sets this pattern, as the creatures at the pool are disturbed by George and Lennie's appro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anch and its buildings, being created by men, are in contrast with the natural world. Notice that the bunkhouse, for example, is quite bare and st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more unnatural is that Candy and Crooks are both deformed or unnatural in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ed to these two characters is Lennie, who almost seems a part of the natural world as he is described in animal te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eck shows the world of nature to be a beautiful and peaceful one, but threatened by the actions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 of the novel sets this pattern, as the creatures at the pool are disturbed by George and Lennie'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ch and its buildings, being created by men, are in contrast with the natural world. Notice that the bunkhouse, for example, is quite bare and st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unnatural is that Candy and Crooks are both deformed or unnatural i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to these two characters is Lennie, who almost seems a part of the natural world as he is described in animal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E669F-1979-4832-B766-416F20572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C48CB-5FB1-4354-9F63-45E21C61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3B608-D741-432B-9A78-09E5E8DB3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45063-D9F3-48D8-8472-16FAAAC17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BF03786-6650-4226-A6A4-529373E2E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E0D533-F411-4F11-9178-06CD9E600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B9BB70-45B1-4914-91A7-28E52CDD3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6128B6-C853-4AC8-A642-F75FC16B8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B67FD61-08D1-45B1-9067-170842A21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3D9F8A-5B42-4212-887D-4EA000D5D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DE0057-FCB5-431F-8DC8-BD52F517C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71C30-56CE-4B3A-9336-53C88879E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02C5DD-6C65-45E4-A68F-317EC8A05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2EE12D-EB6E-4050-B821-881474554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1D962A-7CBA-4391-B990-6463628E1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F13FE41-1A04-47E1-ABBB-172805F85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66E069B-E500-4114-83C3-EE7F733CC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37CDA-C249-4BF4-9178-32BCDF613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BACE8-895B-46C4-AC8F-84C176541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BA1FD-1F19-4C0A-A7D5-2951B5ABC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3A282-A0C2-40BE-9A13-720903F55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317A-3FA3-4F7E-B025-056EB0934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F210-6039-4C6F-8CD5-31E2CB815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89C7-69FD-424A-A399-03FA2D612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3B94-25ED-4841-A5E6-6A6D1F19430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10F8-B10F-45C8-BD35-72632EA9D9E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Of Mice and Men </a:t>
            </a:r>
            <a:br>
              <a:rPr sz="5400"/>
            </a:br>
            <a:r>
              <a:rPr b="0" lang="en-GB" sz="5400" spc="-1" strike="noStrike">
                <a:solidFill>
                  <a:srgbClr val="e3e3ff"/>
                </a:solidFill>
                <a:latin typeface="Arial"/>
              </a:rPr>
              <a:t>Themes: Violence</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urley</a:t>
            </a:r>
            <a:endParaRPr b="0" lang="en-US" sz="4400" spc="-1" strike="noStrike">
              <a:solidFill>
                <a:srgbClr val="e3e3ff"/>
              </a:solidFill>
              <a:latin typeface="Arial"/>
            </a:endParaRPr>
          </a:p>
        </p:txBody>
      </p:sp>
      <p:sp>
        <p:nvSpPr>
          <p:cNvPr id="13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the most obviously violent character. Whenever he appears there is a feeling of ten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described as pugnacious when we first meet him, and causes George to remar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at the hell's he got on his shoul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arlson</a:t>
            </a:r>
            <a:endParaRPr b="0" lang="en-US" sz="4400" spc="-1" strike="noStrike">
              <a:solidFill>
                <a:srgbClr val="e3e3ff"/>
              </a:solidFill>
              <a:latin typeface="Arial"/>
            </a:endParaRPr>
          </a:p>
        </p:txBody>
      </p:sp>
      <p:sp>
        <p:nvSpPr>
          <p:cNvPr id="134"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lson is another character associated with violence. He is unconcerned about killing Candy's dog (and in fact callously cleans the gun in Candy's pres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goes to watch the fun when Curley thinks Slim may be with his wife, and later goads Curley more, threatening to '... kick your head off.'</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ter he is very keen to get his gun to join in the hunt for Lenni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Lenni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has so little control over his own strength that he accidentally kills his puppy, and then minutes later snuffs out the life of Curley's wif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threat of violence to be used against Lennie that causes George to take the final step of killing his fri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3e3ff"/>
                </a:solidFill>
                <a:latin typeface="Arial"/>
              </a:rPr>
              <a:t>Nature</a:t>
            </a: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einbeck shows the world of nature to be a beautiful and peaceful one, but threatened by the actions of m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ginning of the novel sets this pattern, as the creatures at the pool are disturbed by George and Lennie's approac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ranch and its buildings, being created by men, are in contrast with the natural world. Notice that the bunkhouse, for example, is quite bare and star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more unnatural is that Candy and Crooks are both deformed or unnatural in appea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asted to these two characters is Lennie, who almost seems a part of the natural world as he is described in animal ter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0:15:43Z</dcterms:created>
  <dc:creator>svanvlo</dc:creator>
  <dc:description/>
  <dc:language>en-US</dc:language>
  <cp:lastModifiedBy>RomaK</cp:lastModifiedBy>
  <dcterms:modified xsi:type="dcterms:W3CDTF">2015-09-04T10:36:52Z</dcterms:modified>
  <cp:revision>7</cp:revision>
  <dc:subject/>
  <dc:title>Of Mice and Men  Themes: Violence</dc:title>
</cp:coreProperties>
</file>