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1A347-3FC3-4F06-B7B2-39C6B872F4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prechaun and the Ma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prechaun and the M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ant to be the richest leprechaun of all, h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ught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ant to be the richest leprechaun of all, 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u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, he went to the man and said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ant more gold.  What can I do to get more?”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, he went to the man and said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ant more gold.  What can I do to get more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n told the leprechaun to hide hi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 of gold at the edge of the rainbow fo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knows that a leprechaun i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sed to put it there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n told the leprechaun to hide 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 of gold at the edge of the rainbow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knows that a leprechaun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sed to put it the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edy leprechaun did not hesitate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quickly put his gold at the end of the rainbow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ited for his fortune to double or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haps quadruple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edy leprechaun did not hesit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quickly put his gold at the end of the rainb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ited for his fortune to double 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haps quadru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man was as tricky as the leprechau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e leprechaun hid his gold at the end of th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nbow, the man hid and watch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man was as tricky as the leprecha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e leprechaun hid his gold at the end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nbow, the man hid and watch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ee, the man had greedy dreams of his ow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ee, the man had greedy dreams of his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leprechaun was off dreaming abou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old he would soon have, the man stole th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prechaun’s gold and hid it in the bushes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left the leprechaun an empty pot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leprechaun was off dreaming ab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old he would soon have, the man stole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prechaun’s gold and hid it in the bush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left the leprechaun an empty p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the man did not notice that othe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re watching…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o trick both the man an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prechaun, they re-hid the gol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the man did not notice that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re watching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o trick both the ma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prechaun, they re-hid the go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man and the leprechaun each notice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their gold was gone, they became ver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ry at one another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prechaun stompe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 feet when all that h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 was a pot of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vers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man and the leprechaun each noti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their gold was gone, they became 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ry at one an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prechaun stomp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 feet when all that 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 was a po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v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n was as mad as a bull. He threw down the shamrocks that had been left for him and walked off deeper into the woods where he hoped he could find another leprechau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n was as mad as a bull. He threw down the shamrocks that had been left for him and walked off deeper into the woods where he hoped he could find another leprecha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there was a leprechau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lived in a small house at th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ge of the forest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there was a leprecha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lived in a small house at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ge of the for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for the mouse and the worm,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shared their riches with all th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or children of Dubli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for the mouse and the worm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shared their riches with all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or children of Dubl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ral of this story i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greedy people get what’s coming to the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ral of this story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greedy people get what’s coming to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…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never trust a leprechaun or someone  just because he is dressed nice and 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ooth talker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never trust a leprechaun or someone  just because he is dressed nice and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ooth talk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 of the story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y St. Patrick's Day!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ught to you by Capen’s Chatter Childre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 of th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y St. Patrick's Da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ught to you by Capen’s Chatter Child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prechaun was a smart fellow but ver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dy.  He loved gol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prechaun was a smart fellow but 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dy.  He loved go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loved gold so much that if no one wa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ing, he would steal their gold right out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under their noses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loved gold so much that if no one w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ing, he would steal their gold right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under their no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unny thing was that the animals and peop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he stole from still wanted to be his friend,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he was so cleaver he made them believ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someone else had stolen their gold!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unny thing was that the animals and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he stole from still wanted to be his friend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he was so cleaver he made them belie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someone else had stolen their gol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haps he fooled them because he had such a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m smile.  Perhaps he fooled them because h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 a fast and smooth talker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haps he fooled them because he had such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m smile.  Perhaps he fooled them because 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 a fast and smooth talk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ever the case, he always managed to fool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s.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ever the case, he always managed to foo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til one day he met his match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andsome, well dressed, an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 mannered man visited th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prechaun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could make you very rich he tol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edy leprechaun.”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only you had some gold to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st…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til one day he met his matc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andsome, well dressed,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 mannered man visited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prechau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could make you very rich he t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edy leprechaun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only you had some gold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st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edy leprechaun started thinking abou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e man had said.  He loved gold, gold, an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gol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edy leprechaun started thinking ab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e man had said.  He loved gold, gold,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go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3725-0CA6-44AF-8F6C-BCEFAFA50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DD67-CE62-404E-AFB1-915A89CCE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BF87-1D74-4F3D-AE90-509CFD045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6232-30FC-495F-8624-B060AA9D9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1D0E-37CF-4F13-B4EB-25D617E7B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2FAA-7508-471B-9A8D-3665D99CF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3402-3762-4B8D-813B-4DEA46659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0D4E-55E5-45F9-9A44-3EAC165D0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C234-5112-428C-8A8E-944A1AD19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3F12-3C29-4423-AFCC-679E7D6A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E8F9-70A4-45AE-A6ED-73E156B1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CFA1-0EB5-474A-B661-A01CF527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8ECF8-4C63-471D-A157-E1CEA3634F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208880" y="984240"/>
            <a:ext cx="733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Leprechaun and the Man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Leprechaun 08"/>
          <p:cNvPicPr/>
          <p:nvPr/>
        </p:nvPicPr>
        <p:blipFill>
          <a:blip r:embed="rId1"/>
          <a:stretch/>
        </p:blipFill>
        <p:spPr>
          <a:xfrm>
            <a:off x="2666880" y="2146320"/>
            <a:ext cx="467208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597960" y="903240"/>
            <a:ext cx="7671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want to be the richest leprechaun of all, h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ough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Pot of Gold 05"/>
          <p:cNvPicPr/>
          <p:nvPr/>
        </p:nvPicPr>
        <p:blipFill>
          <a:blip r:embed="rId1"/>
          <a:stretch/>
        </p:blipFill>
        <p:spPr>
          <a:xfrm>
            <a:off x="2286000" y="2362320"/>
            <a:ext cx="4672080" cy="3659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Leprechaun 16"/>
          <p:cNvPicPr/>
          <p:nvPr/>
        </p:nvPicPr>
        <p:blipFill>
          <a:blip r:embed="rId2"/>
          <a:stretch/>
        </p:blipFill>
        <p:spPr>
          <a:xfrm>
            <a:off x="6248520" y="1905120"/>
            <a:ext cx="218736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674640" y="598320"/>
            <a:ext cx="821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refore, he went to the man and said,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want more gold.  What can I do to get more?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Man with Shamrock"/>
          <p:cNvPicPr/>
          <p:nvPr/>
        </p:nvPicPr>
        <p:blipFill>
          <a:blip r:embed="rId1"/>
          <a:stretch/>
        </p:blipFill>
        <p:spPr>
          <a:xfrm>
            <a:off x="5181480" y="1905120"/>
            <a:ext cx="1913040" cy="4343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Leprechaun 15"/>
          <p:cNvPicPr/>
          <p:nvPr/>
        </p:nvPicPr>
        <p:blipFill>
          <a:blip r:embed="rId2"/>
          <a:stretch/>
        </p:blipFill>
        <p:spPr>
          <a:xfrm>
            <a:off x="457200" y="2438280"/>
            <a:ext cx="4672080" cy="41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677520" y="522360"/>
            <a:ext cx="7090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an told the leprechaun to hide h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t of gold at the edge of the rainbow f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ryone knows that a leprechaun 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sed to put it there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Pot of Gold 02"/>
          <p:cNvPicPr/>
          <p:nvPr/>
        </p:nvPicPr>
        <p:blipFill>
          <a:blip r:embed="rId1"/>
          <a:stretch/>
        </p:blipFill>
        <p:spPr>
          <a:xfrm>
            <a:off x="2971800" y="2209680"/>
            <a:ext cx="467208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677520" y="674640"/>
            <a:ext cx="8474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greedy leprechaun did not hesitat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quickly put his gold at the end of the rainbow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waited for his fortune to double or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haps quadrupl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Pot of Gold 06"/>
          <p:cNvPicPr/>
          <p:nvPr/>
        </p:nvPicPr>
        <p:blipFill>
          <a:blip r:embed="rId1"/>
          <a:stretch/>
        </p:blipFill>
        <p:spPr>
          <a:xfrm>
            <a:off x="4572000" y="2362320"/>
            <a:ext cx="3382920" cy="42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678240" y="598320"/>
            <a:ext cx="819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t the man was as tricky as the leprechaun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 the leprechaun hid his gold at the end of t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inbow, the man hid and watche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Pot of Gold &amp; Rainbow 2"/>
          <p:cNvPicPr/>
          <p:nvPr/>
        </p:nvPicPr>
        <p:blipFill>
          <a:blip r:embed="rId1"/>
          <a:stretch/>
        </p:blipFill>
        <p:spPr>
          <a:xfrm>
            <a:off x="3962520" y="2217600"/>
            <a:ext cx="467172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Dream Gift"/>
          <p:cNvPicPr/>
          <p:nvPr/>
        </p:nvPicPr>
        <p:blipFill>
          <a:blip r:embed="rId1"/>
          <a:stretch/>
        </p:blipFill>
        <p:spPr>
          <a:xfrm>
            <a:off x="990720" y="2286000"/>
            <a:ext cx="7238880" cy="38908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380880" y="826920"/>
            <a:ext cx="872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see, the man had greedy dreams of his own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450360" y="522360"/>
            <a:ext cx="8274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n the leprechaun was off dreaming abou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gold he would soon have, the man stole t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prechaun’s gold and hid it in the bushe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left the leprechaun an empty po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Pot of Gold 22"/>
          <p:cNvPicPr/>
          <p:nvPr/>
        </p:nvPicPr>
        <p:blipFill>
          <a:blip r:embed="rId1"/>
          <a:stretch/>
        </p:blipFill>
        <p:spPr>
          <a:xfrm>
            <a:off x="2236680" y="233280"/>
            <a:ext cx="4672080" cy="639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829800" y="750960"/>
            <a:ext cx="7587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ever, the man did not notice that oth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re watching…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St Patrick Worm"/>
          <p:cNvPicPr/>
          <p:nvPr/>
        </p:nvPicPr>
        <p:blipFill>
          <a:blip r:embed="rId1"/>
          <a:stretch/>
        </p:blipFill>
        <p:spPr>
          <a:xfrm>
            <a:off x="5562720" y="3949560"/>
            <a:ext cx="3581280" cy="2908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Mouse Playing in Shamrocks"/>
          <p:cNvPicPr/>
          <p:nvPr/>
        </p:nvPicPr>
        <p:blipFill>
          <a:blip r:embed="rId2"/>
          <a:stretch/>
        </p:blipFill>
        <p:spPr>
          <a:xfrm>
            <a:off x="762120" y="2895480"/>
            <a:ext cx="4671720" cy="18003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2428560" y="1969920"/>
            <a:ext cx="630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 to trick both the man and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leprechaun, they re-hid the gol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678960" y="674640"/>
            <a:ext cx="8238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n the man and the leprechaun each notic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at their gold was gone, they became ve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gry at one another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Shamrock Plant"/>
          <p:cNvPicPr/>
          <p:nvPr/>
        </p:nvPicPr>
        <p:blipFill>
          <a:blip r:embed="rId1"/>
          <a:stretch/>
        </p:blipFill>
        <p:spPr>
          <a:xfrm>
            <a:off x="5116680" y="4114800"/>
            <a:ext cx="1792080" cy="2262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Man Dancing 3"/>
          <p:cNvPicPr/>
          <p:nvPr/>
        </p:nvPicPr>
        <p:blipFill>
          <a:blip r:embed="rId2"/>
          <a:stretch/>
        </p:blipFill>
        <p:spPr>
          <a:xfrm>
            <a:off x="1397160" y="2514600"/>
            <a:ext cx="2184120" cy="43434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7"/>
          <p:cNvSpPr/>
          <p:nvPr/>
        </p:nvSpPr>
        <p:spPr>
          <a:xfrm>
            <a:off x="4334040" y="2503440"/>
            <a:ext cx="4484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leprechaun stomped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s feet when all that 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nd was a pot of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over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533520" y="750960"/>
            <a:ext cx="8638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an was as mad as a bull. He threw down the shamrocks that had been left for him and walked off deeper into the woods where he hoped he could find another leprechaun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Shamrocks 4"/>
          <p:cNvPicPr/>
          <p:nvPr/>
        </p:nvPicPr>
        <p:blipFill>
          <a:blip r:embed="rId1"/>
          <a:stretch/>
        </p:blipFill>
        <p:spPr>
          <a:xfrm>
            <a:off x="5181480" y="2438280"/>
            <a:ext cx="3598920" cy="42674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Running of the Bulls 2"/>
          <p:cNvPicPr/>
          <p:nvPr/>
        </p:nvPicPr>
        <p:blipFill>
          <a:blip r:embed="rId2"/>
          <a:stretch/>
        </p:blipFill>
        <p:spPr>
          <a:xfrm>
            <a:off x="380880" y="3124080"/>
            <a:ext cx="4672080" cy="35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1816560" y="804960"/>
            <a:ext cx="7212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nce there was a leprechau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at lived in a small house at th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dge of the forest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Leprechaun 20"/>
          <p:cNvPicPr/>
          <p:nvPr/>
        </p:nvPicPr>
        <p:blipFill>
          <a:blip r:embed="rId1"/>
          <a:stretch/>
        </p:blipFill>
        <p:spPr>
          <a:xfrm>
            <a:off x="2028960" y="3276720"/>
            <a:ext cx="30146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669960" y="533520"/>
            <a:ext cx="613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 for the mouse and the worm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y shared their riches with all t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or children of Dublin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Year of the Rat 1"/>
          <p:cNvPicPr/>
          <p:nvPr/>
        </p:nvPicPr>
        <p:blipFill>
          <a:blip r:embed="rId1"/>
          <a:stretch/>
        </p:blipFill>
        <p:spPr>
          <a:xfrm>
            <a:off x="5715000" y="3352680"/>
            <a:ext cx="1930320" cy="2900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Filling Cornucopia"/>
          <p:cNvPicPr/>
          <p:nvPr/>
        </p:nvPicPr>
        <p:blipFill>
          <a:blip r:embed="rId2"/>
          <a:stretch/>
        </p:blipFill>
        <p:spPr>
          <a:xfrm>
            <a:off x="533520" y="2438280"/>
            <a:ext cx="3638520" cy="40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599040" y="598320"/>
            <a:ext cx="7983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oral of this story 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greedy people get what’s coming to th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Leprechaun 03"/>
          <p:cNvPicPr/>
          <p:nvPr/>
        </p:nvPicPr>
        <p:blipFill>
          <a:blip r:embed="rId1"/>
          <a:stretch/>
        </p:blipFill>
        <p:spPr>
          <a:xfrm>
            <a:off x="2514600" y="1905120"/>
            <a:ext cx="4672080" cy="44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304920" y="380880"/>
            <a:ext cx="6553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…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never trust a leprechaun or someone  just because he is dressed nice and 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mooth talker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Celebrating - Man"/>
          <p:cNvPicPr/>
          <p:nvPr/>
        </p:nvPicPr>
        <p:blipFill>
          <a:blip r:embed="rId1"/>
          <a:stretch/>
        </p:blipFill>
        <p:spPr>
          <a:xfrm>
            <a:off x="4452840" y="1981080"/>
            <a:ext cx="37893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5"/>
          <p:cNvSpPr/>
          <p:nvPr/>
        </p:nvSpPr>
        <p:spPr>
          <a:xfrm>
            <a:off x="1436760" y="1589040"/>
            <a:ext cx="367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end of the story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Bouquet"/>
          <p:cNvPicPr/>
          <p:nvPr/>
        </p:nvPicPr>
        <p:blipFill>
          <a:blip r:embed="rId1"/>
          <a:stretch/>
        </p:blipFill>
        <p:spPr>
          <a:xfrm>
            <a:off x="5029200" y="2362320"/>
            <a:ext cx="2631960" cy="3243240"/>
          </a:xfrm>
          <a:prstGeom prst="rect">
            <a:avLst/>
          </a:prstGeom>
          <a:ln w="0">
            <a:noFill/>
          </a:ln>
        </p:spPr>
      </p:pic>
      <p:sp>
        <p:nvSpPr>
          <p:cNvPr id="103" name="WordArt 7"/>
          <p:cNvSpPr txBox="1"/>
          <p:nvPr/>
        </p:nvSpPr>
        <p:spPr>
          <a:xfrm>
            <a:off x="762120" y="3276720"/>
            <a:ext cx="4267080" cy="180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Happy St. Patrick's Day!</a:t>
            </a:r>
            <a:endParaRPr b="1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907920" y="5856120"/>
            <a:ext cx="760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ought to you by Capen’s Chatter Childr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0" y="347760"/>
            <a:ext cx="951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leprechaun was a smart fellow but ve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eedy.  He loved gold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Leprechaun 10"/>
          <p:cNvPicPr/>
          <p:nvPr/>
        </p:nvPicPr>
        <p:blipFill>
          <a:blip r:embed="rId1"/>
          <a:stretch/>
        </p:blipFill>
        <p:spPr>
          <a:xfrm>
            <a:off x="2666880" y="1676520"/>
            <a:ext cx="4672080" cy="48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815400" y="701640"/>
            <a:ext cx="8489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 loved gold so much that if no one wa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oking, he would steal their gold right out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om under their nos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Leprechaun &amp; Penguin"/>
          <p:cNvPicPr/>
          <p:nvPr/>
        </p:nvPicPr>
        <p:blipFill>
          <a:blip r:embed="rId1"/>
          <a:stretch/>
        </p:blipFill>
        <p:spPr>
          <a:xfrm>
            <a:off x="1981080" y="2438280"/>
            <a:ext cx="467208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447480" y="598320"/>
            <a:ext cx="862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unny thing was that the animals and peo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at he stole from still wanted to be his friend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cause he was so cleaver he made them believ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at someone else had stolen their gold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Leprechaun 21"/>
          <p:cNvPicPr/>
          <p:nvPr/>
        </p:nvPicPr>
        <p:blipFill>
          <a:blip r:embed="rId1"/>
          <a:stretch/>
        </p:blipFill>
        <p:spPr>
          <a:xfrm>
            <a:off x="2286000" y="2590920"/>
            <a:ext cx="4672080" cy="39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752400" y="217440"/>
            <a:ext cx="847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haps he fooled them because he had such a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m smile.  Perhaps he fooled them because 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s a fast and smooth talker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Leprechaun Discovery"/>
          <p:cNvPicPr/>
          <p:nvPr/>
        </p:nvPicPr>
        <p:blipFill>
          <a:blip r:embed="rId1"/>
          <a:stretch/>
        </p:blipFill>
        <p:spPr>
          <a:xfrm>
            <a:off x="2895480" y="1828800"/>
            <a:ext cx="27860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447480" y="522360"/>
            <a:ext cx="8127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ever the case, he always managed to fool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thers.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Leprechaun &amp; Mouse Dancing"/>
          <p:cNvPicPr/>
          <p:nvPr/>
        </p:nvPicPr>
        <p:blipFill>
          <a:blip r:embed="rId1"/>
          <a:stretch/>
        </p:blipFill>
        <p:spPr>
          <a:xfrm>
            <a:off x="2236680" y="1506600"/>
            <a:ext cx="4672080" cy="38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751680" y="598320"/>
            <a:ext cx="577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til one day he met his match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Man with Shamrock"/>
          <p:cNvPicPr/>
          <p:nvPr/>
        </p:nvPicPr>
        <p:blipFill>
          <a:blip r:embed="rId1"/>
          <a:stretch/>
        </p:blipFill>
        <p:spPr>
          <a:xfrm>
            <a:off x="6248520" y="762120"/>
            <a:ext cx="2516040" cy="5715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6"/>
          <p:cNvSpPr/>
          <p:nvPr/>
        </p:nvSpPr>
        <p:spPr>
          <a:xfrm>
            <a:off x="521640" y="1969920"/>
            <a:ext cx="60890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handsome, well dressed, a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ll mannered man visited t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prechaun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could make you very rich he tol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greedy leprechaun.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only you had some gold t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vest…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304920" y="674640"/>
            <a:ext cx="8926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greedy leprechaun started thinking abou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the man had said.  He loved gold, gold, a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re gol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Leprechaun with Gold"/>
          <p:cNvPicPr/>
          <p:nvPr/>
        </p:nvPicPr>
        <p:blipFill>
          <a:blip r:embed="rId1"/>
          <a:stretch/>
        </p:blipFill>
        <p:spPr>
          <a:xfrm>
            <a:off x="2286000" y="1828800"/>
            <a:ext cx="4672080" cy="47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15:29:06Z</dcterms:created>
  <dc:creator>WCPS</dc:creator>
  <dc:description/>
  <dc:language>en-US</dc:language>
  <cp:lastModifiedBy>RomaK</cp:lastModifiedBy>
  <dcterms:modified xsi:type="dcterms:W3CDTF">2015-09-04T10:36:14Z</dcterms:modified>
  <cp:revision>10</cp:revision>
  <dc:subject/>
  <dc:title>The leprechaun and the man</dc:title>
</cp:coreProperties>
</file>