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7160E-5EC2-4EB6-8CB5-8188398DB72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day’s lesson is about letter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Extension work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tters (Hole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8th December 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bj: To write a reply to Stanley's lette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r task is to write a reply to Stanley's let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will need an addr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[New York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can look back at the letter you wrote to Stanley’s mum to remind you what you wro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to includ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must include what ever Stanley said in the letter and you decide if you believe him or no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E6FA6-D42B-4F8B-A180-B887AF7EA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D32D5-2A6B-4CD1-921A-CA6CC3225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712D7-273F-44D4-8F89-1ED64A023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57F7D-249E-4D89-969F-74F8AD14F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39F96-683B-4B3F-8329-8A96F9E90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20243-C6CE-4A4D-9BD2-9DABAFCB4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4C6C2-C7D5-4947-8C6D-F6CB17C8D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CD317-C440-4D36-9B9C-AF481B6FF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BADB8-28EA-449B-ACD2-1EF15E7F0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04DC9-2FD4-4B86-B959-A0AB22436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99BCD-952C-42FE-BB40-20646DB8A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40CE9-603D-44CA-ACB4-ABFD14F14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5136A-B6CC-4B7D-825C-259B2FC9D9E8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14240" y="2428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000000"/>
                </a:solidFill>
                <a:latin typeface="Calibri"/>
              </a:rPr>
              <a:t>Today’s lesson is about letters</a:t>
            </a:r>
            <a:br>
              <a:rPr sz="9600"/>
            </a:br>
            <a:r>
              <a:rPr b="0" lang="en-GB" sz="9600" spc="-1" strike="noStrike">
                <a:solidFill>
                  <a:srgbClr val="000000"/>
                </a:solidFill>
                <a:latin typeface="Calibri"/>
              </a:rPr>
              <a:t>(Extension work)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435780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Letters (Holes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800320" y="-360"/>
            <a:ext cx="334332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18</a:t>
            </a:r>
            <a:r>
              <a:rPr b="0" lang="en-GB" sz="30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 December 2009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4"/>
          <p:cNvSpPr/>
          <p:nvPr/>
        </p:nvSpPr>
        <p:spPr>
          <a:xfrm>
            <a:off x="428760" y="928800"/>
            <a:ext cx="85010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000000"/>
                </a:solidFill>
                <a:latin typeface="Calibri"/>
              </a:rPr>
              <a:t>Obj: To write a reply to Stanley's letter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428760" y="571320"/>
            <a:ext cx="8229600" cy="61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alibri"/>
              </a:rPr>
              <a:t>Your task is to write a reply to Stanley's letter.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alibri"/>
              </a:rPr>
              <a:t>It will need an address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alibri"/>
              </a:rPr>
              <a:t>[New York]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28760" y="642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700" spc="-1" strike="noStrike">
                <a:solidFill>
                  <a:srgbClr val="000000"/>
                </a:solidFill>
                <a:latin typeface="Calibri"/>
              </a:rPr>
              <a:t>You can look back at the letter you wrote to Stanley’s mum to remind you what you wrote</a:t>
            </a:r>
            <a:endParaRPr b="0" lang="en-US" sz="6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What to includ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1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700" spc="-1" strike="noStrike">
                <a:solidFill>
                  <a:srgbClr val="000000"/>
                </a:solidFill>
                <a:latin typeface="Calibri"/>
              </a:rPr>
              <a:t>You must include what ever Stanley said in the letter and you decide if you believe him or not.</a:t>
            </a:r>
            <a:endParaRPr b="0" lang="en-US" sz="6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4T10:53:39Z</dcterms:created>
  <dc:creator>james</dc:creator>
  <dc:description/>
  <dc:language>en-US</dc:language>
  <cp:lastModifiedBy>RomaK</cp:lastModifiedBy>
  <dcterms:modified xsi:type="dcterms:W3CDTF">2015-09-04T10:36:00Z</dcterms:modified>
  <cp:revision>7</cp:revision>
  <dc:subject/>
  <dc:title>Today’s lesson is about letters</dc:title>
</cp:coreProperties>
</file>