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F45FF-24BC-4D00-A606-9CA7D8B94E0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s lesson is about let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staff are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all staff are frien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other boys are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they are all frien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accommodation is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it is luxur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he is enjoying him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he is having a good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about dad’s inven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 something about the sneak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w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do believe me don’t you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ar m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ve Always Stanl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w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do believe me don’t you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P GREEN L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UP A POSTCODE/ZIP CO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th DECEMBER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th December 20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es (let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To write a letter to Stanley's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apter 9 Stanley writes a letter to his mum to let her know how he is doing and what is going on at camp green lake. In the letter he doesn’t tell her the truth because he doesn’t want her to worry about him – so he tells s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ITE L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pter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nley, exhausted after digging his first hole, returns to camp. He enters the recreation room, which is called the wreck room. Everything in the wreck room is broken. Stanley bumps into a large boy who tries to pick a fight with him. Stanley tries to avoid the fight and X-Ray and Armpit come to his rescue saying, "You don't want to mess with the Caveman." Stanley, Armpit, Squid, and X-Ray talk about the trouble of digging holes. Stanley has brought his box of paper to the wreck room because he wants to write a letter to his mother. When he explains to Squid that his mother will worry if he doesn't write to her, Squid scowls at him. Stanley notices that the entire room is wrecked because the boys themselves have broken the things in it. Stanley waits until Squid leaves before writing his letter. When Stanley does write to his mother he tells her he is having fun and swimming a lot. In the middle of writing his letter Stanley notices that Zero is staring at his letter. Zero asks Stanley, "Did the shoes have red X's on the back?" Stanley responds that they did and then hears Armpit and Squid calling Caveman to come to dinner. Stanley realizes that his nickname is Cave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tter Stanley wr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ask is to write Stanley’s full le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needs an address [CAMP GREEN LAKE, TEXAS] and must include some of the foll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mp green lake is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it is very green and a very huge l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fun things’ he is doing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don’t write you have to dig h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lovely food’ he is hav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loads of tasty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1E0FF-AEE9-41D4-A27F-E8BDAF523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9E897-BF44-4348-B0C8-6492C46DC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5F709-47E6-4B82-971E-E5FD67879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4546A-F735-414F-8FFB-7AB415D34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FC599-1597-4C65-B095-42B231E88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DF301-7D41-479E-BAAB-F8AF0F414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CE11F-67AD-4313-8280-66B4691D5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9E177-7069-4542-9C23-F9A0FA3D3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61F93-78AD-4988-91BA-5A9AA3B55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39D32-8A10-4CBA-BD59-376042FAB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EB952-E610-4C0A-98C1-E1FBCC3C1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B7412-7859-4E70-AD03-585A0855E1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4032D-6244-44A1-8914-F457D6C6B02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Today's lesson is about letter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staff are lik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all staff are friendly.</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other boys are like</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they are all friendly.</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accommodation is lik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it is luxuriou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much he is enjoying himself</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he is having a good time.</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28760" y="71424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Ask about dad’s invention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28760" y="428760"/>
            <a:ext cx="8229600" cy="4525920"/>
          </a:xfrm>
          <a:prstGeom prst="rect">
            <a:avLst/>
          </a:prstGeom>
          <a:noFill/>
          <a:ln w="0">
            <a:noFill/>
          </a:ln>
        </p:spPr>
        <p:txBody>
          <a:bodyPr anchor="t">
            <a:normAutofit/>
          </a:bodyPr>
          <a:p>
            <a:pPr marL="343080" indent="-343080">
              <a:lnSpc>
                <a:spcPct val="80000"/>
              </a:lnSpc>
              <a:spcBef>
                <a:spcPts val="2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900" spc="-1" strike="noStrike">
                <a:solidFill>
                  <a:srgbClr val="000000"/>
                </a:solidFill>
                <a:latin typeface="Calibri"/>
              </a:rPr>
              <a:t>Include something about the sneakers. </a:t>
            </a:r>
            <a:endParaRPr b="0" lang="en-US" sz="8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28760" y="571680"/>
            <a:ext cx="8229600" cy="4525920"/>
          </a:xfrm>
          <a:prstGeom prst="rect">
            <a:avLst/>
          </a:prstGeom>
          <a:noFill/>
          <a:ln w="0">
            <a:noFill/>
          </a:ln>
        </p:spPr>
        <p:txBody>
          <a:bodyPr anchor="t">
            <a:normAutofit/>
          </a:bodyPr>
          <a:p>
            <a:pPr marL="343080" indent="-343080">
              <a:lnSpc>
                <a:spcPct val="90000"/>
              </a:lnSpc>
              <a:spcBef>
                <a:spcPts val="2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200" spc="-1" strike="noStrike">
                <a:solidFill>
                  <a:srgbClr val="000000"/>
                </a:solidFill>
                <a:latin typeface="Calibri"/>
              </a:rPr>
              <a:t>End with: </a:t>
            </a:r>
            <a:endParaRPr b="0" lang="en-US" sz="8200" spc="-1" strike="noStrike">
              <a:solidFill>
                <a:srgbClr val="000000"/>
              </a:solidFill>
              <a:latin typeface="Calibri"/>
            </a:endParaRPr>
          </a:p>
          <a:p>
            <a:pPr marL="343080" indent="-343080">
              <a:lnSpc>
                <a:spcPct val="90000"/>
              </a:lnSpc>
              <a:spcBef>
                <a:spcPts val="2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200" spc="-1" strike="noStrike">
                <a:solidFill>
                  <a:srgbClr val="000000"/>
                </a:solidFill>
                <a:latin typeface="Calibri"/>
              </a:rPr>
              <a:t>You do believe me don’t you mum?</a:t>
            </a:r>
            <a:endParaRPr b="0" lang="en-US" sz="8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57120" y="1714680"/>
            <a:ext cx="8229600" cy="50004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Dear mum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Love Always Stanley</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nd with: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You do believe me don’t you mum?</a:t>
            </a:r>
            <a:endParaRPr b="0" lang="en-US" sz="36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75" name="TextBox 3"/>
          <p:cNvSpPr/>
          <p:nvPr/>
        </p:nvSpPr>
        <p:spPr>
          <a:xfrm>
            <a:off x="4929120" y="357120"/>
            <a:ext cx="3929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AMP GREEN LAK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EX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MAKE UP A POSTCODE/ZIP CO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8</a:t>
            </a:r>
            <a:r>
              <a:rPr b="1" lang="en-GB" sz="2000" spc="-1" strike="noStrike" baseline="30000">
                <a:solidFill>
                  <a:srgbClr val="000000"/>
                </a:solidFill>
                <a:latin typeface="Calibri"/>
              </a:rPr>
              <a:t>th</a:t>
            </a:r>
            <a:r>
              <a:rPr b="1" lang="en-GB" sz="2000" spc="-1" strike="noStrike">
                <a:solidFill>
                  <a:srgbClr val="000000"/>
                </a:solidFill>
                <a:latin typeface="Calibri"/>
              </a:rPr>
              <a:t> DEC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36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18</a:t>
            </a:r>
            <a:r>
              <a:rPr b="1" lang="en-GB" sz="4400" spc="-1" strike="noStrike" u="sng" baseline="30000">
                <a:solidFill>
                  <a:srgbClr val="000000"/>
                </a:solidFill>
                <a:uFillTx/>
                <a:latin typeface="Calibri"/>
              </a:rPr>
              <a:t>th</a:t>
            </a:r>
            <a:r>
              <a:rPr b="1" lang="en-GB" sz="4400" spc="-1" strike="noStrike" u="sng">
                <a:solidFill>
                  <a:srgbClr val="000000"/>
                </a:solidFill>
                <a:uFillTx/>
                <a:latin typeface="Calibri"/>
              </a:rPr>
              <a:t> December 2009 </a:t>
            </a:r>
            <a:endParaRPr b="0" lang="en-US" sz="4400" spc="-1" strike="noStrike">
              <a:solidFill>
                <a:srgbClr val="000000"/>
              </a:solidFill>
              <a:latin typeface="Calibri"/>
            </a:endParaRPr>
          </a:p>
        </p:txBody>
      </p:sp>
      <p:sp>
        <p:nvSpPr>
          <p:cNvPr id="50" name="PlaceHolder 2"/>
          <p:cNvSpPr>
            <a:spLocks noGrp="1"/>
          </p:cNvSpPr>
          <p:nvPr>
            <p:ph type="subTitle"/>
          </p:nvPr>
        </p:nvSpPr>
        <p:spPr>
          <a:xfrm>
            <a:off x="571680" y="500040"/>
            <a:ext cx="3714480" cy="5716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Holes (letters)</a:t>
            </a:r>
            <a:endParaRPr b="0" lang="en-US" sz="3200" spc="-1" strike="noStrike">
              <a:solidFill>
                <a:srgbClr val="000000"/>
              </a:solidFill>
              <a:latin typeface="Calibri"/>
            </a:endParaRPr>
          </a:p>
        </p:txBody>
      </p:sp>
      <p:sp>
        <p:nvSpPr>
          <p:cNvPr id="51" name="Rectangle 3"/>
          <p:cNvSpPr/>
          <p:nvPr/>
        </p:nvSpPr>
        <p:spPr>
          <a:xfrm>
            <a:off x="928800" y="1714680"/>
            <a:ext cx="8072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Obj:To write a letter to Stanley's mum</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28760" y="428760"/>
            <a:ext cx="8229600" cy="4525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 chapter 9 Stanley writes a letter to his mum to let her know how he is doing and what is going on at camp green lake. In the letter he doesn’t tell her the truth because he doesn’t want her to worry about him – so he tells some </a:t>
            </a: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t>
            </a:r>
            <a:r>
              <a:rPr b="0" lang="en-GB" sz="3600" spc="-1" strike="noStrike">
                <a:solidFill>
                  <a:srgbClr val="000000"/>
                </a:solidFill>
                <a:latin typeface="Calibri"/>
              </a:rPr>
              <a:t>WHITE L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0" y="0"/>
            <a:ext cx="9144000" cy="68580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    </a:t>
            </a:r>
            <a:r>
              <a:rPr b="1" lang="en-GB" sz="4400" spc="-1" strike="noStrike" u="sng">
                <a:solidFill>
                  <a:srgbClr val="000000"/>
                </a:solidFill>
                <a:uFillTx/>
                <a:latin typeface="Calibri"/>
              </a:rPr>
              <a:t>Chapter 9</a:t>
            </a:r>
            <a:endParaRPr b="0" lang="en-US" sz="44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 </a:t>
            </a:r>
            <a:r>
              <a:rPr b="0" lang="en-GB" sz="2300" spc="-1" strike="noStrike">
                <a:solidFill>
                  <a:srgbClr val="000000"/>
                </a:solidFill>
                <a:latin typeface="Calibri"/>
              </a:rPr>
              <a:t>Stanley, exhausted after digging his first hole, returns to camp. He enters the recreation room, which is called the wreck room. Everything in the wreck room is broken. Stanley bumps into a large boy who tries to pick a fight with him. Stanley tries to avoid the fight and X-Ray and Armpit come to his rescue saying, "You don't want to mess with the Caveman." Stanley, Armpit, Squid, and X-Ray talk about the trouble of digging holes. Stanley has brought his box of paper to the wreck room because he wants to write a letter to his mother. When he explains to Squid that his mother will worry if he doesn't write to her, Squid scowls at him. Stanley notices that the entire room is wrecked because the boys themselves have broken the things in it. Stanley waits until Squid leaves before writing his letter. When Stanley does write to his mother he tells her he is having fun and swimming a lot. In the middle of writing his letter Stanley notices that Zero is staring at his letter. Zero asks Stanley, "Did the shoes have red X's on the back?" Stanley responds that they did and then hears Armpit and Squid calling Caveman to come to dinner. Stanley realizes that his nickname is Caveman.</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57120" y="428400"/>
            <a:ext cx="8229600" cy="278604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Letter Stanley wrote</a:t>
            </a:r>
            <a:endParaRPr b="0" lang="en-US" sz="3200" spc="-1" strike="noStrike">
              <a:solidFill>
                <a:srgbClr val="000000"/>
              </a:solidFill>
              <a:latin typeface="Calibri"/>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ask is to write Stanley’s full lette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t needs an address [CAMP GREEN LAKE, TEXAS] and must include some of the follow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camp green lake is lik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say it is very green and a very huge lake</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fun things’ he is doing there</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don’t write you have to dig holes.</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lovely food’ he is having</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loads of tasty food</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20:24:07Z</dcterms:created>
  <dc:creator>james</dc:creator>
  <dc:description/>
  <dc:language>en-US</dc:language>
  <cp:lastModifiedBy>RomaK</cp:lastModifiedBy>
  <dcterms:modified xsi:type="dcterms:W3CDTF">2015-09-04T10:35:54Z</dcterms:modified>
  <cp:revision>14</cp:revision>
  <dc:subject/>
  <dc:title>Holes</dc:title>
</cp:coreProperties>
</file>