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move the slide</a:t>
            </a:r>
            <a:endParaRPr b="0" lang="en-US" sz="4200" spc="-1" strike="noStrike">
              <a:solidFill>
                <a:srgbClr val="ffffff"/>
              </a:solidFill>
              <a:latin typeface="Arial"/>
            </a:endParaRPr>
          </a:p>
        </p:txBody>
      </p:sp>
      <p:sp>
        <p:nvSpPr>
          <p:cNvPr id="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E47BC-4272-4192-AE85-1A7683A8CC7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Exam Questions on </a:t>
            </a:r>
            <a:br>
              <a:rPr sz="1200"/>
            </a:br>
            <a:r>
              <a:rPr b="0" lang="en-US" sz="1200" spc="-1" strike="noStrike">
                <a:solidFill>
                  <a:srgbClr val="000000"/>
                </a:solidFill>
                <a:latin typeface="Arial"/>
              </a:rPr>
              <a:t>Of Mice and Men</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AB English Litera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Exam Questions on </a:t>
            </a:r>
            <a:br>
              <a:rPr sz="1200"/>
            </a:br>
            <a:r>
              <a:rPr b="0" lang="en-US" sz="1200" spc="-1" strike="noStrike">
                <a:solidFill>
                  <a:srgbClr val="000000"/>
                </a:solidFill>
                <a:latin typeface="Arial"/>
              </a:rPr>
              <a:t>Of Mice and Me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AB English Lit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 Top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to Table of Cont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ow are some possible essay topics suitable for GCSE Level questions on 'Of Mice and Men'. Use these topics for revision by writing or planning the essays and comparing your work with that of a fri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illing of Candy's old dog foreshadowed Lennie's death. Describe the two killings, pointing out any similarities and differences between them.</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ll the other ranch hands go to town, Lennie, Crooks and Candy are left behind. Describe what each of these three do after the others leave, and explain what they have in common that causes them to be left out. See MODEL ANSWER</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in some detail the farm that George and Lennie dream of owning one day. When Candy and Crooks join the dream, what part do they foresee themselves playing?</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 appears three times in the novel. Briefly describe what takes place on each occasion. On which occasion does she reveal the most about herself, and what is it?</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like to pet nice things with my fingers, soft things.' Trace in detail the 'sof' things' that Lennie pets in the novel, showing that the petting grows more serious as the novel goes on.</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in some detail the incident where Lennie crushes Curley's hand. What does this incident reveal about each of these two characters?</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Curley is physically aggressive towards Lennie, his wife is sexually provocative. Show how these two characters create trouble for Lennie, and combine to cause his death.</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people in the novel suffer from disappointment. Choose any three of the following characters and discuss what reasons they have to be disappointed about their life: Crooks - Curley - George - Candy</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character do you feel most sorry for in this story? Explain your choice by referring closely to the events of the novel.</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m is the only character in the novel who is not handicapped in some way. Do you agre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to Table of Cont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ow are some possible essay topics suitable for GCSE Level questions on 'Of Mice and Men'. Use these topics for revision by writing or planning the essays and comparing your work with that of a fri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illing of Candy's old dog foreshadowed Lennie's death. Describe the two killings, pointing out any similarities and differences between them.</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ll the other ranch hands go to town, Lennie, Crooks and Candy are left behind. Describe what each of these three do after the others leave, and explain what they have in common that causes them to be left out. See MODEL ANSWER</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in some detail the farm that George and Lennie dream of owning one day. When Candy and Crooks join the dream, what part do they foresee themselves playing?</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 appears three times in the novel. Briefly describe what takes place on each occasion. On which occasion does she reveal the most about herself, and what is it?</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like to pet nice things with my fingers, soft things.' Trace in detail the 'sof' things' that Lennie pets in the novel, showing that the petting grows more serious as the novel goes on.</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in some detail the incident where Lennie crushes Curley's hand. What does this incident reveal about each of these two characters?</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Curley is physically aggressive towards Lennie, his wife is sexually provocative. Show how these two characters create trouble for Lennie, and combine to cause his death.</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people in the novel suffer from disappointment. Choose any three of the following characters and discuss what reasons they have to be disappointed about their life: Crooks - Curley - George - Candy</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character do you feel most sorry for in this story? Explain your choice by referring closely to the events of the novel.</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m is the only character in the novel who is not handicapped in some way. Do you ag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igher Tier</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does Steinbeck create a sense of insecurity in the nov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write ab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y some characters may feel insec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ses of langu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contribution of the sett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Other features which create a sense of insecur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igher Tie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does Steinbeck create a sense of insecurity in the no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write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y some characters may feel insec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ses of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contribution of the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Other features which create a sense of insecu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igher Tier</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f Mice and Men ends where it begins, with George and Lenny, alone by the poo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your response to the ending of the nov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b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Your feelings about George’s decision to shoot Lenn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ays in which Steinbeck prepares us for this e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y the writer chooses to end the story in this w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ether the ending suggests that the friendship between George and Lenny was pointl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igher Tie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f Mice and Men ends where it begins, with George and Lenny, alone by the p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your response to the ending of the no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Your feelings about George’s decision to shoot Len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ays in which Steinbeck prepares us for this e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y the writer chooses to end the story in this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ether the ending suggests that the friendship between George and Lenny was point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igher Tier</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pes and dreams help people to survive, even if they can never become r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rue is this for characters in Of Mice and M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igher Tie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pes and dreams help people to survive, even if they can never become re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rue is this for characters in Of Mice and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igher Tier</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ow how John Steinbeck explores the complex relationship between George and Lenni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write ab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keeps them together, and the difficulties they each h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he writer brings out differences between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hey are different from other people on the fa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you think Steinbeck’s purpose was in writing about this relationshi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igher Tie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ow how John Steinbeck explores the complex relationship between George and Lenni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write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keeps them together, and the difficulties they each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he writer brings out differences between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hey are different from other people on the f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you think Steinbeck’s purpose was in writing about this relation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ation Ti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 yourself of the description of Lennie’s fight with Curley in the extract below.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bout the importance of this passage in Of Mice and M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rite ab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different aspects of Lennie shown in the pass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s revealed about the relationship between George and      Lennie, and about Curle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his passage links with other parts of the nov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importance of the passage in the novel as a who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ation T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 yourself of the description of Lennie’s fight with Curley in the extract be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bout the importance of this passage in Of Mice and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rite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different aspects of Lennie shown in the pa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s revealed about the relationship between George and      Lennie, and about Cur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his passage links with other parts of the no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importance of the passage in the novel as a w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ation Ti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ny characters in Of Mice and Men are shown to be lone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bout loneliness in the nov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write ab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haracters who are lone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he write shows their loneli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differences and similarities between lonely charact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you think the writer is saying about loneli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ation T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ny characters in Of Mice and Men are shown to be lon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bout loneliness in the no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write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haracters who are lon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he write shows their loneli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differences and similarities between lonely charac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you think the writer is saying about loneli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ation Ti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d the passage in the novel where Lennie kills Curley’s wife, from the description of the barn to the point when Lennie leaves to go to the brus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b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y the writer begins this passage with the dead pupp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y Lennie and Curley’s wife behave in the way they d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he writer makes the death seem unavoida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ether you were surprised when you first read about her death, and wh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ation T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d the passage in the novel where Lennie kills Curley’s wife, from the description of the barn to the point when Lennie leaves to go to the bru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y the writer begins this passage with the dead pupp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y Lennie and Curley’s wife behave in the way they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he writer makes the death seem unavoid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ether you were surprised when you first read about her death, and w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ation Ti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f Mice and Men shows us that people can be cruel, or kind, or sometimes a mixture of bo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three charact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b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ways in which the different characters are cruel, or kind, or a mixture of bo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y they behave as they d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you respond to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Steinbeck writes about them to make you respond this w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ation T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f Mice and Men shows us that people can be cruel, or kind, or sometimes a mixture of bo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three charac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ways in which the different characters are cruel, or kind, or a mixture of bo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y they behave as they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you respond to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Steinbeck writes about them to make you respond this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2E3366-9693-4685-ADEC-5C59C48504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F8D3C4-5A98-417A-B3EF-C89912A1D6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65359A-3771-4F67-A2AF-AA71D0F95E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EC456C-285A-4B9A-868C-62AD75268D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C4771C-1D33-418D-A022-C2B1775E69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83A96D-05FD-4E5D-9D1F-3B48F64E22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E852D1-8944-4944-AE10-799AFEFF97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C0081B-2ACD-4CD3-99D1-FD662E14E0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4CAD01-250F-46E9-9899-E7D0E326D1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55DDE6-6EE1-4F23-8404-4AE05EE5B8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3557F9-4A08-4280-AAAF-36B2F86DF0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DD6E83-D07C-4008-BDFC-6E12B3F9B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01C198-27E1-4E39-937C-4621CCDA0E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8B1E5D-4877-4324-AB42-3FFD33B722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354F66-F8F7-4DD4-9DEE-1FD3DB14B6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1823E8-43F5-4764-8E36-465C25621A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2BD5A9-E2DC-4DB0-85CE-DB64D61E55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D796AF-88E4-4F83-A131-DC1B52AEED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DBC0ED-55B3-49FB-8921-8E11709686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C41F5E-F67F-495B-BB09-942A3ACB67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061B5D-3062-4E0A-A1D3-4E8275A7D3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F6669-4375-42C7-96EF-B433562159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13B38-1FB3-42AB-A3AB-BAC77F4344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73EA1-6A77-464F-9C1E-C7138731C5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A39A7-C947-446E-A1E3-7D6BF0C06BE0}"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5"/>
            <p:cNvSpPr/>
            <p:nvPr/>
          </p:nvSpPr>
          <p:spPr>
            <a:xfrm>
              <a:off x="0" y="1384200"/>
              <a:ext cx="8991720" cy="1828800"/>
            </a:xfrm>
            <a:custGeom>
              <a:avLst/>
              <a:gdLst>
                <a:gd name="textAreaLeft" fmla="*/ 0 w 8991720"/>
                <a:gd name="textAreaRight" fmla="*/ 4496760 w 8991720"/>
                <a:gd name="textAreaTop" fmla="*/ 0 h 1828800"/>
                <a:gd name="textAreaBottom" fmla="*/ 1829160 h 1828800"/>
              </a:gdLst>
              <a:ahLst/>
              <a:rect l="textAreaLeft" t="textAreaTop" r="textAreaRight" b="textAreaBottom"/>
              <a:pathLst>
                <a:path w="4917" h="1000">
                  <a:moveTo>
                    <a:pt x="0" y="0"/>
                  </a:moveTo>
                  <a:lnTo>
                    <a:pt x="4416" y="0"/>
                  </a:lnTo>
                  <a:cubicBezTo>
                    <a:pt x="4693" y="0"/>
                    <a:pt x="4917" y="223"/>
                    <a:pt x="4917" y="500"/>
                  </a:cubicBezTo>
                  <a:cubicBezTo>
                    <a:pt x="4917" y="776"/>
                    <a:pt x="4693" y="999"/>
                    <a:pt x="4417"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B75ED-9C23-41F1-B08B-DB7A598D0F3A}"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newi.ac.uk/englishresources/workunits/ks4/fiction/ofmicemen/smallheath/sample.html" TargetMode="Externa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1427040"/>
            <a:ext cx="8077320" cy="160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200"/>
            </a:br>
            <a:r>
              <a:rPr b="1" lang="en-GB" sz="4200" spc="-1" strike="noStrike">
                <a:solidFill>
                  <a:srgbClr val="ffffff"/>
                </a:solidFill>
                <a:latin typeface="Arial"/>
              </a:rPr>
              <a:t>Exam Questions on </a:t>
            </a:r>
            <a:br>
              <a:rPr sz="4200"/>
            </a:br>
            <a:r>
              <a:rPr b="1" i="1" lang="en-GB" sz="4200" spc="-1" strike="noStrike">
                <a:solidFill>
                  <a:srgbClr val="ffffff"/>
                </a:solidFill>
                <a:latin typeface="Arial"/>
              </a:rPr>
              <a:t>Of Mice and Men</a:t>
            </a:r>
            <a:br>
              <a:rPr sz="4200"/>
            </a:br>
            <a:endParaRPr b="0" lang="en-US" sz="4200" spc="-1" strike="noStrike">
              <a:solidFill>
                <a:srgbClr val="ffffff"/>
              </a:solidFill>
              <a:latin typeface="Arial"/>
            </a:endParaRPr>
          </a:p>
        </p:txBody>
      </p:sp>
      <p:sp>
        <p:nvSpPr>
          <p:cNvPr id="99" name="PlaceHolder 2"/>
          <p:cNvSpPr>
            <a:spLocks noGrp="1"/>
          </p:cNvSpPr>
          <p:nvPr>
            <p:ph type="subTitle"/>
          </p:nvPr>
        </p:nvSpPr>
        <p:spPr>
          <a:xfrm>
            <a:off x="1066320" y="3441240"/>
            <a:ext cx="6629400" cy="16765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NEAB English Litera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609480" y="533520"/>
            <a:ext cx="7925040" cy="5486400"/>
          </a:xfrm>
          <a:prstGeom prst="rect">
            <a:avLst/>
          </a:prstGeom>
          <a:noFill/>
          <a:ln w="0">
            <a:noFill/>
          </a:ln>
        </p:spPr>
        <p:txBody>
          <a:bodyPr anchor="t">
            <a:normAutofit/>
          </a:bodyPr>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xam Topics</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ck to Table of Contents</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low are some possible essay topics suitable for GCSE Level questions on 'Of Mice and Men'. Use these topics for revision by writing or planning the essays and comparing your work with that of a friend.</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killing of Candy's old dog foreshadowed Lennie's death. Describe the two killings, pointing out any similarities and differences between them.</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all the other ranch hands go to town, Lennie, Crooks and Candy are left behind. Describe what each of these three do after the others leave, and explain what they have in common that causes them to be left out. </a:t>
            </a:r>
            <a:r>
              <a:rPr b="0" lang="en-GB" sz="1200" spc="-1" strike="noStrike" u="sng">
                <a:solidFill>
                  <a:srgbClr val="996666"/>
                </a:solidFill>
                <a:uFillTx/>
                <a:latin typeface="Arial"/>
                <a:hlinkClick r:id="rId1"/>
              </a:rPr>
              <a:t>See MODEL ANSWER</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cribe in some detail the farm that George and Lennie dream of owning one day. When Candy and Crooks join the dream, what part do they foresee themselves playing?</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rley's wife appears three times in the novel. Briefly describe what takes place on each occasion. On which occasion does she reveal the most about herself, and what is it?</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like to pet nice things with my fingers, soft things.' Trace in detail the 'sof' things' that Lennie pets in the novel, showing that the petting grows more serious as the novel goes on.</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cribe in some detail the incident where Lennie crushes Curley's hand. What does this incident reveal about each of these two characters?</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Curley is physically aggressive towards Lennie, his wife is sexually provocative. Show how these two characters create trouble for Lennie, and combine to cause his death.</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people in the novel suffer from disappointment. Choose any three of the following characters and discuss what reasons they have to be disappointed about their life: Crooks - Curley - George - Candy</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ch character do you feel most sorry for in this story? Explain your choice by referring closely to the events of the novel.</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m is the only character in the novel who is not handicapped in some way. Do you agree?</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1" lang="en-GB" sz="3800" spc="-1" strike="noStrike">
                <a:solidFill>
                  <a:srgbClr val="ffffff"/>
                </a:solidFill>
                <a:latin typeface="Arial"/>
              </a:rPr>
              <a:t>Higher Tier</a:t>
            </a:r>
            <a:br>
              <a:rPr sz="3800"/>
            </a:br>
            <a:endParaRPr b="0" lang="en-US" sz="3800" spc="-1" strike="noStrike">
              <a:solidFill>
                <a:srgbClr val="ffffff"/>
              </a:solidFill>
              <a:latin typeface="Arial"/>
            </a:endParaRPr>
          </a:p>
        </p:txBody>
      </p:sp>
      <p:sp>
        <p:nvSpPr>
          <p:cNvPr id="101" name="PlaceHolder 2"/>
          <p:cNvSpPr>
            <a:spLocks noGrp="1"/>
          </p:cNvSpPr>
          <p:nvPr>
            <p:ph/>
          </p:nvPr>
        </p:nvSpPr>
        <p:spPr>
          <a:xfrm>
            <a:off x="609480" y="1599840"/>
            <a:ext cx="7925040" cy="441972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a:solidFill>
                  <a:srgbClr val="000000"/>
                </a:solidFill>
                <a:latin typeface="Comic Sans MS"/>
              </a:rPr>
              <a:t>How does Steinbeck create a sense of insecurity in the novel?</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You should write abou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Why some characters may feel insecure</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Uses of language</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The contribution of the settings</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Other features which create a sense of insecur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1" lang="en-GB" sz="3800" spc="-1" strike="noStrike">
                <a:solidFill>
                  <a:srgbClr val="ffffff"/>
                </a:solidFill>
                <a:latin typeface="Arial"/>
              </a:rPr>
              <a:t>Higher Tier</a:t>
            </a:r>
            <a:br>
              <a:rPr sz="3800"/>
            </a:br>
            <a:endParaRPr b="0" lang="en-US" sz="3800" spc="-1" strike="noStrike">
              <a:solidFill>
                <a:srgbClr val="ffffff"/>
              </a:solidFill>
              <a:latin typeface="Arial"/>
            </a:endParaRPr>
          </a:p>
        </p:txBody>
      </p:sp>
      <p:sp>
        <p:nvSpPr>
          <p:cNvPr id="103"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omic Sans MS"/>
              </a:rPr>
              <a:t>	</a:t>
            </a:r>
            <a:r>
              <a:rPr b="0" i="1" lang="en-GB" sz="2000" spc="-1" strike="noStrike">
                <a:solidFill>
                  <a:srgbClr val="000000"/>
                </a:solidFill>
                <a:latin typeface="Comic Sans MS"/>
              </a:rPr>
              <a:t>Of Mice and Men</a:t>
            </a:r>
            <a:r>
              <a:rPr b="0" lang="en-GB" sz="2000" spc="-1" strike="noStrike">
                <a:solidFill>
                  <a:srgbClr val="000000"/>
                </a:solidFill>
                <a:latin typeface="Comic Sans MS"/>
              </a:rPr>
              <a:t> ends where it begins, with George and Lenny, alone by the poo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hat is your response to the ending of the nove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rite abou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Your feelings about George’s decision to shoot Lenn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Ways in which Steinbeck prepares us for this endin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Why the writer chooses to end the story in this wa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Whether the ending suggests that the friendship between George and Lenny was pointl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1" lang="en-GB" sz="3800" spc="-1" strike="noStrike">
                <a:solidFill>
                  <a:srgbClr val="ffffff"/>
                </a:solidFill>
                <a:latin typeface="Arial"/>
              </a:rPr>
              <a:t>Higher Tier</a:t>
            </a:r>
            <a:br>
              <a:rPr sz="3800"/>
            </a:br>
            <a:endParaRPr b="0" lang="en-US" sz="3800" spc="-1" strike="noStrike">
              <a:solidFill>
                <a:srgbClr val="ffffff"/>
              </a:solidFill>
              <a:latin typeface="Arial"/>
            </a:endParaRPr>
          </a:p>
        </p:txBody>
      </p:sp>
      <p:sp>
        <p:nvSpPr>
          <p:cNvPr id="105"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pes and dreams help people to survive, even if they can never become rea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true is this for characters in </a:t>
            </a:r>
            <a:r>
              <a:rPr b="0" i="1" lang="en-GB" sz="3200" spc="-1" strike="noStrike">
                <a:solidFill>
                  <a:srgbClr val="000000"/>
                </a:solidFill>
                <a:latin typeface="Arial"/>
              </a:rPr>
              <a:t>Of Mice and Men</a:t>
            </a:r>
            <a:r>
              <a:rPr b="0" lang="en-GB"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1" lang="en-GB" sz="3800" spc="-1" strike="noStrike">
                <a:solidFill>
                  <a:srgbClr val="ffffff"/>
                </a:solidFill>
                <a:latin typeface="Arial"/>
              </a:rPr>
              <a:t>Higher Tier</a:t>
            </a:r>
            <a:br>
              <a:rPr sz="3800"/>
            </a:br>
            <a:endParaRPr b="0" lang="en-US" sz="3800" spc="-1" strike="noStrike">
              <a:solidFill>
                <a:srgbClr val="ffffff"/>
              </a:solidFill>
              <a:latin typeface="Arial"/>
            </a:endParaRPr>
          </a:p>
        </p:txBody>
      </p:sp>
      <p:sp>
        <p:nvSpPr>
          <p:cNvPr id="107" name="PlaceHolder 2"/>
          <p:cNvSpPr>
            <a:spLocks noGrp="1"/>
          </p:cNvSpPr>
          <p:nvPr>
            <p:ph/>
          </p:nvPr>
        </p:nvSpPr>
        <p:spPr>
          <a:xfrm>
            <a:off x="609480" y="1599840"/>
            <a:ext cx="7925040" cy="4419720"/>
          </a:xfrm>
          <a:prstGeom prst="rect">
            <a:avLst/>
          </a:prstGeom>
          <a:noFill/>
          <a:ln w="0">
            <a:noFill/>
          </a:ln>
        </p:spPr>
        <p:txBody>
          <a:bodyPr anchor="t">
            <a:normAutofit fontScale="99000"/>
          </a:bodyPr>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Comic Sans MS"/>
              </a:rPr>
              <a:t>Show how John Steinbeck explores the complex relationship between George and Lennie. </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You should write about:</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What keeps them together, and the difficulties they each have</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How the writer brings out differences between them</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How they are different from other people on the farm</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What you think Steinbeck’s purpose was in writing about this relationshi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ffffff"/>
                </a:solidFill>
                <a:latin typeface="Arial"/>
              </a:rPr>
              <a:t>Foundation Tier</a:t>
            </a:r>
            <a:endParaRPr b="0" lang="en-US" sz="4200" spc="-1" strike="noStrike">
              <a:solidFill>
                <a:srgbClr val="ffffff"/>
              </a:solidFill>
              <a:latin typeface="Arial"/>
            </a:endParaRPr>
          </a:p>
        </p:txBody>
      </p:sp>
      <p:sp>
        <p:nvSpPr>
          <p:cNvPr id="109" name="PlaceHolder 2"/>
          <p:cNvSpPr>
            <a:spLocks noGrp="1"/>
          </p:cNvSpPr>
          <p:nvPr>
            <p:ph/>
          </p:nvPr>
        </p:nvSpPr>
        <p:spPr>
          <a:xfrm>
            <a:off x="609480" y="1599840"/>
            <a:ext cx="7925040" cy="4419720"/>
          </a:xfrm>
          <a:prstGeom prst="rect">
            <a:avLst/>
          </a:prstGeom>
          <a:noFill/>
          <a:ln w="0">
            <a:noFill/>
          </a:ln>
        </p:spPr>
        <p:txBody>
          <a:bodyPr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Remind yourself of the description of Lennie’s fight with Curley in the extract below. </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rite about the importance of this passage in Of Mice and Men.</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r>
              <a:rPr b="0" lang="en-GB" sz="2000" spc="-1" strike="noStrike">
                <a:solidFill>
                  <a:srgbClr val="000000"/>
                </a:solidFill>
                <a:latin typeface="Comic Sans MS"/>
              </a:rPr>
              <a:t>Write about:</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The different aspects of Lennie shown in the passage</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What is revealed about the relationship between George and      Lennie, and about Curley</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How this passage links with other parts of the novel</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The importance of the passage in the novel as a who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ffffff"/>
                </a:solidFill>
                <a:latin typeface="Arial"/>
              </a:rPr>
              <a:t>Foundation Tier</a:t>
            </a:r>
            <a:endParaRPr b="0" lang="en-US" sz="4200" spc="-1" strike="noStrike">
              <a:solidFill>
                <a:srgbClr val="ffffff"/>
              </a:solidFill>
              <a:latin typeface="Arial"/>
            </a:endParaRPr>
          </a:p>
        </p:txBody>
      </p:sp>
      <p:sp>
        <p:nvSpPr>
          <p:cNvPr id="111" name="PlaceHolder 2"/>
          <p:cNvSpPr>
            <a:spLocks noGrp="1"/>
          </p:cNvSpPr>
          <p:nvPr>
            <p:ph/>
          </p:nvPr>
        </p:nvSpPr>
        <p:spPr>
          <a:xfrm>
            <a:off x="609480" y="1599840"/>
            <a:ext cx="7925040" cy="441972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Comic Sans MS"/>
              </a:rPr>
              <a:t>Many characters in </a:t>
            </a:r>
            <a:r>
              <a:rPr b="0" i="1" lang="en-GB" sz="2400" spc="-1" strike="noStrike">
                <a:solidFill>
                  <a:srgbClr val="000000"/>
                </a:solidFill>
                <a:latin typeface="Comic Sans MS"/>
              </a:rPr>
              <a:t>Of Mice and Men</a:t>
            </a:r>
            <a:r>
              <a:rPr b="0" lang="en-GB" sz="2400" spc="-1" strike="noStrike">
                <a:solidFill>
                  <a:srgbClr val="000000"/>
                </a:solidFill>
                <a:latin typeface="Comic Sans MS"/>
              </a:rPr>
              <a:t> are shown to be lonely.</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rite about loneliness in the novel.</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You should write about:</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Characters who are lonely</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How the write shows their loneliness</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The differences and similarities between lonely characters</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What you think the writer is saying about lonelin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ffffff"/>
                </a:solidFill>
                <a:latin typeface="Arial"/>
              </a:rPr>
              <a:t>Foundation Tier</a:t>
            </a:r>
            <a:endParaRPr b="0" lang="en-US" sz="4200" spc="-1" strike="noStrike">
              <a:solidFill>
                <a:srgbClr val="ffffff"/>
              </a:solidFill>
              <a:latin typeface="Arial"/>
            </a:endParaRPr>
          </a:p>
        </p:txBody>
      </p:sp>
      <p:sp>
        <p:nvSpPr>
          <p:cNvPr id="113" name="PlaceHolder 2"/>
          <p:cNvSpPr>
            <a:spLocks noGrp="1"/>
          </p:cNvSpPr>
          <p:nvPr>
            <p:ph/>
          </p:nvPr>
        </p:nvSpPr>
        <p:spPr>
          <a:xfrm>
            <a:off x="609480" y="1599840"/>
            <a:ext cx="7925040" cy="4419720"/>
          </a:xfrm>
          <a:prstGeom prst="rect">
            <a:avLst/>
          </a:prstGeom>
          <a:noFill/>
          <a:ln w="0">
            <a:noFill/>
          </a:ln>
        </p:spPr>
        <p:txBody>
          <a:bodyPr anchor="t">
            <a:normAutofit fontScale="99000"/>
          </a:bodyPr>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Comic Sans MS"/>
              </a:rPr>
              <a:t>Find the passage in the novel where Lennie kills Curley’s wife, from the description of the barn to the point when Lennie leaves to go to the brush.</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rite about:</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Why the writer begins this passage with the dead puppy</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Why Lennie and Curley’s wife behave in the way they do</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How the writer makes the death seem unavoidable</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Whether you were surprised when you first read about her death, and wh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ffffff"/>
                </a:solidFill>
                <a:latin typeface="Arial"/>
              </a:rPr>
              <a:t>Foundation Tier</a:t>
            </a:r>
            <a:endParaRPr b="0" lang="en-US" sz="4200" spc="-1" strike="noStrike">
              <a:solidFill>
                <a:srgbClr val="ffffff"/>
              </a:solidFill>
              <a:latin typeface="Arial"/>
            </a:endParaRPr>
          </a:p>
        </p:txBody>
      </p:sp>
      <p:sp>
        <p:nvSpPr>
          <p:cNvPr id="115"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r>
              <a:rPr b="0" lang="en-GB" sz="2000" spc="-1" strike="noStrike">
                <a:solidFill>
                  <a:srgbClr val="000000"/>
                </a:solidFill>
                <a:latin typeface="Comic Sans MS"/>
              </a:rPr>
              <a:t>Of Mice and Men shows us that people can be cruel, or kind, or sometimes a mixture of both.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Compare three character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rite abou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The ways in which the different characters are cruel, or kind, or a mixture of both</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Why they behave as they d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How you respond to the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How Steinbeck writes about them to make you respond this way</a:t>
            </a:r>
            <a:r>
              <a:rPr b="0" lang="en-GB"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8T09:25:18Z</dcterms:created>
  <dc:creator>svanvlo</dc:creator>
  <dc:description/>
  <dc:language>en-US</dc:language>
  <cp:lastModifiedBy>RomaK</cp:lastModifiedBy>
  <dcterms:modified xsi:type="dcterms:W3CDTF">2015-09-04T10:35:48Z</dcterms:modified>
  <cp:revision>8</cp:revision>
  <dc:subject/>
  <dc:title> Exam Questions on  Of Mice and Men </dc:title>
</cp:coreProperties>
</file>