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B03A-06D4-4B16-B6AE-2F16DD7CB3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st Ring: Limb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uke Warm. Neither sinned nor believed in Chri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ven does not claim them, Hell does not want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Ring: Lim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ke Warm. Neither sinned nor believed in Chr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 does not claim them, Hell does not want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GOD: Must lie facing upward toward heav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NATURE: Must run forev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ART: Forced to crouch over moneybag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GOD: Must lie facing upward toward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NATURE: Must run for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ART: Forced to crouch over moneyba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DUC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ven by horned dem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UC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ven by horned dem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TTER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ced to wallow in a floor of excr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TTER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wallow in a floor of exc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ONISTS (Those who attempt to purchase the power of the holy spirit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ied head down and burned on the soles of their fee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ONISTS (Those who attempt to purchase the power of the holy spiri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ied head down and burned on the soles of their f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TUNE TELLERS/ SOOTHSAY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ies distorted so that the head is twisted around to only view his bac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UNE TELLERS/ SOOTHS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 distorted so that the head is twisted around to only view his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F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ped into boiling tar. Demon holds down the sinners with a pitchfor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F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ped into boiling tar. Demon holds down the sinners with a pitchf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CRI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t always walk at a steady p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always walk at a steady 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V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nakes coil and bind these sinn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kes coil and bind these si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EV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apped in fi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d in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ND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ked to pieces, put back together, and hacked up aga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D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ked to pieces, put back together, and hacked up a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d Ring: Lustfu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wn about in darkne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Ring: Lust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wn about in dark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LSIFI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insane; plagued with all types of illnesses and diseas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insane; plagued with all types of illnesses and dis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th Ring: Treache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AMILY, COUNTRY, AND FRIE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zen in a sheet of ice with only their face exposed to show the pa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th Ring: Treac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MILY, COUNTRY,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zen in a sheet of ice with only their face exposed to show the p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er of 9th Ring: Lucif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of 9th Ring: Luci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rd Ring: Glutton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ived of individuality. Each is alone, cold, and miserab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Ring: Glutto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ived of individuality. Each is alone, cold, and miser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th Ring: Avarici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d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t roll their wealth back and forth forev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Ring: Avaric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roll their wealth back and forth forev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th Ring: Wrathful and Sull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athful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ddy figures attack one ano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llen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k beneath the surface in filthy sl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Ring: Wrathful and Su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thfu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ddy figures attack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k beneath the surface in filthy sl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h of Styx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h of Sty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th Ring: Heretic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ned in t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Ring: Her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ned in tom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OTH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mersed in a river of boiling bloo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OTH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rsed in a river of boiling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SEL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isted plants that cannot mo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sted plants that cannot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9C5D-E08B-49F7-B0AD-C23B0B71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55AC-86F7-4C21-A845-B1EEE0A0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1EF8-C6DC-4ADB-8DB4-FC825458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11D-6004-4425-A4B9-C34DE346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17EA-F0C3-484C-8B78-BFBD62E2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E669-A658-4671-9371-7AF860F5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C650-13C6-45CC-B0A0-86D39438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9E19-9C1B-465D-A102-E9F844E1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798F-22F2-41BB-B210-B519B6DA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CDF4-C17D-4DDD-9F53-14644D0E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1000-CEEE-4F46-A1EF-25BD04E9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B5B-DB70-4D07-A81B-1689654F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B2A8-8DBE-4EF4-AAB3-EC1839E3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DDD9-EB0C-4D6E-842F-48BAAD94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2743-AE1C-42D4-AAF8-10BB4426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B882-302F-49AC-9B19-27612BB5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61F1-7AC2-4BFB-95DA-EAA8AABB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DAD-6740-409D-8869-995C2E9F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FD5-9FE4-499D-A1B2-73A5CFF5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9031-0B74-4892-AB7C-0325FA81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6CC6-017F-4486-8E6D-A8ACD349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5FA5-D240-4B88-B169-FE709292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896-985B-4361-96FA-4B425207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496B-8B31-41A9-AD11-CA497A83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A733-36D6-4006-BAC6-DD4921AD96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9F0D-3E95-401F-9E88-91E8F579424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st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imb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ke Warm. Neither sinned nor believed in Chri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ven does not claim them, Hell does not want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11" descr="thumbnail of the harrowing of hell by Flaxsmith"/>
          <p:cNvPicPr/>
          <p:nvPr/>
        </p:nvPicPr>
        <p:blipFill>
          <a:blip r:embed="rId1"/>
          <a:stretch/>
        </p:blipFill>
        <p:spPr>
          <a:xfrm>
            <a:off x="4876920" y="2209680"/>
            <a:ext cx="380988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GOD: Must lie facing upward toward heav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NATURE: Must run fore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ART: Forced to crouch over moneyba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Picture 7" descr="Violent by Dore"/>
          <p:cNvPicPr/>
          <p:nvPr/>
        </p:nvPicPr>
        <p:blipFill>
          <a:blip r:embed="rId1"/>
          <a:stretch/>
        </p:blipFill>
        <p:spPr>
          <a:xfrm>
            <a:off x="4572000" y="1905120"/>
            <a:ext cx="42670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DUC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n by horned dem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Picture 8" descr="Panderers and Seducers by Boticelli"/>
          <p:cNvPicPr/>
          <p:nvPr/>
        </p:nvPicPr>
        <p:blipFill>
          <a:blip r:embed="rId1"/>
          <a:stretch/>
        </p:blipFill>
        <p:spPr>
          <a:xfrm>
            <a:off x="3962520" y="2133720"/>
            <a:ext cx="47242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ATTER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ced to wallow in a floor of exc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7" name="Picture 8" descr="thumbnail of Falsifiers by Flaxman"/>
          <p:cNvPicPr/>
          <p:nvPr/>
        </p:nvPicPr>
        <p:blipFill>
          <a:blip r:embed="rId1"/>
          <a:stretch/>
        </p:blipFill>
        <p:spPr>
          <a:xfrm>
            <a:off x="4343400" y="22096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ONISTS (Those who attempt to purchase the power of the holy spirit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ied head down and burned on the soles of their fee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Picture 8" descr="Simoniacs by Boticelli"/>
          <p:cNvPicPr/>
          <p:nvPr/>
        </p:nvPicPr>
        <p:blipFill>
          <a:blip r:embed="rId1"/>
          <a:stretch/>
        </p:blipFill>
        <p:spPr>
          <a:xfrm>
            <a:off x="4800600" y="1523880"/>
            <a:ext cx="3809880" cy="2324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0" descr="Dante addresses Nicholas III by Dore"/>
          <p:cNvPicPr/>
          <p:nvPr/>
        </p:nvPicPr>
        <p:blipFill>
          <a:blip r:embed="rId2"/>
          <a:stretch/>
        </p:blipFill>
        <p:spPr>
          <a:xfrm>
            <a:off x="5562720" y="4038480"/>
            <a:ext cx="2190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TUNE TELLERS/ SOOTHSAY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ies distorted so that the head is twisted around to only view his bac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6" name="Picture 8" descr="1119"/>
          <p:cNvPicPr/>
          <p:nvPr/>
        </p:nvPicPr>
        <p:blipFill>
          <a:blip r:embed="rId1"/>
          <a:stretch/>
        </p:blipFill>
        <p:spPr>
          <a:xfrm>
            <a:off x="4876920" y="1447920"/>
            <a:ext cx="3481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F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ped into boiling tar. Demon holds down the sinners with a pitchf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0" name="Picture 8" descr="1217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POCR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always walk at a steady 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8" descr="Hypocrites by Boticelli"/>
          <p:cNvPicPr/>
          <p:nvPr/>
        </p:nvPicPr>
        <p:blipFill>
          <a:blip r:embed="rId1"/>
          <a:stretch/>
        </p:blipFill>
        <p:spPr>
          <a:xfrm>
            <a:off x="4572000" y="2133720"/>
            <a:ext cx="4343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IV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akes coil and bind these sin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7" name="Picture 8" descr="Agnello turns into a serpent by Dore"/>
          <p:cNvPicPr/>
          <p:nvPr/>
        </p:nvPicPr>
        <p:blipFill>
          <a:blip r:embed="rId1"/>
          <a:stretch/>
        </p:blipFill>
        <p:spPr>
          <a:xfrm>
            <a:off x="5019840" y="1523880"/>
            <a:ext cx="320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E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pped in 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8" descr="The Blasphemers"/>
          <p:cNvPicPr/>
          <p:nvPr/>
        </p:nvPicPr>
        <p:blipFill>
          <a:blip r:embed="rId1"/>
          <a:stretch/>
        </p:blipFill>
        <p:spPr>
          <a:xfrm>
            <a:off x="4724280" y="1371600"/>
            <a:ext cx="3962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ND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cked to pieces, put back together, and hacked up ag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5" name="Picture 7" descr="Vigril reproves of Dante's Curiosity by Dore"/>
          <p:cNvPicPr/>
          <p:nvPr/>
        </p:nvPicPr>
        <p:blipFill>
          <a:blip r:embed="rId1"/>
          <a:stretch/>
        </p:blipFill>
        <p:spPr>
          <a:xfrm>
            <a:off x="4876920" y="1371600"/>
            <a:ext cx="3614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n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ustfu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wn about in darkn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13" descr="thumbnail of Dante faints by Blake"/>
          <p:cNvPicPr/>
          <p:nvPr/>
        </p:nvPicPr>
        <p:blipFill>
          <a:blip r:embed="rId1"/>
          <a:stretch/>
        </p:blipFill>
        <p:spPr>
          <a:xfrm>
            <a:off x="3733920" y="1447920"/>
            <a:ext cx="5105160" cy="35780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SIF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e insane; plagued with all types of illnesses and diseas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9" name="Picture 8" descr="0710"/>
          <p:cNvPicPr/>
          <p:nvPr/>
        </p:nvPicPr>
        <p:blipFill>
          <a:blip r:embed="rId1"/>
          <a:stretch/>
        </p:blipFill>
        <p:spPr>
          <a:xfrm>
            <a:off x="4724280" y="1828800"/>
            <a:ext cx="41626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9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Treache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AMILY, COUNTRY, AND FRIE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zen in a sheet of ice with only their face exposed to show the p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3" name="Picture 7" descr="1215"/>
          <p:cNvPicPr/>
          <p:nvPr/>
        </p:nvPicPr>
        <p:blipFill>
          <a:blip r:embed="rId1"/>
          <a:stretch/>
        </p:blipFill>
        <p:spPr>
          <a:xfrm>
            <a:off x="4648320" y="2057400"/>
            <a:ext cx="4114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nter of 9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ucif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7" name="Picture 8" descr="Satan by Dore"/>
          <p:cNvPicPr/>
          <p:nvPr/>
        </p:nvPicPr>
        <p:blipFill>
          <a:blip r:embed="rId1"/>
          <a:stretch/>
        </p:blipFill>
        <p:spPr>
          <a:xfrm>
            <a:off x="1676520" y="1447920"/>
            <a:ext cx="609588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r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Gluttono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rived of individuality. Each is alone, cold, and miser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10" descr="0503ciacco"/>
          <p:cNvPicPr/>
          <p:nvPr/>
        </p:nvPicPr>
        <p:blipFill>
          <a:blip r:embed="rId1"/>
          <a:stretch/>
        </p:blipFill>
        <p:spPr>
          <a:xfrm>
            <a:off x="4114800" y="1905120"/>
            <a:ext cx="4648320" cy="32860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Avaricio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roll their wealth back and forth forev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14" descr="thumbnail of the avaricious by Dore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Wrathful and Sull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thfu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dy figures attack one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le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 beneath the surface in filthy sl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2" descr="0703filippo"/>
          <p:cNvPicPr/>
          <p:nvPr/>
        </p:nvPicPr>
        <p:blipFill>
          <a:blip r:embed="rId1"/>
          <a:stretch/>
        </p:blipFill>
        <p:spPr>
          <a:xfrm>
            <a:off x="4267080" y="1981080"/>
            <a:ext cx="460080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rsh of Styx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5" descr="0712"/>
          <p:cNvPicPr/>
          <p:nvPr/>
        </p:nvPicPr>
        <p:blipFill>
          <a:blip r:embed="rId1"/>
          <a:stretch/>
        </p:blipFill>
        <p:spPr>
          <a:xfrm>
            <a:off x="1143000" y="1523880"/>
            <a:ext cx="655308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6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Here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ined in tomb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8" descr="Heretics by Botticelli"/>
          <p:cNvPicPr/>
          <p:nvPr/>
        </p:nvPicPr>
        <p:blipFill>
          <a:blip r:embed="rId1"/>
          <a:stretch/>
        </p:blipFill>
        <p:spPr>
          <a:xfrm>
            <a:off x="4114800" y="1676520"/>
            <a:ext cx="4724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OTH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ersed in a river of boiling bl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10" descr="04800393"/>
          <p:cNvPicPr/>
          <p:nvPr/>
        </p:nvPicPr>
        <p:blipFill>
          <a:blip r:embed="rId1"/>
          <a:stretch/>
        </p:blipFill>
        <p:spPr>
          <a:xfrm>
            <a:off x="3657600" y="3276720"/>
            <a:ext cx="4762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isted plants that cannot mo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8" descr="Harpies in forest of suicides By Dore"/>
          <p:cNvPicPr/>
          <p:nvPr/>
        </p:nvPicPr>
        <p:blipFill>
          <a:blip r:embed="rId1"/>
          <a:stretch/>
        </p:blipFill>
        <p:spPr>
          <a:xfrm>
            <a:off x="5410080" y="1752480"/>
            <a:ext cx="2889360" cy="3810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0" descr="0920suicides"/>
          <p:cNvPicPr/>
          <p:nvPr/>
        </p:nvPicPr>
        <p:blipFill>
          <a:blip r:embed="rId2"/>
          <a:stretch/>
        </p:blipFill>
        <p:spPr>
          <a:xfrm>
            <a:off x="380880" y="3657600"/>
            <a:ext cx="38959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20:29:05Z</dcterms:created>
  <dc:creator>CCSD</dc:creator>
  <dc:description/>
  <dc:language>en-US</dc:language>
  <cp:lastModifiedBy>RomaK</cp:lastModifiedBy>
  <dcterms:modified xsi:type="dcterms:W3CDTF">2015-09-04T10:35:35Z</dcterms:modified>
  <cp:revision>12</cp:revision>
  <dc:subject/>
  <dc:title>Dante's Inferno</dc:title>
</cp:coreProperties>
</file>