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B260-A2AE-4EB7-99E0-57120D542A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D6E-3120-4214-9C47-E18EDD96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5DD0-2A9F-40A0-A2CB-E8F90236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0ED5-1F6B-4D14-909A-2A5D95D3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B4E6-2EDD-4A2D-934A-83D33AA8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7B83-9648-44E0-8BB0-B0CB1687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6514-669C-432F-BB15-88B9B567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CD7E-43AC-4F4E-A441-997C9BA2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7D2D-BC74-4206-A67D-6AC68A17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8BEB-00F3-4F77-8CDB-F64662C5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D821-9EB7-4A98-B0D0-0E113434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986A2-1668-4BB6-8117-1FB04FA7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317-C98F-413C-ABE4-88B8181B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99B3-E74C-4947-B044-A4D295A1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29F7-9B8D-4246-BE75-42FB1ED8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E602-CD0B-41DC-8257-97407F02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0AC3-FDA9-4C95-9A59-F5635EFC6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08B5-DEB5-4EC0-AE8F-D5CEE3C6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C7A-DCDF-4AAE-AB80-2B65F14C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6F8A-0F71-4B7D-BAE3-CF82F2F7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F67-C3F8-4BAC-B2E3-A9648EA1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DA2-9740-4582-8281-75AE08AF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8C63-C2E9-4C4F-ACF9-6DF1A59A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732E-6ADA-4E2C-B70B-3F3661E3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BA5-7EB3-456D-8867-6E49EB5A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9A0A-4618-447B-B1E5-A976910856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7399-5334-4C2D-BB70-2498114232C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imb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ke Warm. Neither sinned nor believed in Chri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ven does not claim them, Hell does not want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thumbnail of the harrowing of hell by Flaxsmith"/>
          <p:cNvPicPr/>
          <p:nvPr/>
        </p:nvPicPr>
        <p:blipFill>
          <a:blip r:embed="rId1"/>
          <a:stretch/>
        </p:blipFill>
        <p:spPr>
          <a:xfrm>
            <a:off x="4876920" y="2209680"/>
            <a:ext cx="38098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GOD: Must lie facing upward toward heav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NATURE: Must run for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ART: Forced to crouch over money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7" descr="Violent by Dore"/>
          <p:cNvPicPr/>
          <p:nvPr/>
        </p:nvPicPr>
        <p:blipFill>
          <a:blip r:embed="rId1"/>
          <a:stretch/>
        </p:blipFill>
        <p:spPr>
          <a:xfrm>
            <a:off x="4572000" y="1905120"/>
            <a:ext cx="42670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DUC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n by horned dem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Picture 8" descr="Panderers and Seducers by Boticelli"/>
          <p:cNvPicPr/>
          <p:nvPr/>
        </p:nvPicPr>
        <p:blipFill>
          <a:blip r:embed="rId1"/>
          <a:stretch/>
        </p:blipFill>
        <p:spPr>
          <a:xfrm>
            <a:off x="3962520" y="2133720"/>
            <a:ext cx="47242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ATTER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ed to wallow in a floor of exc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7" name="Picture 8" descr="thumbnail of Falsifiers by Flaxman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ONISTS (Those who attempt to purchase the power of the holy spirit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ied head down and burned on the soles of their fee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8" descr="Simoniacs by Boticelli"/>
          <p:cNvPicPr/>
          <p:nvPr/>
        </p:nvPicPr>
        <p:blipFill>
          <a:blip r:embed="rId1"/>
          <a:stretch/>
        </p:blipFill>
        <p:spPr>
          <a:xfrm>
            <a:off x="4800600" y="1523880"/>
            <a:ext cx="3809880" cy="2324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0" descr="Dante addresses Nicholas III by Dore"/>
          <p:cNvPicPr/>
          <p:nvPr/>
        </p:nvPicPr>
        <p:blipFill>
          <a:blip r:embed="rId2"/>
          <a:stretch/>
        </p:blipFill>
        <p:spPr>
          <a:xfrm>
            <a:off x="5562720" y="4038480"/>
            <a:ext cx="219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TUNE TELLERS/ SOOTHSA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ies distorted so that the head is twisted around to only view his ba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6" name="Picture 8" descr="1119"/>
          <p:cNvPicPr/>
          <p:nvPr/>
        </p:nvPicPr>
        <p:blipFill>
          <a:blip r:embed="rId1"/>
          <a:stretch/>
        </p:blipFill>
        <p:spPr>
          <a:xfrm>
            <a:off x="4876920" y="1447920"/>
            <a:ext cx="3481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F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ped into boiling tar. Demon holds down the sinners with a pitchf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Picture 8" descr="1217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CR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always walk at a steady 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8" descr="Hypocrites by Boticelli"/>
          <p:cNvPicPr/>
          <p:nvPr/>
        </p:nvPicPr>
        <p:blipFill>
          <a:blip r:embed="rId1"/>
          <a:stretch/>
        </p:blipFill>
        <p:spPr>
          <a:xfrm>
            <a:off x="4572000" y="2133720"/>
            <a:ext cx="4343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V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kes coil and bind these sin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Picture 8" descr="Agnello turns into a serpent by Dore"/>
          <p:cNvPicPr/>
          <p:nvPr/>
        </p:nvPicPr>
        <p:blipFill>
          <a:blip r:embed="rId1"/>
          <a:stretch/>
        </p:blipFill>
        <p:spPr>
          <a:xfrm>
            <a:off x="5019840" y="1523880"/>
            <a:ext cx="320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E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pped in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8" descr="The Blasphemers"/>
          <p:cNvPicPr/>
          <p:nvPr/>
        </p:nvPicPr>
        <p:blipFill>
          <a:blip r:embed="rId1"/>
          <a:stretch/>
        </p:blipFill>
        <p:spPr>
          <a:xfrm>
            <a:off x="4724280" y="1371600"/>
            <a:ext cx="3962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D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cked to pieces, put back together, and hacked up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Picture 7" descr="Vigril reproves of Dante's Curiosity by Dore"/>
          <p:cNvPicPr/>
          <p:nvPr/>
        </p:nvPicPr>
        <p:blipFill>
          <a:blip r:embed="rId1"/>
          <a:stretch/>
        </p:blipFill>
        <p:spPr>
          <a:xfrm>
            <a:off x="4876920" y="1371600"/>
            <a:ext cx="36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stfu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wn about in dark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13" descr="thumbnail of Dante faints by Blake"/>
          <p:cNvPicPr/>
          <p:nvPr/>
        </p:nvPicPr>
        <p:blipFill>
          <a:blip r:embed="rId1"/>
          <a:stretch/>
        </p:blipFill>
        <p:spPr>
          <a:xfrm>
            <a:off x="3733920" y="1447920"/>
            <a:ext cx="5105160" cy="3578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SIF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insane; plagued with all types of illnesses and disea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Picture 8" descr="0710"/>
          <p:cNvPicPr/>
          <p:nvPr/>
        </p:nvPicPr>
        <p:blipFill>
          <a:blip r:embed="rId1"/>
          <a:stretch/>
        </p:blipFill>
        <p:spPr>
          <a:xfrm>
            <a:off x="4724280" y="1828800"/>
            <a:ext cx="41626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Treache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AMILY, COUNTRY, AND FRI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zen in a sheet of ice with only their face exposed to show the p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Picture 7" descr="1215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nter of 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cif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7" name="Picture 8" descr="Satan by Dore"/>
          <p:cNvPicPr/>
          <p:nvPr/>
        </p:nvPicPr>
        <p:blipFill>
          <a:blip r:embed="rId1"/>
          <a:stretch/>
        </p:blipFill>
        <p:spPr>
          <a:xfrm>
            <a:off x="1676520" y="1447920"/>
            <a:ext cx="609588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r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Glutton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rived of individuality. Each is alone, cold, and mise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10" descr="0503ciacco"/>
          <p:cNvPicPr/>
          <p:nvPr/>
        </p:nvPicPr>
        <p:blipFill>
          <a:blip r:embed="rId1"/>
          <a:stretch/>
        </p:blipFill>
        <p:spPr>
          <a:xfrm>
            <a:off x="4114800" y="1905120"/>
            <a:ext cx="4648320" cy="32860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Avarici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roll their wealth back and forth forev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4" descr="thumbnail of the avaricious by Dore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Wrathful and Sull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thfu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dy figures attack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le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 beneath the surface in filthy sl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0703filippo"/>
          <p:cNvPicPr/>
          <p:nvPr/>
        </p:nvPicPr>
        <p:blipFill>
          <a:blip r:embed="rId1"/>
          <a:stretch/>
        </p:blipFill>
        <p:spPr>
          <a:xfrm>
            <a:off x="4267080" y="1981080"/>
            <a:ext cx="46008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sh of Sty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5" descr="0712"/>
          <p:cNvPicPr/>
          <p:nvPr/>
        </p:nvPicPr>
        <p:blipFill>
          <a:blip r:embed="rId1"/>
          <a:stretch/>
        </p:blipFill>
        <p:spPr>
          <a:xfrm>
            <a:off x="1143000" y="1523880"/>
            <a:ext cx="65530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Here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ned in tomb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8" descr="Heretics by Botticelli"/>
          <p:cNvPicPr/>
          <p:nvPr/>
        </p:nvPicPr>
        <p:blipFill>
          <a:blip r:embed="rId1"/>
          <a:stretch/>
        </p:blipFill>
        <p:spPr>
          <a:xfrm>
            <a:off x="4114800" y="1676520"/>
            <a:ext cx="4724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OTH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ersed in a river of boiling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10" descr="04800393"/>
          <p:cNvPicPr/>
          <p:nvPr/>
        </p:nvPicPr>
        <p:blipFill>
          <a:blip r:embed="rId1"/>
          <a:stretch/>
        </p:blipFill>
        <p:spPr>
          <a:xfrm>
            <a:off x="3657600" y="3276720"/>
            <a:ext cx="4762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sted plants that cannot m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8" descr="Harpies in forest of suicides By Dore"/>
          <p:cNvPicPr/>
          <p:nvPr/>
        </p:nvPicPr>
        <p:blipFill>
          <a:blip r:embed="rId1"/>
          <a:stretch/>
        </p:blipFill>
        <p:spPr>
          <a:xfrm>
            <a:off x="5410080" y="1752480"/>
            <a:ext cx="2889360" cy="3810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0920suicides"/>
          <p:cNvPicPr/>
          <p:nvPr/>
        </p:nvPicPr>
        <p:blipFill>
          <a:blip r:embed="rId2"/>
          <a:stretch/>
        </p:blipFill>
        <p:spPr>
          <a:xfrm>
            <a:off x="380880" y="3657600"/>
            <a:ext cx="38959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20:29:05Z</dcterms:created>
  <dc:creator>CCSD</dc:creator>
  <dc:description/>
  <dc:language>en-US</dc:language>
  <cp:lastModifiedBy>RomaK</cp:lastModifiedBy>
  <dcterms:modified xsi:type="dcterms:W3CDTF">2015-09-04T10:35:35Z</dcterms:modified>
  <cp:revision>12</cp:revision>
  <dc:subject/>
  <dc:title>Dante's Inferno</dc:title>
</cp:coreProperties>
</file>