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F1EF-241D-4954-B792-45C13D7C03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st Ring: Limb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uke Warm. Neither sinned nor believed in Chris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ven does not claim them, Hell does not want the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Ring: Limb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ke Warm. Neither sinned nor believed in Chr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ven does not claim them, Hell does not want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GOD: Must lie facing upward toward heav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NATURE: Must run forev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ART: Forced to crouch over moneybag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GOD: Must lie facing upward toward 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NATURE: Must run for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ART: Forced to crouch over moneyba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DUCER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iven by horned dem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UC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ven by horned dem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TTERER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ced to wallow in a floor of excre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TTER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wallow in a floor of exc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ONISTS (Those who attempt to purchase the power of the holy spirit)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ried head down and burned on the soles of their fee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ONISTS (Those who attempt to purchase the power of the holy spiri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ied head down and burned on the soles of their fe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TUNE TELLERS/ SOOTHSAY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ies distorted so that the head is twisted around to only view his back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TUNE TELLERS/ SOOTHS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ies distorted so that the head is twisted around to only view his 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F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pped into boiling tar. Demon holds down the sinners with a pitchfork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F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ped into boiling tar. Demon holds down the sinners with a pitchf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OCRIT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t always walk at a steady pa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R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always walk at a steady 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IV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nakes coil and bind these sinn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akes coil and bind these si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IEV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apped in fi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E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d in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ANDA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cked to pieces, put back together, and hacked up agai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D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cked to pieces, put back together, and hacked up ag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d Ring: Lustfu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own about in darknes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Ring: Lust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wn about in dark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LSIFI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insane; plagued with all types of illnesses and diseas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IF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insane; plagued with all types of illnesses and dise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th Ring: Treache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FAMILY, COUNTRY, AND FRIE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zen in a sheet of ice with only their face exposed to show the pai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th Ring: Treach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MILY, COUNTRY, AND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zen in a sheet of ice with only their face exposed to show the p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ter of 9th Ring: Lucif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 of 9th Ring: Luci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rd Ring: Gluttono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rived of individuality. Each is alone, cold, and miserab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Ring: Glutto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ived of individuality. Each is alone, cold, and miser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th Ring: Avaricio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d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t roll their wealth back and forth forev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th Ring: Avaric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roll their wealth back and forth forev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th Ring: Wrathful and Sull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athful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ddy figures attack one ano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llen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k beneath the surface in filthy sli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th Ring: Wrathful and Su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thful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ddy figures attack one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k beneath the surface in filthy sl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rsh of Styx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sh of Sty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th Ring: Heretic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ined in tomb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th Ring: Her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ned in tomb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OTHER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mersed in a river of boiling bloo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OTH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ersed in a river of boiling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SEL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isted plants that cannot mo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sted plants that cannot 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7CCE-BAB3-4556-B5AC-5E89F3B04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036B-6202-49CF-AAB5-6FCC0EBE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652C-549C-4D08-88D0-0F1A5CBFD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3353-97CA-40E5-BE92-470D8505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72D6-637E-404D-B2BB-790D72BED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6AB3-C736-402E-8AD3-CB97EE3E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3D73-9E3E-47B4-9E31-75D792F3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EBFE-64DD-4B2E-88CD-0EEA0141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33CA-BE96-4968-9841-CD632545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320B-D64E-44B8-A0C3-7CF4B795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5666-9EB2-4C92-BC6F-1C03E7F3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990A-9478-47DD-B8F2-4A555F83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CECD-D0D5-4658-98E7-CD3414DD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7BDF-E029-408D-B46E-55102D17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EAD2-FBC5-4A2A-8223-0F23B58B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9E13-4384-4BEF-BA25-C20BD2F7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52E3-8DA1-4E8F-A336-7A96D7373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557F-9F95-4288-B6B9-E0474A3B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CC57-2DE5-41E3-B52D-C1FA9C3A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FCBA-65CB-4D97-9F23-55CB5E0B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4EE5-0B39-46A1-89DB-29704068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41E2-0CF1-4183-9A6E-9EB57C76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77C9-64B6-47B9-AB46-4A979509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52F7-ECC3-42DD-963B-DA53FE92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9B17-A3C2-4839-9115-DD3FD6C2CE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3CC0-C7F7-40BC-BBF9-A9D39D24231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st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Limb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ke Warm. Neither sinned nor believed in Chris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aven does not claim them, Hell does not want th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Picture 11" descr="thumbnail of the harrowing of hell by Flaxsmith"/>
          <p:cNvPicPr/>
          <p:nvPr/>
        </p:nvPicPr>
        <p:blipFill>
          <a:blip r:embed="rId1"/>
          <a:stretch/>
        </p:blipFill>
        <p:spPr>
          <a:xfrm>
            <a:off x="4876920" y="2209680"/>
            <a:ext cx="380988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7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Vio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GOD: Must lie facing upward toward heav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NATURE: Must run fore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ART: Forced to crouch over moneyba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Picture 7" descr="Violent by Dore"/>
          <p:cNvPicPr/>
          <p:nvPr/>
        </p:nvPicPr>
        <p:blipFill>
          <a:blip r:embed="rId1"/>
          <a:stretch/>
        </p:blipFill>
        <p:spPr>
          <a:xfrm>
            <a:off x="4572000" y="1905120"/>
            <a:ext cx="426708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DUC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iven by horned dem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3" name="Picture 8" descr="Panderers and Seducers by Boticelli"/>
          <p:cNvPicPr/>
          <p:nvPr/>
        </p:nvPicPr>
        <p:blipFill>
          <a:blip r:embed="rId1"/>
          <a:stretch/>
        </p:blipFill>
        <p:spPr>
          <a:xfrm>
            <a:off x="3962520" y="2133720"/>
            <a:ext cx="47242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ATTER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ced to wallow in a floor of excr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7" name="Picture 8" descr="thumbnail of Falsifiers by Flaxman"/>
          <p:cNvPicPr/>
          <p:nvPr/>
        </p:nvPicPr>
        <p:blipFill>
          <a:blip r:embed="rId1"/>
          <a:stretch/>
        </p:blipFill>
        <p:spPr>
          <a:xfrm>
            <a:off x="4343400" y="2209680"/>
            <a:ext cx="44197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MONISTS (Those who attempt to purchase the power of the holy spirit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ried head down and burned on the soles of their fee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1" name="Picture 8" descr="Simoniacs by Boticelli"/>
          <p:cNvPicPr/>
          <p:nvPr/>
        </p:nvPicPr>
        <p:blipFill>
          <a:blip r:embed="rId1"/>
          <a:stretch/>
        </p:blipFill>
        <p:spPr>
          <a:xfrm>
            <a:off x="4800600" y="1523880"/>
            <a:ext cx="3809880" cy="23241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0" descr="Dante addresses Nicholas III by Dore"/>
          <p:cNvPicPr/>
          <p:nvPr/>
        </p:nvPicPr>
        <p:blipFill>
          <a:blip r:embed="rId2"/>
          <a:stretch/>
        </p:blipFill>
        <p:spPr>
          <a:xfrm>
            <a:off x="5562720" y="4038480"/>
            <a:ext cx="2190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TUNE TELLERS/ SOOTHSAY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dies distorted so that the head is twisted around to only view his bac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6" name="Picture 8" descr="1119"/>
          <p:cNvPicPr/>
          <p:nvPr/>
        </p:nvPicPr>
        <p:blipFill>
          <a:blip r:embed="rId1"/>
          <a:stretch/>
        </p:blipFill>
        <p:spPr>
          <a:xfrm>
            <a:off x="4876920" y="1447920"/>
            <a:ext cx="3481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F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pped into boiling tar. Demon holds down the sinners with a pitchf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0" name="Picture 8" descr="1217"/>
          <p:cNvPicPr/>
          <p:nvPr/>
        </p:nvPicPr>
        <p:blipFill>
          <a:blip r:embed="rId1"/>
          <a:stretch/>
        </p:blipFill>
        <p:spPr>
          <a:xfrm>
            <a:off x="4800600" y="2057400"/>
            <a:ext cx="40384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POCRI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t always walk at a steady p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4" name="Picture 8" descr="Hypocrites by Boticelli"/>
          <p:cNvPicPr/>
          <p:nvPr/>
        </p:nvPicPr>
        <p:blipFill>
          <a:blip r:embed="rId1"/>
          <a:stretch/>
        </p:blipFill>
        <p:spPr>
          <a:xfrm>
            <a:off x="4572000" y="2133720"/>
            <a:ext cx="43434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IV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nakes coil and bind these sinn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7" name="Picture 8" descr="Agnello turns into a serpent by Dore"/>
          <p:cNvPicPr/>
          <p:nvPr/>
        </p:nvPicPr>
        <p:blipFill>
          <a:blip r:embed="rId1"/>
          <a:stretch/>
        </p:blipFill>
        <p:spPr>
          <a:xfrm>
            <a:off x="5019840" y="1523880"/>
            <a:ext cx="3205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IEV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apped in f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1" name="Picture 8" descr="The Blasphemers"/>
          <p:cNvPicPr/>
          <p:nvPr/>
        </p:nvPicPr>
        <p:blipFill>
          <a:blip r:embed="rId1"/>
          <a:stretch/>
        </p:blipFill>
        <p:spPr>
          <a:xfrm>
            <a:off x="4724280" y="1371600"/>
            <a:ext cx="3962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AND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cked to pieces, put back together, and hacked up aga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5" name="Picture 7" descr="Vigril reproves of Dante's Curiosity by Dore"/>
          <p:cNvPicPr/>
          <p:nvPr/>
        </p:nvPicPr>
        <p:blipFill>
          <a:blip r:embed="rId1"/>
          <a:stretch/>
        </p:blipFill>
        <p:spPr>
          <a:xfrm>
            <a:off x="4876920" y="1371600"/>
            <a:ext cx="3614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nd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Lustfu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wn about in darkn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Picture 13" descr="thumbnail of Dante faints by Blake"/>
          <p:cNvPicPr/>
          <p:nvPr/>
        </p:nvPicPr>
        <p:blipFill>
          <a:blip r:embed="rId1"/>
          <a:stretch/>
        </p:blipFill>
        <p:spPr>
          <a:xfrm>
            <a:off x="3733920" y="1447920"/>
            <a:ext cx="5105160" cy="35780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1940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LSIFI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de insane; plagued with all types of illnesses and diseas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9" name="Picture 8" descr="0710"/>
          <p:cNvPicPr/>
          <p:nvPr/>
        </p:nvPicPr>
        <p:blipFill>
          <a:blip r:embed="rId1"/>
          <a:stretch/>
        </p:blipFill>
        <p:spPr>
          <a:xfrm>
            <a:off x="4724280" y="1828800"/>
            <a:ext cx="416268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9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Treache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FAMILY, COUNTRY, AND FRIE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zen in a sheet of ice with only their face exposed to show the pa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3" name="Picture 7" descr="1215"/>
          <p:cNvPicPr/>
          <p:nvPr/>
        </p:nvPicPr>
        <p:blipFill>
          <a:blip r:embed="rId1"/>
          <a:stretch/>
        </p:blipFill>
        <p:spPr>
          <a:xfrm>
            <a:off x="4648320" y="2057400"/>
            <a:ext cx="41148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enter of 9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Lucif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7" name="Picture 8" descr="Satan by Dore"/>
          <p:cNvPicPr/>
          <p:nvPr/>
        </p:nvPicPr>
        <p:blipFill>
          <a:blip r:embed="rId1"/>
          <a:stretch/>
        </p:blipFill>
        <p:spPr>
          <a:xfrm>
            <a:off x="1676520" y="1447920"/>
            <a:ext cx="6095880" cy="48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3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rd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Gluttono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rived of individuality. Each is alone, cold, and misera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Picture 10" descr="0503ciacco"/>
          <p:cNvPicPr/>
          <p:nvPr/>
        </p:nvPicPr>
        <p:blipFill>
          <a:blip r:embed="rId1"/>
          <a:stretch/>
        </p:blipFill>
        <p:spPr>
          <a:xfrm>
            <a:off x="4114800" y="1905120"/>
            <a:ext cx="4648320" cy="32860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1940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4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Avaricio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ee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t roll their wealth back and forth forev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Picture 14" descr="thumbnail of the avaricious by Dore"/>
          <p:cNvPicPr/>
          <p:nvPr/>
        </p:nvPicPr>
        <p:blipFill>
          <a:blip r:embed="rId1"/>
          <a:stretch/>
        </p:blipFill>
        <p:spPr>
          <a:xfrm>
            <a:off x="4572000" y="2057400"/>
            <a:ext cx="419112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5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Wrathful and Sull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athful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ddy figures attack one ano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lle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k beneath the surface in filthy sl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9" name="Picture 12" descr="0703filippo"/>
          <p:cNvPicPr/>
          <p:nvPr/>
        </p:nvPicPr>
        <p:blipFill>
          <a:blip r:embed="rId1"/>
          <a:stretch/>
        </p:blipFill>
        <p:spPr>
          <a:xfrm>
            <a:off x="4267080" y="1981080"/>
            <a:ext cx="460080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rsh of Styx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Picture 5" descr="0712"/>
          <p:cNvPicPr/>
          <p:nvPr/>
        </p:nvPicPr>
        <p:blipFill>
          <a:blip r:embed="rId1"/>
          <a:stretch/>
        </p:blipFill>
        <p:spPr>
          <a:xfrm>
            <a:off x="1143000" y="1523880"/>
            <a:ext cx="655308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6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Here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fined in tomb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Picture 8" descr="Heretics by Botticelli"/>
          <p:cNvPicPr/>
          <p:nvPr/>
        </p:nvPicPr>
        <p:blipFill>
          <a:blip r:embed="rId1"/>
          <a:stretch/>
        </p:blipFill>
        <p:spPr>
          <a:xfrm>
            <a:off x="4114800" y="1676520"/>
            <a:ext cx="47242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7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Vio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OTH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mersed in a river of boiling blo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0" name="Picture 10" descr="04800393"/>
          <p:cNvPicPr/>
          <p:nvPr/>
        </p:nvPicPr>
        <p:blipFill>
          <a:blip r:embed="rId1"/>
          <a:stretch/>
        </p:blipFill>
        <p:spPr>
          <a:xfrm>
            <a:off x="3657600" y="3276720"/>
            <a:ext cx="4762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7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Vio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isted plants that cannot mo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4" name="Picture 8" descr="Harpies in forest of suicides By Dore"/>
          <p:cNvPicPr/>
          <p:nvPr/>
        </p:nvPicPr>
        <p:blipFill>
          <a:blip r:embed="rId1"/>
          <a:stretch/>
        </p:blipFill>
        <p:spPr>
          <a:xfrm>
            <a:off x="5410080" y="1752480"/>
            <a:ext cx="2889360" cy="38102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0" descr="0920suicides"/>
          <p:cNvPicPr/>
          <p:nvPr/>
        </p:nvPicPr>
        <p:blipFill>
          <a:blip r:embed="rId2"/>
          <a:stretch/>
        </p:blipFill>
        <p:spPr>
          <a:xfrm>
            <a:off x="380880" y="3657600"/>
            <a:ext cx="389592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7T20:29:05Z</dcterms:created>
  <dc:creator>CCSD</dc:creator>
  <dc:description/>
  <dc:language>en-US</dc:language>
  <cp:lastModifiedBy>RomaK</cp:lastModifiedBy>
  <dcterms:modified xsi:type="dcterms:W3CDTF">2015-09-04T10:35:35Z</dcterms:modified>
  <cp:revision>12</cp:revision>
  <dc:subject/>
  <dc:title>Dante's Inferno</dc:title>
</cp:coreProperties>
</file>