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whoosh.wav" ContentType="audio/x-wav"/>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C3FC-72D6-4E89-821C-E16DD452AC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B0316-6207-4B02-A08C-5E98A9F0E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67B86-5617-45B4-B6D4-AFA5A5284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8795D-08CD-4E73-8438-C29FD6C94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91610-35ED-49C5-8B54-0F486A1F0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E5990-68BF-40D9-88A1-D5089097C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0C808-A24E-4766-B27B-3B8C36424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E4EB7-9F2D-4E45-B2D2-F0F072768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B6AFB-DC90-4086-AC71-C9FB1F605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D1422-13F1-48FD-AB02-94F881A7F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45A4C-8304-4201-AB40-91861B199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35AD1-0DAF-402B-B4CC-B69A94312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30046-F4AB-46F9-B3B0-F0D2A88E9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D4663-5099-4614-B2FE-9379378E6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44C8A-1ACF-4AA6-881C-75592D121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C1271-8F84-4A23-91F6-41967FF84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23E8A-A507-4899-95BB-20C804C17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4BC30-369F-4CE3-8A6E-5FBD74A55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D5391-BA8C-435C-8F37-6BA5A5766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118B2-1AAD-4DCE-A42C-0D76D9676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E3BD2-30C0-4BA2-95B8-F63E5F599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BA7D2-1737-495C-92E0-40483243A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387E4-E763-42B4-8A9C-F714E32D7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9AF32-EEEC-4F4A-BAA0-E6D6F3B69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4525C-5382-4132-90AC-765DD7DD6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B10A-25B3-4075-8E46-70310D5FB4B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9EDF-3248-4D3E-BE1B-47CA4265584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hristmas Carol </a:t>
            </a:r>
            <a:br>
              <a:rPr sz="3400"/>
            </a:br>
            <a:r>
              <a:rPr b="0" lang="en-US" sz="2400" spc="-1" strike="noStrike">
                <a:solidFill>
                  <a:srgbClr val="000000"/>
                </a:solidFill>
                <a:latin typeface="Verdana"/>
              </a:rPr>
              <a:t>(Summary and activities by Fran Roberts, M. Ed.)</a:t>
            </a:r>
            <a:endParaRPr b="0" lang="en-US" sz="2400" spc="-1" strike="noStrike">
              <a:solidFill>
                <a:srgbClr val="000000"/>
              </a:solidFill>
              <a:latin typeface="Verdana"/>
            </a:endParaRPr>
          </a:p>
        </p:txBody>
      </p:sp>
      <p:sp>
        <p:nvSpPr>
          <p:cNvPr id="93"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4"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   *   *   *   * </a:t>
            </a:r>
            <a:endParaRPr b="0" lang="en-US" sz="2200" spc="-1" strike="noStrike">
              <a:solidFill>
                <a:srgbClr val="000000"/>
              </a:solidFill>
              <a:latin typeface="Verdana"/>
            </a:endParaRPr>
          </a:p>
        </p:txBody>
      </p:sp>
      <p:pic>
        <p:nvPicPr>
          <p:cNvPr id="95" name="Picture 9" descr="MCj03968140000[1]"/>
          <p:cNvPicPr/>
          <p:nvPr/>
        </p:nvPicPr>
        <p:blipFill>
          <a:blip r:embed="rId1"/>
          <a:stretch/>
        </p:blipFill>
        <p:spPr>
          <a:xfrm>
            <a:off x="5638680" y="1981080"/>
            <a:ext cx="2971800" cy="3886200"/>
          </a:xfrm>
          <a:prstGeom prst="rect">
            <a:avLst/>
          </a:prstGeom>
          <a:ln w="0">
            <a:noFill/>
          </a:ln>
        </p:spPr>
      </p:pic>
    </p:spTree>
  </p:cSld>
  <p:transition advTm="10000">
    <p:newsflash/>
    <p:sndAc>
      <p:stSnd>
        <p:snd r:embed="rId2"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97"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clever play on words, Dickens divides the book into 5 “staves” instead of chapters.  Staves is a musical term, in keeping with the title, A Christmas Carol– which, of course, is a song.</a:t>
            </a:r>
            <a:endParaRPr b="0" lang="en-US" sz="2600" spc="-1" strike="noStrike">
              <a:solidFill>
                <a:srgbClr val="000000"/>
              </a:solidFill>
              <a:latin typeface="Verdana"/>
            </a:endParaRPr>
          </a:p>
        </p:txBody>
      </p:sp>
      <p:sp>
        <p:nvSpPr>
          <p:cNvPr id="98"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9" name="Picture 6" descr="MPj04221280000[1]"/>
          <p:cNvPicPr/>
          <p:nvPr/>
        </p:nvPicPr>
        <p:blipFill>
          <a:blip r:embed="rId1"/>
          <a:stretch/>
        </p:blipFill>
        <p:spPr>
          <a:xfrm rot="483600">
            <a:off x="5334120" y="1665360"/>
            <a:ext cx="3429000" cy="4343400"/>
          </a:xfrm>
          <a:prstGeom prst="rect">
            <a:avLst/>
          </a:prstGeom>
          <a:ln w="0">
            <a:noFill/>
          </a:ln>
        </p:spPr>
      </p:pic>
    </p:spTree>
  </p:cSld>
  <p:transition advTm="10000">
    <p:newsflash/>
    <p:sndAc>
      <p:stSnd>
        <p:snd r:embed="rId2"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80520"/>
            <a:ext cx="80010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u="sng">
                <a:solidFill>
                  <a:srgbClr val="000000"/>
                </a:solidFill>
                <a:uFillTx/>
                <a:latin typeface="Tw Cen MT Condensed Extra Bold"/>
              </a:rPr>
              <a:t>A Christmas Carol</a:t>
            </a:r>
            <a:br>
              <a:rPr sz="4100"/>
            </a:br>
            <a:r>
              <a:rPr b="1" lang="en-US" sz="4100" spc="-1" strike="noStrike">
                <a:solidFill>
                  <a:srgbClr val="000000"/>
                </a:solidFill>
                <a:latin typeface="Tw Cen MT Condensed Extra Bold"/>
              </a:rPr>
              <a:t>by Charles Dickens</a:t>
            </a:r>
            <a:endParaRPr b="0" lang="en-US" sz="4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r>
              <a:rPr b="1" lang="en-US" sz="3000" spc="-1" strike="noStrike">
                <a:solidFill>
                  <a:srgbClr val="000000"/>
                </a:solidFill>
                <a:latin typeface="Verdana"/>
              </a:rPr>
              <a:t>	</a:t>
            </a:r>
            <a:r>
              <a:rPr b="1" lang="en-US" sz="3000" spc="-1" strike="noStrike">
                <a:solidFill>
                  <a:srgbClr val="000000"/>
                </a:solidFill>
                <a:latin typeface="Verdana"/>
              </a:rPr>
              <a:t>Ebenezer Scrooge, a tight-fisted and bitter man, is visited by three spirits to bring about his redemption before his death.  He learns to love his fellow man after being shown the love and generosity that symbolizes Christmas.  </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3" name="PlaceHolder 2"/>
          <p:cNvSpPr>
            <a:spLocks noGrp="1"/>
          </p:cNvSpPr>
          <p:nvPr>
            <p:ph/>
          </p:nvPr>
        </p:nvSpPr>
        <p:spPr>
          <a:xfrm>
            <a:off x="566640" y="1752480"/>
            <a:ext cx="54532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 Scrooge’s partner has been dead,  7 years to the day that our story begi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irst scene unfolds in the cold cheerless office of Scrooge’s counting house.</a:t>
            </a:r>
            <a:endParaRPr b="0" lang="en-US" sz="2600" spc="-1" strike="noStrike">
              <a:solidFill>
                <a:srgbClr val="000000"/>
              </a:solidFill>
              <a:latin typeface="Verdana"/>
            </a:endParaRPr>
          </a:p>
        </p:txBody>
      </p:sp>
      <p:sp>
        <p:nvSpPr>
          <p:cNvPr id="104" name="PlaceHolder 3"/>
          <p:cNvSpPr>
            <a:spLocks noGrp="1"/>
          </p:cNvSpPr>
          <p:nvPr>
            <p:ph/>
          </p:nvPr>
        </p:nvSpPr>
        <p:spPr>
          <a:xfrm>
            <a:off x="5409720" y="1752480"/>
            <a:ext cx="31575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105" name="Picture 7" descr="MCj02307410000[1]"/>
          <p:cNvPicPr/>
          <p:nvPr/>
        </p:nvPicPr>
        <p:blipFill>
          <a:blip r:embed="rId1"/>
          <a:stretch/>
        </p:blipFill>
        <p:spPr>
          <a:xfrm>
            <a:off x="6248520" y="2209680"/>
            <a:ext cx="2209680" cy="3810240"/>
          </a:xfrm>
          <a:prstGeom prst="rect">
            <a:avLst/>
          </a:prstGeom>
          <a:ln w="0">
            <a:noFill/>
          </a:ln>
        </p:spPr>
      </p:pic>
    </p:spTree>
  </p:cSld>
  <p:transition advTm="10000">
    <p:newsflash/>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his faithful clerk Bob Cratchit toils, Scrooge is visited by his nephew and invited to Christmas dinner the next day.  Scrooge declares that those who celebrate Christmas should be boiled in their own pudding and dismisses him.</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men who come seeking donations for the poor are dismissed with Scrooge’s wish that the poor would die and “decrease the surplus populatio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8" name="PlaceHolder 3"/>
          <p:cNvSpPr>
            <a:spLocks noGrp="1"/>
          </p:cNvSpPr>
          <p:nvPr>
            <p:ph/>
          </p:nvPr>
        </p:nvSpPr>
        <p:spPr>
          <a:xfrm>
            <a:off x="7010280" y="2590560"/>
            <a:ext cx="1557360" cy="342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000000"/>
              </a:solidFill>
              <a:latin typeface="Verdana"/>
            </a:endParaRPr>
          </a:p>
        </p:txBody>
      </p:sp>
      <p:pic>
        <p:nvPicPr>
          <p:cNvPr id="109" name="Picture 9" descr="MCj01041500000[1]"/>
          <p:cNvPicPr/>
          <p:nvPr/>
        </p:nvPicPr>
        <p:blipFill>
          <a:blip r:embed="rId1"/>
          <a:stretch/>
        </p:blipFill>
        <p:spPr>
          <a:xfrm>
            <a:off x="6934320" y="1752480"/>
            <a:ext cx="1447560" cy="4267440"/>
          </a:xfrm>
          <a:prstGeom prst="rect">
            <a:avLst/>
          </a:prstGeom>
          <a:ln w="0">
            <a:noFill/>
          </a:ln>
        </p:spPr>
      </p:pic>
    </p:spTree>
  </p:cSld>
  <p:transition advTm="10000">
    <p:newsflash/>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56818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s visit is dismissed as “more gravy than grave” by Scrooge, but it ends up setting the stage for the three ghosts.  Which ghost’s message most resembles that of Jacob Marley’s?</a:t>
            </a:r>
            <a:endParaRPr b="0" lang="en-US" sz="2600" spc="-1" strike="noStrike">
              <a:solidFill>
                <a:srgbClr val="000000"/>
              </a:solidFill>
              <a:latin typeface="Verdana"/>
            </a:endParaRPr>
          </a:p>
        </p:txBody>
      </p:sp>
      <p:sp>
        <p:nvSpPr>
          <p:cNvPr id="112" name="PlaceHolder 3"/>
          <p:cNvSpPr>
            <a:spLocks noGrp="1"/>
          </p:cNvSpPr>
          <p:nvPr>
            <p:ph/>
          </p:nvPr>
        </p:nvSpPr>
        <p:spPr>
          <a:xfrm>
            <a:off x="6857640" y="1752480"/>
            <a:ext cx="170964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 / / / /</a:t>
            </a:r>
            <a:endParaRPr b="0" lang="en-US" sz="2600" spc="-1" strike="noStrike">
              <a:solidFill>
                <a:srgbClr val="000000"/>
              </a:solidFill>
              <a:latin typeface="Verdana"/>
            </a:endParaRPr>
          </a:p>
        </p:txBody>
      </p:sp>
      <p:pic>
        <p:nvPicPr>
          <p:cNvPr id="113" name="Picture 9" descr="MCPE00483_0000[1]"/>
          <p:cNvPicPr/>
          <p:nvPr/>
        </p:nvPicPr>
        <p:blipFill>
          <a:blip r:embed="rId1"/>
          <a:stretch/>
        </p:blipFill>
        <p:spPr>
          <a:xfrm>
            <a:off x="7086600" y="2438280"/>
            <a:ext cx="1152360" cy="3505320"/>
          </a:xfrm>
          <a:prstGeom prst="rect">
            <a:avLst/>
          </a:prstGeom>
          <a:ln w="0">
            <a:noFill/>
          </a:ln>
        </p:spPr>
      </p:pic>
    </p:spTree>
  </p:cSld>
  <p:transition advTm="10000">
    <p:newsflash/>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y careful attention to the three ghosts.  Each message has a specific effect on Scrooge.</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the ghost of Christmas past remind Scrooge of?</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ose generous heart touches Scrooge in the presen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Scrooge’s future hold if he continues to be greedy and self-absorbed?</a:t>
            </a:r>
            <a:endParaRPr b="0" lang="en-US" sz="2600" spc="-1" strike="noStrike">
              <a:solidFill>
                <a:srgbClr val="000000"/>
              </a:solidFill>
              <a:latin typeface="Verdana"/>
            </a:endParaRPr>
          </a:p>
        </p:txBody>
      </p:sp>
    </p:spTree>
  </p:cSld>
  <p:transition advTm="10000">
    <p:newsflash/>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SONIFICATION</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ckens portrays Ignorance and Want as two frail, ghastly childr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you think the main causes of poverty are ignorance and want?  Explain why or why not.</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lease </a:t>
            </a:r>
            <a:r>
              <a:rPr b="1" lang="en-US" sz="3000" spc="-1" strike="noStrike" u="sng">
                <a:solidFill>
                  <a:srgbClr val="000000"/>
                </a:solidFill>
                <a:uFillTx/>
                <a:latin typeface="Verdana"/>
              </a:rPr>
              <a:t>summarize</a:t>
            </a:r>
            <a:r>
              <a:rPr b="1" lang="en-US" sz="3000" spc="-1" strike="noStrike">
                <a:solidFill>
                  <a:srgbClr val="000000"/>
                </a:solidFill>
                <a:latin typeface="Verdana"/>
              </a:rPr>
              <a:t> the story, in three or four paragraphs, paying careful attention to:</a:t>
            </a:r>
            <a:endParaRPr b="0" lang="en-US" sz="3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Times New Roman"/>
              </a:rPr>
              <a:t>Setting (where and when the story takes place)</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People (describe the main characters)</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ction (summarize the plo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Climax (the most dramatic part of the story)</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Ending</a:t>
            </a:r>
            <a:endParaRPr b="0" lang="en-US" sz="2000" spc="-1" strike="noStrike">
              <a:solidFill>
                <a:srgbClr val="000000"/>
              </a:solidFill>
              <a:latin typeface="Verdana"/>
            </a:endParaRPr>
          </a:p>
        </p:txBody>
      </p:sp>
    </p:spTree>
  </p:cSld>
  <p:transition advTm="10000">
    <p:newsflash/>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5:59:22Z</dcterms:created>
  <dc:creator>technology</dc:creator>
  <dc:description/>
  <dc:language>en-US</dc:language>
  <cp:lastModifiedBy>RomaK</cp:lastModifiedBy>
  <dcterms:modified xsi:type="dcterms:W3CDTF">2015-09-04T10:34:40Z</dcterms:modified>
  <cp:revision>12</cp:revision>
  <dc:subject/>
  <dc:title>A Christmas Carol</dc:title>
</cp:coreProperties>
</file>