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F346-95DA-4280-A449-78F82F44EE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riting A Good Ess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ing A Goo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ood Essay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a Beginning, Middle and E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s Para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be Clearly Underst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ood Essay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Beginning, Middle 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learly Underst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ssay Is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written speech, used to talk about a given top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ssay I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ritten speech, used to talk about a given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egi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3 Sent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-Intro and a main overview of the main, and primary top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2-Thesis Statement (a statement that proves a poi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3-Lead or conversion to start you body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3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1-Intro and a main overview of the main, and primar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-Thesis Statement (a statement that proves a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3-Lead or conversion to start you body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o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ody is the main section of the ess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be put into 1 or many paragrap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lks about the subjects main poi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paragraph is a different sub-top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s all info. being presen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 is the main section of the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put into 1 or many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the subjects main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paragraph is a different sub-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ll info. being pres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nding paragraph sums up the entire ess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Your Ending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ate your top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ate you Thesis Stat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efly touch on every topic in your essay in the last sent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ost essays, the Ending paragraph is what people remem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nding paragraph sums up the entire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Ending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ate your 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ate you Thesis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ly touch on every topic in your essay in the last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essays, the Ending paragraph is what people 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5AC7-309C-423A-AEB6-CB71950A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97E-C076-4BDA-A747-55719124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E78C-61B2-4FEE-82AC-5F74F2E1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8DD7-39A8-460E-B620-A75239FF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CE22-6F62-4E65-B207-76052AA2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2CEB-0DBA-4B4D-91D3-E6C0EB16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61B6-5B16-49C4-8129-4F443149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3A78-3DBB-47F4-B6FC-D3F70960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C712-C0C1-41FF-9701-DE21C060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DA68-46B1-4D84-A005-E0B9B4BF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C339-5C0B-41A4-865D-7E385F94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A09-43D0-4A3D-BB6C-BE170F5F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548B-82F7-4D73-9D39-83B4DF08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84F5-FEE9-4B17-9DF1-9C11ACE5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E106-BD3B-489D-B55C-73CD4278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37D7-8E65-461A-A127-B57124CA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34CE-A699-4521-857D-84D6787F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9375-7AA7-4D3F-A1E1-92B46035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27A-A663-4605-82DD-115FB0FA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82C-B553-4F9A-8600-4EE0ED21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322-97CC-4C9F-B7B4-C599FB64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14F5-86DF-4AF5-BD3E-70DB715B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71A-93B8-48A4-BC5E-4BF80CEA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232-DD6B-44A8-8027-6F116CDB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190D-1963-4FEE-B89C-2C6CA566E2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A21C-A2D7-4973-97CA-6BDDC7C354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riting A Good Essa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 Good Essay . . 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Beginning, Middle and 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Para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Clearly Underst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n Essay Is . . 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ritten speech, used to talk about a given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Beginn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3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1-Intro and a main overview of the main, and primary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2-Thesis Statement (a statement that proves a po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3-Lead or conversion to start you body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Bod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dy is the main section of the ess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put into 1 or many paragrap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s about the subjects main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aragraph is a different sub-top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all info. being pres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ending paragraph sums up the entire ess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Your Ending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ate your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ate you Thesis Stat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efly touch on every topic in your essay in the last sent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ost essays, the Ending paragraph is what people rem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1:07:12Z</dcterms:created>
  <dc:creator>Ben Swanson</dc:creator>
  <dc:description/>
  <dc:language>en-US</dc:language>
  <cp:lastModifiedBy>RomaK</cp:lastModifiedBy>
  <dcterms:modified xsi:type="dcterms:W3CDTF">2015-09-02T09:49:12Z</dcterms:modified>
  <cp:revision>4</cp:revision>
  <dc:subject/>
  <dc:title>Writing A Good Essay</dc:title>
</cp:coreProperties>
</file>