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BA34F-228D-4142-AF9D-135853E0118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riting A Good Ess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riting A Good Es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Good Essay . . 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as a Beginning, Middle and En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ses Paragraph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n be Clearly Understoo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ood Essay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a Beginning, Middle and E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Para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Clearly Underst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 Essay Is . . 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written speech, used to talk about a given topi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ssay Is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ritten speech, used to talk about a given top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Beginn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as 3 Senten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1-Intro and a main overview of the main, and primary topi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2-Thesis Statement (a statement that proves a poin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3-Lead or conversion to start you body se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gin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3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1-Intro and a main overview of the main, and primary top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2-Thesis Statement (a statement that proves a po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3-Lead or conversion to start you body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Bod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Body is the main section of the ess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n be put into 1 or many paragraph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alks about the subjects main point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ch paragraph is a different sub-top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ives all info. being presen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dy is the main section of the ess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put into 1 or many paragrap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s about the subjects main poi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paragraph is a different sub-top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s all info. being pres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our ending paragraph sums up the entire ess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Your Ending . . 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state your top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state you Thesis Stat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riefly touch on every topic in your essay in the last sente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most essays, the Ending paragraph is what people rememb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ending paragraph sums up the entire ess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Your Ending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tate your top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tate you Thesis Stat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efly touch on every topic in your essay in the last sen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ost essays, the Ending paragraph is what people rem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7FE1-56B9-421E-B70D-20051034A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0CA6-803E-45E9-BB3C-DA04ACE49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441A-AE29-40BE-BE74-360FBD295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D3ED-6FCF-469F-9B19-A392861EE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D0B7A-76D7-4DA5-8C3A-8530778B0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FDF08-52C4-4697-B6A8-AD1910D54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77669-2A90-47FD-BB3D-13119FDAA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EF7C1-5A06-40BF-9979-D8247062C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45F0B-14AE-4D3C-97CC-C311F2442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7A21A-0856-43D5-8A2D-803701B19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24BA6-7D5A-48E4-B6BD-476D8039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F2FA-8426-4008-82FE-20A9E0409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55DB3-C286-4D43-A9E3-190E62D9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FB2D4-460C-4683-B4CE-1DE378AC8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0D96A-B3E5-4F9E-B974-335E11EEF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E78CF-E712-41B0-8948-EF6C81415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EE411-4EE7-408A-AB72-AB0343476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AFF7-6A3C-42FC-9567-B5A2CF029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83E8-7C5E-4353-8D99-1084DF54F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B381-74AD-4732-BA4D-DF3B727E0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1256-2D95-4D1D-BAE3-A73995B60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B6AA-BD2F-4AE5-B4DA-3FCE15C7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8718-F26A-449C-A650-3409C03D1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4424-6E82-42D1-A431-08E09F329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B6B62-EDBC-4CE5-ACE6-14C872F8F70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4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5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6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7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8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9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0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1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2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3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4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15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16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17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19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0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1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22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23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24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25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26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27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28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29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30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31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32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09C4C-955F-42A9-ACDE-C50DB6420CB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Writing A Good Essay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A Good Essay . . 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a Beginning, Middle and E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s Paragrap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be Clearly Underst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An Essay Is . . 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written speech, used to talk about a given top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he Beginning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3 Sent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1-Intro and a main overview of the main, and primary top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2-Thesis Statement (a statement that proves a poi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3-Lead or conversion to start you body s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he Body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ody is the main section of the ess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be put into 1 or many paragraph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lks about the subjects main poi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paragraph is a different sub-top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s all info. being presen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he End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r ending paragraph sums up the entire ess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Your Ending . .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tate your top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tate you Thesis Stat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iefly touch on every topic in your essay in the last sent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most essays, the Ending paragraph is what people reme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5T21:07:12Z</dcterms:created>
  <dc:creator>Ben Swanson</dc:creator>
  <dc:description/>
  <dc:language>en-US</dc:language>
  <cp:lastModifiedBy>RomaK</cp:lastModifiedBy>
  <dcterms:modified xsi:type="dcterms:W3CDTF">2015-09-02T09:49:12Z</dcterms:modified>
  <cp:revision>4</cp:revision>
  <dc:subject/>
  <dc:title>Writing A Good Essay</dc:title>
</cp:coreProperties>
</file>