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AA63-CA29-4505-BEAC-E690807EEA2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riting A Good Ess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riting A Good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ood Essay . . 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s a Beginning, Middle and En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s Paragrap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be Clearly Understo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ood Essay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a Beginning, Middle and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learly Underst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ssay Is . . 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written speech, used to talk about a given topi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ssay Is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ritten speech, used to talk about a given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egin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s 3 Sente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-Intro and a main overview of the main, and primary topi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2-Thesis Statement (a statement that proves a poin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3-Lead or conversion to start you body s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gi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3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1-Intro and a main overview of the main, and primary top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-Thesis Statement (a statement that proves a po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3-Lead or conversion to start you body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od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ody is the main section of the ess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be put into 1 or many paragraph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lks about the subjects main poi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ch paragraph is a different sub-top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ives all info. being presen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 is the main section of the ess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put into 1 or many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s about the subjects main p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paragraph is a different sub-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all info. being pres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ending paragraph sums up the entire ess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Your Ending . . 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tate your top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state you Thesis Stat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efly touch on every topic in your essay in the last sent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most essays, the Ending paragraph is what people remem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nding paragraph sums up the entire ess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Your Ending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ate your to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tate you Thesis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efly touch on every topic in your essay in the last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essays, the Ending paragraph is what people rem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84FA-59AA-4E26-9580-89DC211D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0C99-289A-4C89-BBE2-32496F7B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1744-9D91-4FD1-BD80-832D1219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B242-67F6-42B7-83B5-2668EFED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3943-F04E-4B35-8640-872BC693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D659-4743-4F5B-A28A-5D06684A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4638-E9EF-4B71-91E9-4A5E5687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F920-5345-47EE-9150-A4255A86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E631-A0B3-445E-84D0-883C7346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5013-0F46-4041-8432-F197404A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3279-46EC-45C7-AA64-95F50D93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D93D-519D-4C9A-8B50-9ECDBE9F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6E06-EC85-48E1-A6F4-23BF3933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4EB5-9CA1-4EFB-8D1E-C907ABA9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BD89-32CC-4F0D-AE78-1A6402C6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79B2-154D-4935-A576-DC3B5B66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35D6-6609-4010-8FD2-3C4CA5E5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853C-167D-404C-9265-7BEA7A36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3731-E07B-4334-89B4-1F1A97C1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F966-7065-4ABF-9CB2-1B220FF4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480A-F484-44F3-8795-A182E62F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9C9-7323-4048-B4E2-2F16086F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03D0-D821-4B49-8799-12426D58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5DEA-7F0D-4BCC-BBCB-24206D8E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55A6-A36D-49F4-A147-0AA68531BA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A28C-2348-40FB-955A-6720A980CA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riting A Good Essa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 Good Essay . . 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 Beginning, Middle and 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Paragrap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Clearly Underst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n Essay Is . . 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written speech, used to talk about a given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Beginni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3 Sent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1-Intro and a main overview of the main, and primary top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2-Thesis Statement (a statement that proves a poi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3-Lead or conversion to start you body s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Bod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ody is the main section of the ess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put into 1 or many paragraph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ks about the subjects main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paragraph is a different sub-top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s all info. being prese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e En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ending paragraph sums up the entire ess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Your Ending . .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ate your t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ate you Thesis Stat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efly touch on every topic in your essay in the last sent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most essays, the Ending paragraph is what people reme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21:07:12Z</dcterms:created>
  <dc:creator>Ben Swanson</dc:creator>
  <dc:description/>
  <dc:language>en-US</dc:language>
  <cp:lastModifiedBy>RomaK</cp:lastModifiedBy>
  <dcterms:modified xsi:type="dcterms:W3CDTF">2015-09-02T09:49:12Z</dcterms:modified>
  <cp:revision>4</cp:revision>
  <dc:subject/>
  <dc:title>Writing A Good Essay</dc:title>
</cp:coreProperties>
</file>