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B48F-A97E-431D-B069-A07E12F4C0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riting A Good Book Review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A Good Book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OMEWORK-DAY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-DA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 Paragraph 3 &amp;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nt this typed neatly in a readable font, size 14 by tom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hat Is A Book Review ?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ook Review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Good Book Review . . 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ood Book Review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the reader in susp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the 1st paragraph, you will need to include the genre, and what type of people the book is geared toward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agraph follows the title and auth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st paragraph, you will need to include the genre, and what type of people the book is geared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the 2nd paragraph you want to include your personal opinions about the book and how parts relate to your personal lif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2nd paragraph you want to include your personal opinions about the book and how parts relate to your personal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ragraph is strictly about you and your thoughts, and enjo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OMEWORK-DAY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onight’s homework is to write the 1st 2 paragraphs of a book review on the book you will be using for this projec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-DA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ight’s homework is to write the 1st 2 paragraphs of a book review on the book you will be using for this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r 3rd paragraph is the longest of all of your paragraph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3rd paragraph is the longest of all of your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go through phases 1 throug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e next slid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3-PLANN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main events in the 1st 4th of your boo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st part of the middle.  Talk about the major probl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3-PL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your summary, you will need to design a phases pl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main events in the 1st 4th of your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main events and the problems that occur during the 1st part of the middle.  Talk about the major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4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your last required para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follow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’s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rds Book Has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 About The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088-CA48-4D84-B722-FA5E13A2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913-1880-41F4-8762-A8177B55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78AD-511B-4792-B01C-DDD5DE8C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610-926A-47A2-A959-49E3AFF2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E308-EEF4-497D-A5F6-11D927D9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D5EC-362E-4A5A-ABED-B415E179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BDDF-FA2F-4A24-AE93-147C374D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25A6-3782-4927-AB86-B0E466C1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CD48-145C-4E77-B469-D2482FD0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34D32-9352-489B-9967-25794FAE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93BB-084F-439B-9E64-12217DBD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4774-41A7-41D0-BE27-5378B5DD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3104-3BAB-4017-82B6-E495813A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A720-47F9-4ABD-A00E-0A1A56FD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92D2-2672-4D02-8558-8832AFAC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4868-E92C-4F8C-9C87-3FB46908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AF5D-976B-4314-82F5-1944CF45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048A-D191-445E-A8D2-58F7CD642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B6FF-F7E1-48E2-AEC6-511A8377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68E5-007A-4B81-A111-D1020165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4A36-96BC-4F54-BE5A-648DD99C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E301-4687-4AF0-89BC-590E2BB0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8D3E-4884-4AA0-B0AA-38A4E388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BF4F-ACFC-49E4-88B0-B26C1AA2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5CCA-4A07-47C9-9F5B-55A4F81F928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D9F1-5781-45A4-9C9F-618AAF217DA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RomaK</cp:lastModifiedBy>
  <dcterms:modified xsi:type="dcterms:W3CDTF">2015-09-02T09:49:05Z</dcterms:modified>
  <cp:revision>4</cp:revision>
  <dc:subject/>
  <dc:title>Writing A Good Book Review</dc:title>
</cp:coreProperties>
</file>