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D253-AC63-4315-849E-B8ADEC9263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riting A Good Book Review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A Good Book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OMEWORK-DAY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-DA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 Paragraph 3 &amp;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nt this typed neatly in a readable font, size 14 by tom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hat Is A Book Review 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ook Review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Good Book Review . . 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ood Book Review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the reader in susp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the 1st paragraph, you will need to include the genre, and what type of people the book is geared towar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agraph follows the title and auth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st paragraph, you will need to include the genre, and what type of people the book is geared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the 2nd paragraph you want to include your personal opinions about the book and how parts relate to your personal lif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2nd paragraph you want to include your personal opinions about the book and how parts relate to your personal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ragraph is strictly about you and your thoughts, and enjo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OMEWORK-DAY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onight’s homework is to write the 1st 2 paragraphs of a book review on the book you will be using for this projec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-DA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ght’s homework is to write the 1st 2 paragraphs of a book review on the book you will be using for this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r 3rd paragraph is the longest of all of your paragraph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3rd paragraph is the longest of all of your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go through phases 1 throug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e next sl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3-PLANN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main events in the 1st 4th of your boo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st part of the middle.  Talk about the major probl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3-PL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your summary, you will need to design a phases pl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main events in the 1st 4th of your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main events and the problems that occur during the 1st part of the middle.  Talk about the major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4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last required para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follow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’s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rds Book Has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 About The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2FA-C715-416A-A814-7566F501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761-34A7-42AB-B5D6-687BDB22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4C3-FC4E-4E33-834F-96B42FB3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32F-9094-4AE7-AF73-037C635E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9D97-238F-47F1-AEB3-99F2002D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F879-8678-4F5D-B689-37667A64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9A6C-527D-4A49-B4D0-ACAA4761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52F8-BC2F-4706-B9E4-CD829141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88A6-E748-44E2-9932-2513DE00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AD85-9863-4F75-B0E1-63C513DB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5E48-B82F-4FF4-AB34-D96F5BFD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8F77-221E-415B-9B5C-A6586270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4EC4-C157-4F03-8ED6-EA63D424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88BE-5120-40C7-8E71-7C17B5B5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7DE3-2229-4A4B-94E5-D8C1A584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0BE9-74B3-4918-ACC9-CCC01B2A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2B9E-4F90-49A5-8D60-BDD48987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374-8770-49DB-879B-9556F1D2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912-6660-4F2C-850B-0F0F74DC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39A-3A1A-4110-A3EF-91528AFC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2CB-7A92-446A-B03D-4352B3BD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5B1-6A84-4D5F-AB4E-34957B66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FE0-A0A6-4F09-8B2A-10BDC13B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4D6-D817-4112-9683-8CC6DB07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B4BE-1D60-4587-99A7-9D58D4B0597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FEDF-1ED6-4064-9C73-FCC32F6D7C9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RomaK</cp:lastModifiedBy>
  <dcterms:modified xsi:type="dcterms:W3CDTF">2015-09-02T09:49:05Z</dcterms:modified>
  <cp:revision>4</cp:revision>
  <dc:subject/>
  <dc:title>Writing A Good Book Review</dc:title>
</cp:coreProperties>
</file>