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E2D6-CB0D-4976-BF0D-90FC734051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98F-10E1-4E84-990B-E034F9E4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DB4-FAD2-46B5-B9D8-0CFDB42E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933-A9E6-46EE-88D7-C2665AC5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116-7A81-4153-A97A-275E70F8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D4FF-0BF3-4A70-9FF3-DC2BDBCA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B62B-2959-4396-A0C3-A4E724FD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377C-1EBA-4FBB-85CE-7E40983E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0B11-F8B6-4DB1-9DF5-33B8BA07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F6DD-6C34-4375-8E4B-1520D8A8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071C-5FD1-4D66-908C-63DDA726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4DB4-C9D1-4A30-87EF-401E1305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F6C-E6F8-478B-95B5-A18F5D18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42A5-64F5-48ED-B269-3992BFE5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D0C9-3FE6-443D-9AEB-531EF550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D94B-629B-4D1C-9ECE-E5DB1B66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5AF0-87BD-49D7-A12B-1DE14BF6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15C5-2F63-46F5-9098-F794C8B3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572-42FB-4EAB-82AC-362B67E9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160-AE9F-4DEA-8A10-4C1F3D13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241-42BF-4EB4-9526-005AB045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C2C-9B77-4FC1-B8FB-110DAACD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090-62D7-4D7F-8F0D-25E08417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771-ED31-4C52-AFBA-C2A32012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1B5-9AD3-4EEE-B88D-6FBCA6F8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EB2A-1B77-42E5-A87F-4EDE4E154D4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DE44-7CC2-4225-AAB3-5452293613B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RomaK</cp:lastModifiedBy>
  <dcterms:modified xsi:type="dcterms:W3CDTF">2015-09-02T09:49:05Z</dcterms:modified>
  <cp:revision>4</cp:revision>
  <dc:subject/>
  <dc:title>Writing A Good Book Review</dc:title>
</cp:coreProperties>
</file>