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4268-6374-43AA-8E27-F1621D974F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44F-3B39-44F4-9D88-FEB12250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FE8-5470-44F7-9BBC-015DDE45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BFA-B9A7-40F9-8F46-B44420EE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67A-A3E0-4D07-83B3-6ABC6314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1B44-39F3-4E4D-B2F3-02AE6F42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140D-CD79-4D0D-910F-096679D2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F19A-168C-4D5D-B484-B01EBEED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C9F3-8C74-4345-A55C-8BFD6673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C889-0ED4-42E8-A26C-6910F399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532A-6E64-4907-BC77-7DB763A0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8753-DF7B-40BC-879E-5EEC32DE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84BD-55A3-46B8-A5E2-9876168E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44C4-C063-42D6-A7AD-983B5E21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9AFB-16B2-48A6-B11D-10901D45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66B6-275B-460C-9E53-09AA0E58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2C75-358E-47B7-941E-5D62B172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23E0-6526-4F5C-B9E4-596753BB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548-2353-44CC-8BF8-3F615A34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718-BC6D-4DBB-A820-2CE869CF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002-3FC3-41C7-9BE8-7E2A1F20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8EC-3FB6-4E9A-BA84-DB3EFD01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1FC-5A1B-4601-812F-A562A067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231-2DF4-4A40-B7A4-46B38DF1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EA9-FEB0-47D5-9236-C7DFDED0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7860-88F8-4FD0-9FC2-9BE1EBE0621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214F-3906-4122-80FF-5D6F341A3BF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RomaK</cp:lastModifiedBy>
  <dcterms:modified xsi:type="dcterms:W3CDTF">2015-09-02T09:49:05Z</dcterms:modified>
  <cp:revision>4</cp:revision>
  <dc:subject/>
  <dc:title>Writing A Good Book Review</dc:title>
</cp:coreProperties>
</file>