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carbrake.wav" ContentType="audio/x-wav"/>
  <Override PartName="/ppt/media/image2.png" ContentType="image/png"/>
  <Override PartName="/ppt/media/whoosh.wav" ContentType="audio/x-wav"/>
  <Override PartName="/ppt/media/image3.png" ContentType="image/png"/>
  <Override PartName="/ppt/media/image4.png" ContentType="image/png"/>
  <Override PartName="/ppt/media/type.wav" ContentType="audio/x-wav"/>
  <Override PartName="/ppt/media/camera.wav" ContentType="audio/x-wav"/>
  <Override PartName="/ppt/media/laser.wav" ContentType="audio/x-wav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9351-D8C7-4CB8-B043-92631B4D63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The Sound of Poetr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ound of Poet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Wave Patter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ve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peech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ords and their sounds vibrate to different parts of the bod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ade up of two elements – consonants and vowe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every letter and combination of letters has significanc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nd of words make the tone or text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ord endings – fluid or harsh eg slice, baffling – fluid sounds; cat, difficult – harsh soun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and their sounds vibrate to different parts of the bo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two elements – consonants and vow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letter and combination of letters has signific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of words make the tone or te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endings – fluid or harsh eg slice, baffling – fluid sounds; cat, difficult – harsh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ord/Letter Soun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an add to the meaning – connot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O sounds and letters connect to images eg: The Moon rose over the ocea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ft sounding consonants – R, J, M, N, S, V, W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Hard sounding consonants – K, D, Q, T, C, B, 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me letters and combination of letters create full, thin or open soun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/Letter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add to the meaning – con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sounds and letters connect to images eg: The Moon rose over the oc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 sounding consonants – R, J, M, N, S, V,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 sounding consonants – K, D, Q, T, C, B,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etters and combination of letters create full, thin or open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Basic Sound Principl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esonance – designates the ability of a vibration to reach out through waves to set off a similar vibration in another bod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hysics – sound vibrations are connected to the vibrations of atoms and molecules in the ai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Life is composed of atoms which contain protons and electrons.  These are electrically charged particles of energy, in constant mo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Sound Princip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nance – designates the ability of a vibration to reach out through waves to set off a similar vibration in anothe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– sound vibrations are connected to the vibrations of atoms and molecules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s composed of atoms which contain protons and electrons.  These are electrically charged particles of energy, in constant mo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ransmission of a resonant vibra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equires three thing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ust be an original vibrating energy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.   Can be thought, sounds,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lours, musical instruments, voi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ust be a transmitting medium – air is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ost common carri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re must be a receiver of the vibration, something which will receive and respond to the energy or sound vibration being se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 of a resonant vib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three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n original vibrating energ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.   Can be thought, sound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, musical instruments, vo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transmitting medium – air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 c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must be a receiver of the vibration, something which will receive and respond to the energy or sound vibration being 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Effects of Sou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n any form – are cumulative and detectabl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nd in any of its forms is a source of ener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Effective as a tool to alter the electromagnetic fields and impulses of a human or an environme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s of 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form – are cumulative and detec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in any of its forms is a source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 as a tool to alter the electromagnetic fields and impulses of a human or an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itch of Sou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itch is the highness or lowness of the soun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itch is determined by the speed at which it vibrates.  The faster the sound vibrates, the higher the pit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Low tones bend around objects when they are emit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High-pitched tones are more focuse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tch of 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tch is the highness or lowness of the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tch is determined by the speed at which it vibrates.  The faster the sound vibrates, the higher the p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tones bend around objects when they are emit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-pitched tones are more focu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ecibel Level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one decibel is the quietest sound the average person can hea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ecibels increase their effects logarithmicall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10 decibels of sound is ten times greater than one decibe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bel Lev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decibel is the quietest sound the average person can h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bels increase their effects logarithm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decibels of sound is ten times greater than one deci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ecibel Level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20 decibels is 10 times greater than the ten decibel range or 100 times greater than 1 decibe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90 decibels – the range we can hear now – is equal to the sound of one train pulling into a subway st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100 decibels is equal to the sound of 10 trains pulling into the subway station at the same ti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bel Lev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decibels is 10 times greater than the ten decibel range or 100 times greater than 1 deci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decibels – the range we can hear now – is equal to the sound of one train pulling into a subway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decibels is equal to the sound of 10 trains pulling into the subway station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 Patterns of Sou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s - Rhythmic disturbance that carries energ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length - Distance between a point on a wave and the identical point on the next wave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eriod - Time required for one wavelength to pas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requency - Number of waves passing per second. The unit of measure is hertz (Hz)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Patterns of 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 - Rhythmic disturbance that carries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- Distance between a point on a wave and the identical point on the next wa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 - Time required for one wavelength to pa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- Number of waves passing per second. The unit of measure is hertz (Hz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 patterns continu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requency - Number of waves passing per second. The unit of measure is hertz (Hz)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Amplitude - Greatest distance of a wave's rise or fall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 Velocity - Wave velocity is the distance a wave travels per second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length - velocity / frequenc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patterns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- Number of waves passing per second. The unit of measure is hertz (Hz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tude - Greatest distance of a wave's rise or f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Velocity - Wave velocity is the distance a wave travels per sec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- velocity / frequ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86F1-2F15-47F7-855E-A6D249F2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BAE8-E477-44F1-B07C-8610B8D1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A7E5-6E9E-4EAA-AEFF-790C1E5B2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24AE-F479-4A6E-9B96-822CD1D77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D4B3-1DB9-4E03-8C9C-3ED06482C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E748-0869-4566-BDB7-AF5B091A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214A-0A53-4B66-AD73-C0A66488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A580-1FCA-43A0-BCDC-2F87F414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5B24-46E3-4AC9-B680-C282CDA5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E72F-CB35-4DA1-AE1E-65ED2C24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4E30-A123-47A3-8CA4-9B3B9CE9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F516-ADBC-426A-A0F3-61C9D13F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4BCD-51D7-46D0-B2D3-E8CC1A24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DAFF-595E-4195-93B8-2623BADB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3827-D199-4BEE-AC92-92A04324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67E2-5BB7-4F8B-A4CA-269AE687D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9CBC-B6BB-4B44-8B66-2A0B521F5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1015-07F7-42A6-B0F7-6EE7253B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BCF9-68AD-4DC4-B1C7-6E4AA388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DC18-3D2E-4F60-8719-C0B7D865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4196-2D17-4928-BF1D-7D5E3409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5CA3-663C-40EC-81BC-63312178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C850-6A60-4B02-A9A2-D5BAE6E1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3590-F4A5-4F36-8173-81E2204A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6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1EBA-C125-4BE9-9742-F254C0B7CF5A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8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6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7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6DC9-4740-44C7-9BD6-1F2B2AEA2E6E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Sound of Poetry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8680" y="380520"/>
            <a:ext cx="8208720" cy="56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ave Patter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3" name="Picture 6" descr="U11l2a2"/>
          <p:cNvPicPr/>
          <p:nvPr/>
        </p:nvPicPr>
        <p:blipFill>
          <a:blip r:embed="rId1"/>
          <a:stretch/>
        </p:blipFill>
        <p:spPr>
          <a:xfrm>
            <a:off x="2971800" y="2133720"/>
            <a:ext cx="320040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peech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ords and their sounds vibrate to different parts of the bod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de up of two element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consonants and vowe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ery letter and combination of letters has significanc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und of words make the tone or textu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ord ending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fluid or harsh eg slice, baffling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fluid sounds; cat, difficult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harsh soun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ord/Letter Sound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n add to the meaning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connot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 sounds and letters connect to images eg: The Moon rose over the ocea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ft sounding consonant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R, J, M, N, S, V, W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ard sounding consonant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K, D, Q, T, C, B, P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me letters and combination of letters create full, thin or open soun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75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3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3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3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sic Sound Principles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sonanc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designates the ability of a vibration to reach out through waves to set off a similar vibration in another bod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hysic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sound vibrations are connected to the vibrations of atoms and molecules in the ai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fe is composed of atoms which contain protons and electrons.  These are electrically charged particles of energy, in constant motion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ransmission of a resonant vibration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quires three thing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ust be an original vibrating energy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urce.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n be thought, sounds,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lours, musical instruments, voic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ust be a transmitting medium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air is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st common carri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re must be a receiver of the vibration, something which will receive and respond to the energy or sound vibration being se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Effects of Sound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 any form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are cumulative and detectabl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und in any of its forms is a source of energ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ffective as a tool to alter the electromagnetic fields and impulses of a human or an environ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75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itch of Sound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itch is the highness or lowness of the soun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itch is determined by the speed at which it vibrates.  The faster the sound vibrates, the higher the pitc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ow tones bend around objects when they are emitt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igh-pitched tones are more focused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75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75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75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75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cibel Levels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ne decibel is the quietest sound the average person can hea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cibels increase their effects logarithmicall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0 decibels of sound is ten times greater than one decib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cibel Levels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20 decibels is 10 times greater than the ten decibel range or 100 times greater than 1 decib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90 decibel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the range we can hear now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is equal to the sound of one train pulling into a subway st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00 decibels is equal to the sound of 10 trains pulling into the subway station at the same ti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ave Patterns of Sound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aves - Rhythmic disturbance that carries energ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avelength - Distance between a point on a wave and the identical point on the next wave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eriod - Time required for one wavelength to pas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requency - Number of waves passing per second. The unit of measure is hertz (Hz)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75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75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75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75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75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75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75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75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75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75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ave patterns continue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requency - Number of waves passing per second. The unit of measure is hertz (Hz)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mplitude - Greatest distance of a wave's rise or fall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ave Velocity - Wave velocity is the distance a wave travels per second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avelength - velocity / frequency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9T16:57:44Z</dcterms:created>
  <dc:creator>Gaile Wotherspoon</dc:creator>
  <dc:description/>
  <dc:language>en-US</dc:language>
  <cp:lastModifiedBy>RomaK</cp:lastModifiedBy>
  <dcterms:modified xsi:type="dcterms:W3CDTF">2015-09-02T09:48:50Z</dcterms:modified>
  <cp:revision>5</cp:revision>
  <dc:subject/>
  <dc:title>The Sound of Poetry </dc:title>
</cp:coreProperties>
</file>