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carbrake.wav" ContentType="audio/x-wav"/>
  <Override PartName="/ppt/media/image2.png" ContentType="image/png"/>
  <Override PartName="/ppt/media/whoosh.wav" ContentType="audio/x-wav"/>
  <Override PartName="/ppt/media/image3.png" ContentType="image/png"/>
  <Override PartName="/ppt/media/image4.png" ContentType="image/png"/>
  <Override PartName="/ppt/media/type.wav" ContentType="audio/x-wav"/>
  <Override PartName="/ppt/media/camera.wav" ContentType="audio/x-wav"/>
  <Override PartName="/ppt/media/laser.wav" ContentType="audio/x-wav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9CAFB-1D9B-4BC3-9551-F36CDDCA5BB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Sound of Poet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ave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s and their sounds vibrate to different parts of the bod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de up of two elements – consonants and vowe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ery letter and combination of letters has signific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of words make the tone or tex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 endings – fluid or harsh eg slice, baffling – fluid sounds; cat, difficult – harsh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rd/Letter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add to the meaning – conno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 sounds and letters connect to images eg: The Moon rose over the oce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 sounding consonants – R, J, M, N, S, V, 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 sounding consonants – K, D, Q, T, C, B,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letters and combination of letters create full, thin or open sou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ic Sound Principl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nance – designates the ability of a vibration to reach out through waves to set off a similar vibration in anothe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ysics – sound vibrations are connected to the vibrations of atoms and molecules in the 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mission of a resonant vibr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quires three th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n original vibrating energ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rce.   Can be thought, sound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urs, musical instruments, vo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st be a transmitting medium – air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common carr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form – are cumulative and detec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 in any of its forms is a source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the highness or lowness of the 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 tones bend around objects when they are emit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-pitched tones are more focuse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decibel is the quietest sound the average person can h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s increase their effects logarithmical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decibels of sound is ten times greater than one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bel Leve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0 decibels – the range we can hear now – is equal to the sound of one train pulling into a subway s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of Sou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s - Rhythmic disturbance that carries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 - Time required for one wavelength to pas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patterns contin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- Number of waves passing per second. The unit of measure is hertz (Hz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plitude - Greatest distance of a wave's rise or fal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Velocity - Wave velocity is the distance a wave travels per secon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length - velocity / frequ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9DEB4-6409-4BE2-9475-B1630480A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9EEB9-161A-4896-9888-2A1DC486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CD9D-96EC-42AF-9C2D-921C73B0E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12A6B-26FD-4D99-9F70-7AFED56C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B891-C09F-4ECD-B679-8F6CB568D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C55F-6202-4192-B9B7-DBA204656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94A5D-8383-4384-ACD7-634DDF6EB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A5E5-DCCB-4102-88BD-961EACB33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89EA-4409-4B4F-A2C1-7BD0FD59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9533C-7F98-4EC7-92F8-60B5E6FFD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A2DE1-543C-4564-83B8-BF313081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9295-23F8-4B2E-B4C0-989470E42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81B35-7BF1-4930-8F8E-E95F3E59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5F8AF-6CE1-44D1-B868-CA40A048E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49542-3A8A-4C0F-BBE5-CEE5594B9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644D-4BCF-4FAC-B75E-73B69D194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1042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879880" y="194148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3286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1042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879880" y="4091040"/>
            <a:ext cx="2643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131B0-AFD7-4B1F-8517-1C6F2B4C4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10E1-EDD7-467B-A273-A39B1AB7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4BC9-EDCF-4FFC-ACF9-967F9E56C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BDE82-895E-4B71-9CB6-F2BA2DE75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17160" y="719640"/>
            <a:ext cx="863748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A76D-959C-4776-9DBB-28C1464A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E20D-F4B1-4CD2-A06F-57ADB30D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34920" y="409104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2BF2-71AC-4940-AE62-20EDC94D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34920" y="1941480"/>
            <a:ext cx="4005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28680" y="4091040"/>
            <a:ext cx="820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56FB-7606-495B-835C-6AE8E512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0"/>
          <p:cNvGrpSpPr/>
          <p:nvPr/>
        </p:nvGrpSpPr>
        <p:grpSpPr>
          <a:xfrm>
            <a:off x="-7920" y="1636560"/>
            <a:ext cx="9148680" cy="4618080"/>
            <a:chOff x="-7920" y="1636560"/>
            <a:chExt cx="9148680" cy="4618080"/>
          </a:xfrm>
        </p:grpSpPr>
        <p:pic>
          <p:nvPicPr>
            <p:cNvPr id="1" name="Picture 16" descr="ARTHSEPA"/>
            <p:cNvPicPr/>
            <p:nvPr/>
          </p:nvPicPr>
          <p:blipFill>
            <a:blip r:embed="rId3"/>
            <a:stretch/>
          </p:blipFill>
          <p:spPr>
            <a:xfrm>
              <a:off x="5997600" y="6180120"/>
              <a:ext cx="3143160" cy="7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18" descr="Arthsepa"/>
            <p:cNvPicPr/>
            <p:nvPr/>
          </p:nvPicPr>
          <p:blipFill>
            <a:blip r:embed="rId4"/>
            <a:stretch/>
          </p:blipFill>
          <p:spPr>
            <a:xfrm>
              <a:off x="-7920" y="1636560"/>
              <a:ext cx="449568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343368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9206F-3FEE-400C-82F3-6B7B38F2B835}" type="slidenum">
              <a:rPr b="0" lang="en-US" sz="2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8"/>
          <p:cNvGrpSpPr/>
          <p:nvPr/>
        </p:nvGrpSpPr>
        <p:grpSpPr>
          <a:xfrm>
            <a:off x="0" y="0"/>
            <a:ext cx="9144000" cy="3365640"/>
            <a:chOff x="0" y="0"/>
            <a:chExt cx="9144000" cy="3365640"/>
          </a:xfrm>
        </p:grpSpPr>
        <p:pic>
          <p:nvPicPr>
            <p:cNvPr id="45" name="Picture 16" descr="ARTBANNA"/>
            <p:cNvPicPr/>
            <p:nvPr/>
          </p:nvPicPr>
          <p:blipFill>
            <a:blip r:embed="rId3"/>
            <a:srcRect l="8126" t="0" r="0" b="0"/>
            <a:stretch/>
          </p:blipFill>
          <p:spPr>
            <a:xfrm>
              <a:off x="0" y="0"/>
              <a:ext cx="9144000" cy="914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7" descr="Arthsepa"/>
            <p:cNvPicPr/>
            <p:nvPr/>
          </p:nvPicPr>
          <p:blipFill>
            <a:blip r:embed="rId4"/>
            <a:stretch/>
          </p:blipFill>
          <p:spPr>
            <a:xfrm>
              <a:off x="4267080" y="3268800"/>
              <a:ext cx="4496040" cy="9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17160" y="719640"/>
            <a:ext cx="863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359160" y="6343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601956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125280" y="6361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EEE6-8490-40E3-983C-E80553DDC787}" type="slidenum">
              <a:rPr b="0" lang="en-US" sz="2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rbrak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arbrake.wav"/><Relationship Id="rId3" Type="http://schemas.openxmlformats.org/officeDocument/2006/relationships/audio" Target="../media/carbrake.wav"/><Relationship Id="rId4" Type="http://schemas.openxmlformats.org/officeDocument/2006/relationships/audio" Target="../media/carbrake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laser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Sound of Poetry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28680" y="380520"/>
            <a:ext cx="8208720" cy="56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Patter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3" name="Picture 6" descr="U11l2a2"/>
          <p:cNvPicPr/>
          <p:nvPr/>
        </p:nvPicPr>
        <p:blipFill>
          <a:blip r:embed="rId1"/>
          <a:stretch/>
        </p:blipFill>
        <p:spPr>
          <a:xfrm>
            <a:off x="2971800" y="2133720"/>
            <a:ext cx="3200400" cy="26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Speech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s and their sounds vibrate to different parts of the bod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ade up of two eleme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sonants and vowel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every letter and combination of letters has significance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nd of words make the tone or texture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ord ending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or harsh eg slice, baffl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fluid sounds; cat, difficult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harsh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ord/Letter Sounds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add to the meaning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connotation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O sounds and letters connect to images eg: The Moon rose over the ocean.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ft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R, J, M, N, S, V, W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Hard sounding consonant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K, D, Q, T, C, B, P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me letters and combination of letters create full, thin or open sound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75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3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3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3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3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Basic Sound Principle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sonance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designates the ability of a vibration to reach out through waves to set off a similar vibration in another body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hysics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sound vibrations are connected to the vibrations of atoms and molecules in the ai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Life is composed of atoms which contain protons and electrons.  These are electrically charged particles of energy, in constant motion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17160" y="51480"/>
            <a:ext cx="863748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ransmission of a resonant vibration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requires three things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n original vibrating energy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source. 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an be thought, sounds,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colours, musical instruments, voices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ust be a transmitting medium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air is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most common carrier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There must be a receiver of the vibration, something which will receive and respond to the energy or sound vibration being sent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Effect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in any form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are cumulative and detectable.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ound in any of its forms is a source of energ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ffective as a tool to alter the electromagnetic fields and impulses of a human or an environmen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75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Pitch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the highness or lowness of the soun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Pitch is determined by the speed at which it vibrates.  The faster the sound vibrates, the higher the pitch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Low tones bend around objects when they are emitted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High-pitched tones are more focused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75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75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" dur="75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75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560" y="1066320"/>
            <a:ext cx="8001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ne decibel is the quietest sound the average person can he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decibels increase their effects logarithmically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 decibels of sound is ten times greater than one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7160" y="15192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Decibel Levels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1536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20 decibels is 10 times greater than the ten decibel range or 100 times greater than 1 decib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90 decibel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the range we can hear now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is equal to the sound of one train pulling into a subway statio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100 decibels is equal to the sound of 10 trains pulling into the subway station at the same tim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of Sound 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s - Rhythmic disturbance that carries energy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Wavelength - Distance between a point on a wave and the identical point on the next wave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Period - Time required for one wavelength to pass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75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75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75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75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75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17160" y="721800"/>
            <a:ext cx="863748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wave patterns continued</a:t>
            </a:r>
            <a:endParaRPr b="0" lang="en-US" sz="4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8680" y="1941480"/>
            <a:ext cx="820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requency - Number of waves passing per second. The unit of measure is hertz (Hz)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mplitude - Greatest distance of a wave's rise or fall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 Velocity - Wave velocity is the distance a wave travels per second.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wavelength - velocity / frequency 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9T16:57:44Z</dcterms:created>
  <dc:creator>Gaile Wotherspoon</dc:creator>
  <dc:description/>
  <dc:language>en-US</dc:language>
  <cp:lastModifiedBy>RomaK</cp:lastModifiedBy>
  <dcterms:modified xsi:type="dcterms:W3CDTF">2015-09-02T09:48:50Z</dcterms:modified>
  <cp:revision>5</cp:revision>
  <dc:subject/>
  <dc:title>The Sound of Poetry </dc:title>
</cp:coreProperties>
</file>