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AD05-9BDD-4242-9262-5F746201E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gs that we describ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s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more than one 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 was boxy, and gree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thin, gray paper airplane was indestructible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s for Words: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, won a new car, and he jumped with joy.”                            J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ul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arts Of a Sen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Ballerina is the su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Seminole Indians traveled over the water in the dugout canal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The beautiful ballerina leaped into the air like a deer.” leaped is the pred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, “ The Seminole Indians traveled  over water in the dugout canals.” the predicate is travele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“tense”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Words to Ag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in sentences with he  and  they do not always indicate a plu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 Plural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 with &lt;1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1st part is talking about the past the 2nd part must do the s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3 Main Types Of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la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Main Parts Of Spe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rative Sen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Lit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- means self (ex. Automobile is self driven. Autopilot is a plane that flies by itsel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written in Prose, but can be written in poems, plays, or so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make-believe, or fairytales such as Alice in Wonderland, or Pollya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moon, gravity force, wind, stars, yourself, a spaceshutl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F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ings and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Phras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Speak Louder Than                Wor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actions speak louder than word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, Can’t Be Choo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gars can’t be choosers, Jane,” Nicky said, “looks like you’ll actually have to eat something healthy for a chang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Bygones Be Byg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 Let bygones be bygon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Before You Le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 Look before you leap.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Rotten Apple Spoils The Whole Barr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lace for Everything and Everything in its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ow Must Go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okay,” said the coach, “ the show must go on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Bark Is Worse Than His B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His bark is worse that his bit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 Around The B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n Bill Of H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His Last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dds things together in the sentence “I like baseball and socc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lso joins, but makes an option “What do you like best, dogs or cats?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an also  pose a ques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/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d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Or to jo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Com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Conjunc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C2AE-88C6-4006-9D00-BADD4945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D02-C006-4108-B332-C1434FCD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7AAE-B36E-4273-B505-679E01D6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5EDC-E999-4865-99F9-4E066FD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8A01-638E-4815-89B0-B6FCB2C9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147A-F5B7-4E54-B55F-8E156B37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1F57-3082-481B-88A1-283CD971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ECE0-D00B-42E3-ACDE-589D4458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3544-6DB6-44DC-8209-DB7CED7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FE6B-E691-4B88-BBC1-606CC1EB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7544-1AD9-45A6-AD2A-223E914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05D1-F3AC-498B-A4B9-F613274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5C2A-1044-499D-996A-9CA3F1A9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EF35-E03E-4457-A7D9-93F2B50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97B6-5FBD-4C06-8511-089CC44E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5C97-6D27-4928-BC7B-0AA6DA31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F6AF-C850-4005-B5E0-2601BB9D3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A24-E2B6-47F4-8DF1-A4CF16F2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8A9-7190-4456-8C0C-B0725070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CD3-E184-4F58-BDBD-53568FD1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5DDB-1E4B-4333-AEFC-4FA16F1A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B53-ED33-4ABE-BAEC-93B5B909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2F7-2DE3-41C3-A93E-2D97238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9E6-2995-41CE-A1AF-9A759AA9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0E9B-B1A0-40C0-BB62-D44DB857EF0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5F3-FA26-4BDA-9EA4-FE3A9978201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arts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ore exampl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one came to save him, so he went off to expl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ice smiled, and then turned to her rab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that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describe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s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something feels, tastes, looks, or s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ings that we describe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ords to Describ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– Any 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ve – Any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llow Chick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ple sw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udy 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nky Cigaret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more than one adjectiv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cases, 2 adjectives may be used to descri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ar w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oxy, and green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in, gra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airplane was indestructible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some adjective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PE01832_"/>
          <p:cNvPicPr/>
          <p:nvPr/>
        </p:nvPicPr>
        <p:blipFill>
          <a:blip r:embed="rId2"/>
          <a:stretch/>
        </p:blipFill>
        <p:spPr>
          <a:xfrm>
            <a:off x="3429000" y="2666880"/>
            <a:ext cx="274464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nd Proper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place of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time and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 are words such as it, he , she, the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They refer to the previous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ames for Words: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atter what, words must be put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akes a sen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hing is possible without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Examples of Pronou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, won a new car,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jumped with joy.”                 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oper Nouns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hing's OW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 names, nicknames, pets names, places names, city nam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 Nouns also def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per nouns start with Capit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e vs. Person              Jamestown vs.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An,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rticl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o before a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Rule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always presents a conson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lways presents a vow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ways presents a sin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Two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ting Thing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2 Parts Of a Senten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s are the building blocks of our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 Main Par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ubjec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Noun of the sentence, The sentence is also based upon the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ped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ler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su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minole Indian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ed over the water in the dugout canal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quickest way to find the subject is to read the sentence care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ject can be singular or plural and 1 or 2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Predic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edicate names the verb in the sentence that tells what is hap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The beautiful balleri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o the air like a deer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p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pred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, “ The Seminole Indian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ver water in the dugout canals.” the predicat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ravel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asiest way to find the predicate is to find what the subject is d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entence Stru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start with a capital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entences must end with a punc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ntence is not a part of speech; it just the thing that contains the Part of spee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elping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elping Verb shows us weather the verb is past, present, or future.  These are all considered “ten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“tense”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43000" y="1828800"/>
          <a:ext cx="7620120" cy="3962520"/>
        </p:xfrm>
        <a:graphic>
          <a:graphicData uri="http://schemas.openxmlformats.org/drawingml/2006/table">
            <a:tbl>
              <a:tblPr/>
              <a:tblGrid>
                <a:gridCol w="2838600"/>
                <a:gridCol w="2390760"/>
                <a:gridCol w="23907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Are going 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and Plu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Getting Words to Agre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lural subjects end with the letter “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 in sentences wit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not always indicate a pl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*Rememb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G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Matching Plural Verb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a plural subject such as, “five boys” you must give them a plural verb such as,  “ru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Verbs with &lt;1 Par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agree in “T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is talking about the past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rt must do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is rule is not followed, it will create a time warp in the midd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ree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3 Main Types Of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everything we say is said in sente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interrogative, declarative, and imper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ecla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most common typ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punctuated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used to tell our thoughts, and what we s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simple or compl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have a dream . . .” as MLK Jr. once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saw a bird as beautiful as the summer sky as it rises above the horiz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nterrog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has a (?) question ma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ask enough of them they become self-explana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tars burn out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re my eyes colored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is global warming such a problem 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8 Main Parts Of Speec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ns                           interjections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Imperative Senten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need more than 1 or 2 w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give orders and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a (!) exclamation point if used to make requ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ends in (.) a period to give or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ug M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* In many sentences YOU is not spoken but is underst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ypes of Litera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rue story about a persons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very interesting s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NOT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written using second hand ac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-HAND ACCOUNTS –writings that are left behind, diaries, newspapers, and let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utobiograph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books written by the person they ar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- means self (ex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is self driven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u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is a plane that flies by itsel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are writte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rose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can be written in poems, plays, or so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make-believe, or fairytales such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ce in Wonderland, or Pollyan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everything has to be made-up, can have true parts with a twist, or true facts in a made-up story. Ex. You could have a story about traveling through space, that is not true.  But,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oon, gravity force, wind, stars, yourself, a spaceshutl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Non-Fi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LL tr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graphies, and autobiographies, newspaper articles, and school reports, and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. A report on the 1989 earthquake in San Francis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Sayings and Phras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ms and Metaph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What Is A Phrase ?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Entry:1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nunciation:*fr*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:no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ymology:Latin phrasis, from Greek, from phrazein to point out, explain, 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:15301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racteristic manner or style of expression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CTION2 a : a brief expression;  especially  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PHRASE  b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3 : a short musical thought typically two to four measures long closing with a cadence4 : a word or group of words forming a syntactic constituent with a single grammatical function  *an adverbial phrase*5 : a series of dance movements comprising a section of a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ctions Speak Louder Than                Word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, some people don’t mean what they say.  It is often obvious what is me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 says he hates cats – even Juju,” Stewart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,” Tracy said, “last night, I saw Dad kiss the top of his 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,” Stewart said, “I think he really loves Juju, well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tions speak louder than word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ggars, Can’t Be Choosers”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rase means if you are needy, don’t be picky even if it isn’t exactly what you want or n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have time to eat,” Jane said, “and I’m starving! But the only thing left in the cafeteria is yesterdays spinach sala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ggars can’t be choos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ane,” Nicky said, “looks like you’ll actually have to eat something healthy for a change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in Th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j0074241.mid" descr=""/>
          <p:cNvPicPr/>
          <p:nvPr/>
        </p:nvPicPr>
        <p:blipFill>
          <a:blip r:embed="rId1"/>
          <a:stretch/>
        </p:blipFill>
        <p:spPr>
          <a:xfrm>
            <a:off x="11430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et Bygones Be Bygon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people should forget about bad feelings towards each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n’t belive you won’t help me with this science experiment! It means a lot, I’m failing,” Tyron said screaming,”Why won’t you help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on, Tyron,” Janine said,”I’ll help you study.  There is no sense in being mad. J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t bygones be bygon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Look Before You Leap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s about risks we take in life. It means that we should think before ac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m, Andrew asked me if I want to take over his paper route.  Isn’t that a great idea ?  Then I could by that new trumpe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on’t know,” mother said, “ you have music lessons every day after school.  Do you really have time.  You shoul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ok before you leap.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e Rotten Apple Spoils The Whole Barrel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3, it is at the bottom of pg. 63 and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A Place for Everything and Everything in its Pla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g.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have a different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Show Must Go 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no matter what happens the project must keep go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’t play goalie this weekend,” Lisa said, “ I have a sprained ankle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okay,” said the coach, “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 show must go on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His Bark Is Worse Than His B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s someone looks or acts a lot differently than who they really 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. Crackles is such a grouch,” Meg s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h,” said Mickey, “ they shouldn’t call him principal, they should call him ‘prince-paddle’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so foolish you 2,” Missy explained, “you know he wouldn’t paddle anyone.  He might get mad easy but he’s really a nice man.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bark is worse that his b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Beat Around The Bus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, You must work with someone you haven't yet worked wi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ean Bill Of Healt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, you are going to use your text books and do partner no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On His Last Leg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something is about to die or break for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r job now is to write a role play for this phr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st one will become part of this pres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onjunc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ctions are connecting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s things together in the sentence “I like basebal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cer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so joins, but makes an option “What do you like best, dog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s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also  pose a ques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And/O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1:  “I am going to pl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tence 2:  “I a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and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jo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going to play, or I’m going to stud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Using a Comm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every joining word, a comma (,) must b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soup, and I like sandwich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lso must check that a and/or can be used by taking out the , and/, or and replacing it with a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Different Conjunctions</a:t>
            </a:r>
            <a:br>
              <a:rPr sz="4400"/>
            </a:b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junctions aren’t only and/or, they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because, but, then, after,also just a (,)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9:44:48Z</dcterms:created>
  <dc:creator>Ben Swanson</dc:creator>
  <dc:description/>
  <dc:language>en-US</dc:language>
  <cp:lastModifiedBy>RomaK</cp:lastModifiedBy>
  <dcterms:modified xsi:type="dcterms:W3CDTF">2015-09-02T09:48:39Z</dcterms:modified>
  <cp:revision>13</cp:revision>
  <dc:subject/>
  <dc:title>Names for Words  </dc:title>
</cp:coreProperties>
</file>