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30C5-4B25-4097-B40F-33C07E443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gs that we descri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gs that we descri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more than one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 was boxy, and gree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thin, gray paper airplane was indestructibl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more than one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 was boxy, and gree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thin, gray paper airplane was indestructibl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: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: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, won a new car, and he jumped with joy.”                            J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, won a new car, and he jumped with joy.”                            J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Ballerina is 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Seminole Indians traveled over the water in the dugout canal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Ballerina is 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Seminole Indians traveled over the water in the dugout canal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leaped is 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 The Seminole Indians traveled  over water in the dugout canals.” the predicate is travel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leaped is 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 The Seminole Indians traveled  over water in the dugout canals.” the predicate is travel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tense”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“tense”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in sentences with he  and  they do not always indicate a plu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in sentences with he  and  they do not always indicate a plu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Plural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Plural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with &lt;1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st part is talking about the past the 2nd part must do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with &lt;1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st part is talking about the past the 2nd part must do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Main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Main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Main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Main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- means self (ex. Automobile is self driven. Autopilot is a plane that flies by itsel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written in Prose, but can be written in poems, plays, or so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- means self (ex. Automobile is self driven. Autopilot is a plane that flies by itsel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written in Prose, but can be written in poems, plays, or so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ake-believe, or fairytales such as Alice in Wonderland, or Polly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moon, gravity force, wind, stars, yourself, a spaceshutl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ake-believe, or fairytales such as Alice in Wonderland, or Polly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moon, gravity force, wind, stars, yourself, a spaceshutl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ings and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ings and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hras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hras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Speak Louder Than                Wor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actions speak louder than wor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Speak Louder Than                Wor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actions speak louder than wor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, Can’t Be Choo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 can’t be choosers, Jane,” Nicky said, “looks like you’ll actually have to eat something healthy for a chang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, Can’t Be Choo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 can’t be choosers, Jane,” Nicky said, “looks like you’ll actually have to eat something healthy for a chang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ygones Be Byg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 Let bygones be bygon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ygones Be Byg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 Let bygones be bygon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Before You Le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 Look before you leap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Before You Le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 Look before you leap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Rotten Apple Spoils The Whole Ba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Rotten Apple Spoils The Whole Ba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lace for Everything and Everything in its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lace for Everything and Everything in its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w Must Go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okay,” said the coach, “ the show must go 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w Must Go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okay,” said the coach, “ the show must go 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Bark Is Worse Than His 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His bark is worse that his bit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Bark Is Worse Than His 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His bark is worse that his bit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 Around The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 Around The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Bill Of 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Bill Of 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His Last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His Last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D10-189B-4F0B-A8CC-7A2FC595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72CA-C61C-449D-8B2E-C0E3920E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9F61-194B-4749-9731-186007D9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617-EF8E-4206-9C7A-CBAA4D60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D7F3-1D27-42F0-A4E6-7DF8DED4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473A-433D-4DF1-A18B-B714C706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4450-BB2C-4353-8A26-8380CBF3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D6BB-DC0B-4265-A665-F9983442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0D16-DE01-4493-AAD0-CC6EC013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B6AB-BFA2-4142-9788-9566D8CB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F4C6-D005-419D-B18F-7F4197A2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970-E0BD-4589-8789-7AEF5E2D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C264-3860-4A1B-99A7-3591718B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59F6-E4A7-46F1-8E89-42735565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931D-DE5C-4AAA-A64D-62C32417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EFE2-9A75-4369-A913-4E5831D9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39E5-A718-445F-8735-203B54C1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6ACA-4661-4BFC-AE2B-F7DE9C8B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4393-4D30-4368-9B53-5C3E222C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508-85D1-4529-9574-65EA13E2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3483-A8AF-4447-9BA9-E052FB18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BB6B-A4E0-4193-876A-F83FCA85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A7A7-E6A1-43A9-81E1-0FD8C54C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8ED3-F60C-4794-9EBE-0C32CE27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3959-6ED5-4EAF-BAB8-AF9695F0C1E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10DB-CBA7-4AA8-A068-49ED6FD1CFC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mes for Word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ore example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ings that we describe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ords to Describ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more than one adjectiv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r w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xy, and gree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in, gra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airplane was indestructible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PE01832_"/>
          <p:cNvPicPr/>
          <p:nvPr/>
        </p:nvPicPr>
        <p:blipFill>
          <a:blip r:embed="rId2"/>
          <a:stretch/>
        </p:blipFill>
        <p:spPr>
          <a:xfrm>
            <a:off x="3429000" y="2666880"/>
            <a:ext cx="274464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u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onoun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mes for Words: Parts of Spee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Pronou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, won a new car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umped with joy.”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oper Noun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Rule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Two Parts of a Sente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2 Parts Of a Sente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ubjec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beautifu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lerin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ped into the air like a deer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leri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u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minole India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eled over the water in the dugout canal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Predica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beautiful ballerin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the air like a deer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 The Seminole India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vel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water in the dugout canals.” the predicat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vele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elping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entence Struc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elping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“tense” tab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43000" y="1828800"/>
          <a:ext cx="7620120" cy="3962520"/>
        </p:xfrm>
        <a:graphic>
          <a:graphicData uri="http://schemas.openxmlformats.org/drawingml/2006/table">
            <a:tbl>
              <a:tblPr/>
              <a:tblGrid>
                <a:gridCol w="2838600"/>
                <a:gridCol w="2390760"/>
                <a:gridCol w="23907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Are going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tting Words to Agre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tting Words to Agre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 in sentences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 not always indicate a pl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atching Plural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erbs with &lt;1 Par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 is talking about the past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 must do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ee Types of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3 Main Types Of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eclar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terrog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8 Main Parts Of Spee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mper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ypes of Litera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iograph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utobiograph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- means self (ex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is self drive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lot is a plane that flies by itsel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are written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se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can be written in poems, plays, or so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Fi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make-believe, or fairytales such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ce in Wonderland, or Pollya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on, gravity force, wind, stars, yourself, a spaceshutl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n-Fi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ayings and Phras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Is A Phrase 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ctions Speak Louder Than                Word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tions speak louder than word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eggars, Can’t Be Chooser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ggars can’t be choos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ane,” Nicky said, “looks like you’ll actually have to eat something healthy for a chang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junction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j0074241.mid" descr=""/>
          <p:cNvPicPr/>
          <p:nvPr/>
        </p:nvPicPr>
        <p:blipFill>
          <a:blip r:embed="rId1"/>
          <a:stretch/>
        </p:blipFill>
        <p:spPr>
          <a:xfrm>
            <a:off x="11430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et Bygones Be Bygon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t bygones be bygon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ook Before You Leap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ok before you leap.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e Rotten Apple Spoils The Whole Barre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Place for Everything and Everything in its Pl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how Must Go 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okay,” said the coach,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 show must go 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is Bark Is Worse Than His Bi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bark is worse that his b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eat Around The Bus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ean Bill Of Healt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 His Last Leg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junc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s things together in the sentence “I like baseb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c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joins, but makes an option “What do you like best, dog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s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also  pose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</a:t>
            </a:r>
            <a:r>
              <a:rPr b="1" i="1" lang="en-US" sz="4400" spc="-1" strike="noStrike">
                <a:solidFill>
                  <a:srgbClr val="482400"/>
                </a:solidFill>
                <a:latin typeface="Times New Roman"/>
              </a:rPr>
              <a:t>And/O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a Comm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fferent Conjunction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9:44:48Z</dcterms:created>
  <dc:creator>Ben Swanson</dc:creator>
  <dc:description/>
  <dc:language>en-US</dc:language>
  <cp:lastModifiedBy>RomaK</cp:lastModifiedBy>
  <dcterms:modified xsi:type="dcterms:W3CDTF">2015-09-02T09:48:39Z</dcterms:modified>
  <cp:revision>13</cp:revision>
  <dc:subject/>
  <dc:title>Names for Words  </dc:title>
</cp:coreProperties>
</file>