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22F7-9557-4FD8-A561-42423876A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59E-B962-4990-AC72-80E7F1B2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78C-537C-4A69-AFCB-AF458800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E11-C07E-47A0-B317-9FDF91B1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EB3-9FCD-48BB-B79F-04394977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F4EB-5B1D-45AD-A5FE-62405A94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D072-93B5-4E11-8DCF-44BA82FC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6D66-66F0-4D8A-9A6F-F0413184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50F6-61D8-462D-928A-7D639984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47CC-3FC5-496C-8AFA-BEFC36E5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2BF1-7F6A-4686-BAB8-DDA0BFED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B6AD-5485-4303-BE16-107FC494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E5C-D7BF-4058-A828-FB7ACA71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1637-5168-4527-B89D-5B7C7E62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C08C-6DDB-432F-89E2-F94A91C2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041C-C875-4637-A1BA-AB6A26CB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AD34-0B03-439B-896F-40EC2BD6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8771-63EE-4BE0-A936-AE508748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29C-841E-43CB-A493-697104D1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5DB-EF40-493D-B56F-8393D3D1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60A-B4D1-4DBF-9658-98A2F122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3E9-CC84-4218-9708-FB9F48CE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F94-0D54-4805-B027-61024CC8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ECE-E122-487E-A43F-1C3E669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6CE-ABE2-4D9C-BB2D-5930C16A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11A1-C72E-4802-B2BE-03B72218B7C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4F1A-E6CC-4933-9AA9-37157FBE81A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gs that we describ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ds to Describ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more than one ad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r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xy, and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in, gr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airplane was indestructible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E01832_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: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o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, won a new car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mped with joy.”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per 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ule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wo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ped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nole India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ed over the water in the dugout canal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edic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baller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 The Seminole Indi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water in the dugout canals.” the predicat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ntence Stru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“tense”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828800"/>
          <a:ext cx="7620120" cy="3962520"/>
        </p:xfrm>
        <a:graphic>
          <a:graphicData uri="http://schemas.openxmlformats.org/drawingml/2006/table">
            <a:tbl>
              <a:tblPr/>
              <a:tblGrid>
                <a:gridCol w="2838600"/>
                <a:gridCol w="2390760"/>
                <a:gridCol w="23907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Are going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n sentenc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always indicate a pl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tching Plural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bs with &lt;1 Pa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is talking about the past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must do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3 Main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la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rog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 Main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e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- means self (ex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is self drive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is a plane that flies by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re writte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s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be written in poems, plays, or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ke-believe, or fairytales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ce in Wonderland, or Pollya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on, gravity force, wind, stars, yourself, a spaceshutl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n-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ayings and Phr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Is A Phrase 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tions Speak Louder Than                Word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s speak louder than wor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ggars, Can’t Be Chooser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gars can’t be choos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ane,” Nicky said, “looks like you’ll actually have to eat something healthy for a cha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t Bygones Be Byg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t bygones be byg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ok Before You Lea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ok before you leap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e Rotten Apple Spoils The Whole Barr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Place for Everything and Everything in its Pl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how Must Go 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okay,” said the coach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show must go 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is Bark Is Worse Than His B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bark is worse that his b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at Around The Bus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ean Bill Of Heal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His Last Leg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4:48Z</dcterms:created>
  <dc:creator>Ben Swanson</dc:creator>
  <dc:description/>
  <dc:language>en-US</dc:language>
  <cp:lastModifiedBy>RomaK</cp:lastModifiedBy>
  <dcterms:modified xsi:type="dcterms:W3CDTF">2015-09-02T09:48:39Z</dcterms:modified>
  <cp:revision>13</cp:revision>
  <dc:subject/>
  <dc:title>Names for Words  </dc:title>
</cp:coreProperties>
</file>