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9EBC-4FAB-4110-AB40-14E769460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we descri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we descri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more than one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 was boxy, and gre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thin, gray paper airplane was indestructib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more than one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 was boxy, and gre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thin, gray paper airplane was indestructib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: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: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, won a new car, and he jumped with joy.”                            J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, won a new car, and he jumped with joy.”                            J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Ballerina is 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Seminole Indians traveled over the water in the dugout cana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Ballerina is 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Seminole Indians traveled over the water in the dugout cana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leaped is 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 The Seminole Indians traveled  over water in the dugout canals.” the predicate is travel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leaped is 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 The Seminole Indians traveled  over water in the dugout canals.” the predicate is travel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tense”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“tense”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in sentences with he  and  they do not always indicate a plu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in sentences with he  and  they do not always indicate a plu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Plural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Plural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with &lt;1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st part is talking about the past the 2nd part must do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with &lt;1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st part is talking about the past the 2nd part must do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Main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Main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Main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Main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- means self (ex. Automobile is self driven. Autopilot is a plane that flies by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written in Prose, but can be written in poems, plays, or s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- means self (ex. Automobile is self driven. Autopilot is a plane that flies by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written in Prose, but can be written in poems, plays, or s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ake-believe, or fairytales such as Alice in Wonderland, or Polly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moon, gravity force, wind, stars, yourself, a spaceshutl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ake-believe, or fairytales such as Alice in Wonderland, or Polly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moon, gravity force, wind, stars, yourself, a spaceshutl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ings and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ings and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hras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hras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Speak Louder Than                Wor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actions speak louder than wo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Speak Louder Than                Wor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actions speak louder than wo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, Can’t Be Choo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 can’t be choosers, Jane,” Nicky said, “looks like you’ll actually have to eat something healthy for a chan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, Can’t Be Choo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 can’t be choosers, Jane,” Nicky said, “looks like you’ll actually have to eat something healthy for a chan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ygones Be Byg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 Let bygones be bygon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ygones Be Byg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 Let bygones be bygon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Before You Le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 Look before you leap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Before You Le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 Look before you leap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Rotten Apple Spoils The Whole 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Rotten Apple Spoils The Whole 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ace for Everything and Everything in it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ace for Everything and Everything in it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w Must G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okay,” said the coach, “ the show must go 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w Must G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okay,” said the coach, “ the show must go 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Bark Is Worse Than His 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His bark is worse that his bit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Bark Is Worse Than His 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His bark is worse that his bit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 Around The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 Around The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Bill Of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Bill Of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is Las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is Las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F0F-7DAE-43EC-85E7-255C8588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AC9-C7CD-4A3F-931C-FAFACF41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BE9-A094-481C-93F4-902407B1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9186-8663-462D-8344-23011D64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0EFE-2E9D-4858-A45A-A77D7534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A7A1-C544-46C4-B48D-67140556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2F37-D7D3-481B-A3AD-491DD554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3497-0519-49A6-AB5C-9D055D83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26AA-EE99-445E-8891-61098B4E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33D0-D34E-4214-9F87-53DEE8F8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B41A-26D2-4D95-94D2-C089F8EB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A9F8-E7F2-49B9-BB92-0126F3E7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F853-474D-4E67-B659-2FACF23B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75F7-7151-4411-9751-6A3D5ACD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69CC-6CCE-4A0C-A0CD-AC7E87DE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1A37-711C-4D82-8F4B-5F9BBB1E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CEB1-F74E-4F80-937B-08BF7B71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B38-C92E-46F3-8825-1A4B723B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5F5E-AF3C-492C-A346-CC5FFE04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956-0BEF-46A2-BDE1-B959A17C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CECB-23DE-4E93-B9EA-28F34541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F63-CA62-4C63-9B59-729799AD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B97-DFF3-43B9-A94F-5B278030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4D64-07B5-458F-BB82-AA560BDC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C8F1-88C9-45D2-932D-6B0D1B82B15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4D80-AC18-4A79-A198-5808B497D53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mes for Word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ore example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ings that we describe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ords to Describ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more than one adjectiv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r w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xy, and gree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in, gra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airplane was indestructible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PE01832_"/>
          <p:cNvPicPr/>
          <p:nvPr/>
        </p:nvPicPr>
        <p:blipFill>
          <a:blip r:embed="rId2"/>
          <a:stretch/>
        </p:blipFill>
        <p:spPr>
          <a:xfrm>
            <a:off x="3429000" y="2666880"/>
            <a:ext cx="274464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u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onoun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mes for Words: Parts of Spee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Pronou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, won a new car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umped with joy.”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oper Noun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Rule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Two Parts of a Sente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2 Parts Of a Sente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ubjec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beautifu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lerin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ped into the air like a deer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leri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u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minole India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eled over the water in the dugout canal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Predica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beautiful ballerin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the air like a deer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 The Seminole India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l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water in the dugout canals.” the predicat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le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entence Struc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“tense” tab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43000" y="1828800"/>
          <a:ext cx="7620120" cy="3962520"/>
        </p:xfrm>
        <a:graphic>
          <a:graphicData uri="http://schemas.openxmlformats.org/drawingml/2006/table">
            <a:tbl>
              <a:tblPr/>
              <a:tblGrid>
                <a:gridCol w="2838600"/>
                <a:gridCol w="2390760"/>
                <a:gridCol w="23907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Are going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tting Words to Agre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tting Words to Agre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 in sentences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not always indicate a pl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atching Plural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erbs with &lt;1 Par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is talking about the past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must do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e Types of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3 Main Types Of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eclar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terrog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8 Main Parts Of Spee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mper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ypes of Litera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iograph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utobiograph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- means self (ex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is self drive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ot is a plane that flies by itsel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are written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se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can be written in poems, plays, or so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Fi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make-believe, or fairytales such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ce in Wonderland, or Pollya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on, gravity force, wind, stars, yourself, a spaceshutl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n-Fi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ayings and Phras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Is A Phrase 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ctions Speak Louder Than                Word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tions speak louder than word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ggars, Can’t Be Chooser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ggars can’t be choos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ane,” Nicky said, “looks like you’ll actually have to eat something healthy for a chang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junction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j0074241.mid" descr=""/>
          <p:cNvPicPr/>
          <p:nvPr/>
        </p:nvPicPr>
        <p:blipFill>
          <a:blip r:embed="rId1"/>
          <a:stretch/>
        </p:blipFill>
        <p:spPr>
          <a:xfrm>
            <a:off x="11430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et Bygones Be Bygon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t bygones be bygon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ook Before You Leap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ok before you leap.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e Rotten Apple Spoils The Whole Barre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Place for Everything and Everything in its Pl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how Must Go 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okay,” said the coach,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 show must go 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is Bark Is Worse Than His Bi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bark is worse that his b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at Around The Bus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ean Bill Of Healt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 His Last Leg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junc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s things together in the sentence “I like baseb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c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joins, but makes an option “What do you like best, do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s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also  pose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</a:t>
            </a: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And/O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a Comm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fferent Conjunction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9:44:48Z</dcterms:created>
  <dc:creator>Ben Swanson</dc:creator>
  <dc:description/>
  <dc:language>en-US</dc:language>
  <cp:lastModifiedBy>RomaK</cp:lastModifiedBy>
  <dcterms:modified xsi:type="dcterms:W3CDTF">2015-09-02T09:48:39Z</dcterms:modified>
  <cp:revision>13</cp:revision>
  <dc:subject/>
  <dc:title>Names for Words  </dc:title>
</cp:coreProperties>
</file>