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978E-D3EB-4116-9D38-FA8384F5FF6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ed Education Plan in relationship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ended by Congress in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L. 108-44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by Tea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hy Capen, Maria Delvecchi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ise  Mitchell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e Bottersbus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ewed yea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assess annual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Revise the IEP to addr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y lack of expected progr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ults of any reevalu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formation provided by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· anticipated needs (S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14(d)(4)(A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and Revising IEP Cont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nd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parent and school agree to amend or modify the IEP, they may revise the IEP by agreement without convening an IEP mee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reate meeting document describing changes or modifications in the IEP of the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clude signature of person’s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ocument IEP meeting was not h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tion 1414(d)(3)(D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ina, J. J. &amp; Messina, C.(2006). Exceptional Education: Getting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d, The federal laws governing education for exceptional stu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June 8, 2006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ping.org/specialed/laws.htm#(I.E.P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2). National Information Center for Children and Youth with disabil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June 9, 2006, from Addendum Text on the Regulations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7.  Web site: http://www.nichcy.org/trainpkg/traintxt/7addonly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Department of Education (n.d.) Legislation: Individuals with Dis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Act. Retreived on Iune 8, 2006 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rwebgate.access.gpo.gov/cgi-bin/getdoc.cgi?dbname=108_cong_public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&amp;docid=f:publ446.1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ght, P. D., &amp; Wright, P. D. (1998-2006). Road Map to IDEA 2004:  What  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Know about IEPs, IEP Teams, IEP Meetings. In P. Wright &amp; P. W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ds.), Individuals with Disabilities Education Improvement Act (IDEA 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ed on 6/4/2006 from www.wrightslaw.com/idea/art/iep.roadmap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IE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IEP is a document developed by a team of person’s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’s attending school system who have a direct relatio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lping the student with special needs to be able to reach 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l potent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used to better understand how and what a child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ed in his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there to serve as a road map to address the child’s go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, and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t is a legal document that is required for each student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al Children’s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Amended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Education law mandated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information about students functional ability to perform &amp; academic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include measurable yearly goals that are academic and func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s to be provided progress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of the IEP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eeting should include, but is not limited to, the following participa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cal representative from the school a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's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both of the child's parents or responsible par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ild, where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ndividuals at the discretion of the parent or ag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.S. Department of Education,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Services shall be provided on an individualized ba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child need behavior servi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,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help 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Relate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-language patholo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logist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ing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al 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reation, including therapeutic recre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work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nurse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seling services, including rehabilitation couns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ssina and Messina,  2006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ations in Developing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of Students needs  (identify strengths and weakne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s of disability that are being add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ization of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al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ion of what best suites student’s n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P in the Class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accommod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include modifications 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 use a different assessment tool if needed to measure child’s academic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acher shall be an active part of the child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and must use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Section 1414(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’s are to be included as a member of the I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lacement decisions can not be reached without IEP team agre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cessary to h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ent and team consensu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aspects relativ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’s needs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right and Wright,  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96B-67A1-49B0-96F3-709DDC06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F15E-9628-46A6-9B1F-02D2175C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4BE-F889-40D0-BE03-1AD14C23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E617-0DFD-47ED-8226-B4BE5D76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B270-41DF-475E-9C19-C831F949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82CD-E9AA-40E2-9D55-ED743A53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3805-DF6A-479B-A13D-5AE6EE62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F77C-0C4B-4C55-AC47-2E04ED2A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A17B-EB36-48FF-8D1E-D5F0FFF5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DF7D-A137-47F1-8088-E2365204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84FA-5AED-43F1-85B7-AA983334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B63-D6FE-429F-A795-EA44884D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33AA-70C5-4275-AE68-B6A8BE1F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CCBF-38AF-4467-BC0F-295E3842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57FE-AE11-472D-A18F-BF5DD9D7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CEF4-BBE5-405C-B13F-0C10D6F2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FFC6-8FB6-4D13-9AA9-169ECF7B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FD0-93C0-4BDD-BE89-4F811B9D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4F2-E9E9-44EE-9F8B-0A741DED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EE2-4F8E-458B-8345-DEB046A5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77E-BB96-4D28-B2DB-74D89865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B6DF-8314-401A-8FCA-8D7A0623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A04-2057-4F5E-967C-9B42A50F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5A9A-FC80-4AF2-870B-E16A7581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2985-D619-49B8-AF7D-254C6C7C9CE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d5d0c8"/>
                </a:gs>
                <a:gs pos="50000">
                  <a:srgbClr val="e2ddd4"/>
                </a:gs>
                <a:gs pos="100000">
                  <a:srgbClr val="d5d0c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efe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f0ece5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f2efe8"/>
                </a:gs>
                <a:gs pos="100000">
                  <a:srgbClr val="efeb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e2d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8f8e7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41F8-FE97-42E4-B6EA-5C000F5233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1660680" y="3581280"/>
            <a:ext cx="576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Individualized Education Plan in relationship t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5013360" y="4952880"/>
            <a:ext cx="333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amended by Congress in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P.L. 108-446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360" y="506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451640" y="1420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669960" y="96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6" name="Picture 17" descr="On Crutches"/>
          <p:cNvPicPr/>
          <p:nvPr/>
        </p:nvPicPr>
        <p:blipFill>
          <a:blip r:embed="rId1"/>
          <a:stretch/>
        </p:blipFill>
        <p:spPr>
          <a:xfrm>
            <a:off x="3886200" y="4724280"/>
            <a:ext cx="1039680" cy="18259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8"/>
          <p:cNvSpPr/>
          <p:nvPr/>
        </p:nvSpPr>
        <p:spPr>
          <a:xfrm>
            <a:off x="7604280" y="111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8" name="Picture 20" descr="Wheelchair Access"/>
          <p:cNvPicPr/>
          <p:nvPr/>
        </p:nvPicPr>
        <p:blipFill>
          <a:blip r:embed="rId2"/>
          <a:stretch/>
        </p:blipFill>
        <p:spPr>
          <a:xfrm>
            <a:off x="3733920" y="1676520"/>
            <a:ext cx="1746000" cy="1825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2"/>
          <p:cNvSpPr/>
          <p:nvPr/>
        </p:nvSpPr>
        <p:spPr>
          <a:xfrm>
            <a:off x="2660760" y="152280"/>
            <a:ext cx="38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en-US" sz="8000" spc="-1" strike="noStrike">
                <a:solidFill>
                  <a:srgbClr val="000000"/>
                </a:solidFill>
                <a:latin typeface="Garamond"/>
              </a:rPr>
              <a:t>IEP</a:t>
            </a:r>
            <a:endParaRPr b="0" lang="en-US" sz="8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3657600" y="3962520"/>
            <a:ext cx="121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Garamond"/>
              </a:rPr>
              <a:t>IDE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-135000" y="5078520"/>
            <a:ext cx="42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ompleted by Team 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Kathy Capen, Maria Delvecchio,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enise  Mitchell, and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nee Bottersbusc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2" name="Picture 27" descr="ABC Books"/>
          <p:cNvPicPr/>
          <p:nvPr/>
        </p:nvPicPr>
        <p:blipFill>
          <a:blip r:embed="rId3"/>
          <a:stretch/>
        </p:blipFill>
        <p:spPr>
          <a:xfrm>
            <a:off x="228600" y="228600"/>
            <a:ext cx="2328840" cy="3048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Notes Background 2"/>
          <p:cNvPicPr/>
          <p:nvPr/>
        </p:nvPicPr>
        <p:blipFill>
          <a:blip r:embed="rId4"/>
          <a:stretch/>
        </p:blipFill>
        <p:spPr>
          <a:xfrm>
            <a:off x="6553080" y="304920"/>
            <a:ext cx="25909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Garamond"/>
              </a:rPr>
              <a:t>Reviewing and Revising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ewed yearl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assess annual goal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Revise the IEP to addres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any lack of expected progr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 results of any reevalu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formation provided by th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· anticipated needs (Section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414(d)(4)(A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7" name="Picture 4" descr="Boys Studying"/>
          <p:cNvPicPr/>
          <p:nvPr/>
        </p:nvPicPr>
        <p:blipFill>
          <a:blip r:embed="rId1"/>
          <a:stretch/>
        </p:blipFill>
        <p:spPr>
          <a:xfrm>
            <a:off x="5353200" y="2514600"/>
            <a:ext cx="3333600" cy="3381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Garamond"/>
              </a:rPr>
              <a:t>Reviewing and Revising IEP Cont.</a:t>
            </a:r>
            <a:br>
              <a:rPr sz="4000"/>
            </a:br>
            <a:r>
              <a:rPr b="1" lang="en-US" sz="4000" spc="-1" strike="noStrike">
                <a:solidFill>
                  <a:srgbClr val="ff66ff"/>
                </a:solidFill>
                <a:latin typeface="Garamond"/>
              </a:rPr>
              <a:t>Amending the IEP</a:t>
            </a:r>
            <a:endParaRPr b="1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The parent and school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agree to amend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or modify the IEP, they may revise the IEP by agreement without convening an IEP meeting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Create meeting document describing changes or modifications in the IEP of the part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include signature of person’s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document IEP meeting was not hel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Section 1414(d)(3)(D)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0" name="Picture 4" descr="Boy Reading"/>
          <p:cNvPicPr/>
          <p:nvPr/>
        </p:nvPicPr>
        <p:blipFill>
          <a:blip r:embed="rId1"/>
          <a:stretch/>
        </p:blipFill>
        <p:spPr>
          <a:xfrm>
            <a:off x="1219320" y="4038480"/>
            <a:ext cx="1447560" cy="25146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0" y="1295280"/>
            <a:ext cx="161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essina, J. J. &amp; Messina, C.(2006). Exceptional Education: Getting Par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volved, The federal laws governing education for exceptional stud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June 8, 2006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www.coping.org/specialed/laws.htm#(I.E.P.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2002). National Information Center for Children and Youth with disabilities 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June 9, 2006, from Addendum Text on the Regulations f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Module 7.  Web site: http://www.nichcy.org/trainpkg/traintxt/7addonly.ht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U.S. Department of Education (n.d.) Legislation: Individuals with Disabiliti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ducation Act. Retreived on Iune 8, 2006  fr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ttp://frwebgate.access.gpo.gov/cgi-bin/getdoc.cgi?dbname=108_cong_public_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laws&amp;docid=f:publ446.108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right, P. D., &amp; Wright, P. D. (1998-2006). Road Map to IDEA 2004:  What   You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Need to Know about IEPs, IEP Teams, IEP Meetings. In P. Wright &amp; P. Wright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Eds.), Individuals with Disabilities Education Improvement Act (IDEA 200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Retrieved on 6/4/2006 from www.wrightslaw.com/idea/art/iep.roadmap.htm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What is an IEP?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1600" y="1649520"/>
            <a:ext cx="7876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The IEP is a document developed by a team of person’s from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he child’s attending school system who have a direct relationship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to helping the student with special needs to be able to reach hi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full potent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used to better understand how and what a child needs t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cceed in his education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*It is there to serve as a road map to address the child’s goal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gress, and services.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*It is a legal document that is required for each student in the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ptional Children’s Program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6" name="Picture 6" descr="Books - Law 1"/>
          <p:cNvPicPr/>
          <p:nvPr/>
        </p:nvPicPr>
        <p:blipFill>
          <a:blip r:embed="rId1"/>
          <a:stretch/>
        </p:blipFill>
        <p:spPr>
          <a:xfrm>
            <a:off x="7010280" y="4950000"/>
            <a:ext cx="2133720" cy="190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Garamond"/>
              </a:rPr>
              <a:t>IEP Amended 2004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Special Education law mandated chang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information about students functional ability to perform &amp; academic level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st include measurable yearly goals that are academic and functiona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ents to be provided progress report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9" name="Picture 11" descr="100_0366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3762360" y="622152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Members of the IEP tea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ach meeting should include, but is not limited to, the following participant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 local representative from the school agenc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's teach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ne or both of the child's parents or responsible part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child, where appropriat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ther individuals at the discretion of the parent or agency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601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4784760" y="5562720"/>
            <a:ext cx="322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U.S. Department of Education,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4" name="Picture 8" descr="Accounting 1"/>
          <p:cNvPicPr/>
          <p:nvPr/>
        </p:nvPicPr>
        <p:blipFill>
          <a:blip r:embed="rId1"/>
          <a:stretch/>
        </p:blipFill>
        <p:spPr>
          <a:xfrm>
            <a:off x="4648320" y="2233440"/>
            <a:ext cx="4038480" cy="322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aramond"/>
              </a:rPr>
              <a:t>Related Service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shall be provided on an individualized bas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es the child need behavior services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cupational therapy, etc…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7" name="Picture 4" descr="At the Chalkboard 1"/>
          <p:cNvPicPr/>
          <p:nvPr/>
        </p:nvPicPr>
        <p:blipFill>
          <a:blip r:embed="rId1"/>
          <a:stretch/>
        </p:blipFill>
        <p:spPr>
          <a:xfrm>
            <a:off x="4648320" y="2252520"/>
            <a:ext cx="4038480" cy="31910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5486400" y="256392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hat kind of service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will help me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1815120" y="6297480"/>
            <a:ext cx="350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ypes of Related Services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peech-language patholog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udiologist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terpreting servic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ychological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hysical therap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ccupational therapy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creation, including therapeutic recre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cial work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chool nurse service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499"/>
              </a:spcBef>
              <a:spcAft>
                <a:spcPts val="499"/>
              </a:spcAft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unseling services, including rehabilitation counseling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4" descr="Drawing Straight Edge"/>
          <p:cNvPicPr/>
          <p:nvPr/>
        </p:nvPicPr>
        <p:blipFill>
          <a:blip r:embed="rId1"/>
          <a:stretch/>
        </p:blipFill>
        <p:spPr>
          <a:xfrm>
            <a:off x="6324480" y="1066680"/>
            <a:ext cx="2667240" cy="38656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5029200" y="6450120"/>
            <a:ext cx="51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(Messina and Messina,  2006)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Garamond"/>
              </a:rPr>
              <a:t>Considerations in Developing the IEP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ssessment of Students needs  (identify strengths and weakness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etails of disability that are being addressed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00"/>
              </a:spcBef>
              <a:buClr>
                <a:srgbClr val="a4603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ndividualization of IE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arental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eacher involv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llaboration of what best suites student’s need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6" name="Picture 4" descr="Boy at Computer"/>
          <p:cNvPicPr/>
          <p:nvPr/>
        </p:nvPicPr>
        <p:blipFill>
          <a:blip r:embed="rId1"/>
          <a:stretch/>
        </p:blipFill>
        <p:spPr>
          <a:xfrm>
            <a:off x="4648320" y="2544840"/>
            <a:ext cx="4038480" cy="26067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4876920" y="62485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Garamond"/>
              </a:rPr>
              <a:t>IEP in the Classroom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9" name="Picture 4" descr="100_0361"/>
          <p:cNvPicPr/>
          <p:nvPr/>
        </p:nvPicPr>
        <p:blipFill>
          <a:blip r:embed="rId1"/>
          <a:stretch/>
        </p:blipFill>
        <p:spPr>
          <a:xfrm>
            <a:off x="457200" y="1523880"/>
            <a:ext cx="3225960" cy="2419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7"/>
          <p:cNvSpPr/>
          <p:nvPr/>
        </p:nvSpPr>
        <p:spPr>
          <a:xfrm>
            <a:off x="3383640" y="1459080"/>
            <a:ext cx="613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o include accommodation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-To include modifications on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ass wor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65040" y="3962520"/>
            <a:ext cx="85503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o use a different assessment tool if needed to measure child’s academic abiliti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-Teacher shall be an active part of the child’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planning and must use modification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med" advTm="10000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lacement Decisions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aramond"/>
              </a:rPr>
              <a:t>The law Section 1414(e)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’s are to be included as a member of the IE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lacement decisions can not be reached without IEP team agre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ecessary to have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parent and team consensus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bout aspects relative to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ild’s needs and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Wright and Wright,  1998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4" name="Picture 4" descr="Girl Studying 4"/>
          <p:cNvPicPr/>
          <p:nvPr/>
        </p:nvPicPr>
        <p:blipFill>
          <a:blip r:embed="rId1"/>
          <a:stretch/>
        </p:blipFill>
        <p:spPr>
          <a:xfrm>
            <a:off x="4952880" y="2209680"/>
            <a:ext cx="3733920" cy="36277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1:57:05Z</dcterms:created>
  <dc:creator>kathy</dc:creator>
  <dc:description/>
  <dc:language>en-US</dc:language>
  <cp:lastModifiedBy>RomaK</cp:lastModifiedBy>
  <dcterms:modified xsi:type="dcterms:W3CDTF">2015-09-02T09:48:28Z</dcterms:modified>
  <cp:revision>28</cp:revision>
  <dc:subject/>
  <dc:title>IEP individualized Educational Plan</dc:title>
</cp:coreProperties>
</file>