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12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9E7C-B8B0-4EFB-81AA-46EBB3EC2C7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ndividualized Education Plan in relationship to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amended by Congress in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P.L. 108-446)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EP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pleted by Team A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Kathy Capen, Maria Delvecchio,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enise  Mitchell, and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nee Bottersbusch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ized Education Plan in relationship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mended by Congress in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.L. 108-44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d by Tea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thy Capen, Maria Delvecchi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ise  Mitchell,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ee Bottersbus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viewing and Revising IEP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Reviewed yearly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Reassess annual goals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Revise the IEP to addres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 any lack of expected progr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 results of any reevalu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information provided by the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ar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· anticipated needs (Section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1414(d)(4)(A)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Wright and Wright,  1998)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ing and Revising 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Reviewed year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Reassess annual go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Revise the IEP to addres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y lack of expected progr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sults of any reevalu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formation provided by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· anticipated needs (Sec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14(d)(4)(A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right and Wright,  1998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viewing and Revising IEP Con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mending the IEP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The parent and school agree to amend or modify the IEP, they may revise the IEP by agreement without convening an IEP meeting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Create meeting document describing changes or modifications in the IEP of the parti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include signature of person’s agre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document IEP meeting was not held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Section 1414(d)(3)(D)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ing and Revising IEP Con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nding the 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parent and school agree to amend or modify the IEP, they may revise the IEP by agreement without convening an IEP mee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reate meeting document describing changes or modifications in the IEP of the pa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lude signature of person’s agre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ocument IEP meeting was not h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ction 1414(d)(3)(D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essina, J. J. &amp; Messina, C.(2006). Exceptional Education: Getting Parent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nvolved, The federal laws governing education for exceptional student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trieved on June 8, 2006 fro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ttp://www.coping.org/specialed/laws.htm#(I.E.P.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2002). National Information Center for Children and Youth with disabilities 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trieved June 9, 2006, from Addendum Text on the Regulations for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odule 7.  Web site: http://www.nichcy.org/trainpkg/traintxt/7addonly.ht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U.S. Department of Education (n.d.) Legislation: Individuals with Disabiliti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Education Act. Retreived on Iune 8, 2006  fro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ttp://frwebgate.access.gpo.gov/cgi-bin/getdoc.cgi?dbname=108_cong_public_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laws&amp;docid=f:publ446.108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right, P. D., &amp; Wright, P. D. (1998-2006). Road Map to IDEA 2004:  What   You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Need to Know about IEPs, IEP Teams, IEP Meetings. In P. Wright &amp; P. Wright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Eds.), Individuals with Disabilities Education Improvement Act (IDEA 2004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trieved on 6/4/2006 from www.wrightslaw.com/idea/art/iep.roadmap.htm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ina, J. J. &amp; Messina, C.(2006). Exceptional Education: Getting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d, The federal laws governing education for exceptional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ieved on June 8, 2006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ping.org/specialed/laws.htm#(I.E.P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2). National Information Center for Children and Youth with disabilitie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ieved June 9, 2006, from Addendum Text on the Regulations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7.  Web site: http://www.nichcy.org/trainpkg/traintxt/7addonly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 Department of Education (n.d.) Legislation: Individuals with Dis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 Act. Retreived on Iune 8, 2006 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frwebgate.access.gpo.gov/cgi-bin/getdoc.cgi?dbname=108_cong_public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&amp;docid=f:publ446.1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ght, P. D., &amp; Wright, P. D. (1998-2006). Road Map to IDEA 2004:  What  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Know about IEPs, IEP Teams, IEP Meetings. In P. Wright &amp; P. W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ds.), Individuals with Disabilities Education Improvement Act (IDEA 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ieved on 6/4/2006 from www.wrightslaw.com/idea/art/iep.roadmap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hat is an IEP?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The IEP is a document developed by a team of person’s from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he child’s attending school system who have a direct relationship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o helping the student with special needs to be able to reach hi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full potential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It is used to better understand how and what a child needs to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ucceed in his education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It is there to serve as a road map to address the child’s goals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rogress, and services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It is a legal document that is required for each student in the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Exceptional Children’s Program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IE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The IEP is a document developed by a team of person’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ld’s attending school system who have a direct relation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lping the student with special needs to be able to reach 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 potent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It is used to better understand how and what a child nee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ed in his edu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It is there to serve as a road map to address the child’s go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, and serv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It is a legal document that is required for each student i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al Children’s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EP Amended 2004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pecial Education law mandated chang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ust include information about students functional ability to perform &amp; academic level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ust include measurable yearly goals that are academic and functional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arents to be provided progress report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P Amended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Education law mandated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include information about students functional ability to perform &amp; academic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include measurable yearly goals that are academic and func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s to be provided progress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embers of the IEP tea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Each meeting should include, but is not limited to, the following participants: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 local representative from the school agency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he child's teacher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One or both of the child's parents or responsible party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he child, where appropriate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Other individuals at the discretion of the parent or agency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Messina and Messina,  2006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U.S. Department of Education, 2006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s of the IEP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eeting should include, but is not limited to, the following participa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cal representative from the school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ld's teac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r both of the child's parents or responsible par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ld, where appropri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dividuals at the discretion of the parent or ag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essina and Messina,  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.S. Department of Education, 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lated Servic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lated Services shall be provided on an individualized basis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oes the child need behavior services?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Occupational therapy, etc…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hat kind of servic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ill help me?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Messina and Messina,  2006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Services shall be provided on an individualized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child need behavior servic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al therapy,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help 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essina and Messina,  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ypes of Related Servic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peech-language pathology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udiologist services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nterpreting servic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sychological services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hysical therapy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Occupational therapy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creation, including therapeutic recreation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ocial work services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chool nurse services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unseling services, including rehabilitation counselin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Messina and Messina,  2006)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Related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-language patholo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ologist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reting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al therap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reation, including therapeutic recre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work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nurse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seling services, including rehabilitation couns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essina and Messina,  200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nsiderations in Developing the IEP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ssessment of Students needs  (identify strengths and weaknesses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etails of disability that are being addressed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ndividualization of IEP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arental involv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eacher involv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llaboration of what best suites student’s need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ions in Developing the 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 of Students needs  (identify strengths and weaknes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ails of disability that are being add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ization of 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al invol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invol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boration of what best suites student’s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EP in the Classroo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To include accommodations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To include modifications on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lass work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To use a different assessment tool if needed to measure child’s academic abiliti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Teacher shall be an active part of the child’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lanning and must use modification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P in the Class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o include accommod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o include modifications 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o use a different assessment tool if needed to measure child’s academic 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acher shall be an active part of the child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 and must use mod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lacement Decision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he law Section 1414(e)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Parent’s are to be included as a member of the IEP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Placement decisions can not be reached without IEP team agre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Necessary to have: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parent and team consensus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bout aspects relative to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ld’s needs and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lac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ment De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Section 1414(e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ent’s are to be included as a member of the 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lacement decisions can not be reached without IEP team agre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Necessary to ha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ent and team consensu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aspects relative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’s needs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288E-CB7D-48D7-8C99-EF07A81E9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DB56-993C-40AB-90DE-0EEDF6E9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F1BC-5614-4FCD-8CFB-90DEB6DCC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90B4-2C06-4608-B4CA-1883E758F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6BFC-35B5-4998-971F-E56C82759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213C-6BF2-4F5A-8909-7CDE3D8C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4728-60D7-4592-97A4-DCF00C54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FE66-CD3A-4E11-8574-BFB14ED4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DF11-BC61-404D-8B8F-B6FBA7D3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CE65-8570-492E-85A3-0384DD76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8F97-C1CA-4868-88F4-1C0B9F07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4837-3551-48B4-BCB4-959F9EA1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157E-089E-47CD-B079-49EF135A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73A4-4B87-40DF-A73F-A676F93F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C284-414D-4162-9155-7119511C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4AA4-85D4-4700-9CA1-8587B1ADE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E2A7-A53B-4F9F-A421-A91572486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A7B2-3B78-4E62-ADD9-2E2FE610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C36F-9449-41CC-8CA7-9BC1F8E3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8B0F-CB0C-45D0-8650-72802C01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FD48-0115-4AC9-B575-36E48E91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796F-8237-4BCC-9E6E-DD3D4EED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F5B5-4783-4D95-850A-6D34BD70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DB61-AF97-4C05-BF67-3F950ECB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5d0c8"/>
                </a:gs>
                <a:gs pos="50000">
                  <a:srgbClr val="e2ddd4"/>
                </a:gs>
                <a:gs pos="100000">
                  <a:srgbClr val="d5d0c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8684-D9AA-4904-8936-4D741A248AE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f8e7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5d0c8"/>
                </a:gs>
                <a:gs pos="50000">
                  <a:srgbClr val="e2ddd4"/>
                </a:gs>
                <a:gs pos="100000">
                  <a:srgbClr val="d5d0c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f8e7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74F2-0265-4389-BE73-0FEF7B01196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6"/>
          <p:cNvSpPr/>
          <p:nvPr/>
        </p:nvSpPr>
        <p:spPr>
          <a:xfrm>
            <a:off x="1660680" y="3581280"/>
            <a:ext cx="576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Individualized Education Plan in relationship t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5013360" y="4952880"/>
            <a:ext cx="333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amended by Congress in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P.L. 108-446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441360" y="506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7451640" y="1420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669960" y="96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6" name="Picture 17" descr="On Crutches"/>
          <p:cNvPicPr/>
          <p:nvPr/>
        </p:nvPicPr>
        <p:blipFill>
          <a:blip r:embed="rId1"/>
          <a:stretch/>
        </p:blipFill>
        <p:spPr>
          <a:xfrm>
            <a:off x="3886200" y="4724280"/>
            <a:ext cx="1039680" cy="18259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8"/>
          <p:cNvSpPr/>
          <p:nvPr/>
        </p:nvSpPr>
        <p:spPr>
          <a:xfrm>
            <a:off x="7604280" y="1116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8" name="Picture 20" descr="Wheelchair Access"/>
          <p:cNvPicPr/>
          <p:nvPr/>
        </p:nvPicPr>
        <p:blipFill>
          <a:blip r:embed="rId2"/>
          <a:stretch/>
        </p:blipFill>
        <p:spPr>
          <a:xfrm>
            <a:off x="3733920" y="1676520"/>
            <a:ext cx="1746000" cy="18255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2"/>
          <p:cNvSpPr/>
          <p:nvPr/>
        </p:nvSpPr>
        <p:spPr>
          <a:xfrm>
            <a:off x="2660760" y="152280"/>
            <a:ext cx="38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n-US" sz="8000" spc="-1" strike="noStrike">
                <a:solidFill>
                  <a:srgbClr val="000000"/>
                </a:solidFill>
                <a:latin typeface="Garamond"/>
              </a:rPr>
              <a:t>IEP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3657600" y="3962520"/>
            <a:ext cx="121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aramond"/>
              </a:rPr>
              <a:t>IDE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Text Box 26"/>
          <p:cNvSpPr/>
          <p:nvPr/>
        </p:nvSpPr>
        <p:spPr>
          <a:xfrm>
            <a:off x="-135000" y="5078520"/>
            <a:ext cx="421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ompleted by Team 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Kathy Capen, Maria Delvecchio,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enise  Mitchell, and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Renee Bottersbusch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2" name="Picture 27" descr="ABC Books"/>
          <p:cNvPicPr/>
          <p:nvPr/>
        </p:nvPicPr>
        <p:blipFill>
          <a:blip r:embed="rId3"/>
          <a:stretch/>
        </p:blipFill>
        <p:spPr>
          <a:xfrm>
            <a:off x="228600" y="228600"/>
            <a:ext cx="2328840" cy="3048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0" descr="Notes Background 2"/>
          <p:cNvPicPr/>
          <p:nvPr/>
        </p:nvPicPr>
        <p:blipFill>
          <a:blip r:embed="rId4"/>
          <a:stretch/>
        </p:blipFill>
        <p:spPr>
          <a:xfrm>
            <a:off x="6553080" y="304920"/>
            <a:ext cx="2590920" cy="29718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Garamond"/>
              </a:rPr>
              <a:t>Reviewing and Revising IEP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*Reviewed yearly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*Reassess annual goals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*Revise the IEP to addres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 any lack of expected progr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 results of any reevalu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information provided by the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ar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· anticipated needs (Section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1414(d)(4)(A)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7" name="Picture 4" descr="Boys Studying"/>
          <p:cNvPicPr/>
          <p:nvPr/>
        </p:nvPicPr>
        <p:blipFill>
          <a:blip r:embed="rId1"/>
          <a:stretch/>
        </p:blipFill>
        <p:spPr>
          <a:xfrm>
            <a:off x="5353200" y="2514600"/>
            <a:ext cx="3333600" cy="33814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Garamond"/>
              </a:rPr>
              <a:t>Reviewing and Revising IEP Cont.</a:t>
            </a:r>
            <a:br>
              <a:rPr sz="4000"/>
            </a:br>
            <a:r>
              <a:rPr b="1" lang="en-US" sz="4000" spc="-1" strike="noStrike">
                <a:solidFill>
                  <a:srgbClr val="ff66ff"/>
                </a:solidFill>
                <a:latin typeface="Garamond"/>
              </a:rPr>
              <a:t>Amending the IEP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The parent and school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agree to amend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or modify the IEP, they may revise the IEP by agreement without convening an IEP meeting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Create meeting document describing changes or modifications in the IEP of the part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include signature of person’s agreemen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document IEP meeting was not hel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Section 1414(d)(3)(D)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70" name="Picture 4" descr="Boy Reading"/>
          <p:cNvPicPr/>
          <p:nvPr/>
        </p:nvPicPr>
        <p:blipFill>
          <a:blip r:embed="rId1"/>
          <a:stretch/>
        </p:blipFill>
        <p:spPr>
          <a:xfrm>
            <a:off x="1219320" y="4038480"/>
            <a:ext cx="1447560" cy="25146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References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0" y="1295280"/>
            <a:ext cx="16181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Messina, J. J. &amp; Messina, C.(2006). Exceptional Education: Getting Parent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nvolved, The federal laws governing education for exceptional student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Retrieved on June 8, 2006 fro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ttp://www.coping.org/specialed/laws.htm#(I.E.P.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2002). National Information Center for Children and Youth with disabilities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Retrieved June 9, 2006, from Addendum Text on the Regulations fo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Module 7.  Web site: http://www.nichcy.org/trainpkg/traintxt/7addonly.ht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U.S. Department of Education (n.d.) Legislation: Individuals with Disabilitie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ducation Act. Retreived on Iune 8, 2006  fro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ttp://frwebgate.access.gpo.gov/cgi-bin/getdoc.cgi?dbname=108_cong_public_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laws&amp;docid=f:publ446.10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Wright, P. D., &amp; Wright, P. D. (1998-2006). Road Map to IDEA 2004:  What   You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Need to Know about IEPs, IEP Teams, IEP Meetings. In P. Wright &amp; P. Wright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Eds.), Individuals with Disabilities Education Improvement Act (IDEA 200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Retrieved on 6/4/2006 from www.wrightslaw.com/idea/art/iep.roadmap.htm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250" autoRev="1" fill="hold"/>
                                        <p:tgtEl>
                                          <p:spTgt spid="1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What is an IEP?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11600" y="1649520"/>
            <a:ext cx="7876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*The IEP is a document developed by a team of person’s from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he child’s attending school system who have a direct relationship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o helping the student with special needs to be able to reach hi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full potential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*It is used to better understand how and what a child needs t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ucceed in his education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*It is there to serve as a road map to address the child’s goals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gress, and services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*It is a legal document that is required for each student in the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Exceptional Children’s Program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6" name="Picture 6" descr="Books - Law 1"/>
          <p:cNvPicPr/>
          <p:nvPr/>
        </p:nvPicPr>
        <p:blipFill>
          <a:blip r:embed="rId1"/>
          <a:stretch/>
        </p:blipFill>
        <p:spPr>
          <a:xfrm>
            <a:off x="7010280" y="4950000"/>
            <a:ext cx="2133720" cy="190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Garamond"/>
              </a:rPr>
              <a:t>IEP Amended 2004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aramond"/>
              </a:rPr>
              <a:t>Special Education law mandated chang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ust include information about students functional ability to perform &amp; academic level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ust include measurable yearly goals that are academic and functiona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arents to be provided progress report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9" name="Picture 11" descr="100_0366"/>
          <p:cNvPicPr/>
          <p:nvPr/>
        </p:nvPicPr>
        <p:blipFill>
          <a:blip r:embed="rId1"/>
          <a:stretch/>
        </p:blipFill>
        <p:spPr>
          <a:xfrm>
            <a:off x="4648320" y="23335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2"/>
          <p:cNvSpPr/>
          <p:nvPr/>
        </p:nvSpPr>
        <p:spPr>
          <a:xfrm>
            <a:off x="3762360" y="6221520"/>
            <a:ext cx="31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Members of the IEP team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ach meeting should include, but is not limited to, the following participants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local representative from the school agenc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child's teacher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ne or both of the child's parents or responsible party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child, where appropriate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ther individuals at the discretion of the parent or agency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601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4784760" y="5562720"/>
            <a:ext cx="322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Messina and Messina,  200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U.S. Department of Education, 200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4" name="Picture 8" descr="Accounting 1"/>
          <p:cNvPicPr/>
          <p:nvPr/>
        </p:nvPicPr>
        <p:blipFill>
          <a:blip r:embed="rId1"/>
          <a:stretch/>
        </p:blipFill>
        <p:spPr>
          <a:xfrm>
            <a:off x="4648320" y="2233440"/>
            <a:ext cx="4038480" cy="32274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Related Services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Related Services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shall be provided on an individualized basis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oes the child need behavior services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ccupational therapy, etc…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7" name="Picture 4" descr="At the Chalkboard 1"/>
          <p:cNvPicPr/>
          <p:nvPr/>
        </p:nvPicPr>
        <p:blipFill>
          <a:blip r:embed="rId1"/>
          <a:stretch/>
        </p:blipFill>
        <p:spPr>
          <a:xfrm>
            <a:off x="4648320" y="2252520"/>
            <a:ext cx="4038480" cy="31910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5486400" y="2563920"/>
            <a:ext cx="268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What kind of service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will help me?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815120" y="6297480"/>
            <a:ext cx="350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Messina and Messina,  200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ypes of Related Services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143000"/>
            <a:ext cx="5715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ransport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peech-language pathology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udiologist servic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terpreting servic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sychological servic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hysical therap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ccupational therapy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ecreation, including therapeutic recre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ocial work servic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chool nurse servic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unseling services, including rehabilitation counseling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2" name="Picture 4" descr="Drawing Straight Edge"/>
          <p:cNvPicPr/>
          <p:nvPr/>
        </p:nvPicPr>
        <p:blipFill>
          <a:blip r:embed="rId1"/>
          <a:stretch/>
        </p:blipFill>
        <p:spPr>
          <a:xfrm>
            <a:off x="6324480" y="1066680"/>
            <a:ext cx="2667240" cy="38656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5029200" y="6450120"/>
            <a:ext cx="51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Messina and Messina,  2006)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Garamond"/>
              </a:rPr>
              <a:t>Considerations in Developing the IEP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ssessment of Students needs  (identify strengths and weaknesses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etails of disability that are being addressed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dividualization of IEP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arental involvemen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eacher involvemen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llaboration of what best suites student’s need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6" name="Picture 4" descr="Boy at Computer"/>
          <p:cNvPicPr/>
          <p:nvPr/>
        </p:nvPicPr>
        <p:blipFill>
          <a:blip r:embed="rId1"/>
          <a:stretch/>
        </p:blipFill>
        <p:spPr>
          <a:xfrm>
            <a:off x="4648320" y="2544840"/>
            <a:ext cx="4038480" cy="26067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4876920" y="624852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Garamond"/>
              </a:rPr>
              <a:t>IEP in the Classroom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9" name="Picture 4" descr="100_0361"/>
          <p:cNvPicPr/>
          <p:nvPr/>
        </p:nvPicPr>
        <p:blipFill>
          <a:blip r:embed="rId1"/>
          <a:stretch/>
        </p:blipFill>
        <p:spPr>
          <a:xfrm>
            <a:off x="457200" y="1523880"/>
            <a:ext cx="3225960" cy="24195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7"/>
          <p:cNvSpPr/>
          <p:nvPr/>
        </p:nvSpPr>
        <p:spPr>
          <a:xfrm>
            <a:off x="3383640" y="1459080"/>
            <a:ext cx="6139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o include accommodations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-To include modifications on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ass work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365040" y="3962520"/>
            <a:ext cx="855036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-To use a different assessment tool if needed to measure child’s academic abiliti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-Teacher shall be an active part of the child’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planning and must use modification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Placement Decisions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aramond"/>
              </a:rPr>
              <a:t>The law Section 1414(e).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Parent’s are to be included as a member of the IEP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Placement decisions can not be reached without IEP team agreemen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Necessary to have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parent and team consensus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bout aspects relative to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hild’s needs and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lacemen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4" name="Picture 4" descr="Girl Studying 4"/>
          <p:cNvPicPr/>
          <p:nvPr/>
        </p:nvPicPr>
        <p:blipFill>
          <a:blip r:embed="rId1"/>
          <a:stretch/>
        </p:blipFill>
        <p:spPr>
          <a:xfrm>
            <a:off x="4952880" y="2209680"/>
            <a:ext cx="3733920" cy="3627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01:57:05Z</dcterms:created>
  <dc:creator>kathy</dc:creator>
  <dc:description/>
  <dc:language>en-US</dc:language>
  <cp:lastModifiedBy>RomaK</cp:lastModifiedBy>
  <dcterms:modified xsi:type="dcterms:W3CDTF">2015-09-02T09:48:28Z</dcterms:modified>
  <cp:revision>28</cp:revision>
  <dc:subject/>
  <dc:title>IEP individualized Educational Plan</dc:title>
</cp:coreProperties>
</file>