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move the slide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4017A8-AC60-4787-B4EA-3A70A59697F6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EAK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MS OF MAIN VERB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EAK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FORMS OF MAIN VERBS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xamples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GAVE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IV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TOO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EAK 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- BROKE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ROKE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does not need a ‘t’ , ‘d’, ‘ed’ to give its past and past participle forms is called as a strong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xamples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GAVE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IV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TOO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TA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EAK 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- BROKE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BROKEN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2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read - read -  read , bleed – bled- bl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cut, set, pu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.g. walk-walked-walked, render-rendered-rendere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weak verb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Generally a main verb that needs a ‘t’ or ‘d’ to give its past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A main verb that loses an ‘e’ from its usual form to give the past and past participle forms is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read - read -  read , bleed – bled- bl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3. A verb that does not change its usual form in all the three forms is also called as a weak verb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cut, set, put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4. A main verb that needs an ‘ed’ to form its past and past participle form is called as a weak verb.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e.g. walk-walked-walked, render-rendered-rendered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What is a weak verb?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9F2F79-56F2-49EF-ACD8-A498094A88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BE856A-E82E-4434-9111-979B7CE302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32F25-D87F-4927-960E-D22018FCED2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4483DD-7449-46A3-BF7A-C119023A9C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AA886-410C-4E18-8D67-7B50280EAA1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9246E98-C54C-47C1-8064-421AA372A9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71659C-4E37-4A85-84C8-BCF2F420F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ECD24B-866A-4057-A542-08CFD40DEC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5EC97-AC2F-4FF2-B085-649BEDD5F4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891D4B4-AA59-401E-94F8-CFF8D3E6F1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9CD79F-9421-437F-AB4F-3BB1E81A65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8315B3-5553-40C1-BF3D-0697C76282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F4570C-C090-4B39-AD5E-ABAFCD25BB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649CB6-5F7F-42EC-B270-7EF6280FAE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2FFD50-3FD1-40A1-891C-2CF8F1A098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67515-F882-4297-8C94-03B82A0ECCD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478740-2FE2-4A95-9461-6B2C0F8A7C7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630142-0924-4174-9862-5CAE5D77E0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55688C-8F7F-4204-B8EF-1F5D8988C5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2BA7F-9455-4F63-BB91-D26E08532F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D6A7F7-9807-4040-9EBD-AE7AB0E886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C1CA89-F248-4887-8148-5F011900C1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7141CB-E4B5-4101-A695-31599D5851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E7321E-2045-496F-A7E8-719735A30D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6b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30871-0ED5-413B-B919-9F5B266F6E39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72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61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8c0000"/>
                </a:gs>
                <a:gs pos="100000">
                  <a:srgbClr val="720000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cc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cc66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cc66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878C0-7AB8-4EA8-A3C7-BD2FC02E5745}" type="slidenum">
              <a:rPr b="0" lang="en-US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5" name=""/>
          <p:cNvGraphicFramePr/>
          <p:nvPr/>
        </p:nvGraphicFramePr>
        <p:xfrm>
          <a:off x="685800" y="152280"/>
          <a:ext cx="5181480" cy="6675480"/>
        </p:xfrm>
        <a:graphic>
          <a:graphicData uri="http://schemas.openxmlformats.org/drawingml/2006/table">
            <a:tbl>
              <a:tblPr/>
              <a:tblGrid>
                <a:gridCol w="1612800"/>
                <a:gridCol w="1494000"/>
                <a:gridCol w="2074680"/>
              </a:tblGrid>
              <a:tr h="36756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RESEN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 </a:t>
                      </a:r>
                      <a:r>
                        <a:rPr b="1" lang="en-US" sz="1600" spc="-1" strike="noStrike">
                          <a:solidFill>
                            <a:srgbClr val="66ffff"/>
                          </a:solidFill>
                          <a:latin typeface="Tahoma"/>
                        </a:rPr>
                        <a:t>PAST PARTICIPLE</a:t>
                      </a:r>
                      <a:endParaRPr b="0" lang="en-US" sz="16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AV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GIV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OO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T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EAK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BR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OO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SHA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AKE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edc5b1"/>
                          </a:solidFill>
                          <a:latin typeface="Tahoma"/>
                        </a:rPr>
                        <a:t>WOKE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ING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R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UY 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B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EE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ccff99"/>
                          </a:solidFill>
                          <a:latin typeface="Tahoma"/>
                        </a:rPr>
                        <a:t>SOUGH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RN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BUIL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ff"/>
                          </a:solidFill>
                          <a:latin typeface="Tahoma"/>
                        </a:rPr>
                        <a:t>M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R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B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A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ccff"/>
                          </a:solidFill>
                          <a:latin typeface="Tahoma"/>
                        </a:rPr>
                        <a:t>L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C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L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PU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ff66"/>
                          </a:solidFill>
                          <a:latin typeface="Tahoma"/>
                        </a:rPr>
                        <a:t>SET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W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  <a:tr h="334080"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  <a:tc>
                  <a:txBody>
                    <a:bodyPr lIns="90000" rIns="900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400" spc="-1" strike="noStrike">
                          <a:solidFill>
                            <a:srgbClr val="ff9999"/>
                          </a:solidFill>
                          <a:latin typeface="Tahoma"/>
                        </a:rPr>
                        <a:t>TALKED</a:t>
                      </a:r>
                      <a:endParaRPr b="0" lang="en-US" sz="1400" spc="-1" strike="noStrike">
                        <a:solidFill>
                          <a:srgbClr val="ffffff"/>
                        </a:solidFill>
                        <a:latin typeface="Tahoma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gradFill rotWithShape="0">
                      <a:gsLst>
                        <a:gs pos="0">
                          <a:srgbClr val="8c0000"/>
                        </a:gs>
                        <a:gs pos="100000">
                          <a:srgbClr val="410000"/>
                        </a:gs>
                      </a:gsLst>
                      <a:path path="rect">
                        <a:fillToRect l="50000" t="50000" r="50000" b="50000"/>
                      </a:path>
                    </a:gradFill>
                  </a:tcPr>
                </a:tc>
              </a:tr>
            </a:tbl>
          </a:graphicData>
        </a:graphic>
      </p:graphicFrame>
      <p:grpSp>
        <p:nvGrpSpPr>
          <p:cNvPr id="96" name="Group 92"/>
          <p:cNvGrpSpPr/>
          <p:nvPr/>
        </p:nvGrpSpPr>
        <p:grpSpPr>
          <a:xfrm>
            <a:off x="6019920" y="2133720"/>
            <a:ext cx="761760" cy="4266000"/>
            <a:chOff x="6019920" y="2133720"/>
            <a:chExt cx="761760" cy="4266000"/>
          </a:xfrm>
        </p:grpSpPr>
        <p:sp>
          <p:nvSpPr>
            <p:cNvPr id="97" name="Line 93"/>
            <p:cNvSpPr/>
            <p:nvPr/>
          </p:nvSpPr>
          <p:spPr>
            <a:xfrm>
              <a:off x="6019920" y="2133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8" name="Line 94"/>
            <p:cNvSpPr/>
            <p:nvPr/>
          </p:nvSpPr>
          <p:spPr>
            <a:xfrm>
              <a:off x="6019920" y="6399720"/>
              <a:ext cx="49284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99" name="Line 95"/>
            <p:cNvSpPr/>
            <p:nvPr/>
          </p:nvSpPr>
          <p:spPr>
            <a:xfrm>
              <a:off x="6512760" y="2133720"/>
              <a:ext cx="0" cy="426600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0" name="Line 96"/>
            <p:cNvSpPr/>
            <p:nvPr/>
          </p:nvSpPr>
          <p:spPr>
            <a:xfrm>
              <a:off x="6512760" y="4266000"/>
              <a:ext cx="268920" cy="0"/>
            </a:xfrm>
            <a:prstGeom prst="line">
              <a:avLst/>
            </a:prstGeom>
            <a:ln w="38160">
              <a:solidFill>
                <a:srgbClr val="66ff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1" name="Text Box 97"/>
          <p:cNvSpPr/>
          <p:nvPr/>
        </p:nvSpPr>
        <p:spPr>
          <a:xfrm>
            <a:off x="7086600" y="4038480"/>
            <a:ext cx="19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99ff"/>
                </a:solidFill>
                <a:latin typeface="Arial"/>
              </a:rPr>
              <a:t>WEAK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2" name="Group 98"/>
          <p:cNvGrpSpPr/>
          <p:nvPr/>
        </p:nvGrpSpPr>
        <p:grpSpPr>
          <a:xfrm>
            <a:off x="6019920" y="609480"/>
            <a:ext cx="685440" cy="1219320"/>
            <a:chOff x="6019920" y="609480"/>
            <a:chExt cx="685440" cy="1219320"/>
          </a:xfrm>
        </p:grpSpPr>
        <p:sp>
          <p:nvSpPr>
            <p:cNvPr id="103" name="Line 99"/>
            <p:cNvSpPr/>
            <p:nvPr/>
          </p:nvSpPr>
          <p:spPr>
            <a:xfrm>
              <a:off x="6019920" y="60948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4" name="Line 100"/>
            <p:cNvSpPr/>
            <p:nvPr/>
          </p:nvSpPr>
          <p:spPr>
            <a:xfrm>
              <a:off x="6019920" y="1828800"/>
              <a:ext cx="4435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5" name="Line 101"/>
            <p:cNvSpPr/>
            <p:nvPr/>
          </p:nvSpPr>
          <p:spPr>
            <a:xfrm>
              <a:off x="6463440" y="609480"/>
              <a:ext cx="0" cy="121932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106" name="Line 102"/>
            <p:cNvSpPr/>
            <p:nvPr/>
          </p:nvSpPr>
          <p:spPr>
            <a:xfrm>
              <a:off x="6463440" y="1197360"/>
              <a:ext cx="241920" cy="0"/>
            </a:xfrm>
            <a:prstGeom prst="line">
              <a:avLst/>
            </a:prstGeom>
            <a:ln w="38160">
              <a:solidFill>
                <a:srgbClr val="ffccff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107" name="Text Box 103"/>
          <p:cNvSpPr/>
          <p:nvPr/>
        </p:nvSpPr>
        <p:spPr>
          <a:xfrm>
            <a:off x="6705720" y="990720"/>
            <a:ext cx="2361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99"/>
                </a:solidFill>
                <a:latin typeface="Arial"/>
              </a:rPr>
              <a:t>STRONG VERB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Text Box 104"/>
          <p:cNvSpPr/>
          <p:nvPr/>
        </p:nvSpPr>
        <p:spPr>
          <a:xfrm>
            <a:off x="6705720" y="2514600"/>
            <a:ext cx="2361960" cy="825480"/>
          </a:xfrm>
          <a:prstGeom prst="rect">
            <a:avLst/>
          </a:prstGeom>
          <a:solidFill>
            <a:srgbClr val="ffff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FORMS OF MAIN</a:t>
            </a:r>
            <a:r>
              <a:rPr b="1" lang="en-US" sz="2400" spc="-1" strike="noStrike">
                <a:solidFill>
                  <a:srgbClr val="edc5b1"/>
                </a:solidFill>
                <a:latin typeface="Georgia"/>
              </a:rPr>
              <a:t> </a:t>
            </a:r>
            <a:r>
              <a:rPr b="1" lang="en-US" sz="2400" spc="-1" strike="noStrike">
                <a:solidFill>
                  <a:srgbClr val="d26e3c"/>
                </a:solidFill>
                <a:latin typeface="Georgia"/>
              </a:rPr>
              <a:t>VERB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pSp>
        <p:nvGrpSpPr>
          <p:cNvPr id="109" name="Group 105"/>
          <p:cNvGrpSpPr/>
          <p:nvPr/>
        </p:nvGrpSpPr>
        <p:grpSpPr>
          <a:xfrm>
            <a:off x="104760" y="647280"/>
            <a:ext cx="495000" cy="5181840"/>
            <a:chOff x="104760" y="647280"/>
            <a:chExt cx="495000" cy="5181840"/>
          </a:xfrm>
        </p:grpSpPr>
        <p:sp>
          <p:nvSpPr>
            <p:cNvPr id="110" name="Text Box 106"/>
            <p:cNvSpPr/>
            <p:nvPr/>
          </p:nvSpPr>
          <p:spPr>
            <a:xfrm>
              <a:off x="152280" y="762120"/>
              <a:ext cx="381240" cy="4952880"/>
            </a:xfrm>
            <a:prstGeom prst="rect">
              <a:avLst/>
            </a:prstGeom>
            <a:solidFill>
              <a:srgbClr val="66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rmAutofit fontScale="94000"/>
            </a:bodyPr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 </a:t>
              </a: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I     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G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U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L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A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49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8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V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E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R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B</a:t>
              </a:r>
              <a:endParaRPr b="0" lang="en-US" sz="1400" spc="-1" strike="noStrike">
                <a:solidFill>
                  <a:srgbClr val="ffffff"/>
                </a:solidFill>
                <a:latin typeface="Tahoma"/>
              </a:endParaRPr>
            </a:p>
            <a:p>
              <a:pPr algn="ctr">
                <a:lnSpc>
                  <a:spcPct val="100000"/>
                </a:lnSpc>
                <a:spcBef>
                  <a:spcPts val="7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400" spc="-1" strike="noStrike">
                  <a:solidFill>
                    <a:srgbClr val="720000"/>
                  </a:solidFill>
                  <a:latin typeface="Georgia"/>
                </a:rPr>
                <a:t>S</a:t>
              </a:r>
              <a:r>
                <a:rPr b="0" lang="en-US" sz="1200" spc="-1" strike="noStrike">
                  <a:solidFill>
                    <a:srgbClr val="ffffcc"/>
                  </a:solidFill>
                  <a:latin typeface="Arial"/>
                </a:rPr>
                <a:t>	</a:t>
              </a:r>
              <a:endParaRPr b="0" lang="en-US" sz="12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grpSp>
          <p:nvGrpSpPr>
            <p:cNvPr id="111" name="Group 107"/>
            <p:cNvGrpSpPr/>
            <p:nvPr/>
          </p:nvGrpSpPr>
          <p:grpSpPr>
            <a:xfrm>
              <a:off x="104760" y="647280"/>
              <a:ext cx="495000" cy="5181840"/>
              <a:chOff x="104760" y="647280"/>
              <a:chExt cx="495000" cy="5181840"/>
            </a:xfrm>
          </p:grpSpPr>
          <p:sp>
            <p:nvSpPr>
              <p:cNvPr id="112" name="Line 108"/>
              <p:cNvSpPr/>
              <p:nvPr/>
            </p:nvSpPr>
            <p:spPr>
              <a:xfrm flipH="1">
                <a:off x="106200" y="5829120"/>
                <a:ext cx="49356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3" name="Line 109"/>
              <p:cNvSpPr/>
              <p:nvPr/>
            </p:nvSpPr>
            <p:spPr>
              <a:xfrm flipH="1">
                <a:off x="104760" y="647640"/>
                <a:ext cx="493920" cy="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46800" bIns="-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  <p:sp>
            <p:nvSpPr>
              <p:cNvPr id="114" name="Line 110"/>
              <p:cNvSpPr/>
              <p:nvPr/>
            </p:nvSpPr>
            <p:spPr>
              <a:xfrm flipV="1">
                <a:off x="106560" y="647280"/>
                <a:ext cx="0" cy="5181480"/>
              </a:xfrm>
              <a:prstGeom prst="line">
                <a:avLst/>
              </a:prstGeom>
              <a:ln w="38160">
                <a:solidFill>
                  <a:srgbClr val="66ffff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Tahoma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autoRev="1" nodeType="withEffect" fill="hold" presetClass="emph" presetID="1" presetSubtype="2" repeatCount="indefinite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6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7" dur="2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nodeType="clickEffect" fill="hold">
                      <p:stCondLst>
                        <p:cond delay="indefinite"/>
                      </p:stCondLst>
                      <p:childTnLst>
                        <p:par>
                          <p:cTn id="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" dur="5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nodeType="clickEffect" fill="hold">
                      <p:stCondLst>
                        <p:cond delay="indefinite"/>
                      </p:stCondLst>
                      <p:childTnLst>
                        <p:par>
                          <p:cTn id="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" nodeType="click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" dur="30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" dur="3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" nodeType="clickEffect" fill="hold">
                      <p:stCondLst>
                        <p:cond delay="indefinite"/>
                      </p:stCondLst>
                      <p:childTnLst>
                        <p:par>
                          <p:cTn id="2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" dur="3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" dur="3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5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6" dur="2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7" nodeType="withEffect" fill="hold" presetClass="emph" presetID="1" presetSubtype="2">
                                  <p:stCondLst>
                                    <p:cond delay="0"/>
                                  </p:stCondLst>
                                  <p:childTnLst>
                                    <p:animClr clrSpc="rgb">
                                      <p:cBhvr>
                                        <p:cTn id="38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o>
                                        <a:srgbClr val="be7960"/>
                                      </p:to>
                                    </p:animClr>
                                    <p:set>
                                      <p:cBhvr>
                                        <p:cTn id="39" dur="20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Text Box 2"/>
          <p:cNvSpPr/>
          <p:nvPr/>
        </p:nvSpPr>
        <p:spPr>
          <a:xfrm>
            <a:off x="152280" y="2057400"/>
            <a:ext cx="8839440" cy="1381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a3daff"/>
                </a:solidFill>
                <a:latin typeface="Arial"/>
              </a:rPr>
              <a:t>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a3daff"/>
                </a:solidFill>
                <a:latin typeface="Arial"/>
              </a:rPr>
              <a:t>a main verb that does not need a ‘t’ , ‘d’, ‘ed’ to give its past and past participle forms is called as a strong verb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6" name="Text Box 3"/>
          <p:cNvSpPr/>
          <p:nvPr/>
        </p:nvSpPr>
        <p:spPr>
          <a:xfrm>
            <a:off x="1828800" y="3962520"/>
            <a:ext cx="5486400" cy="212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Exampl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GAVE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GIV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TOO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TA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EAK 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- BROKE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US" sz="2400" spc="-1" strike="noStrike">
                <a:solidFill>
                  <a:srgbClr val="ffffff"/>
                </a:solidFill>
                <a:latin typeface="Arial"/>
              </a:rPr>
              <a:t>BROK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Text Box 2"/>
          <p:cNvSpPr/>
          <p:nvPr/>
        </p:nvSpPr>
        <p:spPr>
          <a:xfrm>
            <a:off x="0" y="974880"/>
            <a:ext cx="9144000" cy="59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Generally a main verb that needs a ‘t’ or ‘d’ to give its past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ff"/>
                </a:solidFill>
                <a:latin typeface="Arial"/>
              </a:rPr>
              <a:t>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buClr>
                <a:srgbClr val="e9f4d8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A main verb that loses an ‘e’ from its usual form to give the past and past participle forms is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9f4d8"/>
                </a:solidFill>
                <a:latin typeface="Arial"/>
              </a:rPr>
              <a:t>e.g. read - read -  read , bleed – bled- bl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3. A verb that does not change its usual form in all the three forms is also called as a weak verb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a3daff"/>
                </a:solidFill>
                <a:latin typeface="Arial"/>
              </a:rPr>
              <a:t>e.g. cut, set, put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4. A main verb that needs an ‘ed’ to form its past and past participle form is called as a weak verb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cc66"/>
                </a:solidFill>
                <a:latin typeface="Arial"/>
              </a:rPr>
              <a:t>e.g. walk-walked-walked, render-rendered-rendered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8" name="Text Box 3"/>
          <p:cNvSpPr/>
          <p:nvPr/>
        </p:nvSpPr>
        <p:spPr>
          <a:xfrm>
            <a:off x="1981080" y="228600"/>
            <a:ext cx="4953240" cy="642600"/>
          </a:xfrm>
          <a:prstGeom prst="rect">
            <a:avLst/>
          </a:prstGeom>
          <a:solidFill>
            <a:srgbClr val="66663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3600" spc="-1" strike="noStrike">
                <a:solidFill>
                  <a:srgbClr val="ffff00"/>
                </a:solidFill>
                <a:latin typeface="Arial"/>
              </a:rPr>
              <a:t>What is a weak verb?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4400" spc="-1" strike="noStrike">
                <a:solidFill>
                  <a:srgbClr val="ffffcc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ffff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10T13:43:03Z</dcterms:created>
  <dc:creator>CONTINENTAL ACADEMY</dc:creator>
  <dc:description/>
  <dc:language>en-US</dc:language>
  <cp:lastModifiedBy>RomaK</cp:lastModifiedBy>
  <dcterms:modified xsi:type="dcterms:W3CDTF">2015-09-02T09:48:17Z</dcterms:modified>
  <cp:revision>4</cp:revision>
  <dc:subject/>
  <dc:title>Slide 1</dc:title>
</cp:coreProperties>
</file>