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6FFE-5BF8-4B61-976A-0308D9AC7E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MAIN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AK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MS OF MAIN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O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GA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TOO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BRO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read - read -  read , bleed – bled- b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cut, set, 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walk-walked-walked, render-rendered-rend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weak ver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read - read -  read , bleed – bled- bl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cut, set, 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walk-walked-walked, render-rendered-rend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a weak verb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AC2-E5DB-4BFE-95DB-C720FE88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C15-182A-4563-85DE-05D2278D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DFE-1281-4A10-8830-C90BFBAD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67D-8164-48BA-99A4-12D07F1D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D47A-5798-4B88-A5B7-A91A0B8F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E372-302A-42CA-B57B-2CDDB59B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A4B5-F737-4CF4-9331-E7005C91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9C28-E6AE-4A77-B356-6494F1F0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62B1-3BA2-476D-9432-D88D9C13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321A-8A05-4918-BD26-B9F6FC6A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7FA4-674C-4221-8B98-3C813DEB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466-3D17-4B85-88E4-CBC23868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61FD-F2D5-436C-A96B-0D9374BF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3792-1F21-4E6D-AC10-FFC994AF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0A1A-16F7-4207-9542-DD90D1BF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9063-C656-41C7-96B9-FF7E64E3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B32D-62A8-44D7-8ECE-4F798CB9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039-ECFE-4DC1-9ABD-5B73FDD7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FB1-B822-43E1-977E-DADF4512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D21-33A2-41FF-ACD1-AB0A7467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823-156E-4835-92A2-CADB824D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335-A6BE-43CB-BFB8-FE02C4DF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F9C-A545-4B56-AA37-175C141F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71B-AE3A-4E28-A12B-162EDECD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D9C7-C424-47B3-B4F3-0DBB76018A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992D-C966-4596-8241-F8FF6AF6C2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52280"/>
          <a:ext cx="5181480" cy="6675480"/>
        </p:xfrm>
        <a:graphic>
          <a:graphicData uri="http://schemas.openxmlformats.org/drawingml/2006/table">
            <a:tbl>
              <a:tblPr/>
              <a:tblGrid>
                <a:gridCol w="1612800"/>
                <a:gridCol w="1494000"/>
                <a:gridCol w="2074680"/>
              </a:tblGrid>
              <a:tr h="36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 PARTIC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A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OO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EA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AK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U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E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96" name="Group 92"/>
          <p:cNvGrpSpPr/>
          <p:nvPr/>
        </p:nvGrpSpPr>
        <p:grpSpPr>
          <a:xfrm>
            <a:off x="6019920" y="2133720"/>
            <a:ext cx="761760" cy="4266000"/>
            <a:chOff x="6019920" y="2133720"/>
            <a:chExt cx="761760" cy="4266000"/>
          </a:xfrm>
        </p:grpSpPr>
        <p:sp>
          <p:nvSpPr>
            <p:cNvPr id="97" name="Line 93"/>
            <p:cNvSpPr/>
            <p:nvPr/>
          </p:nvSpPr>
          <p:spPr>
            <a:xfrm>
              <a:off x="6019920" y="2133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019920" y="6399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512760" y="2133720"/>
              <a:ext cx="0" cy="426600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512760" y="4266000"/>
              <a:ext cx="2689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Text Box 97"/>
          <p:cNvSpPr/>
          <p:nvPr/>
        </p:nvSpPr>
        <p:spPr>
          <a:xfrm>
            <a:off x="7086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WEAK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98"/>
          <p:cNvGrpSpPr/>
          <p:nvPr/>
        </p:nvGrpSpPr>
        <p:grpSpPr>
          <a:xfrm>
            <a:off x="6019920" y="609480"/>
            <a:ext cx="685440" cy="1219320"/>
            <a:chOff x="6019920" y="609480"/>
            <a:chExt cx="685440" cy="1219320"/>
          </a:xfrm>
        </p:grpSpPr>
        <p:sp>
          <p:nvSpPr>
            <p:cNvPr id="103" name="Line 99"/>
            <p:cNvSpPr/>
            <p:nvPr/>
          </p:nvSpPr>
          <p:spPr>
            <a:xfrm>
              <a:off x="6019920" y="60948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019920" y="182880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463440" y="609480"/>
              <a:ext cx="0" cy="1219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463440" y="1197360"/>
              <a:ext cx="2419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Text Box 103"/>
          <p:cNvSpPr/>
          <p:nvPr/>
        </p:nvSpPr>
        <p:spPr>
          <a:xfrm>
            <a:off x="6705720" y="99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STRONG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6705720" y="2514600"/>
            <a:ext cx="2361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FORMS OF MAIN</a:t>
            </a:r>
            <a:r>
              <a:rPr b="1" lang="en-US" sz="2400" spc="-1" strike="noStrike">
                <a:solidFill>
                  <a:srgbClr val="edc5b1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Group 105"/>
          <p:cNvGrpSpPr/>
          <p:nvPr/>
        </p:nvGrpSpPr>
        <p:grpSpPr>
          <a:xfrm>
            <a:off x="104760" y="647280"/>
            <a:ext cx="495000" cy="5181840"/>
            <a:chOff x="104760" y="647280"/>
            <a:chExt cx="495000" cy="5181840"/>
          </a:xfrm>
        </p:grpSpPr>
        <p:sp>
          <p:nvSpPr>
            <p:cNvPr id="110" name="Text Box 106"/>
            <p:cNvSpPr/>
            <p:nvPr/>
          </p:nvSpPr>
          <p:spPr>
            <a:xfrm>
              <a:off x="152280" y="762120"/>
              <a:ext cx="381240" cy="4952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I     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S</a:t>
              </a: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104760" y="647280"/>
              <a:ext cx="495000" cy="5181840"/>
              <a:chOff x="104760" y="647280"/>
              <a:chExt cx="495000" cy="5181840"/>
            </a:xfrm>
          </p:grpSpPr>
          <p:sp>
            <p:nvSpPr>
              <p:cNvPr id="112" name="Line 108"/>
              <p:cNvSpPr/>
              <p:nvPr/>
            </p:nvSpPr>
            <p:spPr>
              <a:xfrm flipH="1">
                <a:off x="106200" y="5829120"/>
                <a:ext cx="49356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Line 109"/>
              <p:cNvSpPr/>
              <p:nvPr/>
            </p:nvSpPr>
            <p:spPr>
              <a:xfrm flipH="1">
                <a:off x="104760" y="647640"/>
                <a:ext cx="4939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110"/>
              <p:cNvSpPr/>
              <p:nvPr/>
            </p:nvSpPr>
            <p:spPr>
              <a:xfrm flipV="1">
                <a:off x="106560" y="647280"/>
                <a:ext cx="0" cy="518148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05740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daff"/>
                </a:solidFill>
                <a:latin typeface="Arial"/>
              </a:rPr>
              <a:t>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3daff"/>
                </a:solidFill>
                <a:latin typeface="Arial"/>
              </a:rPr>
              <a:t>a main verb that does not need a ‘t’ , ‘d’, ‘ed’ to give its past and past participle forms is called as a 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828800" y="39625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O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BRO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97488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ly a main verb that needs a ‘t’ or ‘d’ to give its p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e9f4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A main verb that loses an ‘e’ from its usual form to give the past 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e.g. read - read -  read , bleed – bled- b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3. A verb that does not change its usual form in all the three forms is also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e.g. cut, set, 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. A main verb that needs an ‘ed’ to form its past and past participle form is called as a weak v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.g. walk-walked-walked, render-rendered-rend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228600"/>
            <a:ext cx="4953240" cy="6426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hat is a weak ver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43:03Z</dcterms:created>
  <dc:creator>CONTINENTAL ACADEMY</dc:creator>
  <dc:description/>
  <dc:language>en-US</dc:language>
  <cp:lastModifiedBy>RomaK</cp:lastModifiedBy>
  <dcterms:modified xsi:type="dcterms:W3CDTF">2015-09-02T09:48:17Z</dcterms:modified>
  <cp:revision>4</cp:revision>
  <dc:subject/>
  <dc:title>Slide 1</dc:title>
</cp:coreProperties>
</file>