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7AC3-2222-4340-8F60-94BBE29D0F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C8C-1DB3-46F9-8538-B56C9147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1E7-4E8C-48D8-9605-7995CE6D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2A3-3372-4491-83AF-F8613FE4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1CF-6BB4-4189-ACB6-1F394B53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FA8-B02F-4B43-98E8-AD315381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965-C33B-4951-A639-8347E2A4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89B-AE5C-4D0B-9C17-E289FDC9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078-16F1-4CCF-9D8B-5B75CD91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554-2189-4154-8CB4-E0F05795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F26-48A9-4FAA-B9F6-51C92715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87F-646B-4318-AD0D-4D23AE6A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283-996B-430C-B701-D9283E9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7215-BE1E-4284-8AE0-D55C9AAF9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en.kranz@gmail.com" TargetMode="External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2880" y="22824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</a:t>
            </a:r>
            <a:br>
              <a:rPr sz="6000"/>
            </a:br>
            <a:r>
              <a:rPr b="0" lang="en-US" sz="3100" spc="-1" strike="noStrike" u="sng">
                <a:solidFill>
                  <a:srgbClr val="ffffb7"/>
                </a:solidFill>
                <a:uFillTx/>
                <a:latin typeface="Arial Black"/>
              </a:rPr>
              <a:t>Click On Links (Below)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38760" y="6993000"/>
            <a:ext cx="231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ntact The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1480" y="2133720"/>
          <a:ext cx="7848360" cy="4114800"/>
        </p:xfrm>
        <a:graphic>
          <a:graphicData uri="http://schemas.openxmlformats.org/drawingml/2006/table">
            <a:tbl>
              <a:tblPr/>
              <a:tblGrid>
                <a:gridCol w="3025800"/>
                <a:gridCol w="2361960"/>
                <a:gridCol w="2460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54">
            <a:hlinkClick r:id="" action="ppaction://hlinkshowjump?jump=endshow"/>
          </p:cNvPr>
          <p:cNvSpPr/>
          <p:nvPr/>
        </p:nvSpPr>
        <p:spPr>
          <a:xfrm>
            <a:off x="8737560" y="6934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Law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03040" y="12952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Physic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Science/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Problem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All Subjects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67752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670880" y="6400800"/>
          <a:ext cx="2133360" cy="9414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Teacher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Diplomat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3945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Know It All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03040" y="1236600"/>
            <a:ext cx="9753840" cy="410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3040" y="1301760"/>
            <a:ext cx="9753840" cy="404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The Educated Mind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Ken Kranz</dc:creator>
  <dc:description/>
  <dc:language>en-US</dc:language>
  <cp:lastModifiedBy>RomaK</cp:lastModifiedBy>
  <dcterms:modified xsi:type="dcterms:W3CDTF">2015-09-02T09:47:14Z</dcterms:modified>
  <cp:revision>33</cp:revision>
  <dc:subject/>
  <dc:title>PowerPoint Presentation</dc:title>
</cp:coreProperties>
</file>