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D49B-4888-462D-A037-0FDCE7739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6BB-034F-47F4-81D5-1406F60A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E80-574B-4AD2-B210-DD7F250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9E3-E45B-4187-9E60-0DD40666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3DC-510D-4BED-BF98-366B893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27F-067A-4B05-9EEF-0BED4C4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13F-A4F7-462B-B3D5-843C837F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A89-A700-45F3-8C2D-AB8A86CD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EEB-BDF1-4D19-AC9D-89977CA7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626-C80A-4B30-86A5-1B8AE81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E87-C96A-47DD-8305-C11641E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5BD-A921-494D-88C4-AB47709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9AD-EE11-449C-8DA3-CA45118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FFF-A5C8-4C74-9630-0A354659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n.kranz@gmail.com" TargetMode="Externa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</a:t>
            </a:r>
            <a:br>
              <a:rPr sz="6000"/>
            </a:br>
            <a:r>
              <a:rPr b="0" lang="en-US" sz="3100" spc="-1" strike="noStrike" u="sng">
                <a:solidFill>
                  <a:srgbClr val="ffffb7"/>
                </a:solidFill>
                <a:uFillTx/>
                <a:latin typeface="Arial Black"/>
              </a:rPr>
              <a:t>Click On Links (Below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38760" y="6993000"/>
            <a:ext cx="231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ntac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1480" y="2133720"/>
          <a:ext cx="7848360" cy="4114800"/>
        </p:xfrm>
        <a:graphic>
          <a:graphicData uri="http://schemas.openxmlformats.org/drawingml/2006/table">
            <a:tbl>
              <a:tblPr/>
              <a:tblGrid>
                <a:gridCol w="3025800"/>
                <a:gridCol w="2361960"/>
                <a:gridCol w="2460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54">
            <a:hlinkClick r:id="" action="ppaction://hlinkshowjump?jump=endshow"/>
          </p:cNvPr>
          <p:cNvSpPr/>
          <p:nvPr/>
        </p:nvSpPr>
        <p:spPr>
          <a:xfrm>
            <a:off x="8737560" y="6934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Law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Physic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Science/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Problem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All Subject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67752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70880" y="6400800"/>
          <a:ext cx="2133360" cy="9414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Teacher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Diplomat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Know It All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3040" y="1236600"/>
            <a:ext cx="9753840" cy="410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3040" y="1301760"/>
            <a:ext cx="9753840" cy="40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The Educated Mind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Ken Kranz</dc:creator>
  <dc:description/>
  <dc:language>en-US</dc:language>
  <cp:lastModifiedBy>RomaK</cp:lastModifiedBy>
  <dcterms:modified xsi:type="dcterms:W3CDTF">2015-09-02T09:47:14Z</dcterms:modified>
  <cp:revision>33</cp:revision>
  <dc:subject/>
  <dc:title>PowerPoint Presentation</dc:title>
</cp:coreProperties>
</file>