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9563-B163-4BC0-AB68-9E04B2F64E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9916-7AB1-4735-A5F4-42F61F65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CCC-47F0-45C4-879B-26BDCEBD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289-594B-49CF-A74B-F04B08C6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5E5-5689-4DF4-88E4-001500A9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F8E5-11C8-4252-90F6-112B72EC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425F-5BB1-47F1-AC3C-B51F6324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CC4C-5D36-437A-A335-1A771F11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ADD7-2463-4590-AADC-D0ABD859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1073-231F-4F19-BAC4-28019A31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F19B-61B6-48F5-9345-C34DB031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FFAE-9B95-4C29-850D-57802F34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42E-BAA1-4BE6-8630-74B12314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BD34-C598-49A9-B8CC-BD8C5164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008D-8E6D-421C-ACCD-6DD58CF3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FA08-C464-4A8B-B48C-E574F4B1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A2B9-968E-4175-A395-F4BBE2E7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C0CC-FAEE-4323-A263-9E98AADC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700-C435-4150-9311-B174E2B3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B14-4CF9-44B4-BFFE-431FF373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4F6-DC44-4A5A-A9A4-16FA212F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803-C722-4984-8F33-F4300240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EE9-F6AF-45FF-9053-550B86F0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775-44E2-4212-8614-A60F801A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DCA-3160-4909-BE9D-C3B9DD7E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49CD-E564-46CF-95C2-0B84A0514E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A441-4C34-4526-8263-3C4CD5148CC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Writing"/>
          <p:cNvPicPr/>
          <p:nvPr/>
        </p:nvPicPr>
        <p:blipFill>
          <a:blip r:embed="rId1"/>
          <a:stretch/>
        </p:blipFill>
        <p:spPr>
          <a:xfrm>
            <a:off x="4471920" y="4400640"/>
            <a:ext cx="4672080" cy="2457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271880" y="770040"/>
            <a:ext cx="68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bject: Language Arts/Vocabul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66680" y="1981080"/>
            <a:ext cx="767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bjective:  1.03 Students will increas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ding and writing vocabulary through word study and word reference materia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3733920" cy="4572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 draws a big cowboy hat on the board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n the top part of the hat teacher writes the wor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wbo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Student at Chalkboard 1"/>
          <p:cNvPicPr/>
          <p:nvPr/>
        </p:nvPicPr>
        <p:blipFill>
          <a:blip r:embed="rId1"/>
          <a:stretch/>
        </p:blipFill>
        <p:spPr>
          <a:xfrm>
            <a:off x="4471920" y="0"/>
            <a:ext cx="4672080" cy="8804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722520" y="554364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nticipatory Set/Pre-Knowled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eacher instructs students to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Return to their seat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Turn to one another and talk about the subject, Cowboys, for 2 minute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ith a partne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Use the board as a reference as needed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228600" y="30492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8" descr="Tutorial 05"/>
          <p:cNvPicPr/>
          <p:nvPr/>
        </p:nvPicPr>
        <p:blipFill>
          <a:blip r:embed="rId3"/>
          <a:stretch/>
        </p:blipFill>
        <p:spPr>
          <a:xfrm>
            <a:off x="5486400" y="3809880"/>
            <a:ext cx="33526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terial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ictiona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Word Wheel Packets (6 pag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Colored penci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Pen or penc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Main dry erase boar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mark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board eras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Sentence Stri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Ta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Dictionary &amp; Thesaurus 2"/>
          <p:cNvPicPr/>
          <p:nvPr/>
        </p:nvPicPr>
        <p:blipFill>
          <a:blip r:embed="rId1"/>
          <a:stretch/>
        </p:blipFill>
        <p:spPr>
          <a:xfrm>
            <a:off x="4876920" y="1600200"/>
            <a:ext cx="3533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gives student sentence stri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assigns student a vocabulary word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to write on the stri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instructed to stand up and read the word and tell what it mea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then posts the word onto the word wall with tap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9" descr="Pencil Cup"/>
          <p:cNvPicPr/>
          <p:nvPr/>
        </p:nvPicPr>
        <p:blipFill>
          <a:blip r:embed="rId1"/>
          <a:stretch/>
        </p:blipFill>
        <p:spPr>
          <a:xfrm>
            <a:off x="0" y="1066680"/>
            <a:ext cx="2109960" cy="1974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Tape"/>
          <p:cNvPicPr/>
          <p:nvPr/>
        </p:nvPicPr>
        <p:blipFill>
          <a:blip r:embed="rId2"/>
          <a:stretch/>
        </p:blipFill>
        <p:spPr>
          <a:xfrm>
            <a:off x="533520" y="5029200"/>
            <a:ext cx="1447560" cy="132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Giving Presentation"/>
          <p:cNvPicPr/>
          <p:nvPr/>
        </p:nvPicPr>
        <p:blipFill>
          <a:blip r:embed="rId3"/>
          <a:stretch/>
        </p:blipFill>
        <p:spPr>
          <a:xfrm>
            <a:off x="6477120" y="3276720"/>
            <a:ext cx="2666880" cy="3581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5"/>
          <p:cNvSpPr/>
          <p:nvPr/>
        </p:nvSpPr>
        <p:spPr>
          <a:xfrm>
            <a:off x="7133760" y="452772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si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eck for Understanding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4" descr="Class"/>
          <p:cNvPicPr/>
          <p:nvPr/>
        </p:nvPicPr>
        <p:blipFill>
          <a:blip r:embed="rId1"/>
          <a:stretch/>
        </p:blipFill>
        <p:spPr>
          <a:xfrm>
            <a:off x="2235240" y="1620720"/>
            <a:ext cx="4672080" cy="4488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69960" y="990720"/>
            <a:ext cx="74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er walks around the room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208908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ecks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’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0" y="518148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Corrects any mistakes o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sunderstanding of the less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Ensures word wheel is filled out correct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02:00:42Z</dcterms:created>
  <dc:creator>kathy</dc:creator>
  <dc:description/>
  <dc:language>en-US</dc:language>
  <cp:lastModifiedBy>RomaK</cp:lastModifiedBy>
  <dcterms:modified xsi:type="dcterms:W3CDTF">2015-09-02T09:46:19Z</dcterms:modified>
  <cp:revision>6</cp:revision>
  <dc:subject/>
  <dc:title>-Teacher draws a big cowboy hat on the board.    -On the top part of the hat teacher writes the word Cowboy.   -Students take turns writing two words they know that have to do with cowboys.</dc:title>
</cp:coreProperties>
</file>