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A164-DF0E-430F-8B97-D771717B91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bject: Language Arts/Vocabular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bjective:  1.03 Students will increas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ading and writing vocabulary through word study and word reference material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: Language Arts/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1.03 Students will incr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nd writing vocabulary through word study and word reference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Teacher draws a big cowboy hat on the board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On the top part of the hat teacher writes the word Cowboy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Students take turns writing two words they know that have to do with cowboy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ticipatory Set/Pre-Knowledg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acher draws a big cowboy hat on the board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 the top part of the hat teacher writes the word Cowboy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udents take turns writing two words they know that have to do with cowbo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ipatory Set/Pre-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instructs students to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 Return to their se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Turn to one another and talk about the subject, Cowboys, for 2 minutes with a partne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Use the board as a reference as needed.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instructs students to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turn to their se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urn to one another and talk about the subject, Cowboys, for 2 minutes with a partne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se the board as a reference as need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rd Wheel Packets (6 pages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lored pencil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en or penci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in dry erase boar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y erase marker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y erase board erase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ntence Strip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Wheel Packets (6 p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ed 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 or 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ry erase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erase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erase board 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Str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dependent Practic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gives student sentence strip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assigns student a vocabulary wor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is to write on the strip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is instructed to stand up and read the word and tell what it mea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then posts the word onto the word wall with tap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gives student sentence s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assigns student a vocabulary w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s to write on the s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s instructed to stand up and read the word and tell what it me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then posts the word onto the word wall with t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eck for Understanding: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walks around the ro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ecks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’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Corrects any mistakes or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sunderstanding of the less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Ensures word wheel is filled out correctl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for Understanding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walks around the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rrects any mistakes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understanding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sures word wheel is filled out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674-C44B-4521-A869-DAB1F745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1079-96E4-4867-8B43-AC957705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C35-BE06-4A56-8133-0383A79B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9D0-F107-4EA5-AC9C-4DF4E350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5E2A-5E18-4112-B5A4-75CF7480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097F-E27D-4667-A58C-1A61A8CD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2550-4E4A-4B47-BB22-93108E4F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5C8F-2151-4E26-9B1A-7CACB16E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EF8C-46E0-4ABC-B511-7B0D6FE0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B0BB-23D8-4A18-A737-EC0AD1D6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A69E-5396-4E72-A658-EAD6B780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8E55-5256-4568-9CA5-985DB1C9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19F9-1357-480B-BC14-221429A1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C16C-77E2-4B47-8617-2654C123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0B19-C26C-4904-9A59-DEB601D6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90CF-288C-4D7A-8441-EB018A28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DA10-E78A-4CAA-8E10-3B52C7B4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EA6-759F-43AB-BE62-D8AD1659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EF23-3C41-49AE-8836-2F88AF88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35F4-2333-4106-9C1A-E45EFE94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DF5-0FCB-4ABF-B9FD-DBA80482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D64-96D0-4508-BA73-6E8F842F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D38A-3852-4399-8130-D70C4207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5CF-EFCF-4FC7-8071-D364D9B3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1EA1-CAFB-4C9A-8C03-8F8D80CB939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504A-942F-4D52-A2CE-F52E4225D5A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Writing"/>
          <p:cNvPicPr/>
          <p:nvPr/>
        </p:nvPicPr>
        <p:blipFill>
          <a:blip r:embed="rId1"/>
          <a:stretch/>
        </p:blipFill>
        <p:spPr>
          <a:xfrm>
            <a:off x="4471920" y="4400640"/>
            <a:ext cx="4672080" cy="2457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271880" y="770040"/>
            <a:ext cx="68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bject: Language Arts/Vocabula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066680" y="1981080"/>
            <a:ext cx="767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bjective:  1.03 Students will increas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ding and writing vocabulary through word study and word reference material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3733920" cy="4572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 draws a big cowboy hat on the board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On the top part of the hat teacher writes the wor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wbo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Students take turns writing two words they know that have to do with cowboy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4" descr="Student at Chalkboard 1"/>
          <p:cNvPicPr/>
          <p:nvPr/>
        </p:nvPicPr>
        <p:blipFill>
          <a:blip r:embed="rId1"/>
          <a:stretch/>
        </p:blipFill>
        <p:spPr>
          <a:xfrm>
            <a:off x="4471920" y="0"/>
            <a:ext cx="4672080" cy="8804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722520" y="5543640"/>
            <a:ext cx="54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nticipatory Set/Pre-Knowled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eacher instructs students to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 Return to their seat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Turn to one another and talk about the subject, Cowboys, for 2 minute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ith a partner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Use the board as a reference as needed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228600" y="30492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8" descr="Tutorial 05"/>
          <p:cNvPicPr/>
          <p:nvPr/>
        </p:nvPicPr>
        <p:blipFill>
          <a:blip r:embed="rId3"/>
          <a:stretch/>
        </p:blipFill>
        <p:spPr>
          <a:xfrm>
            <a:off x="5486400" y="3809880"/>
            <a:ext cx="33526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terials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ictiona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Word Wheel Packets (6 page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Colored penci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Pen or penci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Main dry erase boar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ry erase mark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ry erase board eras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Sentence Strip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Tap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4" descr="Dictionary &amp; Thesaurus 2"/>
          <p:cNvPicPr/>
          <p:nvPr/>
        </p:nvPicPr>
        <p:blipFill>
          <a:blip r:embed="rId1"/>
          <a:stretch/>
        </p:blipFill>
        <p:spPr>
          <a:xfrm>
            <a:off x="4876920" y="1600200"/>
            <a:ext cx="3533760" cy="4530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-11880" y="654192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  <a:ea typeface="Arial"/>
              </a:rPr>
              <a:t>More free powerpoints at www.worldofteaching.com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acher gives student sentence stri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acher assigns student a vocabulary word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is to write on the strip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is instructed to stand up and read the word and tell what it mean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then posts the word onto the word wall with tap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9" descr="Pencil Cup"/>
          <p:cNvPicPr/>
          <p:nvPr/>
        </p:nvPicPr>
        <p:blipFill>
          <a:blip r:embed="rId1"/>
          <a:stretch/>
        </p:blipFill>
        <p:spPr>
          <a:xfrm>
            <a:off x="0" y="1066680"/>
            <a:ext cx="2109960" cy="1974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Tape"/>
          <p:cNvPicPr/>
          <p:nvPr/>
        </p:nvPicPr>
        <p:blipFill>
          <a:blip r:embed="rId2"/>
          <a:stretch/>
        </p:blipFill>
        <p:spPr>
          <a:xfrm>
            <a:off x="533520" y="5029200"/>
            <a:ext cx="1447560" cy="1324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Giving Presentation"/>
          <p:cNvPicPr/>
          <p:nvPr/>
        </p:nvPicPr>
        <p:blipFill>
          <a:blip r:embed="rId3"/>
          <a:stretch/>
        </p:blipFill>
        <p:spPr>
          <a:xfrm>
            <a:off x="6477120" y="3276720"/>
            <a:ext cx="2666880" cy="3581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5"/>
          <p:cNvSpPr/>
          <p:nvPr/>
        </p:nvSpPr>
        <p:spPr>
          <a:xfrm>
            <a:off x="7133760" y="452772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si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heck for Understanding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4" descr="Class"/>
          <p:cNvPicPr/>
          <p:nvPr/>
        </p:nvPicPr>
        <p:blipFill>
          <a:blip r:embed="rId1"/>
          <a:stretch/>
        </p:blipFill>
        <p:spPr>
          <a:xfrm>
            <a:off x="2235240" y="1620720"/>
            <a:ext cx="4672080" cy="4488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669960" y="990720"/>
            <a:ext cx="74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er walks around the room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208908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ecks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udent’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ork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0" y="5181480"/>
            <a:ext cx="83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Corrects any mistakes o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sunderstanding of the less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Ensures word wheel is filled out correct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02:00:42Z</dcterms:created>
  <dc:creator>kathy</dc:creator>
  <dc:description/>
  <dc:language>en-US</dc:language>
  <cp:lastModifiedBy>RomaK</cp:lastModifiedBy>
  <dcterms:modified xsi:type="dcterms:W3CDTF">2015-09-02T09:46:19Z</dcterms:modified>
  <cp:revision>6</cp:revision>
  <dc:subject/>
  <dc:title>-Teacher draws a big cowboy hat on the board.    -On the top part of the hat teacher writes the word Cowboy.   -Students take turns writing two words they know that have to do with cowboys.</dc:title>
</cp:coreProperties>
</file>