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EC7A-833B-4D69-B646-B54B3F26BF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6BA-E012-40CC-A3EB-C4F0817F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6A4-69BD-495D-B809-1E030B44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405-6B64-4373-972F-12279C95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1F2-2846-4B96-AA28-C5CED6E7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608E-A09D-41EE-987E-4CDAD16C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B637-9A53-4C2B-BCBE-5F378FAF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D747-C823-476F-9E54-724E4FA9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C5C2-64D6-4227-BE65-52718414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0CF4-BF7C-4D65-B57B-A73A5C82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EF1C-58DF-4E58-AB2A-66501A29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4987-52AE-43C5-BFE8-571D567E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A64-FB9D-41E4-B59F-E76B93FE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5E8A-5CE0-4FC8-B28E-E1FD2A26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BEAD-B6BC-44A6-BFC2-AB7DC990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5B40-BE52-438D-A809-47204678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5F98-B2FE-4D60-924E-DC35A46F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A632-CF16-4573-AD77-1D3CE8A4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6D92-9885-4F0B-A3F8-9A58A3D4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D1D-68D6-4F98-94E4-F1866EDF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4DC-7F38-4162-8EA9-48E24A93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553-C657-4066-89CF-1EABBAF9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B06-2556-4D98-8706-B6B96636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642-2D3D-486D-9514-424EBD44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E40-6425-4211-8A76-1BDE47C8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A8C3-3389-4DB5-AB3D-B6A386C9FC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C477-D94E-44E7-8710-419B0612A21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Writing"/>
          <p:cNvPicPr/>
          <p:nvPr/>
        </p:nvPicPr>
        <p:blipFill>
          <a:blip r:embed="rId1"/>
          <a:stretch/>
        </p:blipFill>
        <p:spPr>
          <a:xfrm>
            <a:off x="4471920" y="4400640"/>
            <a:ext cx="4672080" cy="2457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271880" y="770040"/>
            <a:ext cx="68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bject: Language Arts/Vocabula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066680" y="1981080"/>
            <a:ext cx="767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bjective:  1.03 Students will increas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ding and writing vocabulary through word study and word reference material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3733920" cy="4572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 draws a big cowboy hat on the board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On the top part of the hat teacher writes the wor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wbo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Student at Chalkboard 1"/>
          <p:cNvPicPr/>
          <p:nvPr/>
        </p:nvPicPr>
        <p:blipFill>
          <a:blip r:embed="rId1"/>
          <a:stretch/>
        </p:blipFill>
        <p:spPr>
          <a:xfrm>
            <a:off x="4471920" y="0"/>
            <a:ext cx="4672080" cy="8804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722520" y="554364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nticipatory Set/Pre-Knowled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eacher instructs students to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Return to their seat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Turn to one another and talk about the subject, Cowboys, for 2 minute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ith a partne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Use the board as a reference as needed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228600" y="30492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8" descr="Tutorial 05"/>
          <p:cNvPicPr/>
          <p:nvPr/>
        </p:nvPicPr>
        <p:blipFill>
          <a:blip r:embed="rId3"/>
          <a:stretch/>
        </p:blipFill>
        <p:spPr>
          <a:xfrm>
            <a:off x="5486400" y="3809880"/>
            <a:ext cx="33526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terials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ictiona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Word Wheel Packets (6 pag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Colored penci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Pen or penci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Main dry erase boar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mark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board eras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Sentence Stri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Tap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Dictionary &amp; Thesaurus 2"/>
          <p:cNvPicPr/>
          <p:nvPr/>
        </p:nvPicPr>
        <p:blipFill>
          <a:blip r:embed="rId1"/>
          <a:stretch/>
        </p:blipFill>
        <p:spPr>
          <a:xfrm>
            <a:off x="4876920" y="1600200"/>
            <a:ext cx="3533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gives student sentence stri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assigns student a vocabulary word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to write on the strip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instructed to stand up and read the word and tell what it mea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then posts the word onto the word wall with tap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9" descr="Pencil Cup"/>
          <p:cNvPicPr/>
          <p:nvPr/>
        </p:nvPicPr>
        <p:blipFill>
          <a:blip r:embed="rId1"/>
          <a:stretch/>
        </p:blipFill>
        <p:spPr>
          <a:xfrm>
            <a:off x="0" y="1066680"/>
            <a:ext cx="2109960" cy="1974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Tape"/>
          <p:cNvPicPr/>
          <p:nvPr/>
        </p:nvPicPr>
        <p:blipFill>
          <a:blip r:embed="rId2"/>
          <a:stretch/>
        </p:blipFill>
        <p:spPr>
          <a:xfrm>
            <a:off x="533520" y="5029200"/>
            <a:ext cx="1447560" cy="1324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Giving Presentation"/>
          <p:cNvPicPr/>
          <p:nvPr/>
        </p:nvPicPr>
        <p:blipFill>
          <a:blip r:embed="rId3"/>
          <a:stretch/>
        </p:blipFill>
        <p:spPr>
          <a:xfrm>
            <a:off x="6477120" y="3276720"/>
            <a:ext cx="2666880" cy="3581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5"/>
          <p:cNvSpPr/>
          <p:nvPr/>
        </p:nvSpPr>
        <p:spPr>
          <a:xfrm>
            <a:off x="7133760" y="452772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si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heck for Understanding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4" descr="Class"/>
          <p:cNvPicPr/>
          <p:nvPr/>
        </p:nvPicPr>
        <p:blipFill>
          <a:blip r:embed="rId1"/>
          <a:stretch/>
        </p:blipFill>
        <p:spPr>
          <a:xfrm>
            <a:off x="2235240" y="1620720"/>
            <a:ext cx="4672080" cy="4488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669960" y="990720"/>
            <a:ext cx="74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er walks around the room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208908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ecks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ent’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r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0" y="5181480"/>
            <a:ext cx="83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Corrects any mistakes o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sunderstanding of the less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Ensures word wheel is filled out correct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02:00:42Z</dcterms:created>
  <dc:creator>kathy</dc:creator>
  <dc:description/>
  <dc:language>en-US</dc:language>
  <cp:lastModifiedBy>RomaK</cp:lastModifiedBy>
  <dcterms:modified xsi:type="dcterms:W3CDTF">2015-09-02T09:46:19Z</dcterms:modified>
  <cp:revision>6</cp:revision>
  <dc:subject/>
  <dc:title>-Teacher draws a big cowboy hat on the board.    -On the top part of the hat teacher writes the word Cowboy.   -Students take turns writing two words they know that have to do with cowboys.</dc:title>
</cp:coreProperties>
</file>