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C23E-05B8-4C03-9439-4085E9AA54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ubject: Language Arts/Vocabular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bjective:  1.03 Students will increas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ading and writing vocabulary through word study and word reference material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: Language Arts/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1.03 Students will incr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nd writing vocabulary through word study and word reference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Teacher draws a big cowboy hat on the board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On the top part of the hat teacher writes the word Cowboy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Students take turns writing two words they know that have to do with cowboy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ticipatory Set/Pre-Knowledg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acher draws a big cowboy hat on the board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n the top part of the hat teacher writes the word Cowboy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udents take turns writing two words they know that have to do with cowbo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ipatory Set/Pre-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instructs students to;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 Return to their se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Turn to one another and talk about the subject, Cowboys, for 2 minutes with a partner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Use the board as a reference as needed.</a:t>
            </a: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instructs students to;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turn to their se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urn to one another and talk about the subject, Cowboys, for 2 minutes with a partner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se the board as a reference as need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ctionar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ord Wheel Packets (6 pages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lored pencil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en or penci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in dry erase boar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y erase marker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y erase board erase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ntence Strip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ap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e free powerpoints at www.worldofteaching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Wheel Packets (6 p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ed pe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 or 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ry erase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erase 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erase board er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 Str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free powerpoints at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dependent Practic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gives student sentence strip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assigns student a vocabulary wor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is to write on the strip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is instructed to stand up and read the word and tell what it mea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then posts the word onto the word wall with tap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gives student sentence str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assigns student a vocabulary wor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s to write on the str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s instructed to stand up and read the word and tell what it me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then posts the word onto the word wall with t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eck for Understanding:</a:t>
            </a: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walks around the ro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ecks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’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Corrects any mistakes or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sunderstanding of the less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Ensures word wheel is filled out correctl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for Understanding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walks around the 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rrects any mistakes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understanding of the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sures word wheel is filled out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4B6B-2776-4790-9039-8A923691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A694-A316-45F6-B191-0926B6FE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06BC-3FBE-475F-9868-D55FDDC1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754D-6A7B-4B76-8BAA-99248CE5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D789-C83E-4965-ACB6-EAC170E0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4429-265C-4F3D-BA53-FAFCE658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95AC-1822-45F4-9EDD-53546AB6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44CF-AF29-48DE-82A3-33E82EA0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F2AD-6D2D-4E91-95BB-CF16049C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5773-E086-4E35-8E19-AAB85064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3543-CCA0-4AD2-927B-A1C20D19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BAFD-663E-4E1E-BC1F-75A55EEF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56ED-56E4-4FB4-8A07-55435239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4296-703F-4740-A5FB-289D117F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6398-F650-4F86-B991-11C12872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1ADF-C92B-4E46-98C1-30CAD865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D60B-FF9A-445A-88D9-62270AF0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F5C6-6D93-4826-8EF8-4D5ACE23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AEAF-1218-4542-8C91-A5AAF267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0727-8AA6-4F07-8621-04D5E1BB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7D1C-17EE-443A-B11F-8C02EC96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BC90-B848-4F36-98FF-BD5D7548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65EE-E4C4-461E-997D-40A2C1B1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846F-6E3F-49DA-ADE6-BDC01551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973B-A4EE-400E-B3B6-C21CBCBE5CB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814A-1506-4132-8F72-3AB5301F794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Writing"/>
          <p:cNvPicPr/>
          <p:nvPr/>
        </p:nvPicPr>
        <p:blipFill>
          <a:blip r:embed="rId1"/>
          <a:stretch/>
        </p:blipFill>
        <p:spPr>
          <a:xfrm>
            <a:off x="4471920" y="4400640"/>
            <a:ext cx="4672080" cy="2457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1271880" y="770040"/>
            <a:ext cx="68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bject: Language Arts/Vocabular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066680" y="1981080"/>
            <a:ext cx="767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bjective:  1.03 Students will increase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ading and writing vocabulary through word study and word reference material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3733920" cy="4572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er draws a big cowboy hat on the board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On the top part of the hat teacher writes the wor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wbo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Students take turns writing two words they know that have to do with cowboy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4" descr="Student at Chalkboard 1"/>
          <p:cNvPicPr/>
          <p:nvPr/>
        </p:nvPicPr>
        <p:blipFill>
          <a:blip r:embed="rId1"/>
          <a:stretch/>
        </p:blipFill>
        <p:spPr>
          <a:xfrm>
            <a:off x="4471920" y="0"/>
            <a:ext cx="4672080" cy="88041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722520" y="5543640"/>
            <a:ext cx="54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nticipatory Set/Pre-Knowled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Teacher instructs students to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 Return to their seats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Turn to one another and talk about the subject, Cowboys, for 2 minutes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ith a partner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Use the board as a reference as needed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8" name="Object 5"/>
          <p:cNvGraphicFramePr/>
          <p:nvPr/>
        </p:nvGraphicFramePr>
        <p:xfrm>
          <a:off x="228600" y="304920"/>
          <a:ext cx="40356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4035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Picture 8" descr="Tutorial 05"/>
          <p:cNvPicPr/>
          <p:nvPr/>
        </p:nvPicPr>
        <p:blipFill>
          <a:blip r:embed="rId3"/>
          <a:stretch/>
        </p:blipFill>
        <p:spPr>
          <a:xfrm>
            <a:off x="5486400" y="3809880"/>
            <a:ext cx="33526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terials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ictiona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Word Wheel Packets (6 page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Colored penci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Pen or penci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Main dry erase boar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ry erase mark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ry erase board eras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Sentence Strip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Tap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4" descr="Dictionary &amp; Thesaurus 2"/>
          <p:cNvPicPr/>
          <p:nvPr/>
        </p:nvPicPr>
        <p:blipFill>
          <a:blip r:embed="rId1"/>
          <a:stretch/>
        </p:blipFill>
        <p:spPr>
          <a:xfrm>
            <a:off x="4876920" y="1600200"/>
            <a:ext cx="3533760" cy="4530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-11880" y="6541920"/>
            <a:ext cx="42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Arial"/>
                <a:ea typeface="Arial"/>
              </a:rPr>
              <a:t>More free powerpoints at www.worldofteaching.com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acher gives student sentence strip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acher assigns student a vocabulary word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is to write on the strip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is instructed to stand up and read the word and tell what it mean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then posts the word onto the word wall with tap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9" descr="Pencil Cup"/>
          <p:cNvPicPr/>
          <p:nvPr/>
        </p:nvPicPr>
        <p:blipFill>
          <a:blip r:embed="rId1"/>
          <a:stretch/>
        </p:blipFill>
        <p:spPr>
          <a:xfrm>
            <a:off x="0" y="1066680"/>
            <a:ext cx="2109960" cy="1974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Tape"/>
          <p:cNvPicPr/>
          <p:nvPr/>
        </p:nvPicPr>
        <p:blipFill>
          <a:blip r:embed="rId2"/>
          <a:stretch/>
        </p:blipFill>
        <p:spPr>
          <a:xfrm>
            <a:off x="533520" y="5029200"/>
            <a:ext cx="1447560" cy="1324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Giving Presentation"/>
          <p:cNvPicPr/>
          <p:nvPr/>
        </p:nvPicPr>
        <p:blipFill>
          <a:blip r:embed="rId3"/>
          <a:stretch/>
        </p:blipFill>
        <p:spPr>
          <a:xfrm>
            <a:off x="6477120" y="3276720"/>
            <a:ext cx="2666880" cy="3581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5"/>
          <p:cNvSpPr/>
          <p:nvPr/>
        </p:nvSpPr>
        <p:spPr>
          <a:xfrm>
            <a:off x="7133760" y="452772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si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heck for Understanding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Picture 4" descr="Class"/>
          <p:cNvPicPr/>
          <p:nvPr/>
        </p:nvPicPr>
        <p:blipFill>
          <a:blip r:embed="rId1"/>
          <a:stretch/>
        </p:blipFill>
        <p:spPr>
          <a:xfrm>
            <a:off x="2235240" y="1620720"/>
            <a:ext cx="4672080" cy="4488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669960" y="990720"/>
            <a:ext cx="74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acher walks around the room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0" y="208908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ecks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udent’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ork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0" y="5181480"/>
            <a:ext cx="831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Corrects any mistakes or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sunderstanding of the less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Ensures word wheel is filled out correct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02:00:42Z</dcterms:created>
  <dc:creator>kathy</dc:creator>
  <dc:description/>
  <dc:language>en-US</dc:language>
  <cp:lastModifiedBy>RomaK</cp:lastModifiedBy>
  <dcterms:modified xsi:type="dcterms:W3CDTF">2015-09-02T09:46:19Z</dcterms:modified>
  <cp:revision>6</cp:revision>
  <dc:subject/>
  <dc:title>-Teacher draws a big cowboy hat on the board.    -On the top part of the hat teacher writes the word Cowboy.   -Students take turns writing two words they know that have to do with cowboys.</dc:title>
</cp:coreProperties>
</file>