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2996-6B0A-498F-AFE7-76F26DC480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Writing Revie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urpose of writing is to communicate your thoughts and feelings.  This is your voi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Writing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writing is to communicate your thoughts and feelings.  This is your vo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 WHAT YOU WRI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 what you write, this will help you edit your pap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WHAT YOU 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what you write, this will help you edit your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r voice can b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heard through wri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voice can b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eard through wri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ze Your Though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must Organize Your Writing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e Your Thou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Organize Your Writ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o Organ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Organ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paragraph should introduce the subje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sentence of the introductory paragraph should start with a general statemen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Most high school students are proficient at text messaging, however their writing skills are limi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paragraph should introduce the su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entence of the introductory paragraph should start with a general sta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Most high school students are proficient at text messaging, however their writing skills are limi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entences following the general statement will be the basis for your body paragraph(s)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ntences following the general statement will be the basis for your body paragraph(s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ody paragraph(s) is where you elaborate on the subjec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Paragraph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paragraph(s) is where you elaborate on the su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lusion Paragrap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“ties” together all that you have writte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 Para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“ties” together all that you have writt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lk u 4 mi fr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s!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messaging is communicating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, in English and the workforce this is unacceptabl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lk u 4 mi fr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essaging is communicat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n English and the workforce this is unaccepta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4DF4-B54B-4DD8-8163-3C5638C3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0726-18A4-4F06-9CC7-AA911AC3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83CE-FA54-4335-8331-92CBAB7D2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D08A-BC26-4EC4-8DA0-2461620B3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3A9B-3865-4C9C-8233-8F967024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792C-F59B-4664-AEC9-94E43AA7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017E-AAD6-49A4-9C1B-C949CF5A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EFA5-F234-4187-A6B5-13551823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F726-56BD-420C-B69F-C938793C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0A4C-5F8D-439C-AA11-49DAC77C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0A79-82D0-44DE-9E68-C530253F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0363-AF8D-4B25-AA30-51862809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B31A-63D8-46C9-A435-D5FE7E22DA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Quick Writing Revie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urpose of writing is to communicate your thoughts and feelings.  This is your vo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AD WHAT YOU WRI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d what you write, this will help you edit your paper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7" descr="MPj04117770000[1]"/>
          <p:cNvPicPr/>
          <p:nvPr/>
        </p:nvPicPr>
        <p:blipFill>
          <a:blip r:embed="rId1"/>
          <a:stretch/>
        </p:blipFill>
        <p:spPr>
          <a:xfrm>
            <a:off x="1108080" y="1981080"/>
            <a:ext cx="273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Your voice can be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heard through writing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" name="Picture 7" descr="MCj03102360000[1]"/>
          <p:cNvPicPr/>
          <p:nvPr/>
        </p:nvPicPr>
        <p:blipFill>
          <a:blip r:embed="rId1"/>
          <a:stretch/>
        </p:blipFill>
        <p:spPr>
          <a:xfrm>
            <a:off x="1143000" y="2133720"/>
            <a:ext cx="350532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MPj04088930000[1]"/>
          <p:cNvPicPr/>
          <p:nvPr/>
        </p:nvPicPr>
        <p:blipFill>
          <a:blip r:embed="rId2"/>
          <a:stretch/>
        </p:blipFill>
        <p:spPr>
          <a:xfrm>
            <a:off x="5302080" y="1981080"/>
            <a:ext cx="2729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rganize Your Though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You must Organize Your Writing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6" descr="MCj01317850000[1]"/>
          <p:cNvPicPr/>
          <p:nvPr/>
        </p:nvPicPr>
        <p:blipFill>
          <a:blip r:embed="rId1"/>
          <a:stretch/>
        </p:blipFill>
        <p:spPr>
          <a:xfrm>
            <a:off x="4648320" y="2529000"/>
            <a:ext cx="40384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to Organiz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ody Paragraph(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6" descr="MPj03993130000[1]"/>
          <p:cNvPicPr/>
          <p:nvPr/>
        </p:nvPicPr>
        <p:blipFill>
          <a:blip r:embed="rId1"/>
          <a:stretch/>
        </p:blipFill>
        <p:spPr>
          <a:xfrm>
            <a:off x="4716360" y="27385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troduction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irst paragraph should introduce the subj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irst sentence of the introductory paragraph should start with a general state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 Most high school students are proficient at text messaging, however their writing skills are limi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sentences following the general statement will be the basis for your body paragraph(s).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ody Paragraph(s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body paragraph(s) is where you elaborate on the subjec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9" descr="MPj03900930000[1]"/>
          <p:cNvPicPr/>
          <p:nvPr/>
        </p:nvPicPr>
        <p:blipFill>
          <a:blip r:embed="rId1"/>
          <a:stretch/>
        </p:blipFill>
        <p:spPr>
          <a:xfrm>
            <a:off x="4838760" y="2733840"/>
            <a:ext cx="36576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 Paragrap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is “ties” together all that you have written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5" descr="MPj04009850000[1]"/>
          <p:cNvPicPr/>
          <p:nvPr/>
        </p:nvPicPr>
        <p:blipFill>
          <a:blip r:embed="rId1"/>
          <a:stretch/>
        </p:blipFill>
        <p:spPr>
          <a:xfrm>
            <a:off x="5415120" y="2471760"/>
            <a:ext cx="25048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 lk u 4 mi fr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2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Yes!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xt messaging is communicating.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wever, in English and the workforce this is unacceptable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7" descr="MPj04306370000[1]"/>
          <p:cNvPicPr/>
          <p:nvPr/>
        </p:nvPicPr>
        <p:blipFill>
          <a:blip r:embed="rId1"/>
          <a:stretch/>
        </p:blipFill>
        <p:spPr>
          <a:xfrm>
            <a:off x="4660920" y="2324160"/>
            <a:ext cx="4025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5:49:07Z</dcterms:created>
  <dc:creator>pamela.glover</dc:creator>
  <dc:description/>
  <dc:language>en-US</dc:language>
  <cp:lastModifiedBy>RomaK</cp:lastModifiedBy>
  <dcterms:modified xsi:type="dcterms:W3CDTF">2015-09-02T09:46:12Z</dcterms:modified>
  <cp:revision>6</cp:revision>
  <dc:subject/>
  <dc:title>Writing</dc:title>
</cp:coreProperties>
</file>