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CE53F-9F96-4900-80C6-BBE02BD93B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ick Writing Review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urpose of writing is to communicate your thoughts and feelings.  This is your voi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Writing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urpose of writing is to communicate your thoughts and feelings.  This is your vo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 WHAT YOU WRI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 what you write, this will help you edit your pap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WHAT YOU 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what you write, this will help you edit your pap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r voice can b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heard through writing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voice can b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eard through wri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ganize Your Though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must Organize Your Writing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ze Your Thou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ust Organize Your Writ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to Organiz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dy Paragraph(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Organ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Paragraph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irst paragraph should introduce the subjec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irst sentence of the introductory paragraph should start with a general statemen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:  Most high school students are proficient at text messaging, however their writing skills are limit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paragraph should introduce the su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sentence of the introductory paragraph should start with a general stat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Most high school students are proficient at text messaging, however their writing skills are limi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entences following the general statement will be the basis for your body paragraph(s).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ntences following the general statement will be the basis for your body paragraph(s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dy Paragraph(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body paragraph(s) is where you elaborate on the subjec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Paragraph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paragraph(s) is where you elaborate on the su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lusion Paragrap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“ties” together all that you have writte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 Para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“ties” together all that you have writt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 lk u 4 mi frn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es!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xt messaging is communicating.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ever, in English and the workforce this is unacceptable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lk u 4 mi fr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!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essaging is communicating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in English and the workforce this is unacceptab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0AF0-45ED-4F2C-A4F7-F05A9612C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33AA-E897-4672-8067-DF7DF3333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19DD-11DB-436D-A7E6-AB534862F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4C75-8584-4F55-8C4A-992D501A2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51A9-823D-4C5C-B090-941CDC680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F696-B901-4038-A6F1-D63EB3678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6DCC-5610-415E-9E03-E1C460387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30BD-6F88-40E4-B169-DE2FCBB61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6792-C43E-489B-8CF7-D1B9C5E33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9F61-9F0F-41FF-A8E3-F164DF38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DE4B-21AA-49A7-88E5-402517F9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D16B-EB0C-47DF-A018-22A80F38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B4967-60C8-4B03-99F5-F1497835EAB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Quick Writing Review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urpose of writing is to communicate your thoughts and feelings.  This is your voi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AD WHAT YOU WRIT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ad what you write, this will help you edit your paper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" name="Picture 7" descr="MPj04117770000[1]"/>
          <p:cNvPicPr/>
          <p:nvPr/>
        </p:nvPicPr>
        <p:blipFill>
          <a:blip r:embed="rId1"/>
          <a:stretch/>
        </p:blipFill>
        <p:spPr>
          <a:xfrm>
            <a:off x="1108080" y="1981080"/>
            <a:ext cx="2736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Your voice can be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heard through writing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1" name="Picture 7" descr="MCj03102360000[1]"/>
          <p:cNvPicPr/>
          <p:nvPr/>
        </p:nvPicPr>
        <p:blipFill>
          <a:blip r:embed="rId1"/>
          <a:stretch/>
        </p:blipFill>
        <p:spPr>
          <a:xfrm>
            <a:off x="1143000" y="2133720"/>
            <a:ext cx="3505320" cy="3429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MPj04088930000[1]"/>
          <p:cNvPicPr/>
          <p:nvPr/>
        </p:nvPicPr>
        <p:blipFill>
          <a:blip r:embed="rId2"/>
          <a:stretch/>
        </p:blipFill>
        <p:spPr>
          <a:xfrm>
            <a:off x="5302080" y="1981080"/>
            <a:ext cx="2729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rganize Your Though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You must Organize Your Writing!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6" descr="MCj01317850000[1]"/>
          <p:cNvPicPr/>
          <p:nvPr/>
        </p:nvPicPr>
        <p:blipFill>
          <a:blip r:embed="rId1"/>
          <a:stretch/>
        </p:blipFill>
        <p:spPr>
          <a:xfrm>
            <a:off x="4648320" y="2529000"/>
            <a:ext cx="40384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ow to Organiz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9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ody Paragraph(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9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onclus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Picture 6" descr="MPj03993130000[1]"/>
          <p:cNvPicPr/>
          <p:nvPr/>
        </p:nvPicPr>
        <p:blipFill>
          <a:blip r:embed="rId1"/>
          <a:stretch/>
        </p:blipFill>
        <p:spPr>
          <a:xfrm>
            <a:off x="4716360" y="2738520"/>
            <a:ext cx="39020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Introduction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first paragraph should introduce the subjec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first sentence of the introductory paragraph should start with a general statem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:  Most high school students are proficient at text messaging, however their writing skills are limit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sentences following the general statement will be the basis for your body paragraph(s).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ody Paragraph(s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body paragraph(s) is where you elaborate on the subjec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9" descr="MPj03900930000[1]"/>
          <p:cNvPicPr/>
          <p:nvPr/>
        </p:nvPicPr>
        <p:blipFill>
          <a:blip r:embed="rId1"/>
          <a:stretch/>
        </p:blipFill>
        <p:spPr>
          <a:xfrm>
            <a:off x="4838760" y="2733840"/>
            <a:ext cx="365760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nclusion Paragrap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is “ties” together all that you have written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" name="Picture 5" descr="MPj04009850000[1]"/>
          <p:cNvPicPr/>
          <p:nvPr/>
        </p:nvPicPr>
        <p:blipFill>
          <a:blip r:embed="rId1"/>
          <a:stretch/>
        </p:blipFill>
        <p:spPr>
          <a:xfrm>
            <a:off x="5415120" y="2471760"/>
            <a:ext cx="25048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 lk u 4 mi frn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2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Yes!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ext messaging is communicating.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owever, in English and the workforce this is unacceptable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" name="Picture 7" descr="MPj04306370000[1]"/>
          <p:cNvPicPr/>
          <p:nvPr/>
        </p:nvPicPr>
        <p:blipFill>
          <a:blip r:embed="rId1"/>
          <a:stretch/>
        </p:blipFill>
        <p:spPr>
          <a:xfrm>
            <a:off x="4660920" y="2324160"/>
            <a:ext cx="4025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1T15:49:07Z</dcterms:created>
  <dc:creator>pamela.glover</dc:creator>
  <dc:description/>
  <dc:language>en-US</dc:language>
  <cp:lastModifiedBy>RomaK</cp:lastModifiedBy>
  <dcterms:modified xsi:type="dcterms:W3CDTF">2015-09-02T09:46:12Z</dcterms:modified>
  <cp:revision>6</cp:revision>
  <dc:subject/>
  <dc:title>Writing</dc:title>
</cp:coreProperties>
</file>