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D32A-B2DB-4E01-AC49-5F153A625A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319-3359-47FD-9BB3-ECD26835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796-0F44-4F2C-80B6-7C9DEF3B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4AF-D350-498C-A69F-39E4D31B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F22-943A-4E1D-998F-72DCB130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CF6-8B9D-41FC-BEBD-C49536DC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7DD-4361-4241-9CAA-F1C229E1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DF5-A89F-4CE8-9EDF-ABF39E70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1149-4FFD-4BE9-8264-1FBBAE73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EAD7-CD81-4DFF-ADE7-F8C2534E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CB58-9241-44D9-86D6-A4B603A3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7D1-5FD7-4510-9969-1629013B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DDC5-9CCE-45F4-84C7-FF05BA11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9004-C7E6-4095-91C5-06E5B8C369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ick Writing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urpose of writing is to communicate your thoughts and feelings.  This is your vo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D WHAT YOU WR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d what you write, this will help you edit your pap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7" descr="MPj04117770000[1]"/>
          <p:cNvPicPr/>
          <p:nvPr/>
        </p:nvPicPr>
        <p:blipFill>
          <a:blip r:embed="rId1"/>
          <a:stretch/>
        </p:blipFill>
        <p:spPr>
          <a:xfrm>
            <a:off x="1108080" y="1981080"/>
            <a:ext cx="273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Your voice can b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heard through writing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7" descr="MCj03102360000[1]"/>
          <p:cNvPicPr/>
          <p:nvPr/>
        </p:nvPicPr>
        <p:blipFill>
          <a:blip r:embed="rId1"/>
          <a:stretch/>
        </p:blipFill>
        <p:spPr>
          <a:xfrm>
            <a:off x="1143000" y="213372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Pj04088930000[1]"/>
          <p:cNvPicPr/>
          <p:nvPr/>
        </p:nvPicPr>
        <p:blipFill>
          <a:blip r:embed="rId2"/>
          <a:stretch/>
        </p:blipFill>
        <p:spPr>
          <a:xfrm>
            <a:off x="5302080" y="1981080"/>
            <a:ext cx="272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e Your Thou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ou must Organize Your Writing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6" descr="MCj01317850000[1]"/>
          <p:cNvPicPr/>
          <p:nvPr/>
        </p:nvPicPr>
        <p:blipFill>
          <a:blip r:embed="rId1"/>
          <a:stretch/>
        </p:blipFill>
        <p:spPr>
          <a:xfrm>
            <a:off x="4648320" y="2529000"/>
            <a:ext cx="40384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to Organiz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dy Paragraph(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6" descr="MPj03993130000[1]"/>
          <p:cNvPicPr/>
          <p:nvPr/>
        </p:nvPicPr>
        <p:blipFill>
          <a:blip r:embed="rId1"/>
          <a:stretch/>
        </p:blipFill>
        <p:spPr>
          <a:xfrm>
            <a:off x="4716360" y="27385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roductio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paragraph should introduce th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sentence of the introductory paragraph should start with a general stat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Most high school students are proficient at text messaging, however their writing skills are limi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entences following the general statement will be the basis for your body paragraph(s)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dy Paragraph(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ody paragraph(s) is where you elaborate on the subje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9" descr="MPj03900930000[1]"/>
          <p:cNvPicPr/>
          <p:nvPr/>
        </p:nvPicPr>
        <p:blipFill>
          <a:blip r:embed="rId1"/>
          <a:stretch/>
        </p:blipFill>
        <p:spPr>
          <a:xfrm>
            <a:off x="4838760" y="273384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 Paragrap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s “ties” together all that you have writte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MPj04009850000[1]"/>
          <p:cNvPicPr/>
          <p:nvPr/>
        </p:nvPicPr>
        <p:blipFill>
          <a:blip r:embed="rId1"/>
          <a:stretch/>
        </p:blipFill>
        <p:spPr>
          <a:xfrm>
            <a:off x="5415120" y="2471760"/>
            <a:ext cx="2504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lk u 4 mi fr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2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es!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xt messaging is communicating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ever, in English and the workforce this is unacceptabl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MPj04306370000[1]"/>
          <p:cNvPicPr/>
          <p:nvPr/>
        </p:nvPicPr>
        <p:blipFill>
          <a:blip r:embed="rId1"/>
          <a:stretch/>
        </p:blipFill>
        <p:spPr>
          <a:xfrm>
            <a:off x="4660920" y="2324160"/>
            <a:ext cx="402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49:07Z</dcterms:created>
  <dc:creator>pamela.glover</dc:creator>
  <dc:description/>
  <dc:language>en-US</dc:language>
  <cp:lastModifiedBy>RomaK</cp:lastModifiedBy>
  <dcterms:modified xsi:type="dcterms:W3CDTF">2015-09-02T09:46:12Z</dcterms:modified>
  <cp:revision>6</cp:revision>
  <dc:subject/>
  <dc:title>Writing</dc:title>
</cp:coreProperties>
</file>