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3E9D-6F0C-470D-9581-6DBC3A7A71D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3132D-F1B8-4239-8F59-92DE517EF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74671-F971-4E51-9C56-0807E67BF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1E7F7-FAA9-4775-BF78-BA42509F6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93A4D-5CE5-4F03-B92C-A5B160D6E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36198-5806-40A5-88B6-69488E2C0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8D66E-6DA3-4630-8EB7-E9C1FA0A8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384E7-B34D-4609-A8D1-A98772DAF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D8462-C805-45DB-81DA-28FC5C926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EF019-BDE7-487C-A735-6D67B7A23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D983D-C941-4F8F-A29B-29A225663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823C1-5539-4294-9148-E72E2B3A3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D6B8-B9AB-476A-9368-389F82F9B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94EF2-F383-47C5-AB7D-D524E17B9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06857-6951-4B57-9AA9-E167B5A87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3AA27-9E55-419B-845B-71FB10773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FFC0B-9F16-4266-91A0-F7FA5963C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C399F-6512-497C-B364-CA38FB556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184A6-EBA8-437D-96A6-245600A5B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D3451-9C5F-4DCA-A8CD-24F7AAA03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E129D-9BA4-4A90-82B7-A0098B530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DB936-4926-417C-AAE2-0AFFB429B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3BEB-ABFF-443D-BED4-02B13FF8C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9C466-C455-4CFC-A4C4-ADBFFBFFF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AC81-C615-4396-92C9-477D188A0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CBD2-9111-49ED-B125-4ED4A9058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2148-E6CA-4F5F-A492-34CF535D2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Proofreading </a:t>
            </a:r>
            <a:endParaRPr b="1" lang="en-US" sz="5400" spc="-1" strike="noStrike">
              <a:solidFill>
                <a:srgbClr val="bd9d6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r. Rickert’s way to happiness and success with writing.</a:t>
            </a:r>
            <a:endParaRPr b="0" lang="en-US" sz="32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VEN STEP PROCESS</a:t>
            </a:r>
            <a:endParaRPr b="0" lang="en-US" sz="3200" spc="-1" strike="noStrike">
              <a:solidFill>
                <a:srgbClr val="000000"/>
              </a:solidFill>
              <a:latin typeface="Garamon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7 - Check for Misspelled Words</a:t>
            </a:r>
            <a:endParaRPr b="1" lang="en-US" sz="4000" spc="-1" strike="noStrike">
              <a:solidFill>
                <a:srgbClr val="bd9d69"/>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ep an eye out for misused homonyms (words that sound alike but have different spellings and meaning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ck each word starting from the end of the sentence and working toward the beginning. (this keeps you from assuming what the word will be because of context and helps you see what is actually on the pag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F YOU AREN’T ABSOLUTELY POSITIVE </a:t>
            </a:r>
            <a:r>
              <a:rPr b="1" lang="en-US" sz="2800" spc="-1" strike="noStrike" u="sng">
                <a:solidFill>
                  <a:srgbClr val="000000"/>
                </a:solidFill>
                <a:uFillTx/>
                <a:latin typeface="Garamond"/>
              </a:rPr>
              <a:t>LOOK IT UP!</a:t>
            </a:r>
            <a:endParaRPr b="0" lang="en-US" sz="2800" spc="-1" strike="noStrike">
              <a:solidFill>
                <a:srgbClr val="000000"/>
              </a:solidFill>
              <a:latin typeface="Garamond"/>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Benefits of Mr. Rickert’s approach</a:t>
            </a:r>
            <a:endParaRPr b="1" lang="en-US" sz="4000" spc="-1" strike="noStrike">
              <a:solidFill>
                <a:srgbClr val="bd9d69"/>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re are seven types of errors you can m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hunt and find method of proofreading is based on finding a percentage of your mistak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y system ensures you will find 100% of the errors in your paper.</a:t>
            </a:r>
            <a:endParaRPr b="0" lang="en-US" sz="3200" spc="-1" strike="noStrike">
              <a:solidFill>
                <a:srgbClr val="000000"/>
              </a:solidFill>
              <a:latin typeface="Garamond"/>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repl">
                                        <p:cTn id="7" dur="1000" fill="hold"/>
                                        <p:tgtEl>
                                          <p:spTgt spid="141"/>
                                        </p:tgtEl>
                                        <p:attrNameLst>
                                          <p:attrName>ppt_w</p:attrName>
                                        </p:attrNameLst>
                                      </p:cBhvr>
                                      <p:tavLst>
                                        <p:tav tm="0">
                                          <p:val>
                                            <p:strVal val="#ppt_w+.3"/>
                                          </p:val>
                                        </p:tav>
                                        <p:tav tm="100000">
                                          <p:val>
                                            <p:strVal val="#ppt_w"/>
                                          </p:val>
                                        </p:tav>
                                      </p:tavLst>
                                    </p:anim>
                                    <p:anim calcmode="lin" valueType="num">
                                      <p:cBhvr additive="repl">
                                        <p:cTn id="8" dur="1000" fill="hold"/>
                                        <p:tgtEl>
                                          <p:spTgt spid="141"/>
                                        </p:tgtEl>
                                        <p:attrNameLst>
                                          <p:attrName>ppt_h</p:attrName>
                                        </p:attrNameLst>
                                      </p:cBhvr>
                                      <p:tavLst>
                                        <p:tav tm="0">
                                          <p:val>
                                            <p:strVal val="#ppt_h"/>
                                          </p:val>
                                        </p:tav>
                                        <p:tav tm="100000">
                                          <p:val>
                                            <p:strVal val="#ppt_h"/>
                                          </p:val>
                                        </p:tav>
                                      </p:tavLst>
                                    </p:anim>
                                    <p:animEffect filter="fade" transition="in">
                                      <p:cBhvr additive="repl">
                                        <p:cTn id="9" dur="1000"/>
                                        <p:tgtEl>
                                          <p:spTgt spid="1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42">
                                            <p:txEl>
                                              <p:pRg st="0" end="0"/>
                                            </p:txEl>
                                          </p:spTgt>
                                        </p:tgtEl>
                                        <p:attrNameLst>
                                          <p:attrName>style.visibility</p:attrName>
                                        </p:attrNameLst>
                                      </p:cBhvr>
                                      <p:to>
                                        <p:strVal val="visible"/>
                                      </p:to>
                                    </p:set>
                                    <p:anim calcmode="lin" valueType="num">
                                      <p:cBhvr additive="repl">
                                        <p:cTn id="14" dur="1000" fill="hold"/>
                                        <p:tgtEl>
                                          <p:spTgt spid="1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4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repl">
                                        <p:cTn id="21" dur="1000" fill="hold"/>
                                        <p:tgtEl>
                                          <p:spTgt spid="142">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2">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42">
                                            <p:txEl>
                                              <p:pRg st="2" end="2"/>
                                            </p:txEl>
                                          </p:spTgt>
                                        </p:tgtEl>
                                        <p:attrNameLst>
                                          <p:attrName>style.visibility</p:attrName>
                                        </p:attrNameLst>
                                      </p:cBhvr>
                                      <p:to>
                                        <p:strVal val="visible"/>
                                      </p:to>
                                    </p:set>
                                    <p:anim calcmode="lin" valueType="num">
                                      <p:cBhvr additive="repl">
                                        <p:cTn id="28"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even Steps</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have completed all seven steps you will have identified all the possible error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ing your paper sentence by sentence ensures that you are focusing on what is actually on the page, not just what you think should be on the page!</a:t>
            </a:r>
            <a:endParaRPr b="0" lang="en-US" sz="3200" spc="-1" strike="noStrike">
              <a:solidFill>
                <a:srgbClr val="000000"/>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The Seven Steps</a:t>
            </a:r>
            <a:endParaRPr b="1" lang="en-US" sz="4400" spc="-1" strike="noStrike">
              <a:solidFill>
                <a:srgbClr val="bd9d69"/>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Check for complete sentenc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Check for words that are left out and check for words or ideas that are repeated</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Check all words for capitaliz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Check for all punctu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Check for subject-verb agreement.</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heck for problems in usage.</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Check for misspelled words.</a:t>
            </a:r>
            <a:endParaRPr b="0" lang="en-US" sz="3200" spc="-1" strike="noStrike">
              <a:solidFill>
                <a:srgbClr val="000000"/>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1 – Complete Sentences</a:t>
            </a:r>
            <a:endParaRPr b="1" lang="en-US" sz="4400" spc="-1" strike="noStrike">
              <a:solidFill>
                <a:srgbClr val="bd9d69"/>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ntence is complete when it h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Subject – What or who is the sentence abou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erb – What is being said about the subject, or what did the subject d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Capital letter at the beginning.</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end mark at the en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makes complete sense.</a:t>
            </a:r>
            <a:endParaRPr b="0" lang="en-US" sz="28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2 – Are Words left out or repeated?</a:t>
            </a:r>
            <a:endParaRPr b="1" lang="en-US" sz="4000" spc="-1" strike="noStrike">
              <a:solidFill>
                <a:srgbClr val="bd9d6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start a sentence with an idea and then restate the idea at the end because we forgot what we sai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accidentally repeat or leave out words because we know what we meant to say, but forget to actually say it.</a:t>
            </a:r>
            <a:endParaRPr b="0" lang="en-US" sz="3200" spc="-1" strike="noStrike">
              <a:solidFill>
                <a:srgbClr val="000000"/>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3 – Check for Capitalization Mistakes</a:t>
            </a:r>
            <a:endParaRPr b="1" lang="en-US" sz="4000" spc="-1" strike="noStrike">
              <a:solidFill>
                <a:srgbClr val="bd9d6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noun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adjectiv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mportant words in Titl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mon nouns should not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4 – Check for Punctuation Mistakes</a:t>
            </a:r>
            <a:endParaRPr b="1" lang="en-US" sz="4000" spc="-1" strike="noStrike">
              <a:solidFill>
                <a:srgbClr val="bd9d6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ve Punctuation mark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a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iod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ostroph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otation Mark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derlining.</a:t>
            </a:r>
            <a:endParaRPr b="0" lang="en-US" sz="28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 for each kind of mist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5 – Subject-Verb Agreement</a:t>
            </a:r>
            <a:endParaRPr b="1" lang="en-US" sz="4400" spc="-1" strike="noStrike">
              <a:solidFill>
                <a:srgbClr val="bd9d6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singular subject you should have a singular verb.</a:t>
            </a:r>
            <a:endParaRPr b="0" lang="en-US" sz="32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s with the yarn (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s plays with the yarn (in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 with the yarn (incorrect)</a:t>
            </a:r>
            <a:endParaRPr b="0" lang="en-US" sz="28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plural subject you should have a plural verb.</a:t>
            </a:r>
            <a:endParaRPr b="0" lang="en-US" sz="32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 careful in identifying the correct subject so you know which type of verb to use.</a:t>
            </a:r>
            <a:endParaRPr b="0" lang="en-US" sz="3200" spc="-1" strike="noStrike">
              <a:solidFill>
                <a:srgbClr val="000000"/>
              </a:solidFill>
              <a:latin typeface="Garamond"/>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6 – Check for problems in usage.</a:t>
            </a:r>
            <a:endParaRPr b="1" lang="en-US" sz="4000" spc="-1" strike="noStrike">
              <a:solidFill>
                <a:srgbClr val="bd9d6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noun usage – does the pronoun refer to a specific, already identified noun within the paragraph.</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ouble negatives – two ‘not’s make a do.</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an choices – An comes before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13:15Z</dcterms:created>
  <dc:creator>Sean Rickert</dc:creator>
  <dc:description/>
  <dc:language>en-US</dc:language>
  <cp:lastModifiedBy>RomaK</cp:lastModifiedBy>
  <dcterms:modified xsi:type="dcterms:W3CDTF">2015-09-02T09:46:04Z</dcterms:modified>
  <cp:revision>7</cp:revision>
  <dc:subject/>
  <dc:title>Proofreading </dc:title>
</cp:coreProperties>
</file>