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9104-C793-4DDF-A1FE-468926B5C9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 is a word, which is used before a noun, a noun phrase or a pronoun , connecting it to another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WITH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s nails  with a ha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 the flour with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 painted the picture with her new p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to come with us to the cinem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can do difficult problems with help from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is the man with the bear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EXCEPT” AND “INSTEAD O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like all kinds of food except Up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one likes chocolate except 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go to school every day except Saturday and Sun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should eat fruit instead of can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coming to the theater with us instead of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watch TV instead of reading our boo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 “LIKE”, “AS” and “TH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hleen looks like her d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smiles like his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 sings like a professional sin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se shoes the same as tho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e is nearly as tall as the teac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ackpack is bigger than John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is taller than all of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ainting is more beautiful than that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ighborhood streets are less busy than   downtown stre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Adjective ,Verbs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adjectives. The adjective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 was angry with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afraid of the big d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’s not very interested in spo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is very good at dra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Lee is pleased with our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eachers are always kind to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wrong with the compu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verbs. The verb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m looking for my pencil. Have you seen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nother word for ‘pleased’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is book belong to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listening to C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gree with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 me about the show you s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the cake into five pie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borrowed money from the 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are used with some nouns. The nouns in these examples are printed in col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answer to this 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 reason for this del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matter with yo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’s an example of goo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atulations on winning the competi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ffic can cause damage to the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A cat was sitting _______the roof of my car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Some people were talking ___the movie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man was coming____ us on his bike.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e party starts_____ six o’clock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he put the book ____her bag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We walked____ the street to the park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 She keeps her slippers____ her bed. (pl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 We always wash our hands ____meals. (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 She ran ____the dog because she was frightened.    (direc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eries???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Simple prepositions: Prepositions which consists only one 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, on, at, with, against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@ Compound prepositions: Prepositions which consists of two or mor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instead of, in the middle of, by the side of etc..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, through, behind, for,  beneath, against,  beside,   over,   during, without,  abroad, across, among, against, around ,at the end, at the bottom, between, behind, below, by , inside , corner, into,  via,  after , to ,  about ,in, on, at, since ,while, under, over, right,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ds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hree types in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Pre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happens. They are called prepositions of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ny  was sitting under a t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’s a wooden floor underneath the carp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eese flew over their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and Sarah were hiding inside the wardro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was a tree beside the ri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have a friend who lives in Ame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n something happens. They are called preposition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starts at nine o’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to the zoo on Satur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you can’t watch a video. It’s past your bedtime al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visited my grandparents during the su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must finish the work by Fri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ll do my homework before di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of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repositions show where something is going. They are called prepositions of 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ys chased after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tball rolled down the h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n was walking his dog along the riverb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eway goes right through the 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ere travelling towards Miam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ositions with special 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modules are full of real life  ex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ate a plate of rice and a quarter of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uld you like a glass of lemon ju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need three pieces of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children in my class like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several ways of cooking Up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age of “FO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made this bookmark for M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room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computer for Christm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re going downtown for a meeting. I made this gift for my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place for me on this se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’d like a new Laptop for Next year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FD5-20D8-47E7-B505-A94423EA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C3E-A1A0-4E7D-A066-5CC2FC19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27872F-E044-40C9-86D2-5C376056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EB1DDE-2709-4995-8A88-AD0E3B07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E1E9C-2409-4921-B4B9-15C0E0732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9FBA3-8194-48CB-80F4-E8870195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E6123-3454-450B-9851-82D0811E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8390AB-324B-4387-AD37-3A0CF4A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552AED-D8FB-4081-85F8-9528F49E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1C8638-55AA-447D-9716-7D95C3C6D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A4A1D-A3F5-4D5B-8B9D-6983B2DF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AA51D2-B196-477A-9C36-763534CC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FA55-9D04-44EB-80BD-9B6B136B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EFCED-B8D0-4B07-8E4A-299932A7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58E70A-124F-40BF-B5EB-1793092F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D43976-40C6-4632-9F47-536E5322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37B33-2767-446F-A95A-38135952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F824A-75F6-411A-99C9-C341DA9C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1C9BE-7D7C-40C6-9342-3B290BC4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837BAF-4C46-4ED3-8AF8-F5791D0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74F88-2533-42D4-8FC6-06288E77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5D1BC-D168-4105-B7A0-12E7D3B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9BD398-3463-43DF-B035-62C51238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CD06-934C-428B-BA51-9886223E9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B99A79-A830-417C-9E8B-8ACC8046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F00CA-DD71-4B37-BB32-6068F76F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88BDB-A7BE-41BB-89C0-47DCF673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4FDB9-8E93-4E32-9C64-40912D65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36B56-0E50-4FEE-A94B-E82F170D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F2A7C-BB4E-4470-BEE1-F2EB5E9B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DE4BC-EE22-41D8-9D6F-7FE4E6B0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9C9C3-C4B5-4AF6-A722-B39E47CF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A638D-3CEB-4444-96B2-0BB1D09D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ADD12-387D-490B-800A-660D3A94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11BE-476F-4480-BC38-87ADB37F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8063-663B-4D41-90E5-94D2909C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A26FD1-A21D-414E-B496-3F4D2237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BC778-2A71-4CDB-ABA6-31E8ADD70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D99E10-824F-46A7-9670-AD8ECC1B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B314C-CE06-4991-BECA-E88404C1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A91B22-20D5-4F4B-98BF-8B68B4DE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9C4C9-2C65-4CA2-8B36-CF0608A2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B68F8-F092-4024-AC01-42818D51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5499EB-AD31-4D5C-A591-3E4FD539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031B7A-C24B-41A8-B344-1AC0FFC5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9D07-C125-460F-833B-9619745D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FFB0FA-1FA1-4318-98EB-8B252E21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357ED-339B-411D-960B-688679E0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9A1D5A-E9A5-4DD2-981F-8023BD9B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39FEA9-B4C6-4A84-B793-E2341B47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91020D-34A6-4A68-B0EB-88B39576A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0AD34-5C9F-44CF-92ED-78160879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523E-ECC9-4D82-86E2-0A51554F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6E64B-8BE1-45ED-BAF0-9D946CBC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09A6-5925-4E4F-BA96-094F8E01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7959-E050-49AB-94F4-05D414E3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91C9-3ED1-468D-8309-20C5B61B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B239-1182-4AAA-BEF4-22D20BD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ADD3-DC45-4F50-9B6A-E350E5F6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2AAB-4E97-45D1-A12A-071C00CF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B2BB-A607-4941-BF60-13B1FB43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5055-C2FB-4B8D-A301-C1E76A9C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40365-4AA6-4075-816E-3D2B6E58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39EDD-A7A3-4FD2-BFF1-39EF1D3A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71FC-9665-4B8D-8DE7-AF3FDCA2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EA89D-2862-4BD3-95FE-0F8DA129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EDC38-0DCE-45D0-9AA7-6949FE30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B627-DFCF-4519-9C27-65A6FF68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D96B1-DC0D-471C-8647-7AD88DE2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8D6E-E235-423D-9CBF-8AD22D19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D59ED-C5F8-4FD4-BE6B-3444223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39DAC-1360-41F8-AAB2-BD97F585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E1808-7AB3-4995-A068-73B1EAC9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8EEB-A435-49D1-B9B9-BDC1D6ED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93C2F-2474-42A8-8D3C-1C7C83D2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8ECF3-588F-44FA-B399-756F0091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626F1-1697-4E63-8E4E-F318CC5B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63B5-577B-4739-8B24-3D758B4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27DB-2EBD-4B26-B4A4-1AD35593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CDB96-FB17-47CC-B9B0-1C0F19E1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F5D42-A735-4F98-BA1B-969D9A52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8EB66-6516-44C5-A15E-BE30961D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94908-7580-4A58-9267-938F01AD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F4F49-93FF-40C2-87A5-4272FB3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552B0-8A2F-4359-BF36-20698580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B1788-32DC-4953-B1FC-1B9D1BC1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F559E-4534-4E23-9664-52CD21E22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FDF2-A14B-436B-9F63-8D1433F9E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44C46-D8E5-433F-942E-174FBD50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BD76-6E1C-4ADC-BDFA-DA87B43E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F313F-A9A8-43AF-AA3D-93B35FDC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AE383-4698-4899-82DD-46A1D21B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34683-0192-4EAC-8BED-E420C0C6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18893-2BD4-4886-8616-68C8836A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D709F-27FE-4344-9C8B-18003348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DCECA-3D12-4460-A680-2A53A2CB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EC8E1-C9F9-4A8B-A20F-D759EB0B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5202A-B9CD-466F-ACF4-A453E0CE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550A-7764-4B1C-ABA5-839C5E09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CA9DF-B06B-4A13-96D8-16BC9AC7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E65-39C6-427C-97A6-4E69912B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5A35DF-B668-40A0-A8F8-35FE3405B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68AE7-8DEC-4D81-885E-D572F899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7761B-F642-405E-9E2D-CEF841D3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6FFB1-C52F-4A8B-ACF0-308179B5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016B6-AA7A-4451-9070-A00E1B6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4E58B-7442-4FAF-9799-41EF4AFD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BF0B5-D532-4440-A995-50B9DF88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A7289-B6EA-48EE-BB56-17B6324D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BC14-EDD6-4DF6-B7F5-8A49B5CF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0D5B-349B-4A70-BD3E-2947D6AE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54E-5282-41A9-885C-321A3E7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D2EE1-D45D-4FBB-904D-58C032A8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FDDA-3C62-40BE-8E3D-2F68BDBB8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8C83-8EE1-4259-ACD9-11477593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62633-3172-4E34-8E13-5446F549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239D4-9BF1-4C96-8E06-5416432E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24663-59F0-4D72-B60C-C1C3511B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20864-300E-4DE7-8F89-15C148F9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4B18F-25A9-47B3-BCDA-09652417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F3E9C-2B5E-42AF-BB35-18E9766B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B4AC3-85BE-4075-9B27-000EC7B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435E-BFB5-4E26-9B7B-A97307A9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F056C-EF14-47C2-80C7-B9659AF8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B477C-45D3-4AB1-A549-D88CE238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8E6BB-FD93-4AF7-B71C-6D7A624F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16892-799D-401C-B971-C753AEE27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50236-F958-4B3A-8CD6-2A17C0A4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F0ED9-01F9-4DA0-BCD6-CFFCBD46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D1AFC-B7F0-4E8E-9008-9B0E71C5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7C062-4C28-4A96-8DFA-2C694B28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5EBCC-4D5B-4BDC-BB62-DA2C591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44DD4-5559-4623-B994-0E44B668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049-EB33-42CC-B5FC-C76940AC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D446D-9C4A-43A3-AA57-E25B65A3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62B89-33F8-4DB5-AA03-E3670C2A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7BE1D-7680-43A9-A452-839649DD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8CB92-E94B-44E1-BD3B-A262438C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38C95-0D47-4100-85A5-F6A38CDC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F744E-4254-44D7-BCE1-1134098F3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EBAE0-3462-4902-B51A-AA76E9D0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E51DD-6EC4-4EBE-A609-1719B636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C13AEE-FC78-481E-8D6D-42AB7EDE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22F4B-2467-4558-8A44-D997E76C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364C-7093-447E-A38F-0DC536A69BE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5EF6-CACF-42EC-AC6C-1198C32EF7F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D82-A21B-4AC7-B9DC-5C7AFBEFDAC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B888-3CFC-4D42-8880-C0D0197DB83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923-BF53-4B58-B0A6-DF7B2D2A0B7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F0E3-C164-4B18-B050-0A17662EB2A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333-82F8-4990-AE08-D5039490F79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9BB5-06CC-4999-B181-93ADCF5843C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A86A-843C-4C96-8C3B-A9BBF73600B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677D-A47D-4DDC-8C84-82CCEE6739B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1C45-2F90-4CFA-B80F-B986D8FD6CB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B805-3541-45E2-94C7-E149124B39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85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7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7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TextBox 3" descr=""/>
          <p:cNvPicPr/>
          <p:nvPr/>
        </p:nvPicPr>
        <p:blipFill>
          <a:blip r:embed="rId1"/>
          <a:stretch/>
        </p:blipFill>
        <p:spPr>
          <a:xfrm>
            <a:off x="884160" y="291960"/>
            <a:ext cx="7650360" cy="9572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"/>
          <p:cNvSpPr/>
          <p:nvPr/>
        </p:nvSpPr>
        <p:spPr>
          <a:xfrm>
            <a:off x="304920" y="1219320"/>
            <a:ext cx="8839080" cy="222696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Georgia"/>
              </a:rPr>
              <a:t>Defini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osition is a word, which is used before a noun, a noun phrase or a pronoun , connecting it to another w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TextBox 1"/>
          <p:cNvGrpSpPr/>
          <p:nvPr/>
        </p:nvGrpSpPr>
        <p:grpSpPr>
          <a:xfrm>
            <a:off x="244440" y="291960"/>
            <a:ext cx="8277120" cy="5438880"/>
            <a:chOff x="244440" y="291960"/>
            <a:chExt cx="8277120" cy="5438880"/>
          </a:xfrm>
        </p:grpSpPr>
        <p:pic>
          <p:nvPicPr>
            <p:cNvPr id="644" name="TextBox 1" descr=""/>
            <p:cNvPicPr/>
            <p:nvPr/>
          </p:nvPicPr>
          <p:blipFill>
            <a:blip r:embed="rId1"/>
            <a:stretch/>
          </p:blipFill>
          <p:spPr>
            <a:xfrm>
              <a:off x="244440" y="291960"/>
              <a:ext cx="8277120" cy="54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380880" y="380880"/>
              <a:ext cx="7772400" cy="48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Usage of  “WITH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He pounds nail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 with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a hamm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Mix the flour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wat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She painted the pictur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r new pain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ould you like to come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us to the cinema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I can do difficult problems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help from Mo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84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Who is the man </a:t>
              </a:r>
              <a:r>
                <a:rPr b="1" i="1" lang="en-US" sz="24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the bear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TextBox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83152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TextBox 1" descr=""/>
          <p:cNvPicPr/>
          <p:nvPr/>
        </p:nvPicPr>
        <p:blipFill>
          <a:blip r:embed="rId1"/>
          <a:stretch/>
        </p:blipFill>
        <p:spPr>
          <a:xfrm>
            <a:off x="152280" y="73080"/>
            <a:ext cx="92235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Title 1"/>
          <p:cNvGrpSpPr/>
          <p:nvPr/>
        </p:nvGrpSpPr>
        <p:grpSpPr>
          <a:xfrm>
            <a:off x="237960" y="189000"/>
            <a:ext cx="8668080" cy="1328760"/>
            <a:chOff x="237960" y="189000"/>
            <a:chExt cx="8668080" cy="1328760"/>
          </a:xfrm>
        </p:grpSpPr>
        <p:pic>
          <p:nvPicPr>
            <p:cNvPr id="649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301680" y="228600"/>
              <a:ext cx="853452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 u="sng">
                  <a:solidFill>
                    <a:srgbClr val="ffffff"/>
                  </a:solidFill>
                  <a:uFillTx/>
                  <a:latin typeface="Georgia"/>
                </a:rPr>
                <a:t>Prepositions with Adjective ,Verbs .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1" name="TextBox 2" descr=""/>
          <p:cNvPicPr/>
          <p:nvPr/>
        </p:nvPicPr>
        <p:blipFill>
          <a:blip r:embed="rId2"/>
          <a:stretch/>
        </p:blipFill>
        <p:spPr>
          <a:xfrm>
            <a:off x="158760" y="1584360"/>
            <a:ext cx="90774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TextBox 1"/>
          <p:cNvGrpSpPr/>
          <p:nvPr/>
        </p:nvGrpSpPr>
        <p:grpSpPr>
          <a:xfrm>
            <a:off x="73080" y="152280"/>
            <a:ext cx="9077400" cy="5291280"/>
            <a:chOff x="73080" y="152280"/>
            <a:chExt cx="9077400" cy="5291280"/>
          </a:xfrm>
        </p:grpSpPr>
        <p:pic>
          <p:nvPicPr>
            <p:cNvPr id="653" name="TextBox 1" descr=""/>
            <p:cNvPicPr/>
            <p:nvPr/>
          </p:nvPicPr>
          <p:blipFill>
            <a:blip r:embed="rId1"/>
            <a:stretch/>
          </p:blipFill>
          <p:spPr>
            <a:xfrm>
              <a:off x="73080" y="152280"/>
              <a:ext cx="9077400" cy="529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04920" y="380880"/>
              <a:ext cx="8610480" cy="47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Georgia"/>
                </a:rPr>
                <a:t>Prepositions are used with some verbs. The verbs in these examples are printed in color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’m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ook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or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y pencil. Have you seen it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Can you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hink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of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another word for ‘pleased’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Does this book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belo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We’re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listening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CD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I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agree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with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you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Tell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abo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show you saw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Cut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cake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into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five pieces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805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They </a:t>
              </a:r>
              <a:r>
                <a:rPr b="0" lang="en-US" sz="2800" spc="-1" strike="noStrike">
                  <a:solidFill>
                    <a:srgbClr val="ff0000"/>
                  </a:solidFill>
                  <a:latin typeface="Georgia"/>
                </a:rPr>
                <a:t>borrowed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money </a:t>
              </a:r>
              <a:r>
                <a:rPr b="1" i="1" lang="en-US" sz="2800" spc="-1" strike="noStrike" u="sng">
                  <a:solidFill>
                    <a:srgbClr val="000000"/>
                  </a:solidFill>
                  <a:uFillTx/>
                  <a:latin typeface="Georgia"/>
                </a:rPr>
                <a:t>from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the bank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TextBox 1" descr=""/>
          <p:cNvPicPr/>
          <p:nvPr/>
        </p:nvPicPr>
        <p:blipFill>
          <a:blip r:embed="rId1"/>
          <a:stretch/>
        </p:blipFill>
        <p:spPr>
          <a:xfrm>
            <a:off x="237960" y="244440"/>
            <a:ext cx="8826840" cy="82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1"/>
          <p:cNvSpPr/>
          <p:nvPr/>
        </p:nvSpPr>
        <p:spPr>
          <a:xfrm>
            <a:off x="380880" y="2057400"/>
            <a:ext cx="8077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1. A cat was sitting _______the roof of my car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2. Some people were talking ___the movie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3. A man was coming____ us on his bike.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4. The party starts_____ six o’clock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5. She put the book ____her bag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6. We walked____ the street to the park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7. She keeps her slippers____ her bed. (pl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8. We always wash our hands ____meals. (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9. She ran ____the dog because she was frightened.    (dir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"/>
          <p:cNvSpPr/>
          <p:nvPr/>
        </p:nvSpPr>
        <p:spPr>
          <a:xfrm>
            <a:off x="685800" y="762120"/>
            <a:ext cx="46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eorgia"/>
                <a:ea typeface="Arial"/>
              </a:rPr>
              <a:t>TRY THI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TextBox 1" descr=""/>
          <p:cNvPicPr/>
          <p:nvPr/>
        </p:nvPicPr>
        <p:blipFill>
          <a:blip r:embed="rId1"/>
          <a:stretch/>
        </p:blipFill>
        <p:spPr>
          <a:xfrm>
            <a:off x="1109520" y="536400"/>
            <a:ext cx="6766200" cy="280368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"/>
          <p:cNvSpPr/>
          <p:nvPr/>
        </p:nvSpPr>
        <p:spPr>
          <a:xfrm>
            <a:off x="5410080" y="3352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Thank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Title 1" descr=""/>
          <p:cNvPicPr/>
          <p:nvPr/>
        </p:nvPicPr>
        <p:blipFill>
          <a:blip r:embed="rId1"/>
          <a:stretch/>
        </p:blipFill>
        <p:spPr>
          <a:xfrm>
            <a:off x="237960" y="19080"/>
            <a:ext cx="8668080" cy="139536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 txBox="1"/>
          <p:nvPr/>
        </p:nvSpPr>
        <p:spPr>
          <a:xfrm>
            <a:off x="304560" y="1905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Simple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nly one wor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, on, at, with, against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@</a:t>
            </a:r>
            <a:r>
              <a:rPr b="0" lang="en-US" sz="2700" spc="-1" strike="noStrike">
                <a:solidFill>
                  <a:srgbClr val="ff0000"/>
                </a:solidFill>
                <a:latin typeface="Georgia"/>
              </a:rPr>
              <a:t> Compound prepositions: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epositions which consists of two or more word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.g. instead of, in the middle of, by the side of etc..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Some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822240" y="963720"/>
            <a:ext cx="92059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solidFill>
            <a:srgbClr val="000000"/>
          </a:solidFill>
          <a:ln w="11520">
            <a:solidFill>
              <a:srgbClr val="000000"/>
            </a:solidFill>
            <a:prstDash val="sysDash"/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Georgia"/>
              </a:rPr>
              <a:t>Kinds of Preposi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TextBox 4" descr=""/>
          <p:cNvPicPr/>
          <p:nvPr/>
        </p:nvPicPr>
        <p:blipFill>
          <a:blip r:embed="rId1"/>
          <a:stretch/>
        </p:blipFill>
        <p:spPr>
          <a:xfrm>
            <a:off x="73080" y="1298520"/>
            <a:ext cx="78516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1" name="Title 1"/>
          <p:cNvGrpSpPr/>
          <p:nvPr/>
        </p:nvGrpSpPr>
        <p:grpSpPr>
          <a:xfrm>
            <a:off x="231840" y="139680"/>
            <a:ext cx="8978760" cy="1201680"/>
            <a:chOff x="231840" y="139680"/>
            <a:chExt cx="8978760" cy="1201680"/>
          </a:xfrm>
        </p:grpSpPr>
        <p:pic>
          <p:nvPicPr>
            <p:cNvPr id="622" name="Title 1" descr=""/>
            <p:cNvPicPr/>
            <p:nvPr/>
          </p:nvPicPr>
          <p:blipFill>
            <a:blip r:embed="rId1"/>
            <a:stretch/>
          </p:blipFill>
          <p:spPr>
            <a:xfrm>
              <a:off x="231840" y="139680"/>
              <a:ext cx="8978760" cy="120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301680" y="228600"/>
              <a:ext cx="88423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Georgia"/>
                </a:rPr>
                <a:t>Prepositions of Plac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TextBox 2"/>
          <p:cNvGrpSpPr/>
          <p:nvPr/>
        </p:nvGrpSpPr>
        <p:grpSpPr>
          <a:xfrm>
            <a:off x="237960" y="1378080"/>
            <a:ext cx="8747280" cy="5126040"/>
            <a:chOff x="237960" y="1378080"/>
            <a:chExt cx="8747280" cy="5126040"/>
          </a:xfrm>
        </p:grpSpPr>
        <p:pic>
          <p:nvPicPr>
            <p:cNvPr id="625" name="TextBox 2" descr=""/>
            <p:cNvPicPr/>
            <p:nvPr/>
          </p:nvPicPr>
          <p:blipFill>
            <a:blip r:embed="rId2"/>
            <a:stretch/>
          </p:blipFill>
          <p:spPr>
            <a:xfrm>
              <a:off x="237960" y="1378080"/>
              <a:ext cx="8747280" cy="51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80880" y="1523880"/>
              <a:ext cx="8458200" cy="47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re something happens. They are called prepositions of plac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nny  was sitting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 tre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’s a wooden floor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underneath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carpet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ome geese flew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ver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ir hous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John and Sarah were hiding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side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 wardrobe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There was a tree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side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riv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have a friend who lives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in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Americ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2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 </a:t>
              </a: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Time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TextBox 3"/>
          <p:cNvGrpSpPr/>
          <p:nvPr/>
        </p:nvGrpSpPr>
        <p:grpSpPr>
          <a:xfrm>
            <a:off x="73080" y="1139760"/>
            <a:ext cx="9302760" cy="4986360"/>
            <a:chOff x="73080" y="1139760"/>
            <a:chExt cx="9302760" cy="4986360"/>
          </a:xfrm>
        </p:grpSpPr>
        <p:pic>
          <p:nvPicPr>
            <p:cNvPr id="631" name="TextBox 3" descr=""/>
            <p:cNvPicPr/>
            <p:nvPr/>
          </p:nvPicPr>
          <p:blipFill>
            <a:blip r:embed="rId2"/>
            <a:stretch/>
          </p:blipFill>
          <p:spPr>
            <a:xfrm>
              <a:off x="73080" y="1139760"/>
              <a:ext cx="9302760" cy="498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04920" y="1371600"/>
              <a:ext cx="8839080" cy="44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eorgia"/>
                </a:rPr>
                <a:t>Some prepositions show when something happens. They are called prepositions of tim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Examples: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chool starts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at</a:t>
              </a: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ine o’clock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We’re going to the zoo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on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Satur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No, you can’t watch a video. It’s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past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your bedtime alread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 visited my grandparents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 during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the summ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You must finish the 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y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 Friday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SzPct val="102792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I’ll do my homework </a:t>
              </a:r>
              <a:r>
                <a:rPr b="1" i="1" lang="en-US" sz="2000" spc="-1" strike="noStrike" u="sng">
                  <a:solidFill>
                    <a:srgbClr val="000000"/>
                  </a:solidFill>
                  <a:uFillTx/>
                  <a:latin typeface="Georgia"/>
                </a:rPr>
                <a:t>before </a:t>
              </a:r>
              <a:r>
                <a:rPr b="0" lang="en-US" sz="2000" spc="-1" strike="noStrike">
                  <a:solidFill>
                    <a:srgbClr val="000000"/>
                  </a:solidFill>
                  <a:latin typeface="Georgia"/>
                </a:rPr>
                <a:t>dinner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4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5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of Direction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TextBox 2"/>
          <p:cNvSpPr/>
          <p:nvPr/>
        </p:nvSpPr>
        <p:spPr>
          <a:xfrm>
            <a:off x="380880" y="1371600"/>
            <a:ext cx="87631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Some prepositions show where something is going. They are called prepositions of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Arial"/>
              </a:rPr>
              <a:t>Exampl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boys chas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ootball roll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h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A man was walking his do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along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e riverba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The freeway goes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through the c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We were travelling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Arial"/>
              </a:rPr>
              <a:t> Miam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Title 1"/>
          <p:cNvGrpSpPr/>
          <p:nvPr/>
        </p:nvGrpSpPr>
        <p:grpSpPr>
          <a:xfrm>
            <a:off x="237960" y="189000"/>
            <a:ext cx="8668080" cy="1096920"/>
            <a:chOff x="237960" y="189000"/>
            <a:chExt cx="8668080" cy="1096920"/>
          </a:xfrm>
        </p:grpSpPr>
        <p:pic>
          <p:nvPicPr>
            <p:cNvPr id="638" name="Title 1" descr=""/>
            <p:cNvPicPr/>
            <p:nvPr/>
          </p:nvPicPr>
          <p:blipFill>
            <a:blip r:embed="rId1"/>
            <a:stretch/>
          </p:blipFill>
          <p:spPr>
            <a:xfrm>
              <a:off x="237960" y="189000"/>
              <a:ext cx="866808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"/>
            <p:cNvSpPr/>
            <p:nvPr/>
          </p:nvSpPr>
          <p:spPr>
            <a:xfrm>
              <a:off x="301680" y="228600"/>
              <a:ext cx="8534520" cy="75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ffffff"/>
                  </a:solidFill>
                  <a:latin typeface="Georgia"/>
                </a:rPr>
                <a:t>Prepositions with special uses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Rectangle 3"/>
          <p:cNvSpPr/>
          <p:nvPr/>
        </p:nvSpPr>
        <p:spPr>
          <a:xfrm>
            <a:off x="609480" y="1981080"/>
            <a:ext cx="8305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Our modules are full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eal life 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ate a plate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rice and a quarter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mi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Would you like a glas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lemon ju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I need three piece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pap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Most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 children in my class like Edu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There are several ways </a:t>
            </a:r>
            <a:r>
              <a:rPr b="0" lang="en-US" sz="3200" spc="-1" strike="noStrike">
                <a:solidFill>
                  <a:srgbClr val="ff0000"/>
                </a:solidFill>
                <a:latin typeface="Georgia"/>
                <a:ea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 cooking Up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4"/>
          <p:cNvSpPr/>
          <p:nvPr/>
        </p:nvSpPr>
        <p:spPr>
          <a:xfrm>
            <a:off x="762120" y="1523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Arial"/>
              </a:rPr>
              <a:t>Usage of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 OF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8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8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8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2" name="TextBox 1" descr=""/>
          <p:cNvPicPr/>
          <p:nvPr/>
        </p:nvPicPr>
        <p:blipFill>
          <a:blip r:embed="rId1"/>
          <a:stretch/>
        </p:blipFill>
        <p:spPr>
          <a:xfrm>
            <a:off x="-42840" y="-189000"/>
            <a:ext cx="919332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9:24:32Z</dcterms:created>
  <dc:creator>Praveen</dc:creator>
  <dc:description/>
  <dc:language>en-US</dc:language>
  <cp:lastModifiedBy>RomaK</cp:lastModifiedBy>
  <dcterms:modified xsi:type="dcterms:W3CDTF">2015-09-02T09:45:32Z</dcterms:modified>
  <cp:revision>22</cp:revision>
  <dc:subject/>
  <dc:title>Slide 1</dc:title>
</cp:coreProperties>
</file>