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carbrake.wav" ContentType="audio/x-wav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0644-AED8-44A1-9119-0E1FEB7209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the presentation by selecting “View show” from the Slide Show menu.  Work through the presentation by left-clicking the mouse. You can make notes as you go. Use the left arrow key to return to an earlier sl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refer to print the slides, make sure you follow these instructi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just click the print butt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print from the file menu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handouts; six slides per page; pure black &amp; wh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the presentation by selecting “View show” from the Slide Show menu.  Work through the presentation by left-clicking the mouse. You can make notes as you go. Use the left arrow key to return to an earlier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refer to print the slides, make sure you follow these instru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just click the print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print from the file me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handouts; six slides per page; pure black &amp;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category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may be countable or uncountable, depending on how we use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uy a box of chocolates (countable) or a bar of chocolate (uncountabl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time? but How many times? (where times = occasion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it in front of a television (set) to watch television (broadcasting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category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may be countable or uncountable, depending on how we use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uy a box of chocolates (countable) or a bar of chocolate (uncounta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time? but How many times? (where times = occasi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it in front of a television (set) to watch television (broadcasting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-specific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 are often turned into countable nouns by specialists in a particular field.They become part of the jargon of that specia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ss is usually uncountable but botanists and gardeners talk about gras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guists sometimes talk about English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nciers refer to moneys or even mon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s may be used to mean types of te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-specific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 are often turned into countable nouns by specialists in a particular field.They become part of the jargon of that specia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ss is usually uncountable but botanists and gardeners talk about gr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guists sometimes talk about Engl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nciers refer to moneys or even 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s may be used to mean types of t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both countable and uncountable nouns can be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 English Campaign has an excellent website which will tell you more about the stylistic impact of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both countable and uncountable nouns can be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 English Campaign has an excellent website which will tell you more about the stylistic impact of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 are the words that most people think of as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stly the names of objects and animals (countable) and substances or materials (uncountabl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ke, oxygen, iron, boy, dog, pen, glass, pomegranate, earthworm and door are all concrete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 are the words that most people think of as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stly the names of objects and animals (countable) and substances or materials (uncounta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ke, oxygen, iron, boy, dog, pen, glass, pomegranate, earthworm and door are all concrete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 name ideas, feelings and qualit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, though not all, are uncoun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derived from adjectives and verbs and have characteristic endings such as –ity, -ness, -ence,  and -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harder to recognise as nouns than the concrete varie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 name ideas, feelings and qua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, though not all, are uncoun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derived from adjectives and verbs and have characteristic endings such as –ity, -ness, -ence,  and -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harder to recognise as nouns than the concret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 or adjecti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n’t confuse abstract nouns with adjectives, as long as you apply a few tes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is an adjective.  It behaves like one: very happy; so happy; happier; as happy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iness behaves like a noun: The happiness I feel; her happiness; great happin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 or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n’t confuse abstract nouns with adjectives, as long as you apply a few t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is an adjective.  It behaves like one: very happy; so happy; happier; as happy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iness behaves like a noun: The happiness I feel; her happiness; great happ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more 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or adjecti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different from each 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work is preci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rk with prec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is pu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ity of the ai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omposed this tun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une is my composi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o beautifu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such beau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upport 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pport you give 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or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different from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work is pre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rk with prec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is p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omposed this tu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une is my 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o beauti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such beau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upport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pport you give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 of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change their form for only two grammatical reas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 have a plural form. This is usually formed by adding –s, of course, but there are some irregular for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sessive form of a noun is created by adding –’s (Henry’s cat) or just an apostrophe (all our students’ resul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change their form for only two grammatical reas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 have a plural form. This is usually formed by adding –s, of course, but there are some irregular for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sessive form of a noun is created by adding –’s (Henry’s cat) or just an apostrophe (all our students’ resul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rregular plur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nouns retain plural endings from Old English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n, geese, mice, oxen, feet, teeth, kniv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an words from Latin, Greek, French and Italian sometimes keep their native en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dia, bacteria, formulae, larvae, criteria, phenomena, gateaux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ffiti, an Italian plural, is now an uncountable noun in Englis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egular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retain plural endings from Old Englis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, geese, mice, oxen, feet, teeth, kn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n words from Latin, Greek, French and Italian sometimes keep their native e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, bacteria, formulae, larvae, criteria, phenomena, gatea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fiti, an Italian plural, is now an uncountable noun in Engli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see a noun as performing a role in a sentence, we think of it as a noun phr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function as the subject or object of a clau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consist of a single word (a noun or pronoun) or a group of wor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noun in a noun phrase is called the headwor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see a noun as performing a role in a sentence, we think of it as a noun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function as the subject or object of a cla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consist of a single word (a noun or pronoun) or a group of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noun in a noun phrase is called the head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NOUNS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are naming wor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name people, places and objec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name ideas, emotions, qualities and activit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, Elizabeth, driver, sister, frie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stol, Severn, Brazil, pen, dog, mone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, beauty, industry, nature, greed,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NOUNS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are naming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name people, places and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name ideas, emotions, qualities and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, Elizabeth, driver, sister, fri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stol, Severn, Brazil, pen, dog, mo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, beauty, industry, nature, greed,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noun phrases (headword in bracket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he) always bought the same (newspaper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young (man) in a suit was admiring the (view) from the window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sulphuric (acid) must be handled careful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old maths (teacher) was Austri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noun phrases (headword in brack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he) always bought the same (newspap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young (man) in a suit was admiring the (view) from the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sulphuric (acid) must be handled carefu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old maths (teacher) was Austr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ntax of noun phr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word of a noun phrase may be pre-modified by determiners, adjectives or other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large, dinner (plat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be post-modified by a prepositional phr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imply a noun phrase with a preposition at the beginn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(painting) by Rembrand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pot the modifiers in the last slide? (Left arrow key takes you back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ntax of 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word of a noun phrase may be pre-modified by determiners, adjectives or other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large, dinner (pl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be post-modified by a prepositional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imply a noun phrase with a preposition at the beg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(painting) by Rembrand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pot the modifiers in the last slide? (Left arrow key takes you ba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uses modifying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a clause (a group of words containing a verb) to post-modify a nou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use which post-modifies a noun is called a relative clause or adjectival clau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(house) that Jack buil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ople) who live in glass houses should not throw ston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uses modifying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a clause (a group of words containing a verb) to post-modify a no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use which post-modifies a noun is called a relative clause or adjectival cla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(house) that Jack bui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ople) who live in glass houses should not throw st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’s the end of the presentation on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want to print, remember the instructi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“print” from the file menu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: hand-outs; six slides per page; pure black and wh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“OK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’s the end of the presentation on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want to print, remember the instru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“print” from the file me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: hand-outs; six slides per page; pure black and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“OK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can be divided into common  and proper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can then be divided into countable and uncountable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ountable and uncountable nouns can then be further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look at each type in tur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can be divided into common  and proper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can then be divided into countable and uncountable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ountable and uncountable nouns can then be further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look at each type in tu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look again at those types and how they re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look again at those types and how they re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start with capital le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names of people, places, times, organisations et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fer to unique individu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not found in the dictionar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ften occur in pairs or group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start with capital le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names of people, places, times, organisatio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fer to unique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not found in the diction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ften occur in pairs or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y Bl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ing Hen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dget J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ynsh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n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ca Co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sident Bu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J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onation Stre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ord Motor Compan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f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y Bl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Hen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ns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ca C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tion 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d Motor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f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which are not proper nouns are common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amples: cup, art, paper, work, frog, bicycle, atom, family, mi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are either countable or uncoun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which are not proper nouns are common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amples: cup, art, paper, work, frog, bicycle, atom, family, m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are either countable or uncoun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countable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(or just “count”) nouns can be made plural: a tree… two trees; a man… men; a pony… pon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ingular, they may have the determiner a or an: a sausage; an asteris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any words/pages/chai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few minutes/friends/chip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countable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(or just “count”) nouns can be made plural: a tree… two trees; a man… men; a pony… p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ingular, they may have the determiner a or an: a sausage; an aster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any words/pages/chai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few minutes/friends/chip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uncountable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(or non-count) nouns cannot be made plural. We cannot say: two funs, three advices or five furnitur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ver use  a or an with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money/time/milk?        (Not How many?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little help/effort. (Not A few.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uncountable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(or non-count) nouns cannot be made plural. We cannot say: two funs, three advices or five furni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ver use  a or an wit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money/time/milk?        (Not How many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little help/effort. (Not A few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B213-8012-423B-9883-B8A26716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C55-EDC5-4E99-8C34-B19BEA2C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C14-1E1A-4BC4-9353-89D2A5E6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6E4E-8DEC-4FA0-B43B-FC556235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32E2-3937-4749-A42A-EAE2B64B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1CBF-003D-4F5B-96FC-FBE2F0D5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9FD2-11BD-47B1-8AC6-7116A076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24D9-C48C-4752-9D38-87926303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0429-1598-4A80-ABB8-D5098D06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722-D5D6-45FD-8EA5-DD339BC2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8C5F-83BE-40E2-BB8E-41BE9274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2CD-CBFB-4D61-88B8-49758F9D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F853-8390-4A82-90F8-671A27078E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62120" y="1066680"/>
            <a:ext cx="77724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rt the presentation by selecting “View show” from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lide Show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nu.  Work through the presentation by left-clicking the mouse. You can make notes as you go. Use the left arrow key to return to an earlier sl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you prefer to print the slides, make sure you follow these instruc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o n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just click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i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butt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i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rom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fi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n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handouts; six slides per page; pure black &amp; whi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lick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838080" y="3808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Dual category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nouns may be countable or uncountable, depending on how we us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buy a box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hocolat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countable) or a bar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uncou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H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ow much time?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any times?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where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im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occasio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it in front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televi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set) to watch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elevi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broadcastin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Field-specific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countable nouns are often turned into countable nouns by specialists in a particular field.They become part of the jargon of that specia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Gras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usually uncountable but botanists and gardeners talk abo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gr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nguists sometimes talk abo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English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anciers refer to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ey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even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i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ea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ay be used to mean types of t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2120" y="762120"/>
            <a:ext cx="76197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member that both countable and uncountable nouns can be divided in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ncret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bstract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lain English Campaig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as an excellent website which will tell you more about the stylistic impact of abstract nou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crete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rete nouns are the words that most people think of as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are mostly the names of objects and animals (countable) and substances or materials (uncou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ake, oxygen, iron, boy, dog, pen, glass, pomegranate, earthworm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door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all concrete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Abstract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stract nouns name ideas, feelings and qua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, though not all, are uncou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y are derived from adjectives and verbs and have characteristic endings such as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–ity, -ness, -ence,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-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are harder to recognise as nouns than the concrete var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Abstract noun or ad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won’t confuse abstract nouns with adjectives, as long as you apply a few t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ppy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an adjective.  It behaves like one: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ry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; happi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r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s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ppines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haves like a noun: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 I feel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her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great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1676520" y="60948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few more exam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914400" y="160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erb or adje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876920" y="1600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bstract no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914400" y="21337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wer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iffer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rom each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876920" y="21337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ifferenc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tween 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914400" y="304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y work i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ecis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876920" y="30481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work with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ecis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914400" y="3657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air i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u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876920" y="36576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uri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of the a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990720" y="41911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ompos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is tu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4876920" y="41911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tune is my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omposit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990720" y="5181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is so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eautifu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4876920" y="5181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has such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eau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99072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uppo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4876920" y="5715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uppo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you give 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he morphology of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uns change their form for only two grammatical reas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ntable nouns have a plural form. This is usually formed by adding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–s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course, but there are some irregular for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ossessive form of a noun is created by adding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–’s (Henry’s cat)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just an apostrophe (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ll our students’ results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rregular plu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nouns retain plural endings from Old Englis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n, geese, mice, oxen, feet, teeth, kn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an words from Latin, Greek, French and Italian sometimes keep their native en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dia, bacteria, formulae, larvae, criteria, phenomena, gateau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ffiti, an Italian plural, is now an uncountable noun in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un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we see a noun as performing a role in a sentence, we think of it as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noun phra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noun phrase may function as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ubj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bj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a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noun phrase may consist of a single word (a noun or pronoun) or a group of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st important noun in a noun phrase is calle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headwo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00"/>
                </a:solidFill>
                <a:latin typeface="Comic Sans MS"/>
              </a:rPr>
              <a:t>WHAT ARE NOUNS?</a:t>
            </a:r>
            <a:r>
              <a:rPr b="1" lang="en-GB" sz="4400" spc="-1" strike="noStrike">
                <a:solidFill>
                  <a:srgbClr val="808000"/>
                </a:solidFill>
                <a:latin typeface="Stenci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uns are naming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y name people, places and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y can also name ideas, emotions, qualities and activ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ere are some examples of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ter, Elizabeth, driver, sister,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ristol, Severn, Brazil, pen, dog,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ove, beauty, industry, nature, greed,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Examples of noun phrases (headword in bracke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(She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lways bough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same (newspaper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 young (man) in a sui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as admir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(view) from the wind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entrated sulphuric (acid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ust be handled carefu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y old maths (teacher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as Austri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he syntax of noun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headword of a noun phrase may be pre-modified by determiners, adjectives or other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rge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dinner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(pl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 may be post-modified by a prepositional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is simply a noun phrase with a preposition at the begi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(painting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by Rembrand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pot the modifiers in the last slide? (Left arrow key takes you b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lauses modifying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can use a clause (a group of words containing a verb) to post-modify a 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clause which post-modifies a noun is called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lative cla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djectival cla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re are some examp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his is the (house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hat Jack bui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(People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who live in glass houses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should not throw st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609480" y="762120"/>
            <a:ext cx="78487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’s the end of the presentation on nou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you want to print, remember the instructio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lect “print” from the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fi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en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lect: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nd-outs; six slides per page; pure black and whi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lick “OK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ypes</a:t>
            </a: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of no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nouns can be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mm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prop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ouns can then be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countable and uncountable nouns can then be further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’ll look at each type in 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First, look again at those types and how they rela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3276720"/>
            <a:ext cx="10670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133720" y="22860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p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057400" y="44956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809880" y="3429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657600" y="52578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629400" y="2666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662940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6629400" y="4800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6294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1523880" y="380988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17"/>
          <p:cNvSpPr/>
          <p:nvPr/>
        </p:nvSpPr>
        <p:spPr>
          <a:xfrm flipV="1">
            <a:off x="1600200" y="27428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18"/>
          <p:cNvSpPr/>
          <p:nvPr/>
        </p:nvSpPr>
        <p:spPr>
          <a:xfrm flipV="1">
            <a:off x="3352680" y="38862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19"/>
          <p:cNvSpPr/>
          <p:nvPr/>
        </p:nvSpPr>
        <p:spPr>
          <a:xfrm>
            <a:off x="3352680" y="48006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20"/>
          <p:cNvSpPr/>
          <p:nvPr/>
        </p:nvSpPr>
        <p:spPr>
          <a:xfrm flipV="1">
            <a:off x="5334120" y="304776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1"/>
          <p:cNvSpPr/>
          <p:nvPr/>
        </p:nvSpPr>
        <p:spPr>
          <a:xfrm>
            <a:off x="5334120" y="37339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2"/>
          <p:cNvSpPr/>
          <p:nvPr/>
        </p:nvSpPr>
        <p:spPr>
          <a:xfrm flipV="1">
            <a:off x="5562720" y="518112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3"/>
          <p:cNvSpPr/>
          <p:nvPr/>
        </p:nvSpPr>
        <p:spPr>
          <a:xfrm>
            <a:off x="5562720" y="55627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per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er nouns start with capital let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are the names of people, places, times, organisation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refer to unique individu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are not found in the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often occur in pairs or grou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re are som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7621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ny Bla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708660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ing Hen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590920" y="45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idget J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267080" y="1981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ristm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4114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553080" y="342900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a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295280" y="2438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eynsh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12408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4952880" y="41148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ca 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238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cbe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9625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sident Bus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7010280" y="533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J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5737320" y="1523880"/>
            <a:ext cx="134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5562720" y="1219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ronation Str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495680" y="5943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693432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6858000" y="48006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rtug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3048120" y="5257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Ford Motor Compa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3809880" y="914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xf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Common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nouns which are not proper nouns are common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ew examples: cup, art, paper, work, frog, bicycle, atom, family,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ouns are either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Countable</a:t>
            </a: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these tests for countable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ntable (or just “count”) nouns can be made plural: a tree… two trees; a man… men; a pony… pon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singular, they may have the determine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a sausage; an aste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many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words/pages/chai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: A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few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inutes/friends/chip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Uncountable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these tests for uncountable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countable (or non-count) nouns cannot be made plural. We cannot say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wo funs,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hree advic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five furnitur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never use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uch money/time/milk?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No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any?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little help/effort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No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few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3T15:39:15Z</dcterms:created>
  <dc:creator>Tom Goss</dc:creator>
  <dc:description/>
  <dc:language>en-US</dc:language>
  <cp:lastModifiedBy>RomaK</cp:lastModifiedBy>
  <cp:lastPrinted>2002-01-14T14:33:47Z</cp:lastPrinted>
  <dcterms:modified xsi:type="dcterms:W3CDTF">2015-09-02T09:44:51Z</dcterms:modified>
  <cp:revision>31</cp:revision>
  <dc:subject/>
  <dc:title>WHAT ARE NOUNS? </dc:title>
</cp:coreProperties>
</file>