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whoosh.wav" ContentType="audio/x-wav"/>
  <Override PartName="/ppt/media/carbrake.wav" ContentType="audio/x-wav"/>
  <Override PartName="/ppt/media/camera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54627-6F3F-4E90-92C3-C3D366FB97D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EWSPAPE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gjfdshgjfhgjkfdhjgksdjgkshjgkshgkshgkjshgkjhsgkhsjkghdsjkgsjkghdsfgiuehurihgkfjvnbvjkdniownvcewnunvwjnvurinuqivnuw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jfivjhfiogvjhoiegbjefoibgjfeoijheifobhjioeabhfeoihb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shiuwhguifehbihfebiuibe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bgieoboinbjsnijaeniuesnbuinblsijnbjsnbjksdlnjdslnkjsnfkjdbsbHgjfdshgjfhgjkfdhjgksdjgkshjgkshgkshgkjshgkjhsgkhsjkghdsjkgsjkghdsfgiuehurihgkfjvnbvjkdniownvcewnunvwjnvurinuqivnuw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jfivjhfiogvjhoiegbjefoibgjfeoijheifobhjioeabhfeoihb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shiuwhguifehbihfebiuibe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bgieoboinbjsnijaeniuesnbuinblsijnbjsnbjksdlnjdslnkjsnfkjdbs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gjfdshgjfhgjkfdhjgksdjgkshjgkshgkshgkjshgkjhsgkhsjkghdsjkgsjkghdsfgiuehurihgkfjvnbvjkdniownvcewnunvwjnvurinuqivnuw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jfivjhfiogvjhoiegbjefoibgjfeoijheifobhjioeabhfeoihb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shiuwhguifehbihfebiuibe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bgieoboinbjsnijaeniuesnbuinblsijnbjsnbjksdlnjdslnkjsnfkjdbs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gjfdshgjfhgjkfdhjgksdjgkshjgkshgkshgkjshgkjhsgkhsjkghdsjkgsjkghdsfgiuehurihgkfjvnbvjkdniownvcewnunvwjnvurinuqivnuw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jfivjhfiogvjhoiegbjefoibgjfeoijheifobhjioeabhfeoihb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shiuwhguifehbihfebiuibe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bgieoboinbjsnijaeniuesnbuinblsijnbjsnbjksdlnjdslnkjsnfkjdbs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gjfdshgjfhgjkfdhjgksdjgkshjgkshgkshgkjshgkjhsgkhsjkghdsjkgsjkghdsfgiuehurihgkfjvnbvjkdniownvcewnunvwjnvurinuqivnuw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jfivjhfiogvjhoiegbjefoibgjfeoijheifobhjioeabhfeoihb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shiuwhguifehbihfebiuibe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bgieoboinbjsnijaeniuesnbuinblsijnbjsnbjksdlnjdslnkjsnfkjdbsbHgjfdshgjfhgjkfdhjgksdjgkshjgkshgkshgkjshgkjhsgkhsjkghdsjkgsjkghdsfgiuehurihgkfjvnbvjkdniownvcewnunvwjnvurinuqivnuw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jfivjhfiogvjhoiegbjefoibgjfeoijheifobhjioeabhfeoihb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shiuwhguifehbihfebiuibe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bgieoboinbjsnijaeniuesnbuinblsijnbjsnbjksdlnjdslnkjsnfkjdbs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gjfdshgjfhgjkfdhjgksdjgkshjgkshgkshgkjshgkjhsgkhsjkghdsjkgsjkghdsfgiuehurihgkfjvnbvjkdniownvcewnunvwjnvurinuqivnuw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jfivjhfiogvjhoiegbjefoibgjfeoijheifobhjioeabhfeoihb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shiuwhguifehbihfebiuibe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bgieoboinbjsnijaeniuesnbuinblsijnbjsnbjksdlnjdslnkjsnfkjdbs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gjfdshgjfhgjkfdhjgksdjgkshjgkshgkshgkjshgkjhsgkhsjkghdsjkgsjkghdsfgiuehurihgkfjvnbvjkdniownvcewnunvwjnvurinuqivnuw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jfivjhfiogvjhoiegbjefoibgjfeoijheifobhjioeabhfeoihb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shiuwhguifehbihfebiuibe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bgieoboinbjsnijaeniuesnbuinblsijnbjsnbjksdlnjdslnkjsnfkjdbs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ow to write a tabloid artic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SPAPE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write a tabloid artic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WNLOADS GO UP LO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WNLOADS GO UP LO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WNLOADS GO UP LO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ast of “down” and “up” – creates hum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ld be about a number of different things - vag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Music sales on the internet rising above CD sales for the first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WNLOADS GO UP LO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ast of “down” and “up” – creates hum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ld be about a number of different things - vag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Music sales on the internet rising above CD sales for the first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OID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are now going to look at an article from two different newspap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rticle is about the same topic, but you will notice great differences between the tw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y to note these differences in your jotter in the form of a tabl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OID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are now going to look at an article from two different newspap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rticle is about the same topic, but you will notice great differences between the tw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y to note these differences in your jotter in the form of a tabl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ABLOID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OID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OID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ing looked at a tabloid article and the techniques that tabloid writers use, you are going to construct your own tabloid artic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, you must work with a partner and attempt to construct a suitable headl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, headlines should contain at least one of the follow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, snappy phr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ns, or plays on wo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lement of intrig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OID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ing looked at a tabloid article and the techniques that tabloid writers use, you are going to construct your own tabloid artic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, you must work with a partner and attempt to construct a suitable headl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, headlines should contain at least one of the follow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, snappy phr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ns, or plays on wo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lement of intrig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DLINE FEEDB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ther the class’ ideas together, and decide which headline you like bes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DLINE FEEDB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ther the class’ ideas together, and decide which headline you like bes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ING YOUR ARTICL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you are going to continue to write the rest of your artic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over the example tabloid article you were given for ideas of how you should phrase your wor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that your article should includ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tails of the ev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views with eye-witne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ulation about what may actually have happen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finished article should fill about TWO jotter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ING YOUR ARTICL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you are going to continue to write the rest of your artic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over the example tabloid article you were given for ideas of how you should phrase your wor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that your article should includ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tails of the ev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views with eye-witne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ulation about what may actually have happen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finished article should fill about TWO jotter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EAD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be successful and eye-catching, tabloid headlines should contain some of these elem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, snappy phr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ns, or plays on wo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lement of intrig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EAD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be successful and eye-catching, tabloid headlines should contain some of these elem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, snappy phr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ns, or plays on wo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lement of intrig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are now going to look at some examples of tabloid headlines.  For each one, think abo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echniques the writer has used to grab your atten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he article is ab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are now going to look at some examples of tabloid headlines.  For each one, think abo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echniques the writer has used to grab your atten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he article is ab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SUNAMI HEIR LIF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SUNAMI HEIR LIF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SUNAMI HEIR LIF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Pun on the words “heir” and “air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Princes William and Harry helping out with aid relief to As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SUNAMI HEIR LIF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Pun on the words “heir” and “air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Princes William and Harry helping out with aid relief to As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WEPT FOR WAVE ORPHA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WEPT FOR WAVE ORPHA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WEPT FOR WAVE ORPHA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alliteration: repeating the “w” s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Royal family express their grief over the tsunami dis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WEPT FOR WAVE ORPHA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alliteration: repeating the “w” s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Royal family express their grief over the tsunami dis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'S TUM KIND OF MIRAC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'S TUM KIND OF MIRAC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'S TUM KIND OF MIRAC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The word “tum” sounds like “som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n’t give away much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A woman with an artificial stomach gives birth to the baby doctors said she’d never h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'S TUM KIND OF MIRAC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The word “tum” sounds like “som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n’t give away much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A woman with an artificial stomach gives birth to the baby doctors said she’d never h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25F6-7B22-48DF-A611-71FDD5A29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66EA-B502-46A1-9FCD-9DCBB4487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A6BA-F1AA-4550-A0E4-4C3B8125A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59D1-1B19-4D93-B779-C3937F803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1D00-AB58-4EDF-A142-E0B4EC149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FD89-1DF6-4438-9D5B-B003E0317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B3B2-95C8-4B23-81D3-55735042C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0DEC-23CB-46E6-8AA8-4B36E1A92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3E78-6D89-4F3C-B4BF-11D78D824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5AB9-16B4-4A63-8BD3-44092FC48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137B-182B-4650-A222-3181086C4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9848-393B-49D5-8C21-9AA1B7B17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B3D62-993B-4FEB-BDC7-06950139A8B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NEWSPAPER WRI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609480" y="2057400"/>
            <a:ext cx="2590920" cy="44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Hgjfdshgjfhgjkfdhjgksdjgkshjgkshgkshgkjshgkjhsgkhsjkghdsjkgsjkghdsfgiuehurihgkfjvnbvjkdniownvcewnunvwjnvurinuqivnuwn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Vjfivjhfiogvjhoiegbjefoibgjfeoijheifobhjioeabhfeoihb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Bshiuwhguifehbihfebiuiben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jbgieoboinbjsnijaeniuesnbuinblsijnbjsnbjksdlnjdslnkjsnfkjdbsbHgjfdshgjfhgjkfdhjgksdjgkshjgkshgkshgkjshgkjhsgkhsjkghdsjkgsjkghdsfgiuehurihgkfjvnbvjkdniownvcewnunvwjnvurinuqivnuwn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Vjfivjhfiogvjhoiegbjefoibgjfeoijheifobhjioeabhfeoihb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Bshiuwhguifehbihfebiuiben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jbgieoboinbjsnijaeniuesnbuinblsijnbjsnbjksdlnjdslnkjsnfkjdbs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Hgjfdshgjfhgjkfdhjgksdjgkshjgkshgkshgkjshgkjhsgkhsjkghdsjkgsjkghdsfgiuehurihgkfjvnbvjkdniownvcewnunvwjnvurinuqivnuwn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Vjfivjhfiogvjhoiegbjefoibgjfeoijheifobhjioeabhfeoihb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Bshiuwhguifehbihfebiuiben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jbgieoboinbjsnijaeniuesnbuinblsijnbjsnbjksdlnjdslnkjsnfkjdbs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Hgjfdshgjfhgjkfdhjgksdjgkshjgkshgkshgkjshgkjhsgkhsjkghdsjkgsjkghdsfgiuehurihgkfjvnbvjkdniownvcewnunvwjnvurinuqivnuwn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Vjfivjhfiogvjhoiegbjefoibgjfeoijheifobhjioeabhfeoihb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Bshiuwhguifehbihfebiuiben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jbgieoboinbjsnijaeniuesnbuinblsijnbjsnbjksdlnjdslnkjsnfkjdbs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3200400" y="2057400"/>
            <a:ext cx="2590920" cy="44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Hgjfdshgjfhgjkfdhjgksdjgkshjgkshgkshgkjshgkjhsgkhsjkghdsjkgsjkghdsfgiuehurihgkfjvnbvjkdniownvcewnunvwjnvurinuqivnuwn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Vjfivjhfiogvjhoiegbjefoibgjfeoijheifobhjioeabhfeoihb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Bshiuwhguifehbihfebiuiben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jbgieoboinbjsnijaeniuesnbuinblsijnbjsnbjksdlnjdslnkjsnfkjdbsbHgjfdshgjfhgjkfdhjgksdjgkshjgkshgkshgkjshgkjhsgkhsjkghdsjkgsjkghdsfgiuehurihgkfjvnbvjkdniownvcewnunvwjnvurinuqivnuwn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Vjfivjhfiogvjhoiegbjefoibgjfeoijheifobhjioeabhfeoihb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Bshiuwhguifehbihfebiuiben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jbgieoboinbjsnijaeniuesnbuinblsijnbjsnbjksdlnjdslnkjsnfkjdbs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Hgjfdshgjfhgjkfdhjgksdjgkshjgkshgkshgkjshgkjhsgkhsjkghdsjkgsjkghdsfgiuehurihgkfjvnbvjkdniownvcewnunvwjnvurinuqivnuwn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Vjfivjhfiogvjhoiegbjefoibgjfeoijheifobhjioeabhfeoihb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Bshiuwhguifehbihfebiuiben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jbgieoboinbjsnijaeniuesnbuinblsijnbjsnbjksdlnjdslnkjsnfkjdbs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Hgjfdshgjfhgjkfdhjgksdjgkshjgkshgkshgkjshgkjhsgkhsjkghdsjkgsjkghdsfgiuehurihgkfjvnbvjkdniownvcewnunvwjnvurinuqivnuwn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Vjfivjhfiogvjhoiegbjefoibgjfeoijheifobhjioeabhfeoihb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Bshiuwhguifehbihfebiuiben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jbgieoboinbjsnijaeniuesnbuinblsijnbjsnbjksdlnjdslnkjsnfkjdbs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5867280" y="3733920"/>
            <a:ext cx="2438640" cy="22096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5791320" y="205740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How to write a tabloid artic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9" descr=""/>
          <p:cNvPicPr/>
          <p:nvPr/>
        </p:nvPicPr>
        <p:blipFill>
          <a:blip r:embed="rId1"/>
          <a:stretch/>
        </p:blipFill>
        <p:spPr>
          <a:xfrm>
            <a:off x="5867280" y="4038480"/>
            <a:ext cx="2438640" cy="17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EXAMPLE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685800" y="205740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DOWNLOADS GO UP LOAD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838080" y="3200400"/>
            <a:ext cx="79250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EXAMPLE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685800" y="205740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DOWNLOADS GO UP LOAD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838080" y="3200400"/>
            <a:ext cx="792504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trast of “down” and “up” – creates hum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ld be about a number of different things - vag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Music sales on the internet rising above CD sales for the firs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TABLOID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685800" y="1981080"/>
            <a:ext cx="79246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You are now going to look at an article from two different newspap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article is about the same topic, but you will notice great differences between the tw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ry to note these differences in your jotter in the form of a table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TABLOID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685800" y="1905120"/>
          <a:ext cx="7696080" cy="4421160"/>
        </p:xfrm>
        <a:graphic>
          <a:graphicData uri="http://schemas.openxmlformats.org/drawingml/2006/table">
            <a:tbl>
              <a:tblPr/>
              <a:tblGrid>
                <a:gridCol w="2565360"/>
                <a:gridCol w="2565360"/>
                <a:gridCol w="2565360"/>
              </a:tblGrid>
              <a:tr h="575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Article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Article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at differences are there in the headlines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ng, detail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hort, snapp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w long are the sentences in the article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ng, comple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hort, simp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w long are the paragraphs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or 4 sentenc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-3 sentenc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w much detail is included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d you understand all of the words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 you think this came from a tabloid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TABLOID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37"/>
          <p:cNvSpPr/>
          <p:nvPr/>
        </p:nvSpPr>
        <p:spPr>
          <a:xfrm>
            <a:off x="762120" y="2057400"/>
            <a:ext cx="7696080" cy="38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Having looked at a tabloid article and the techniques that tabloid writers use, you are going to construct your own tabloid artic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rst, you must work with a partner and attempt to construct a suitable headli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emember, headlines should contain at least one of the following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Black"/>
              </a:rPr>
              <a:t>Short, snappy phr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Black"/>
              </a:rPr>
              <a:t>Puns, or plays on wor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Black"/>
              </a:rPr>
              <a:t>Humo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Black"/>
              </a:rPr>
              <a:t>An element of intrig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EADLINE FEEDBAC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762120" y="2057400"/>
            <a:ext cx="769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Gather the class’ ideas together, and decide which headline you like bes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RITING YOUR ARTICLE</a:t>
            </a: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762120" y="2057400"/>
            <a:ext cx="7696080" cy="45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Now, you are going to continue to write the rest of your artic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Look over the example tabloid article you were given for ideas of how you should phrase your wor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emember that your article should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Details of the ev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Interviews with eye-witn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Speculation about what may actually have happe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 u="sng">
                <a:solidFill>
                  <a:srgbClr val="000000"/>
                </a:solidFill>
                <a:uFillTx/>
                <a:latin typeface="Times New Roman"/>
              </a:rPr>
              <a:t>Your finished article should fill about TWO jotter p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THE HEAD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o be successful and eye-catching, tabloid headlines should contain some of these elemen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609480" y="3962520"/>
            <a:ext cx="7925040" cy="308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Black"/>
              </a:rPr>
              <a:t>Short, snappy phr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Black"/>
              </a:rPr>
              <a:t>Puns, or plays on wo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Black"/>
              </a:rPr>
              <a:t>Humo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Black"/>
              </a:rPr>
              <a:t>An element of intrig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SOME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You are now going to look at some examples of tabloid headlines.  For each one, think abou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Black"/>
              </a:rPr>
              <a:t>What techniques the writer has used to grab your atten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Black"/>
              </a:rPr>
              <a:t>What the article is ab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EXAMPLE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2001600" y="2209680"/>
            <a:ext cx="497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Black"/>
              </a:rPr>
              <a:t>TSUNAMI HEIR LIFT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838080" y="3200400"/>
            <a:ext cx="792504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EXAMPLE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2001600" y="2209680"/>
            <a:ext cx="497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Black"/>
              </a:rPr>
              <a:t>TSUNAMI HEIR LIFT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838080" y="3200400"/>
            <a:ext cx="792504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 Pun on the words “heir” and “air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 Princes William and Harry helping out with aid relief to A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685800" y="2057400"/>
            <a:ext cx="815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WE WEPT FOR WAVE ORPHANS</a:t>
            </a:r>
            <a:r>
              <a:rPr b="0" lang="en-GB" sz="40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838080" y="3200400"/>
            <a:ext cx="79250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685800" y="2057400"/>
            <a:ext cx="815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WE WEPT FOR WAVE ORPHANS</a:t>
            </a:r>
            <a:r>
              <a:rPr b="0" lang="en-GB" sz="40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838080" y="3200400"/>
            <a:ext cx="792504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 alliteration: repeating the “w” s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 Royal family express their grief over the tsunami dis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EXAMPLE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685800" y="205740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IT'S TUM KIND OF MIRACL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838080" y="3200400"/>
            <a:ext cx="79250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EXAMPLE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685800" y="205740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IT'S TUM KIND OF MIRACL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838080" y="3200400"/>
            <a:ext cx="792504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The word “tum” sounds like “som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oesn’t give away much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A woman with an artificial stomach gives birth to the baby doctors said she’d never h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9T20:09:29Z</dcterms:created>
  <dc:creator>Gavin Lees</dc:creator>
  <dc:description/>
  <dc:language>en-US</dc:language>
  <cp:lastModifiedBy>RomaK</cp:lastModifiedBy>
  <dcterms:modified xsi:type="dcterms:W3CDTF">2015-09-02T09:44:44Z</dcterms:modified>
  <cp:revision>20</cp:revision>
  <dc:subject/>
  <dc:title>NEWSPAPER WRITING</dc:title>
</cp:coreProperties>
</file>