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whoosh.wav" ContentType="audio/x-wav"/>
  <Override PartName="/ppt/media/carbrake.wav" ContentType="audio/x-wav"/>
  <Override PartName="/ppt/media/camera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86A1A-ACC8-4D3F-B14C-27692228991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EWSPAPE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gjfdshgjfhgjkfdhjgksdjgkshjgkshgkshgkjshgkjhsgkhsjkghdsjkgsjkghdsfgiuehurihgkfjvnbvjkdniownvcewnunvwjnvurinuqivnuw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Vjfivjhfiogvjhoiegbjefoibgjfeoijheifobhjioeabhfeoihb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shiuwhguifehbihfebiuibe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bgieoboinbjsnijaeniuesnbuinblsijnbjsnbjksdlnjdslnkjsnfkjdbsbHgjfdshgjfhgjkfdhjgksdjgkshjgkshgkshgkjshgkjhsgkhsjkghdsjkgsjkghdsfgiuehurihgkfjvnbvjkdniownvcewnunvwjnvurinuqivnuw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Vjfivjhfiogvjhoiegbjefoibgjfeoijheifobhjioeabhfeoihb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shiuwhguifehbihfebiuibe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bgieoboinbjsnijaeniuesnbuinblsijnbjsnbjksdlnjdslnkjsnfkjdbs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gjfdshgjfhgjkfdhjgksdjgkshjgkshgkshgkjshgkjhsgkhsjkghdsjkgsjkghdsfgiuehurihgkfjvnbvjkdniownvcewnunvwjnvurinuqivnuw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Vjfivjhfiogvjhoiegbjefoibgjfeoijheifobhjioeabhfeoihb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shiuwhguifehbihfebiuibe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bgieoboinbjsnijaeniuesnbuinblsijnbjsnbjksdlnjdslnkjsnfkjdbs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gjfdshgjfhgjkfdhjgksdjgkshjgkshgkshgkjshgkjhsgkhsjkghdsjkgsjkghdsfgiuehurihgkfjvnbvjkdniownvcewnunvwjnvurinuqivnuw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Vjfivjhfiogvjhoiegbjefoibgjfeoijheifobhjioeabhfeoihb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shiuwhguifehbihfebiuibe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bgieoboinbjsnijaeniuesnbuinblsijnbjsnbjksdlnjdslnkjsnfkjdbs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gjfdshgjfhgjkfdhjgksdjgkshjgkshgkshgkjshgkjhsgkhsjkghdsjkgsjkghdsfgiuehurihgkfjvnbvjkdniownvcewnunvwjnvurinuqivnuw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Vjfivjhfiogvjhoiegbjefoibgjfeoijheifobhjioeabhfeoihb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shiuwhguifehbihfebiuibe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bgieoboinbjsnijaeniuesnbuinblsijnbjsnbjksdlnjdslnkjsnfkjdbsbHgjfdshgjfhgjkfdhjgksdjgkshjgkshgkshgkjshgkjhsgkhsjkghdsjkgsjkghdsfgiuehurihgkfjvnbvjkdniownvcewnunvwjnvurinuqivnuw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Vjfivjhfiogvjhoiegbjefoibgjfeoijheifobhjioeabhfeoihb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shiuwhguifehbihfebiuibe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bgieoboinbjsnijaeniuesnbuinblsijnbjsnbjksdlnjdslnkjsnfkjdbs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gjfdshgjfhgjkfdhjgksdjgkshjgkshgkshgkjshgkjhsgkhsjkghdsjkgsjkghdsfgiuehurihgkfjvnbvjkdniownvcewnunvwjnvurinuqivnuw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Vjfivjhfiogvjhoiegbjefoibgjfeoijheifobhjioeabhfeoihb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shiuwhguifehbihfebiuibe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bgieoboinbjsnijaeniuesnbuinblsijnbjsnbjksdlnjdslnkjsnfkjdbs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gjfdshgjfhgjkfdhjgksdjgkshjgkshgkshgkjshgkjhsgkhsjkghdsjkgsjkghdsfgiuehurihgkfjvnbvjkdniownvcewnunvwjnvurinuqivnuw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Vjfivjhfiogvjhoiegbjefoibgjfeoijheifobhjioeabhfeoihb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shiuwhguifehbihfebiuibe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bgieoboinbjsnijaeniuesnbuinblsijnbjsnbjksdlnjdslnkjsnfkjdbs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ow to write a tabloid artic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SPAPE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write a tabloid artic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WNLOADS GO UP LO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chniques us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article is abou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WNLOADS GO UP LO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chniques us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article is abou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WNLOADS GO UP LO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chniques us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rast of “down” and “up” – creates humo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ld be about a number of different things - vag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article is abou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Music sales on the internet rising above CD sales for the first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WNLOADS GO UP LO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chniques us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rast of “down” and “up” – creates humo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ld be about a number of different things - vag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article is abou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Music sales on the internet rising above CD sales for the first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OID 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are now going to look at an article from two different newspap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rticle is about the same topic, but you will notice great differences between the tw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y to note these differences in your jotter in the form of a tabl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OID 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are now going to look at an article from two different newspap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rticle is about the same topic, but you will notice great differences between the tw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y to note these differences in your jotter in the form of a tabl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ABLOID 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OID 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OID 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ving looked at a tabloid article and the techniques that tabloid writers use, you are going to construct your own tabloid artic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, you must work with a partner and attempt to construct a suitable headli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, headlines should contain at least one of the following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rt, snappy phr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ns, or plays on wo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mo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element of intrig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OID 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ving looked at a tabloid article and the techniques that tabloid writers use, you are going to construct your own tabloid artic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, you must work with a partner and attempt to construct a suitable headli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, headlines should contain at least one of the following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rt, snappy phr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ns, or plays on wo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mo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element of intrig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DLINE FEEDBA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ther the class’ ideas together, and decide which headline you like bes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DLINE FEEDBA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ther the class’ ideas together, and decide which headline you like bes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ING YOUR ARTICL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, you are going to continue to write the rest of your artic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over the example tabloid article you were given for ideas of how you should phrase your wor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 that your article should includ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tails of the ev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views with eye-witne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ulation about what may actually have happen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r finished article should fill about TWO jotter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ING YOUR ARTICL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, you are going to continue to write the rest of your artic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over the example tabloid article you were given for ideas of how you should phrase your wor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 that your article should includ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tails of the ev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views with eye-witne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ulation about what may actually have happen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r finished article should fill about TWO jotter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EAD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be successful and eye-catching, tabloid headlines should contain some of these elem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rt, snappy phr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ns, or plays on wo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mo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element of intrig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EAD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be successful and eye-catching, tabloid headlines should contain some of these elem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rt, snappy phr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ns, or plays on wo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mo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element of intrig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EXAM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are now going to look at some examples of tabloid headlines.  For each one, think abou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techniques the writer has used to grab your atten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the article is ab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EXAM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are now going to look at some examples of tabloid headlines.  For each one, think abou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techniques the writer has used to grab your atten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the article is ab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SUNAMI HEIR LIF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chniques us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article is abou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SUNAMI HEIR LIF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chniques us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article is abou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SUNAMI HEIR LIF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chniques us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Pun on the words “heir” and “air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article is abou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Princes William and Harry helping out with aid relief to As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SUNAMI HEIR LIF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chniques us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Pun on the words “heir” and “air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article is abou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Princes William and Harry helping out with aid relief to As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WEPT FOR WAVE ORPHAN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chniques us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article is abou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WEPT FOR WAVE ORPHAN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chniques us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article is abou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WEPT FOR WAVE ORPHAN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chniques us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alliteration: repeating the “w” so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article is abou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Royal family express their grief over the tsunami dis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WEPT FOR WAVE ORPHAN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chniques us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alliteration: repeating the “w” so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article is abou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Royal family express their grief over the tsunami dis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'S TUM KIND OF MIRACL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chniques us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article is abou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'S TUM KIND OF MIRACL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chniques us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article is abou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'S TUM KIND OF MIRACL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chniques us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The word “tum” sounds like “some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esn’t give away much in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article is abou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A woman with an artificial stomach gives birth to the baby doctors said she’d never ha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'S TUM KIND OF MIRACL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chniques us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The word “tum” sounds like “some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esn’t give away much in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article is abou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A woman with an artificial stomach gives birth to the baby doctors said she’d never ha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6D1E8-C8FC-445C-8DF4-43B914E2D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42252-4204-4916-A425-E937B9B09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6A367-C67A-4EB3-8116-B0E1F5799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95107-B8CE-4DCB-8027-622DF0965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B04FA-4A53-4EAF-B932-2C10F6527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DC42E-3B5A-4BC6-A8DA-FF1FC85F2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16966-3CF9-451D-9F33-B1DBDD6DC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BA484-F86D-43CB-85E7-3EEB6227C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3351A-2804-483B-9086-E8DE8C29B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A8DC0-2ECF-4876-8A99-154B5FDF8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43014-D784-4515-BE5C-2DE1EDFE5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EA921-464D-44B9-B0A4-49418EAEE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4C6F5-606F-4AAA-9A98-1FF3EB23D4F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arbrake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NEWSPAPER WRI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609480" y="2057400"/>
            <a:ext cx="2590920" cy="44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Hgjfdshgjfhgjkfdhjgksdjgkshjgkshgkshgkjshgkjhsgkhsjkghdsjkgsjkghdsfgiuehurihgkfjvnbvjkdniownvcewnunvwjnvurinuqivnuwnv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Vjfivjhfiogvjhoiegbjefoibgjfeoijheifobhjioeabhfeoihb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Bshiuwhguifehbihfebiuiben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jbgieoboinbjsnijaeniuesnbuinblsijnbjsnbjksdlnjdslnkjsnfkjdbsbHgjfdshgjfhgjkfdhjgksdjgkshjgkshgkshgkjshgkjhsgkhsjkghdsjkgsjkghdsfgiuehurihgkfjvnbvjkdniownvcewnunvwjnvurinuqivnuwnv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Vjfivjhfiogvjhoiegbjefoibgjfeoijheifobhjioeabhfeoihb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Bshiuwhguifehbihfebiuiben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jbgieoboinbjsnijaeniuesnbuinblsijnbjsnbjksdlnjdslnkjsnfkjdbs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Hgjfdshgjfhgjkfdhjgksdjgkshjgkshgkshgkjshgkjhsgkhsjkghdsjkgsjkghdsfgiuehurihgkfjvnbvjkdniownvcewnunvwjnvurinuqivnuwnv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Vjfivjhfiogvjhoiegbjefoibgjfeoijheifobhjioeabhfeoihb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Bshiuwhguifehbihfebiuiben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jbgieoboinbjsnijaeniuesnbuinblsijnbjsnbjksdlnjdslnkjsnfkjdbs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Hgjfdshgjfhgjkfdhjgksdjgkshjgkshgkshgkjshgkjhsgkhsjkghdsjkgsjkghdsfgiuehurihgkfjvnbvjkdniownvcewnunvwjnvurinuqivnuwnv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Vjfivjhfiogvjhoiegbjefoibgjfeoijheifobhjioeabhfeoihb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Bshiuwhguifehbihfebiuiben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jbgieoboinbjsnijaeniuesnbuinblsijnbjsnbjksdlnjdslnkjsnfkjdbs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3200400" y="2057400"/>
            <a:ext cx="2590920" cy="44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Hgjfdshgjfhgjkfdhjgksdjgkshjgkshgkshgkjshgkjhsgkhsjkghdsjkgsjkghdsfgiuehurihgkfjvnbvjkdniownvcewnunvwjnvurinuqivnuwnv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Vjfivjhfiogvjhoiegbjefoibgjfeoijheifobhjioeabhfeoihb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Bshiuwhguifehbihfebiuiben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jbgieoboinbjsnijaeniuesnbuinblsijnbjsnbjksdlnjdslnkjsnfkjdbsbHgjfdshgjfhgjkfdhjgksdjgkshjgkshgkshgkjshgkjhsgkhsjkghdsjkgsjkghdsfgiuehurihgkfjvnbvjkdniownvcewnunvwjnvurinuqivnuwnv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Vjfivjhfiogvjhoiegbjefoibgjfeoijheifobhjioeabhfeoihb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Bshiuwhguifehbihfebiuiben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jbgieoboinbjsnijaeniuesnbuinblsijnbjsnbjksdlnjdslnkjsnfkjdbs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Hgjfdshgjfhgjkfdhjgksdjgkshjgkshgkshgkjshgkjhsgkhsjkghdsjkgsjkghdsfgiuehurihgkfjvnbvjkdniownvcewnunvwjnvurinuqivnuwnv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Vjfivjhfiogvjhoiegbjefoibgjfeoijheifobhjioeabhfeoihb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Bshiuwhguifehbihfebiuiben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jbgieoboinbjsnijaeniuesnbuinblsijnbjsnbjksdlnjdslnkjsnfkjdbs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Hgjfdshgjfhgjkfdhjgksdjgkshjgkshgkshgkjshgkjhsgkhsjkghdsjkgsjkghdsfgiuehurihgkfjvnbvjkdniownvcewnunvwjnvurinuqivnuwnv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Vjfivjhfiogvjhoiegbjefoibgjfeoijheifobhjioeabhfeoihb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Bshiuwhguifehbihfebiuiben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jbgieoboinbjsnijaeniuesnbuinblsijnbjsnbjksdlnjdslnkjsnfkjdbs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7"/>
          <p:cNvSpPr/>
          <p:nvPr/>
        </p:nvSpPr>
        <p:spPr>
          <a:xfrm>
            <a:off x="5867280" y="3733920"/>
            <a:ext cx="2438640" cy="22096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8"/>
          <p:cNvSpPr/>
          <p:nvPr/>
        </p:nvSpPr>
        <p:spPr>
          <a:xfrm>
            <a:off x="5791320" y="2057400"/>
            <a:ext cx="2895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Black"/>
              </a:rPr>
              <a:t>How to write a tabloid artic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9" descr=""/>
          <p:cNvPicPr/>
          <p:nvPr/>
        </p:nvPicPr>
        <p:blipFill>
          <a:blip r:embed="rId1"/>
          <a:stretch/>
        </p:blipFill>
        <p:spPr>
          <a:xfrm>
            <a:off x="5867280" y="4038480"/>
            <a:ext cx="2438640" cy="17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EXAMPLE 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3"/>
          <p:cNvSpPr/>
          <p:nvPr/>
        </p:nvSpPr>
        <p:spPr>
          <a:xfrm>
            <a:off x="685800" y="2057400"/>
            <a:ext cx="81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DOWNLOADS GO UP LOAD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"/>
          <p:cNvSpPr/>
          <p:nvPr/>
        </p:nvSpPr>
        <p:spPr>
          <a:xfrm>
            <a:off x="838080" y="3200400"/>
            <a:ext cx="792504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echniques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is article is abou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EXAMPLE 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685800" y="2057400"/>
            <a:ext cx="81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DOWNLOADS GO UP LOAD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4"/>
          <p:cNvSpPr/>
          <p:nvPr/>
        </p:nvSpPr>
        <p:spPr>
          <a:xfrm>
            <a:off x="838080" y="3200400"/>
            <a:ext cx="792504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echniques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ntrast of “down” and “up” – creates humo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ld be about a number of different things - vag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is article is abou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-Music sales on the internet rising above CD sales for the first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TABLOID LANGU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685800" y="1981080"/>
            <a:ext cx="792468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You are now going to look at an article from two different newspap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article is about the same topic, but you will notice great differences between the tw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ry to note these differences in your jotter in the form of a table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TABLOID LANGU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685800" y="1905120"/>
          <a:ext cx="7696080" cy="4421160"/>
        </p:xfrm>
        <a:graphic>
          <a:graphicData uri="http://schemas.openxmlformats.org/drawingml/2006/table">
            <a:tbl>
              <a:tblPr/>
              <a:tblGrid>
                <a:gridCol w="2565360"/>
                <a:gridCol w="2565360"/>
                <a:gridCol w="2565360"/>
              </a:tblGrid>
              <a:tr h="575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Article 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Article 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at differences are there in the headlines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ng, detail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hort, snapp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w long are the sentences in the article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ng, comple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hort, simp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w long are the paragraphs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or 4 sentenc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-3 sentenc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w much detail is included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d you understand all of the words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 you think this came from a tabloid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TABLOID LANGU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37"/>
          <p:cNvSpPr/>
          <p:nvPr/>
        </p:nvSpPr>
        <p:spPr>
          <a:xfrm>
            <a:off x="762120" y="2057400"/>
            <a:ext cx="7696080" cy="38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Having looked at a tabloid article and the techniques that tabloid writers use, you are going to construct your own tabloid artic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rst, you must work with a partner and attempt to construct a suitable headlin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Remember, headlines should contain at least one of the following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Black"/>
              </a:rPr>
              <a:t>Short, snappy phra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Black"/>
              </a:rPr>
              <a:t>Puns, or plays on wor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Black"/>
              </a:rPr>
              <a:t>Humou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Black"/>
              </a:rPr>
              <a:t>An element of intrig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EADLINE FEEDBAC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762120" y="2057400"/>
            <a:ext cx="769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Gather the class’ ideas together, and decide which headline you like bes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RITING YOUR ARTICLE</a:t>
            </a: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762120" y="2057400"/>
            <a:ext cx="7696080" cy="459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Now, you are going to continue to write the rest of your artic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Look over the example tabloid article you were given for ideas of how you should phrase your wor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Remember that your article should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Black"/>
              </a:rPr>
              <a:t>Details of the ev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Black"/>
              </a:rPr>
              <a:t>Interviews with eye-witne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Black"/>
              </a:rPr>
              <a:t>Speculation about what may actually have happen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 u="sng">
                <a:solidFill>
                  <a:srgbClr val="000000"/>
                </a:solidFill>
                <a:uFillTx/>
                <a:latin typeface="Times New Roman"/>
              </a:rPr>
              <a:t>Your finished article should fill about TWO jotter p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THE HEAD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o be successful and eye-catching, tabloid headlines should contain some of these element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609480" y="3962520"/>
            <a:ext cx="7925040" cy="308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 Black"/>
              </a:rPr>
              <a:t>Short, snappy phra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 Black"/>
              </a:rPr>
              <a:t>Puns, or plays on wo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 Black"/>
              </a:rPr>
              <a:t>Humou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 Black"/>
              </a:rPr>
              <a:t>An element of intrig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" dur="5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SOME 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You are now going to look at some examples of tabloid headlines.  For each one, think abou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Black"/>
              </a:rPr>
              <a:t>What techniques the writer has used to grab your atten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Black"/>
              </a:rPr>
              <a:t>What the article is abo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EXAMPLE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2001600" y="2209680"/>
            <a:ext cx="4975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 Black"/>
              </a:rPr>
              <a:t>TSUNAMI HEIR LIFT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838080" y="3200400"/>
            <a:ext cx="792504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echniques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is article is abou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EXAMPLE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3"/>
          <p:cNvSpPr/>
          <p:nvPr/>
        </p:nvSpPr>
        <p:spPr>
          <a:xfrm>
            <a:off x="2001600" y="2209680"/>
            <a:ext cx="4975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 Black"/>
              </a:rPr>
              <a:t>TSUNAMI HEIR LIFT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838080" y="3200400"/>
            <a:ext cx="792504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echniques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- Pun on the words “heir” and “air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is article is abou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- Princes William and Harry helping out with aid relief to As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EXAMPLE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"/>
          <p:cNvSpPr/>
          <p:nvPr/>
        </p:nvSpPr>
        <p:spPr>
          <a:xfrm>
            <a:off x="685800" y="2057400"/>
            <a:ext cx="815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WE WEPT FOR WAVE ORPHANS</a:t>
            </a:r>
            <a:r>
              <a:rPr b="0" lang="en-GB" sz="40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838080" y="3200400"/>
            <a:ext cx="792504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echniques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is article is abou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EXAMPLE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3"/>
          <p:cNvSpPr/>
          <p:nvPr/>
        </p:nvSpPr>
        <p:spPr>
          <a:xfrm>
            <a:off x="685800" y="2057400"/>
            <a:ext cx="815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WE WEPT FOR WAVE ORPHANS</a:t>
            </a:r>
            <a:r>
              <a:rPr b="0" lang="en-GB" sz="40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838080" y="3200400"/>
            <a:ext cx="792504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echniques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- alliteration: repeating the “w” so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is article is abou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- Royal family express their grief over the tsunami disa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EXAMPLE 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685800" y="2057400"/>
            <a:ext cx="81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IT'S TUM KIND OF MIRACL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838080" y="3200400"/>
            <a:ext cx="792504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echniques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is article is abou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EXAMPLE 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3"/>
          <p:cNvSpPr/>
          <p:nvPr/>
        </p:nvSpPr>
        <p:spPr>
          <a:xfrm>
            <a:off x="685800" y="2057400"/>
            <a:ext cx="81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IT'S TUM KIND OF MIRACL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4"/>
          <p:cNvSpPr/>
          <p:nvPr/>
        </p:nvSpPr>
        <p:spPr>
          <a:xfrm>
            <a:off x="838080" y="3200400"/>
            <a:ext cx="792504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echniques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-The word “tum” sounds like “som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oesn’t give away much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is article is abou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-A woman with an artificial stomach gives birth to the baby doctors said she’d never h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9T20:09:29Z</dcterms:created>
  <dc:creator>Gavin Lees</dc:creator>
  <dc:description/>
  <dc:language>en-US</dc:language>
  <cp:lastModifiedBy>RomaK</cp:lastModifiedBy>
  <dcterms:modified xsi:type="dcterms:W3CDTF">2015-09-02T09:44:44Z</dcterms:modified>
  <cp:revision>20</cp:revision>
  <dc:subject/>
  <dc:title>NEWSPAPER WRITING</dc:title>
</cp:coreProperties>
</file>