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CE84-BF97-44D6-BB2C-59A21E7E49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733-5964-4439-8056-DE83326E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21F-90E1-4FC0-AE49-FD0C08C7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90E-6A7C-4C5E-8B24-21EC9436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C96-79E8-40B1-8D88-18EB0879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3314-ABAC-411E-A353-CBC7AC9D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515-0384-4403-B15F-6ABA9712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DC8-22CB-4BF2-AA2B-A1FA6654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DA6-60E9-4733-96FC-885BE79A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7E7-8F80-48B5-A005-74F92B33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144-DFFF-4B15-A300-700123F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1FC-4822-455D-A057-C33BA3C5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8C6-7D01-42CE-9972-334EDAD0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AA5A-AB37-4758-8A35-185990A6D0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NEWSPAPER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867280" y="3733920"/>
            <a:ext cx="243864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1320" y="2057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write a tabloid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05120"/>
          <a:ext cx="7696080" cy="4421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ifferences are there in the headlin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det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n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sentences in the artic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paragraph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or 4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detail is includ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understand all of the wor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think this came from a tabloi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62120" y="2057400"/>
            <a:ext cx="7696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ADLIN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2120" y="2057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RITING YOUR ARTICLE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76960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tails of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nterviews with eye-wit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peculation about what may actually have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Your finished article should fill about TWO jot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H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3962520"/>
            <a:ext cx="79250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echniques the writer has used to grab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he article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20040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32004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0:09:29Z</dcterms:created>
  <dc:creator>Gavin Lees</dc:creator>
  <dc:description/>
  <dc:language>en-US</dc:language>
  <cp:lastModifiedBy>RomaK</cp:lastModifiedBy>
  <dcterms:modified xsi:type="dcterms:W3CDTF">2015-09-02T09:44:44Z</dcterms:modified>
  <cp:revision>20</cp:revision>
  <dc:subject/>
  <dc:title>NEWSPAPER WRITING</dc:title>
</cp:coreProperties>
</file>