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rbrake.wav" ContentType="audio/x-wav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A70C-ADB8-44B9-AAA4-458DC2736B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PAPE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write a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LOADS GO UP LO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OID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LINE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YOUR ARTIC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s of the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iews with eye-wit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tion about what may actually have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finished article should fill about TWO jott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, snappy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s, or plays on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ment of intri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echniques the writer has used to grab your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 article is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SUNAMI HEIR L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PT FOR WAVE ORPH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'S TUM KIND OF MIRA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C276-6610-4E93-B1C5-2BC2744F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2D6-D749-4E2D-BCC1-9DA99D1B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A25-F34F-4F8C-9CFF-B457AA6F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131-D447-4D90-AA92-B85444F1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88D-B60F-483E-B5CF-9FC48419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2B4-D452-4DE7-A17D-66C653F0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2CB-68C9-4B9B-A63B-A34585EE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25A-AEAB-460E-8A48-B1B55ABB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404-C94F-49D0-802E-FC28A291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4F3-CD9A-4F15-B285-952EBB20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24B-5B31-4D2F-91B9-166294ED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AC0-ECA9-43A6-816D-4B40E278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5ABD-2693-48E7-AB56-03D765D71B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NEWSPAPER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48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0400" y="2057400"/>
            <a:ext cx="2590920" cy="44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Hgjfdshgjfhgjkfdhjgksdjgkshjgkshgkshgkjshgkjhsgkhsjkghdsjkgsjkghdsfgiuehurihgkfjvnbvjkdniownvcewnunvwjnvurinuqivnuwn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Vjfivjhfiogvjhoiegbjefoibgjfeoijheifobhjioeabhfeoih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Bshiuwhguifehbihfebiuibe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jbgieoboinbjsnijaeniuesnbuinblsijnbjsnbjksdlnjdslnkjsnfkjdbs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867280" y="3733920"/>
            <a:ext cx="2438640" cy="22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791320" y="2057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How to write a tabloid arti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DOWNLOADS GO UP LOA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st of “down” and “up” – creates hum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ld be about a number of different things - v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usic sales on the internet rising above CD sales for the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5800" y="1981080"/>
            <a:ext cx="79246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are now going to look at an article from two different newspa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rticle is about the same topic, but you will notice great differences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y to note these differences in your jotter in the form of a tabl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905120"/>
          <a:ext cx="7696080" cy="44211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ticl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differences are there in the headlin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deta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nap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sentences in the artic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,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,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 are the paragraph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or 4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sent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detail is includ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 you understand all of the word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 you think this came from a tabloi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ABLOID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7"/>
          <p:cNvSpPr/>
          <p:nvPr/>
        </p:nvSpPr>
        <p:spPr>
          <a:xfrm>
            <a:off x="762120" y="2057400"/>
            <a:ext cx="76960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ing looked at a tabloid article and the techniques that tabloid writers use, you are going to construct your own tabloid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rst, you must work with a partner and attempt to construct a suitable head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, headlines should contain at least one of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EADLIN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62120" y="20574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ather the class’ ideas together, and decide which headline you like be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RITING YOUR ARTICLE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2120" y="2057400"/>
            <a:ext cx="7696080" cy="45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w, you are going to continue to write the rest of your 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k over the example tabloid article you were given for ideas of how you should phrase your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ember that your article should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etails of th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nterviews with eye-wit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peculation about what may actually have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Your finished article should fill about TWO jotte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HEAD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be successful and eye-catching, tabloid headlines should contain some of thes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480" y="3962520"/>
            <a:ext cx="792504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hort, snappy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Puns, or plays o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Hum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An element of intr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now going to look at some examples of tabloid headlines.  For each one, think abo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echniques the writer has used to grab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the article i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001600" y="2209680"/>
            <a:ext cx="497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TSUNAMI HEIR LIF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838080" y="320040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un on the words “heir” and “ai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Princes William and Harry helping out with aid relief to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38080" y="320040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WE WEPT FOR WAVE ORPHANS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320040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alliteration: repeating the “w”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Royal family express their grief over the tsunami dis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320040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8580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IT'S TUM KIND OF MIRAC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38080" y="32004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que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he word “tum” sounds like “so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n’t give away muc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article is abo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A woman with an artificial stomach gives birth to the baby doctors said she’d never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0:09:29Z</dcterms:created>
  <dc:creator>Gavin Lees</dc:creator>
  <dc:description/>
  <dc:language>en-US</dc:language>
  <cp:lastModifiedBy>RomaK</cp:lastModifiedBy>
  <dcterms:modified xsi:type="dcterms:W3CDTF">2015-09-02T09:44:44Z</dcterms:modified>
  <cp:revision>20</cp:revision>
  <dc:subject/>
  <dc:title>NEWSPAPER WRITING</dc:title>
</cp:coreProperties>
</file>